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30.wmf" ContentType="image/x-wmf"/>
  <Override PartName="/ppt/media/image3.png" ContentType="image/png"/>
  <Override PartName="/ppt/media/image33.png" ContentType="image/png"/>
  <Override PartName="/ppt/media/image32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26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113-84C3-464C-824F-AB66AE98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5DC-6E08-42A0-A19C-83E42CC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7FC-E86C-459B-9C1C-4DAB0672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338-98E4-45DB-A097-7579928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9A6-3BC9-4D38-A786-2ED378A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3FA-ECCC-4B9F-9D37-7AAFCFB1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262-0A28-4674-9AF3-53FAA4E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B62-D745-4BD5-B1FF-19850281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D54-7E52-443F-ACCB-6C2F62A5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6C1-C0BB-4AC7-8C54-B3BE3A0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C0A-A1DF-4BA5-90AB-095AA8ED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C45-E633-43B5-A24A-69E216D4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36D0-298B-433F-96E5-3A2DBA09A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 elektrotermiczny tranzystora mo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1000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1006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16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20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24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33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37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41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50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54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8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71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74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9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82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105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15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8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9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0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32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5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36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7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8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9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50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987560" y="1503360"/>
            <a:ext cx="4330800" cy="459108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1268280" y="297000"/>
            <a:ext cx="67024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7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7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8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9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320800" y="3290760"/>
            <a:ext cx="2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343280" y="3086280"/>
            <a:ext cx="2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246360" y="3017880"/>
            <a:ext cx="2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21960" y="4444920"/>
            <a:ext cx="28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7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ealizacja oznacza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4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6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6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ealizacja oznacza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1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3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3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7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9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3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5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8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9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23960" y="5154480"/>
            <a:ext cx="33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319040" y="5029200"/>
            <a:ext cx="4532400" cy="898560"/>
          </a:xfrm>
          <a:custGeom>
            <a:avLst/>
            <a:gdLst/>
            <a:ahLst/>
            <a:rect l="l" t="t" r="r" b="b"/>
            <a:pathLst>
              <a:path w="2855" h="566">
                <a:moveTo>
                  <a:pt x="0" y="566"/>
                </a:moveTo>
                <a:lnTo>
                  <a:pt x="420" y="312"/>
                </a:lnTo>
                <a:lnTo>
                  <a:pt x="660" y="218"/>
                </a:lnTo>
                <a:lnTo>
                  <a:pt x="875" y="132"/>
                </a:lnTo>
                <a:lnTo>
                  <a:pt x="1115" y="81"/>
                </a:lnTo>
                <a:lnTo>
                  <a:pt x="1363" y="38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563" y="98"/>
                </a:lnTo>
                <a:lnTo>
                  <a:pt x="2692" y="141"/>
                </a:lnTo>
                <a:lnTo>
                  <a:pt x="2855" y="209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151160" y="5041800"/>
            <a:ext cx="180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978360" y="60087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70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3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3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4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4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5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7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7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8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8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9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9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9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80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1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2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8040" y="5076720"/>
            <a:ext cx="7986600" cy="120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8040" y="3186000"/>
            <a:ext cx="7986600" cy="120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2720" y="1482840"/>
            <a:ext cx="7986600" cy="1206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dzaje wzmacniaczy mo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240" y="1390680"/>
            <a:ext cx="74624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acniacze mocy o działaniu ciągły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asy A (beztransformatorowe, transformator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asy AB (komplementarne,  przeciwsobne (transformator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stkowe - (dwa wzmacniacze mocy w pracujące w tzw.przeciwfaz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acniacze impuls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asy D - akustyczne: (modulator PWM, klucze MOS+fil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asy C, E, ... - dużej częstotliwości - np. nadajn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4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5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6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8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1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1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5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2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8200" y="711360"/>
            <a:ext cx="7372080" cy="592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39760" y="0"/>
            <a:ext cx="67024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3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5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5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5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8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0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5320" y="173160"/>
            <a:ext cx="77454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20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56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9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62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04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22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90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8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32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405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8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51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24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97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85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87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8-05-07T09:43:27Z</dcterms:modified>
  <cp:revision>68</cp:revision>
  <dc:subject/>
  <dc:title>Wzmacniacze mocy</dc:title>
</cp:coreProperties>
</file>