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2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369-14E4-4097-872C-A07E382C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909-688B-4F4D-96DD-1971739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470-7C01-4859-9E52-E1603DD5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B10-2812-4F01-A11D-8237549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6F8-54D5-4D65-B54D-DD1069AF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764-F084-42A2-8BFC-A9C0A18F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76F-B5F1-4E77-A906-A7D482DF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2FD-69F0-4775-8629-5AE717B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6FA-631C-45F4-AD2B-9D19825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A6D-D679-499D-ABD9-F317FE05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BF1-1936-4BBD-AE58-770DD5C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28F-04F2-4610-A7BC-2A8E2283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FB41-C155-4E51-A264-0D7D0D35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8200" y="241632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e operacyjne - dokończe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2000" y="2285640"/>
            <a:ext cx="863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kłady funkcyjn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ształtowanie przebiegów nielini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59000" y="5223960"/>
            <a:ext cx="6400800" cy="5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2240" y="2509560"/>
            <a:ext cx="8812080" cy="1504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kłady funkcyjne (przekształtniki) służą do nieliniowego przekształcania sygna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zacja funkcji nieliniowych,  jednej lub wielu zmien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2240" y="1321920"/>
            <a:ext cx="8812080" cy="464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. Typowe zastosowania układów funkcyjn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proksymacja funkcji nieliniow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kształcanie sygnałów (np. zamiana fali trójkątnej w  przebieg sinusoidaln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lacja i demodulacja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ostowanie, obcinanie i  ograniczan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logarytmowanie i  delogarytmowan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ęgowanie i pierwiastkowanie (ogólnie - funkcje potęgow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nożenie i dzielenie sygnał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bliczanie modułu, wartości maksymalnej,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2240" y="2190240"/>
            <a:ext cx="8812080" cy="2716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rzekształcane są napięciowe lub prądowe sygnały analog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łoprą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lnozmienne (wąskopasm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ybkozmienne (szerokopasm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ów funkcyj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macniaczem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8600" y="5581800"/>
            <a:ext cx="7488360" cy="78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układu funkcyjnego;    R1 albo R2 jest nie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9840" y="1503360"/>
            <a:ext cx="6625800" cy="3160800"/>
            <a:chOff x="1149840" y="1503360"/>
            <a:chExt cx="6625800" cy="3160800"/>
          </a:xfrm>
        </p:grpSpPr>
        <p:sp>
          <p:nvSpPr>
            <p:cNvPr id="191" name=""/>
            <p:cNvSpPr/>
            <p:nvPr/>
          </p:nvSpPr>
          <p:spPr>
            <a:xfrm flipH="1">
              <a:off x="2585520" y="3049560"/>
              <a:ext cx="30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40120" y="3363840"/>
              <a:ext cx="18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740120" y="3363840"/>
              <a:ext cx="1219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740120" y="2754000"/>
              <a:ext cx="1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0120" y="2754360"/>
              <a:ext cx="12193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076640" y="2216160"/>
              <a:ext cx="180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205160" y="3056040"/>
              <a:ext cx="534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8480" y="2220480"/>
              <a:ext cx="180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7200" y="2220840"/>
              <a:ext cx="343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40320" y="3330720"/>
              <a:ext cx="7308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954760" y="3363840"/>
              <a:ext cx="62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7480" y="3327480"/>
              <a:ext cx="81000" cy="75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51640" y="3363840"/>
              <a:ext cx="282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776920" y="2220840"/>
              <a:ext cx="295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76640" y="2220840"/>
              <a:ext cx="1800" cy="37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867040" y="3049560"/>
              <a:ext cx="4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9720" y="2522520"/>
              <a:ext cx="336600" cy="31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997080" y="305604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336400" y="3049560"/>
              <a:ext cx="466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076640" y="2220840"/>
              <a:ext cx="455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64000" y="2220840"/>
              <a:ext cx="480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08440" y="2952720"/>
              <a:ext cx="599760" cy="2001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549760" y="2220840"/>
              <a:ext cx="533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95800" y="3668760"/>
              <a:ext cx="534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2880" y="2128680"/>
              <a:ext cx="600120" cy="200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060440" y="36687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504960" y="305604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33520" y="4624560"/>
              <a:ext cx="4497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35680" y="4586400"/>
              <a:ext cx="81000" cy="75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6800" y="3011400"/>
              <a:ext cx="81000" cy="7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63560" y="4587840"/>
              <a:ext cx="81000" cy="7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19400" y="4591080"/>
              <a:ext cx="7308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3800" y="3025800"/>
              <a:ext cx="7308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060800" y="3666600"/>
              <a:ext cx="144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060800" y="3780000"/>
              <a:ext cx="144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709640" y="3249360"/>
              <a:ext cx="180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612440" y="3247920"/>
              <a:ext cx="192600" cy="152640"/>
              <a:chOff x="1612440" y="3247920"/>
              <a:chExt cx="192600" cy="15264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612440" y="3247920"/>
                <a:ext cx="954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09640" y="3247920"/>
                <a:ext cx="954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6781320" y="3571920"/>
              <a:ext cx="192600" cy="152280"/>
              <a:chOff x="6781320" y="3571920"/>
              <a:chExt cx="192600" cy="15228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6781320" y="3571920"/>
                <a:ext cx="9540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78520" y="3571920"/>
                <a:ext cx="9540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V="1">
              <a:off x="6877080" y="3575160"/>
              <a:ext cx="144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5680" y="236844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Arial"/>
                </a:rPr>
                <a:t>R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26240" y="16002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Arial"/>
                </a:rPr>
                <a:t>R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73000" y="39020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223720" y="2952360"/>
              <a:ext cx="152280" cy="192600"/>
              <a:chOff x="2223720" y="2952360"/>
              <a:chExt cx="152280" cy="19260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2223720" y="3049560"/>
                <a:ext cx="152280" cy="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2223720" y="2952360"/>
                <a:ext cx="152280" cy="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H="1">
              <a:off x="1749600" y="3049560"/>
              <a:ext cx="62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33800" y="2359080"/>
              <a:ext cx="1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746360" y="4624560"/>
              <a:ext cx="62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49840" y="36860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10840" y="385272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02920" y="252576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38680" y="405936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24000" y="27748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28680" y="347040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02440" y="1546200"/>
              <a:ext cx="125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= f(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7600" y="3276720"/>
              <a:ext cx="125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 f(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9080" y="3240000"/>
              <a:ext cx="1428480" cy="579600"/>
            </a:xfrm>
            <a:prstGeom prst="bracePair">
              <a:avLst>
                <a:gd name="adj" fmla="val 197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45120" y="1503360"/>
              <a:ext cx="1730520" cy="579600"/>
            </a:xfrm>
            <a:prstGeom prst="bracePair">
              <a:avLst>
                <a:gd name="adj" fmla="val 197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64160" y="15843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33960" y="222264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1840" y="3143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funkcyjneg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zw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TODA FUNKCJI JAWN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200" y="1336680"/>
            <a:ext cx="8763120" cy="2409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ealizuje metodę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kcji jawn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dy rezy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liniowy, 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ieliniowy o charakterystyce prądowo - napięciowej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yno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34880" y="391464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ten  realizuje bezpośrednio funkcj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338720" y="4710240"/>
                <a:ext cx="257004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" name=""/>
          <p:cNvGrpSpPr/>
          <p:nvPr/>
        </p:nvGrpSpPr>
        <p:grpSpPr>
          <a:xfrm>
            <a:off x="284040" y="3513240"/>
            <a:ext cx="3060000" cy="2084400"/>
            <a:chOff x="284040" y="3513240"/>
            <a:chExt cx="3060000" cy="2084400"/>
          </a:xfrm>
        </p:grpSpPr>
        <p:sp>
          <p:nvSpPr>
            <p:cNvPr id="261" name=""/>
            <p:cNvSpPr/>
            <p:nvPr/>
          </p:nvSpPr>
          <p:spPr>
            <a:xfrm flipH="1">
              <a:off x="998280" y="44989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11320" y="4713120"/>
              <a:ext cx="18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011320" y="4712760"/>
              <a:ext cx="57456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011320" y="4296960"/>
              <a:ext cx="180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11320" y="4297320"/>
              <a:ext cx="57456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700280" y="393192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760040" y="4503600"/>
              <a:ext cx="25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782800" y="3935520"/>
              <a:ext cx="0" cy="77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22600" y="3935520"/>
              <a:ext cx="16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65520" y="4689360"/>
              <a:ext cx="33120" cy="44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583000" y="471312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98800" y="4687920"/>
              <a:ext cx="38160" cy="52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3800" y="4713120"/>
              <a:ext cx="13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500200" y="393552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00280" y="3935520"/>
              <a:ext cx="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130040" y="4498920"/>
              <a:ext cx="21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11120" y="4140360"/>
              <a:ext cx="15732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2120" y="4503600"/>
              <a:ext cx="10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80560" y="4498920"/>
              <a:ext cx="220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699920" y="393552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2800" y="3935520"/>
              <a:ext cx="22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50920" y="4432320"/>
              <a:ext cx="281160" cy="1364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391840" y="3935520"/>
              <a:ext cx="25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755360" y="4919760"/>
              <a:ext cx="25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12840" y="3871800"/>
              <a:ext cx="281160" cy="136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692360" y="4919760"/>
              <a:ext cx="108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432080" y="450360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9480" y="5570640"/>
              <a:ext cx="211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7360" y="5545080"/>
              <a:ext cx="3780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6640" y="4473720"/>
              <a:ext cx="3816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200" y="5545080"/>
              <a:ext cx="38160" cy="5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3280" y="5548320"/>
              <a:ext cx="3492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79400" y="4483080"/>
              <a:ext cx="3528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692360" y="491940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692360" y="499536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87520" y="4635000"/>
              <a:ext cx="0" cy="7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41440" y="4633920"/>
              <a:ext cx="90000" cy="103320"/>
              <a:chOff x="541440" y="4633920"/>
              <a:chExt cx="90000" cy="103320"/>
            </a:xfrm>
          </p:grpSpPr>
          <p:sp>
            <p:nvSpPr>
              <p:cNvPr id="298" name=""/>
              <p:cNvSpPr/>
              <p:nvPr/>
            </p:nvSpPr>
            <p:spPr>
              <a:xfrm flipH="1">
                <a:off x="541440" y="463392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800" y="463392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971800" y="4854600"/>
              <a:ext cx="90000" cy="103320"/>
              <a:chOff x="2971800" y="4854600"/>
              <a:chExt cx="90000" cy="10332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2971800" y="485460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17160" y="485460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3017880" y="485568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7560" y="40356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9880" y="35132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17960" y="5078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828720" y="4431960"/>
              <a:ext cx="71280" cy="131760"/>
              <a:chOff x="828720" y="4431960"/>
              <a:chExt cx="71280" cy="13176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828720" y="4498560"/>
                <a:ext cx="7128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828720" y="4431960"/>
                <a:ext cx="7128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H="1">
              <a:off x="604440" y="449892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1280" y="4029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03360" y="5570640"/>
              <a:ext cx="296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4040" y="4932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0760" y="5045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1240" y="4141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44320" y="518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0560" y="431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14200" y="47847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3040" y="4640400"/>
              <a:ext cx="807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= f(U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99400" y="360036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73360" y="393552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09600" y="4687920"/>
              <a:ext cx="31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373040" y="4923000"/>
            <a:ext cx="4792680" cy="1477800"/>
          </a:xfrm>
          <a:custGeom>
            <a:avLst/>
            <a:gdLst/>
            <a:ahLst/>
            <a:rect l="l" t="t" r="r" b="b"/>
            <a:pathLst>
              <a:path w="3019" h="931">
                <a:moveTo>
                  <a:pt x="0" y="0"/>
                </a:moveTo>
                <a:cubicBezTo>
                  <a:pt x="73" y="232"/>
                  <a:pt x="143" y="457"/>
                  <a:pt x="280" y="600"/>
                </a:cubicBezTo>
                <a:cubicBezTo>
                  <a:pt x="417" y="743"/>
                  <a:pt x="555" y="817"/>
                  <a:pt x="822" y="856"/>
                </a:cubicBezTo>
                <a:cubicBezTo>
                  <a:pt x="1089" y="895"/>
                  <a:pt x="1518" y="931"/>
                  <a:pt x="1884" y="831"/>
                </a:cubicBezTo>
                <a:cubicBezTo>
                  <a:pt x="2250" y="731"/>
                  <a:pt x="2783" y="376"/>
                  <a:pt x="3019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355920" y="2517840"/>
                <a:ext cx="2462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funkcyjnego: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TODA FUNKCJI ODWROT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7160" y="1371600"/>
            <a:ext cx="8764560" cy="2755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ę odwrotną uzyskuje się gdy rezy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liniowy, 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ieliniowy, opisany równanie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zakładamy, że funkcja ta jest ściśle monotonicz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równ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410000" y="5454720"/>
                <a:ext cx="22129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420480" y="4495680"/>
            <a:ext cx="3059640" cy="2084400"/>
            <a:chOff x="420480" y="4495680"/>
            <a:chExt cx="3059640" cy="2084400"/>
          </a:xfrm>
        </p:grpSpPr>
        <p:sp>
          <p:nvSpPr>
            <p:cNvPr id="329" name=""/>
            <p:cNvSpPr/>
            <p:nvPr/>
          </p:nvSpPr>
          <p:spPr>
            <a:xfrm flipH="1">
              <a:off x="1134720" y="5481720"/>
              <a:ext cx="14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47760" y="5695920"/>
              <a:ext cx="108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147760" y="5695560"/>
              <a:ext cx="5742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147760" y="5279760"/>
              <a:ext cx="108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47760" y="5279760"/>
              <a:ext cx="57420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836360" y="491436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896840" y="548640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19240" y="4917600"/>
              <a:ext cx="0" cy="7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59040" y="4917960"/>
              <a:ext cx="15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01600" y="5672160"/>
              <a:ext cx="33120" cy="44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719080" y="569592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35240" y="5670360"/>
              <a:ext cx="37440" cy="5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00240" y="5695920"/>
              <a:ext cx="13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636280" y="4917960"/>
              <a:ext cx="13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6360" y="4917960"/>
              <a:ext cx="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66120" y="5481720"/>
              <a:ext cx="2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7560" y="5122800"/>
              <a:ext cx="15696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798200" y="5486400"/>
              <a:ext cx="10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017360" y="5481720"/>
              <a:ext cx="220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836000" y="491796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19240" y="4917960"/>
              <a:ext cx="22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7360" y="5414760"/>
              <a:ext cx="280440" cy="136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528640" y="491796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892160" y="5902200"/>
              <a:ext cx="25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49280" y="4854600"/>
              <a:ext cx="280800" cy="136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828080" y="5902200"/>
              <a:ext cx="107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568160" y="548640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15920" y="6553080"/>
              <a:ext cx="211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33440" y="6527880"/>
              <a:ext cx="3780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3080" y="5456160"/>
              <a:ext cx="3780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640" y="6527880"/>
              <a:ext cx="37440" cy="52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09720" y="6530760"/>
              <a:ext cx="3456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15840" y="5465520"/>
              <a:ext cx="3456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828440" y="590184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828440" y="597816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23600" y="5617800"/>
              <a:ext cx="0" cy="7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677520" y="5616360"/>
              <a:ext cx="90000" cy="103320"/>
              <a:chOff x="677520" y="5616360"/>
              <a:chExt cx="90000" cy="10332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677520" y="561636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2880" y="561636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108240" y="5837040"/>
              <a:ext cx="90000" cy="103320"/>
              <a:chOff x="3108240" y="5837040"/>
              <a:chExt cx="90000" cy="103320"/>
            </a:xfrm>
          </p:grpSpPr>
          <p:sp>
            <p:nvSpPr>
              <p:cNvPr id="369" name=""/>
              <p:cNvSpPr/>
              <p:nvPr/>
            </p:nvSpPr>
            <p:spPr>
              <a:xfrm flipH="1">
                <a:off x="3108240" y="583704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53600" y="583704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3154320" y="583848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13640" y="50180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35960" y="44956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54040" y="606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964800" y="5414400"/>
              <a:ext cx="70920" cy="131760"/>
              <a:chOff x="964800" y="5414400"/>
              <a:chExt cx="70920" cy="13176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964800" y="5481000"/>
                <a:ext cx="7092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964800" y="5414400"/>
                <a:ext cx="7092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flipH="1">
              <a:off x="740880" y="5481720"/>
              <a:ext cx="296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27360" y="5011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39440" y="6553080"/>
              <a:ext cx="296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480" y="5914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6840" y="60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67320" y="512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80400" y="61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86640" y="5294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50280" y="57672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08800" y="4979880"/>
              <a:ext cx="807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= f(U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35840" y="458316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09440" y="49179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5680" y="5670360"/>
              <a:ext cx="31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882960" y="463536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ealizuje funkcję odwrotn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041640" y="2994120"/>
                <a:ext cx="22496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480" y="6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nieliniowych układów funkcyjny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etodą funkcji odwrotnej i jawnej 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rzykładzie u. logarytmujacego i delogarytmujac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6280" y="3814920"/>
            <a:ext cx="8604360" cy="346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metodzie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f. jawn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korzystuje się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wpr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harakterysty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owo-napięciowe elementów półprzewodnik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diod, diod Zenera, tranzystorów unipolarnych, bipolarnych, itp.) albo charakterystyki złożonych układów (np. charakterystykę przejściową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pary różnicowej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7440" y="1341360"/>
            <a:ext cx="8604360" cy="2288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metodzie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f. odwrotn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korzystuje się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odwrotno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unkcji opisującej charakterystyki prądowo-napięciowe elementów półprzewodnikowych (diod, diod Zenera, tranzystorów unipolarnych, bipolarnych, it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logarytmujący i delogarytmujący z diod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99440" y="1000080"/>
            <a:ext cx="2766960" cy="764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logaryt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nkcja odwrot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09320" y="1000080"/>
            <a:ext cx="3054960" cy="764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elogaryt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funkcja jaw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8360" y="4192560"/>
                <a:ext cx="24858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173560" y="5037120"/>
                <a:ext cx="27687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68280" y="5041800"/>
                <a:ext cx="22478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49680" y="5931000"/>
                <a:ext cx="1824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873000" y="1979640"/>
            <a:ext cx="7220160" cy="1558800"/>
            <a:chOff x="873000" y="1979640"/>
            <a:chExt cx="7220160" cy="1558800"/>
          </a:xfrm>
        </p:grpSpPr>
        <p:graphicFrame>
          <p:nvGraphicFramePr>
            <p:cNvPr id="404" name=""/>
            <p:cNvGraphicFramePr/>
            <p:nvPr/>
          </p:nvGraphicFramePr>
          <p:xfrm>
            <a:off x="873000" y="1979640"/>
            <a:ext cx="7220160" cy="15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3000" y="1979640"/>
                      <a:ext cx="72201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2082960" y="2776320"/>
              <a:ext cx="6868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13440" y="2785680"/>
              <a:ext cx="6868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308560" y="4111560"/>
                <a:ext cx="24861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1117440" y="4994280"/>
            <a:ext cx="1598760" cy="836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5800" y="5030640"/>
            <a:ext cx="1662120" cy="836640"/>
          </a:xfrm>
          <a:prstGeom prst="rect">
            <a:avLst/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logarytmujący i delogarytmując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ranzysto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82480" y="1403280"/>
            <a:ext cx="7650360" cy="4962600"/>
            <a:chOff x="582480" y="1403280"/>
            <a:chExt cx="7650360" cy="4962600"/>
          </a:xfrm>
        </p:grpSpPr>
        <p:sp>
          <p:nvSpPr>
            <p:cNvPr id="413" name=""/>
            <p:cNvSpPr/>
            <p:nvPr/>
          </p:nvSpPr>
          <p:spPr>
            <a:xfrm rot="5400000">
              <a:off x="2352600" y="506556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25680" y="5299200"/>
              <a:ext cx="87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48120" y="545148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2480" y="5248440"/>
              <a:ext cx="108000" cy="10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01880" y="548784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719520" y="43002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95800" y="550692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5600" y="56674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25680" y="5070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5603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890360" y="5756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95320" y="4308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85960" y="6365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1195920" y="5079240"/>
              <a:ext cx="15876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79480" y="525780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71040" y="5299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4560" y="5759280"/>
              <a:ext cx="45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957040" y="430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814400" y="430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54080" y="468936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5680" y="3774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400000">
              <a:off x="6529320" y="506556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740200" y="5299200"/>
              <a:ext cx="83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24840" y="545148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59200" y="5248440"/>
              <a:ext cx="108000" cy="10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78600" y="548784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896240" y="43002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72520" y="550692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69720" y="57546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02400" y="5070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02040" y="5603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067080" y="5756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91120" y="4308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67440" y="575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43600" y="6365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067440" y="6060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6783840" y="4091760"/>
              <a:ext cx="15876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56200" y="525780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847760" y="5299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82040" y="5772240"/>
              <a:ext cx="45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79760" y="430848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991120" y="430848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30800" y="4689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02400" y="377496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404800" y="4300200"/>
              <a:ext cx="576360" cy="465480"/>
              <a:chOff x="2404800" y="4300200"/>
              <a:chExt cx="576360" cy="465480"/>
            </a:xfrm>
          </p:grpSpPr>
          <p:sp>
            <p:nvSpPr>
              <p:cNvPr id="458" name=""/>
              <p:cNvSpPr/>
              <p:nvPr/>
            </p:nvSpPr>
            <p:spPr>
              <a:xfrm flipV="1">
                <a:off x="2552760" y="4530240"/>
                <a:ext cx="380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2404800" y="4308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828880" y="43002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04960" y="47656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14760" y="452448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1905120" y="575316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186520" y="5281200"/>
              <a:ext cx="576360" cy="465480"/>
              <a:chOff x="5186520" y="5281200"/>
              <a:chExt cx="576360" cy="465480"/>
            </a:xfrm>
          </p:grpSpPr>
          <p:sp>
            <p:nvSpPr>
              <p:cNvPr id="465" name=""/>
              <p:cNvSpPr/>
              <p:nvPr/>
            </p:nvSpPr>
            <p:spPr>
              <a:xfrm flipH="1" flipV="1">
                <a:off x="5234040" y="5511240"/>
                <a:ext cx="380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534280" y="5289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5186520" y="52812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5334120" y="57466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52920" y="550548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798640" y="3075120"/>
              <a:ext cx="281160" cy="892080"/>
            </a:xfrm>
            <a:prstGeom prst="downArrow">
              <a:avLst>
                <a:gd name="adj1" fmla="val 50000"/>
                <a:gd name="adj2" fmla="val 79321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02280" y="3122640"/>
              <a:ext cx="281160" cy="892080"/>
            </a:xfrm>
            <a:prstGeom prst="downArrow">
              <a:avLst>
                <a:gd name="adj1" fmla="val 50000"/>
                <a:gd name="adj2" fmla="val 79321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79640" y="430524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70160" y="430848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857840" y="5300640"/>
              <a:ext cx="296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87880" y="4759200"/>
              <a:ext cx="0" cy="297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744560" y="2170080"/>
              <a:ext cx="14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6680" y="232092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776680" y="2320560"/>
              <a:ext cx="5839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776680" y="202860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76680" y="2028960"/>
              <a:ext cx="5839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459160" y="177012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2521080" y="217332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562200" y="1773000"/>
              <a:ext cx="180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98760" y="1773360"/>
              <a:ext cx="16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44920" y="2305080"/>
              <a:ext cx="3348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359160" y="232092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82880" y="2303640"/>
              <a:ext cx="38160" cy="3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45000" y="232092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59160" y="177336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879560" y="217008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62080" y="1917720"/>
              <a:ext cx="16200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421000" y="2173320"/>
              <a:ext cx="10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25400" y="2170080"/>
              <a:ext cx="223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459160" y="1773360"/>
              <a:ext cx="217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0080" y="2124000"/>
              <a:ext cx="285840" cy="95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516040" y="246708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2451240" y="2467080"/>
              <a:ext cx="10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185920" y="217332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23960" y="2924280"/>
              <a:ext cx="215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81440" y="290664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03200" y="2151000"/>
              <a:ext cx="399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01760" y="2906640"/>
              <a:ext cx="3960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2160" y="2908440"/>
              <a:ext cx="34920" cy="29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38280" y="2158920"/>
              <a:ext cx="3492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51240" y="2465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451240" y="2519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324080" y="2265120"/>
              <a:ext cx="144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278000" y="2265480"/>
              <a:ext cx="92160" cy="73080"/>
              <a:chOff x="1278000" y="2265480"/>
              <a:chExt cx="92160" cy="73080"/>
            </a:xfrm>
          </p:grpSpPr>
          <p:sp>
            <p:nvSpPr>
              <p:cNvPr id="509" name=""/>
              <p:cNvSpPr/>
              <p:nvPr/>
            </p:nvSpPr>
            <p:spPr>
              <a:xfrm flipH="1">
                <a:off x="127800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2408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3755880" y="2421000"/>
              <a:ext cx="92160" cy="73080"/>
              <a:chOff x="3755880" y="2421000"/>
              <a:chExt cx="92160" cy="7308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375588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196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flipV="1">
              <a:off x="3801960" y="2421000"/>
              <a:ext cx="180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39320" y="18144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63520" y="1403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03480" y="2558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342800" y="2170080"/>
              <a:ext cx="301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112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341360" y="292428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1015560" y="2455920"/>
              <a:ext cx="223200" cy="307080"/>
              <a:chOff x="1015560" y="2455920"/>
              <a:chExt cx="223200" cy="307080"/>
            </a:xfrm>
          </p:grpSpPr>
          <p:sp>
            <p:nvSpPr>
              <p:cNvPr id="522" name=""/>
              <p:cNvSpPr/>
              <p:nvPr/>
            </p:nvSpPr>
            <p:spPr>
              <a:xfrm>
                <a:off x="1015560" y="24559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25360" y="2519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014360" y="261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89640" y="2054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70200" y="23526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44920" y="1773360"/>
              <a:ext cx="23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165480" y="177336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49680" y="1773360"/>
              <a:ext cx="67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718240" y="2170080"/>
              <a:ext cx="14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50000" y="2320920"/>
              <a:ext cx="180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6750000" y="2320560"/>
              <a:ext cx="5857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750000" y="2028600"/>
              <a:ext cx="180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50000" y="2028960"/>
              <a:ext cx="5857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432480" y="1770120"/>
              <a:ext cx="180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92960" y="2170080"/>
              <a:ext cx="255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535880" y="1773000"/>
              <a:ext cx="144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72440" y="1773360"/>
              <a:ext cx="16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18240" y="2305080"/>
              <a:ext cx="3492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332480" y="2320920"/>
              <a:ext cx="301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56560" y="2303640"/>
              <a:ext cx="38160" cy="3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0120" y="2320920"/>
              <a:ext cx="13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248600" y="1773360"/>
              <a:ext cx="141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32480" y="1773360"/>
              <a:ext cx="180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7200" y="1917720"/>
              <a:ext cx="16056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405120" y="2170080"/>
              <a:ext cx="1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599080" y="2170080"/>
              <a:ext cx="223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432120" y="1773360"/>
              <a:ext cx="21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18240" y="1773360"/>
              <a:ext cx="230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50080" y="1727280"/>
              <a:ext cx="287280" cy="93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138800" y="1773360"/>
              <a:ext cx="25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489720" y="2467080"/>
              <a:ext cx="257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426360" y="2467080"/>
              <a:ext cx="10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207120" y="2170080"/>
              <a:ext cx="255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97640" y="2924280"/>
              <a:ext cx="2155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56560" y="290664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78320" y="215100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76880" y="290664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05480" y="2908440"/>
              <a:ext cx="34920" cy="29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15200" y="2157480"/>
              <a:ext cx="3312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426360" y="2465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426360" y="2519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297400" y="2265120"/>
              <a:ext cx="180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251320" y="2265480"/>
              <a:ext cx="92160" cy="73080"/>
              <a:chOff x="5251320" y="2265480"/>
              <a:chExt cx="92160" cy="73080"/>
            </a:xfrm>
          </p:grpSpPr>
          <p:sp>
            <p:nvSpPr>
              <p:cNvPr id="565" name=""/>
              <p:cNvSpPr/>
              <p:nvPr/>
            </p:nvSpPr>
            <p:spPr>
              <a:xfrm flipH="1">
                <a:off x="525132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9740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7729560" y="2421000"/>
              <a:ext cx="92160" cy="73080"/>
              <a:chOff x="7729560" y="2421000"/>
              <a:chExt cx="92160" cy="7308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772956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77564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V="1">
              <a:off x="7775640" y="2421000"/>
              <a:ext cx="144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3760" y="144144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87800" y="1798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76800" y="2558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316480" y="2170080"/>
              <a:ext cx="30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54800" y="1797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315040" y="292428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4989240" y="2455920"/>
              <a:ext cx="222840" cy="307080"/>
              <a:chOff x="4989240" y="2455920"/>
              <a:chExt cx="222840" cy="307080"/>
            </a:xfrm>
          </p:grpSpPr>
          <p:sp>
            <p:nvSpPr>
              <p:cNvPr id="578" name=""/>
              <p:cNvSpPr/>
              <p:nvPr/>
            </p:nvSpPr>
            <p:spPr>
              <a:xfrm>
                <a:off x="4989240" y="24559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98680" y="2519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7988040" y="261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62960" y="2054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43520" y="23526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49840" y="2170080"/>
              <a:ext cx="14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189480" y="2170080"/>
              <a:ext cx="23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45160" y="2170080"/>
              <a:ext cx="255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640480" y="2170080"/>
              <a:ext cx="67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04640" y="214308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7720" y="215424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447880" y="217656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6477120" y="1766880"/>
              <a:ext cx="296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6120" y="217188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89120" y="177156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30360" y="545580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827600" y="545940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33800" y="5641560"/>
              <a:ext cx="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8182080" y="5645160"/>
              <a:ext cx="0" cy="66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814840" y="1647720"/>
              <a:ext cx="679320" cy="222480"/>
              <a:chOff x="2814840" y="1647720"/>
              <a:chExt cx="679320" cy="22248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3032280" y="1671840"/>
                <a:ext cx="177840" cy="17928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19840" y="1762200"/>
                <a:ext cx="23652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814840" y="17622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203640" y="164772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203640" y="175104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3200400" y="17622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850000" y="2046240"/>
              <a:ext cx="679320" cy="221760"/>
              <a:chOff x="5850000" y="2046240"/>
              <a:chExt cx="679320" cy="221760"/>
            </a:xfrm>
          </p:grpSpPr>
          <p:sp>
            <p:nvSpPr>
              <p:cNvPr id="605" name=""/>
              <p:cNvSpPr/>
              <p:nvPr/>
            </p:nvSpPr>
            <p:spPr>
              <a:xfrm>
                <a:off x="6134040" y="2070000"/>
                <a:ext cx="177840" cy="1789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887800" y="2160360"/>
                <a:ext cx="236520" cy="2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35560" y="2160360"/>
                <a:ext cx="293760" cy="2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8720" y="2046240"/>
                <a:ext cx="1800" cy="11880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38720" y="2149200"/>
                <a:ext cx="1800" cy="11880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50000" y="2160360"/>
                <a:ext cx="293760" cy="2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1" name=""/>
          <p:cNvSpPr/>
          <p:nvPr/>
        </p:nvSpPr>
        <p:spPr>
          <a:xfrm flipH="1">
            <a:off x="2355480" y="527040"/>
            <a:ext cx="8492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2760" y="579600"/>
            <a:ext cx="412560" cy="9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logarytmujący z kompensacją termiczn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ów zerowych diod D1 i 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12840" y="1346040"/>
            <a:ext cx="8691480" cy="5159520"/>
            <a:chOff x="312840" y="1346040"/>
            <a:chExt cx="8691480" cy="5159520"/>
          </a:xfrm>
        </p:grpSpPr>
        <p:sp>
          <p:nvSpPr>
            <p:cNvPr id="615" name=""/>
            <p:cNvSpPr/>
            <p:nvPr/>
          </p:nvSpPr>
          <p:spPr>
            <a:xfrm rot="1783200">
              <a:off x="3333240" y="2435040"/>
              <a:ext cx="2081520" cy="11635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41440" y="2452680"/>
              <a:ext cx="308160" cy="10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463040" y="20890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27080" y="2475000"/>
              <a:ext cx="4932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734000" y="269064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31000" y="1941480"/>
              <a:ext cx="2048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076040" y="2502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52000" y="26654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9920" y="248112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995480" y="3045960"/>
              <a:ext cx="1440" cy="227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06840" y="1941480"/>
              <a:ext cx="204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209320" y="1941480"/>
              <a:ext cx="9716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51080" y="27082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251080" y="270828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251080" y="229860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51080" y="229860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09040" y="277812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95480" y="250344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995480" y="1941120"/>
              <a:ext cx="1440" cy="561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995480" y="2913120"/>
              <a:ext cx="255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747440" y="2503440"/>
              <a:ext cx="358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995480" y="2912760"/>
              <a:ext cx="1440" cy="15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3349800" y="1941480"/>
              <a:ext cx="1440" cy="766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19400" y="1941480"/>
              <a:ext cx="2304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27480" y="2689200"/>
              <a:ext cx="50760" cy="446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643120" y="2196720"/>
              <a:ext cx="1800" cy="30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73240" y="1346040"/>
              <a:ext cx="128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cc (+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49560" y="29304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Arial"/>
                </a:rPr>
                <a:t>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76720" y="1892160"/>
              <a:ext cx="306360" cy="10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863880" y="1938240"/>
              <a:ext cx="308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989160" y="2709720"/>
              <a:ext cx="3063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22000" y="15667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061800" y="2709720"/>
              <a:ext cx="422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16600" y="25066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016600" y="250668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016600" y="209700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16600" y="209700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08400" y="21286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77800" y="257184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65680" y="228744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700160" y="2709720"/>
              <a:ext cx="3193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19880" y="1492200"/>
              <a:ext cx="52200" cy="5256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16760" y="2484360"/>
              <a:ext cx="3960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37240" y="1919160"/>
              <a:ext cx="4896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5419800" y="1982520"/>
              <a:ext cx="1440" cy="307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16720" y="1889280"/>
              <a:ext cx="307800" cy="102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087880" y="1938240"/>
              <a:ext cx="5191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83080" y="1938240"/>
              <a:ext cx="5475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5423040" y="2712960"/>
              <a:ext cx="1440" cy="30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5423040" y="2847960"/>
              <a:ext cx="1440" cy="79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15200" y="248292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89400" y="2709720"/>
              <a:ext cx="409680" cy="1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41600" y="2709720"/>
              <a:ext cx="7034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43120" y="1515960"/>
              <a:ext cx="1800" cy="76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7160" y="236376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37200" y="25750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94240" y="1490760"/>
              <a:ext cx="49320" cy="4428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25520" y="2882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52280" y="15667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38960" y="2567160"/>
              <a:ext cx="1440" cy="528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38960" y="2567160"/>
              <a:ext cx="39600" cy="75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401880" y="2573280"/>
              <a:ext cx="3492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50920" y="2637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15080" y="2506680"/>
              <a:ext cx="601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04920" y="15667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67840" y="3470400"/>
              <a:ext cx="124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ee (-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418440" y="361476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03760" y="2851200"/>
              <a:ext cx="10332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46600" y="3158640"/>
              <a:ext cx="1440" cy="14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6320" y="3341520"/>
              <a:ext cx="38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Arial"/>
                </a:rPr>
                <a:t>+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1014120" y="2587680"/>
              <a:ext cx="76320" cy="403200"/>
              <a:chOff x="1014120" y="2587680"/>
              <a:chExt cx="76320" cy="403200"/>
            </a:xfrm>
          </p:grpSpPr>
          <p:sp>
            <p:nvSpPr>
              <p:cNvPr id="686" name=""/>
              <p:cNvSpPr/>
              <p:nvPr/>
            </p:nvSpPr>
            <p:spPr>
              <a:xfrm>
                <a:off x="1052640" y="2587680"/>
                <a:ext cx="37800" cy="76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1014120" y="2590920"/>
                <a:ext cx="34920" cy="6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52640" y="2587680"/>
                <a:ext cx="1440" cy="403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V="1">
              <a:off x="1052640" y="3122640"/>
              <a:ext cx="144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27080" y="3067200"/>
              <a:ext cx="50760" cy="554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21320" y="23353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0320" y="333360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437160" y="3186000"/>
              <a:ext cx="180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413400" y="3132000"/>
              <a:ext cx="5076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9760" y="2200320"/>
              <a:ext cx="223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6134040" y="2199960"/>
              <a:ext cx="1800" cy="30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6134040" y="1941120"/>
              <a:ext cx="1800" cy="30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46360" y="1514520"/>
              <a:ext cx="3767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419800" y="1514520"/>
              <a:ext cx="1440" cy="520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756320" y="2707920"/>
              <a:ext cx="1440" cy="136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2668320" y="3637080"/>
              <a:ext cx="3741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50760" y="3278160"/>
              <a:ext cx="2048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87480" y="327960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497400" y="2593800"/>
              <a:ext cx="679320" cy="222480"/>
              <a:chOff x="3497400" y="2593800"/>
              <a:chExt cx="679320" cy="222480"/>
            </a:xfrm>
          </p:grpSpPr>
          <p:sp>
            <p:nvSpPr>
              <p:cNvPr id="705" name=""/>
              <p:cNvSpPr/>
              <p:nvPr/>
            </p:nvSpPr>
            <p:spPr>
              <a:xfrm>
                <a:off x="3781440" y="2617920"/>
                <a:ext cx="177840" cy="17928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3535200" y="2708280"/>
                <a:ext cx="23652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882960" y="270828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86120" y="259380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86120" y="269712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97400" y="270828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4721400" y="3303720"/>
              <a:ext cx="50760" cy="568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4762440" y="1942920"/>
              <a:ext cx="1800" cy="255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00720" y="3618000"/>
              <a:ext cx="4608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23000" y="193824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36760" y="2349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860640" y="1936800"/>
              <a:ext cx="180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641680" y="2919240"/>
              <a:ext cx="1440" cy="52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41680" y="3114360"/>
              <a:ext cx="1440" cy="52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639880" y="3637080"/>
              <a:ext cx="190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1230480" y="2502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762440" y="2031840"/>
              <a:ext cx="180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91400" y="272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12640" y="2701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4" name=""/>
                <p:cNvSpPr txBox="1"/>
                <p:nvPr/>
              </p:nvSpPr>
              <p:spPr>
                <a:xfrm>
                  <a:off x="1314360" y="4049640"/>
                  <a:ext cx="652464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p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5" name=""/>
                <p:cNvSpPr txBox="1"/>
                <p:nvPr/>
              </p:nvSpPr>
              <p:spPr>
                <a:xfrm>
                  <a:off x="312840" y="5486400"/>
                  <a:ext cx="869148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Up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26" name=""/>
            <p:cNvSpPr/>
            <p:nvPr/>
          </p:nvSpPr>
          <p:spPr>
            <a:xfrm flipV="1">
              <a:off x="4322880" y="2874600"/>
              <a:ext cx="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81160" y="3244680"/>
              <a:ext cx="1994040" cy="828720"/>
            </a:xfrm>
            <a:custGeom>
              <a:avLst/>
              <a:gdLst/>
              <a:ahLst/>
              <a:rect l="l" t="t" r="r" b="b"/>
              <a:pathLst>
                <a:path w="1256" h="522">
                  <a:moveTo>
                    <a:pt x="1256" y="0"/>
                  </a:moveTo>
                  <a:cubicBezTo>
                    <a:pt x="1038" y="23"/>
                    <a:pt x="820" y="47"/>
                    <a:pt x="611" y="134"/>
                  </a:cubicBezTo>
                  <a:cubicBezTo>
                    <a:pt x="402" y="221"/>
                    <a:pt x="201" y="371"/>
                    <a:pt x="0" y="52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1985760" y="1822320"/>
              <a:ext cx="679320" cy="222480"/>
              <a:chOff x="1985760" y="1822320"/>
              <a:chExt cx="679320" cy="222480"/>
            </a:xfrm>
          </p:grpSpPr>
          <p:sp>
            <p:nvSpPr>
              <p:cNvPr id="729" name=""/>
              <p:cNvSpPr/>
              <p:nvPr/>
            </p:nvSpPr>
            <p:spPr>
              <a:xfrm flipH="1">
                <a:off x="2203200" y="1846440"/>
                <a:ext cx="177840" cy="17928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390760" y="1936800"/>
                <a:ext cx="23652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985760" y="19368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2374560" y="182232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2374560" y="192564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371320" y="19368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logarytmujący z kompensacją termiczn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ów zerowych i parą różnic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938160" y="1890720"/>
            <a:ext cx="6906240" cy="2429640"/>
            <a:chOff x="938160" y="1890720"/>
            <a:chExt cx="6906240" cy="2429640"/>
          </a:xfrm>
        </p:grpSpPr>
        <p:sp>
          <p:nvSpPr>
            <p:cNvPr id="737" name=""/>
            <p:cNvSpPr/>
            <p:nvPr/>
          </p:nvSpPr>
          <p:spPr>
            <a:xfrm>
              <a:off x="1428840" y="2997360"/>
              <a:ext cx="308160" cy="10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50440" y="263376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14480" y="3019680"/>
              <a:ext cx="4932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21400" y="323532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18400" y="248616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7480" y="32101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57320" y="302580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38480" y="325296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238480" y="325296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238480" y="28432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38480" y="284328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43520" y="33228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1974960" y="2505240"/>
              <a:ext cx="792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1982880" y="3457800"/>
              <a:ext cx="255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1735200" y="3048120"/>
              <a:ext cx="501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1984320" y="3457440"/>
              <a:ext cx="792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337200" y="2486160"/>
              <a:ext cx="144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14880" y="3233880"/>
              <a:ext cx="50760" cy="446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60640" y="1890720"/>
              <a:ext cx="128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cc (+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42000" y="347508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164120" y="2436840"/>
              <a:ext cx="306360" cy="10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851280" y="2482920"/>
              <a:ext cx="308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09400" y="21114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49200" y="325440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04000" y="305136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004000" y="305136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5004000" y="26416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04000" y="264168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4960" y="2673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11920" y="311652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53080" y="2832120"/>
              <a:ext cx="255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4751640" y="325440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07280" y="2036880"/>
              <a:ext cx="52200" cy="5256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04160" y="3029040"/>
              <a:ext cx="3960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640" y="2463840"/>
              <a:ext cx="4896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407200" y="2041200"/>
              <a:ext cx="468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04120" y="2433960"/>
              <a:ext cx="307800" cy="102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0480" y="2482920"/>
              <a:ext cx="1109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5410440" y="3259440"/>
              <a:ext cx="1440" cy="9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02600" y="302760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38680" y="3252960"/>
              <a:ext cx="1089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30520" y="2060640"/>
              <a:ext cx="180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97960" y="290844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358000" y="311976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381640" y="2035440"/>
              <a:ext cx="49320" cy="4428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12920" y="3427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39680" y="21114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26360" y="3111840"/>
              <a:ext cx="1440" cy="528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26360" y="3111840"/>
              <a:ext cx="39600" cy="75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389280" y="3117960"/>
              <a:ext cx="3492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76760" y="3181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02480" y="3051360"/>
              <a:ext cx="6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26800" y="211140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55240" y="4015080"/>
              <a:ext cx="124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ee (-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405840" y="415944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1160" y="3395880"/>
              <a:ext cx="10332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734000" y="370332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68760" y="388620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+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1001520" y="3132360"/>
              <a:ext cx="76320" cy="403200"/>
              <a:chOff x="1001520" y="3132360"/>
              <a:chExt cx="76320" cy="403200"/>
            </a:xfrm>
          </p:grpSpPr>
          <p:sp>
            <p:nvSpPr>
              <p:cNvPr id="796" name=""/>
              <p:cNvSpPr/>
              <p:nvPr/>
            </p:nvSpPr>
            <p:spPr>
              <a:xfrm>
                <a:off x="1040040" y="3132360"/>
                <a:ext cx="37800" cy="76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1001520" y="3135600"/>
                <a:ext cx="34920" cy="6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040040" y="3132360"/>
                <a:ext cx="1440" cy="403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 flipV="1">
              <a:off x="1040040" y="3667320"/>
              <a:ext cx="144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14480" y="3611880"/>
              <a:ext cx="50760" cy="554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42840" y="288000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327720" y="387828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424560" y="3730680"/>
              <a:ext cx="180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400800" y="3676680"/>
              <a:ext cx="5076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37160" y="2745000"/>
              <a:ext cx="223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121440" y="2496960"/>
              <a:ext cx="324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33760" y="2059200"/>
              <a:ext cx="37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4743720" y="3252600"/>
              <a:ext cx="144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608200" y="4181760"/>
              <a:ext cx="378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38160" y="3822840"/>
              <a:ext cx="2048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74880" y="382428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08800" y="3848400"/>
              <a:ext cx="50760" cy="568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4749840" y="2487960"/>
              <a:ext cx="18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88120" y="4162680"/>
              <a:ext cx="4608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62960" y="28940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848040" y="2481480"/>
              <a:ext cx="18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2629080" y="3449520"/>
              <a:ext cx="14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1045800" y="3046680"/>
              <a:ext cx="374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25520" y="327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47120" y="3246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4310280" y="3419280"/>
              <a:ext cx="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824200" y="2656080"/>
              <a:ext cx="247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>
              <a:off x="2727000" y="2498760"/>
              <a:ext cx="1494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3003480" y="2492640"/>
              <a:ext cx="1000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57680" y="2824200"/>
              <a:ext cx="14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28960" y="265284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092400" y="248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978200" y="2506680"/>
              <a:ext cx="75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3492720" y="3418200"/>
              <a:ext cx="247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687120" y="3260880"/>
              <a:ext cx="1494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3460680" y="3254040"/>
              <a:ext cx="10008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624120" y="3586320"/>
              <a:ext cx="3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35640" y="341496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959280" y="324000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34080" y="3225960"/>
              <a:ext cx="4896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138320" y="1781280"/>
            <a:ext cx="2325600" cy="2387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8280" y="4243320"/>
            <a:ext cx="173160" cy="93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297800" y="566100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 rot="2898600">
            <a:off x="1285560" y="1190520"/>
            <a:ext cx="3063960" cy="20480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delogarytmując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kompensacją termiczną prądów zerowych dio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12840" y="1735200"/>
            <a:ext cx="279360" cy="9360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41560" y="143028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35200" y="1754280"/>
            <a:ext cx="4428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726080" y="1760400"/>
            <a:ext cx="39600" cy="367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810400" y="1779480"/>
            <a:ext cx="185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1779120" y="1778040"/>
            <a:ext cx="187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39600" y="276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93800" y="1763640"/>
            <a:ext cx="41400" cy="367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62320" y="1779480"/>
            <a:ext cx="185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2809440" y="1779480"/>
            <a:ext cx="885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46520" y="2478240"/>
            <a:ext cx="144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846520" y="2478240"/>
            <a:ext cx="74592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2846520" y="2104560"/>
            <a:ext cx="1440" cy="373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46520" y="2104920"/>
            <a:ext cx="745920" cy="373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96200" y="252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12880" y="2292480"/>
            <a:ext cx="233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2612880" y="1779120"/>
            <a:ext cx="1800" cy="513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612520" y="2664000"/>
            <a:ext cx="233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391840" y="1779480"/>
            <a:ext cx="327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612880" y="266400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3824280" y="1781280"/>
            <a:ext cx="1440" cy="69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38520" y="1779480"/>
            <a:ext cx="2095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01960" y="1758960"/>
            <a:ext cx="44640" cy="381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205080" y="2013120"/>
            <a:ext cx="180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399000" y="1238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c (+15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540320" y="1779480"/>
            <a:ext cx="279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78440" y="2293920"/>
            <a:ext cx="144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978440" y="2293920"/>
            <a:ext cx="74448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978440" y="1922400"/>
            <a:ext cx="1440" cy="3715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78440" y="1922400"/>
            <a:ext cx="744480" cy="3715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61960" y="1951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29920" y="23414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748040" y="2095560"/>
            <a:ext cx="233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748040" y="2479680"/>
            <a:ext cx="231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246720" y="1370160"/>
            <a:ext cx="46080" cy="457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79960" y="2274840"/>
            <a:ext cx="34920" cy="381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5345280" y="1817640"/>
            <a:ext cx="144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24560" y="1731960"/>
            <a:ext cx="27936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5019480" y="1779480"/>
            <a:ext cx="471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348160" y="248256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5348160" y="2604600"/>
            <a:ext cx="1800" cy="722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249960" y="2271600"/>
            <a:ext cx="46080" cy="46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36880" y="1779480"/>
            <a:ext cx="6415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205080" y="1393920"/>
            <a:ext cx="1800" cy="69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146200" y="21765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20400" y="23464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21160" y="1370160"/>
            <a:ext cx="44640" cy="378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59200" y="2706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533920" y="14400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73720" y="2349360"/>
            <a:ext cx="1800" cy="48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73720" y="2349360"/>
            <a:ext cx="34920" cy="69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6240600" y="2354400"/>
            <a:ext cx="31680" cy="64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376680" y="2413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02400" y="2293920"/>
            <a:ext cx="547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22680" y="143352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393240" y="31719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ee (-15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245280" y="3303720"/>
            <a:ext cx="46080" cy="46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565360" y="2863800"/>
            <a:ext cx="95400" cy="281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00200" y="1827360"/>
            <a:ext cx="4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722600" y="2735280"/>
            <a:ext cx="68040" cy="69840"/>
            <a:chOff x="1722600" y="2735280"/>
            <a:chExt cx="68040" cy="69840"/>
          </a:xfrm>
        </p:grpSpPr>
        <p:sp>
          <p:nvSpPr>
            <p:cNvPr id="901" name=""/>
            <p:cNvSpPr/>
            <p:nvPr/>
          </p:nvSpPr>
          <p:spPr>
            <a:xfrm>
              <a:off x="1755720" y="2735280"/>
              <a:ext cx="3492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722600" y="2738520"/>
              <a:ext cx="316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 flipV="1">
            <a:off x="1755720" y="318132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33400" y="3129120"/>
            <a:ext cx="4464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5800" y="14400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183360" y="3048120"/>
            <a:ext cx="1872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272280" y="2913120"/>
            <a:ext cx="144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249960" y="2865600"/>
            <a:ext cx="4464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996160" y="2014560"/>
            <a:ext cx="144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996160" y="1779480"/>
            <a:ext cx="144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345280" y="1390680"/>
            <a:ext cx="1440" cy="47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4745160" y="247968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63560" y="3322800"/>
            <a:ext cx="18576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21080" y="3321000"/>
            <a:ext cx="1807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612520" y="1717560"/>
            <a:ext cx="540000" cy="120600"/>
            <a:chOff x="2612520" y="1717560"/>
            <a:chExt cx="540000" cy="120600"/>
          </a:xfrm>
        </p:grpSpPr>
        <p:sp>
          <p:nvSpPr>
            <p:cNvPr id="916" name=""/>
            <p:cNvSpPr/>
            <p:nvPr/>
          </p:nvSpPr>
          <p:spPr>
            <a:xfrm>
              <a:off x="2786040" y="1733400"/>
              <a:ext cx="139680" cy="92160"/>
            </a:xfrm>
            <a:custGeom>
              <a:avLst/>
              <a:gdLst/>
              <a:ahLst/>
              <a:rect l="l" t="t" r="r" b="b"/>
              <a:pathLst>
                <a:path w="176" h="118">
                  <a:moveTo>
                    <a:pt x="176" y="59"/>
                  </a:moveTo>
                  <a:lnTo>
                    <a:pt x="0" y="118"/>
                  </a:lnTo>
                  <a:lnTo>
                    <a:pt x="0" y="0"/>
                  </a:lnTo>
                  <a:lnTo>
                    <a:pt x="176" y="5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36880" y="1779480"/>
              <a:ext cx="18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2612520" y="1779480"/>
              <a:ext cx="233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2784240" y="1717560"/>
              <a:ext cx="136440" cy="60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84600" y="171756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2784240" y="1776240"/>
              <a:ext cx="136440" cy="61920"/>
              <a:chOff x="2784240" y="1776240"/>
              <a:chExt cx="136440" cy="61920"/>
            </a:xfrm>
          </p:grpSpPr>
          <p:sp>
            <p:nvSpPr>
              <p:cNvPr id="922" name=""/>
              <p:cNvSpPr/>
              <p:nvPr/>
            </p:nvSpPr>
            <p:spPr>
              <a:xfrm flipH="1">
                <a:off x="2784240" y="1778040"/>
                <a:ext cx="136440" cy="60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784600" y="1776240"/>
                <a:ext cx="1440" cy="6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2924280" y="172080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24280" y="177336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2918880" y="1779480"/>
              <a:ext cx="233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024440" y="1717560"/>
            <a:ext cx="538200" cy="120600"/>
            <a:chOff x="4024440" y="1717560"/>
            <a:chExt cx="538200" cy="120600"/>
          </a:xfrm>
        </p:grpSpPr>
        <p:sp>
          <p:nvSpPr>
            <p:cNvPr id="928" name=""/>
            <p:cNvSpPr/>
            <p:nvPr/>
          </p:nvSpPr>
          <p:spPr>
            <a:xfrm>
              <a:off x="4251240" y="1733400"/>
              <a:ext cx="139680" cy="92160"/>
            </a:xfrm>
            <a:custGeom>
              <a:avLst/>
              <a:gdLst/>
              <a:ahLst/>
              <a:rect l="l" t="t" r="r" b="b"/>
              <a:pathLst>
                <a:path w="176" h="118">
                  <a:moveTo>
                    <a:pt x="0" y="59"/>
                  </a:moveTo>
                  <a:lnTo>
                    <a:pt x="176" y="118"/>
                  </a:lnTo>
                  <a:lnTo>
                    <a:pt x="176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4054320" y="1779480"/>
              <a:ext cx="18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30800" y="1779480"/>
              <a:ext cx="231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255920" y="1717560"/>
              <a:ext cx="136800" cy="60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92720" y="171756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4255920" y="1776240"/>
              <a:ext cx="138240" cy="61920"/>
              <a:chOff x="4255920" y="1776240"/>
              <a:chExt cx="138240" cy="61920"/>
            </a:xfrm>
          </p:grpSpPr>
          <p:sp>
            <p:nvSpPr>
              <p:cNvPr id="934" name=""/>
              <p:cNvSpPr/>
              <p:nvPr/>
            </p:nvSpPr>
            <p:spPr>
              <a:xfrm>
                <a:off x="4255920" y="1778040"/>
                <a:ext cx="136800" cy="60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4392720" y="1776240"/>
                <a:ext cx="1440" cy="6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4253040" y="172080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53040" y="177336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24440" y="1779480"/>
              <a:ext cx="23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 flipV="1">
            <a:off x="4745160" y="1781280"/>
            <a:ext cx="1440" cy="233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327640" y="3308400"/>
            <a:ext cx="39600" cy="36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8520" y="1779480"/>
            <a:ext cx="2318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26800" y="21510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203640" y="2669760"/>
            <a:ext cx="1440" cy="477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203640" y="2847600"/>
            <a:ext cx="1440" cy="477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1918800" y="1778040"/>
            <a:ext cx="187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745160" y="1863720"/>
            <a:ext cx="1440" cy="231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77560" y="2838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19680" y="2473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027240" y="1779480"/>
            <a:ext cx="1954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612880" y="313992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612880" y="318780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2612880" y="271944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14640" y="2617920"/>
            <a:ext cx="280800" cy="9360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97000" y="2325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33400" y="2638440"/>
            <a:ext cx="4464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1781280" y="2665440"/>
            <a:ext cx="185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93800" y="2644920"/>
            <a:ext cx="41400" cy="36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924200" y="2665440"/>
            <a:ext cx="187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2394000" y="2664000"/>
            <a:ext cx="32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755720" y="2746440"/>
            <a:ext cx="1800" cy="32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730600" y="29052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53000" y="3046320"/>
            <a:ext cx="1810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4745160" y="2808360"/>
            <a:ext cx="144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4745160" y="2913120"/>
            <a:ext cx="144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3592440" y="2479680"/>
            <a:ext cx="2332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5049720" y="1779480"/>
            <a:ext cx="4730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4745160" y="2593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745160" y="270828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201840" y="3327480"/>
            <a:ext cx="3036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203640" y="1393920"/>
            <a:ext cx="3036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6440" y="4143240"/>
                <a:ext cx="84898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122560" y="5257800"/>
                <a:ext cx="46069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 flipV="1">
            <a:off x="3705120" y="2592360"/>
            <a:ext cx="0" cy="652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52560" y="3139920"/>
            <a:ext cx="2628720" cy="774720"/>
          </a:xfrm>
          <a:custGeom>
            <a:avLst/>
            <a:gdLst/>
            <a:ahLst/>
            <a:rect l="l" t="t" r="r" b="b"/>
            <a:pathLst>
              <a:path w="1656" h="488">
                <a:moveTo>
                  <a:pt x="1656" y="0"/>
                </a:moveTo>
                <a:cubicBezTo>
                  <a:pt x="1571" y="42"/>
                  <a:pt x="1340" y="201"/>
                  <a:pt x="1145" y="255"/>
                </a:cubicBezTo>
                <a:cubicBezTo>
                  <a:pt x="950" y="309"/>
                  <a:pt x="645" y="302"/>
                  <a:pt x="489" y="322"/>
                </a:cubicBezTo>
                <a:cubicBezTo>
                  <a:pt x="333" y="342"/>
                  <a:pt x="292" y="349"/>
                  <a:pt x="211" y="377"/>
                </a:cubicBezTo>
                <a:cubicBezTo>
                  <a:pt x="130" y="405"/>
                  <a:pt x="44" y="465"/>
                  <a:pt x="0" y="48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erokopasmowy układ logarytmują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toda funkcji jawn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17520" y="765000"/>
            <a:ext cx="8681040" cy="5283360"/>
            <a:chOff x="317520" y="765000"/>
            <a:chExt cx="8681040" cy="5283360"/>
          </a:xfrm>
        </p:grpSpPr>
        <p:sp>
          <p:nvSpPr>
            <p:cNvPr id="977" name=""/>
            <p:cNvSpPr/>
            <p:nvPr/>
          </p:nvSpPr>
          <p:spPr>
            <a:xfrm>
              <a:off x="863640" y="3584520"/>
              <a:ext cx="14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863640" y="34747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63640" y="38559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5040" y="377172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439640" y="4251240"/>
              <a:ext cx="7164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58920" y="3508200"/>
              <a:ext cx="14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30320" y="3431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1956240" y="3835800"/>
              <a:ext cx="20520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8920" y="373680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92240" y="3987720"/>
              <a:ext cx="14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930320" y="4016160"/>
              <a:ext cx="144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85760" y="427032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73120" y="4270320"/>
              <a:ext cx="14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41360" y="457524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41360" y="47275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73120" y="457524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92240" y="3051000"/>
              <a:ext cx="1440" cy="4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30320" y="3051000"/>
              <a:ext cx="144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1092240" y="2746440"/>
              <a:ext cx="14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364600" y="2898720"/>
              <a:ext cx="304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5400000">
              <a:off x="8641800" y="284472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8320" y="442260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42240" y="5302080"/>
              <a:ext cx="71280" cy="7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92240" y="2975040"/>
              <a:ext cx="144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923840" y="3203640"/>
              <a:ext cx="18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87440" y="29480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20800" y="3100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23600" y="4624200"/>
              <a:ext cx="46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5040" y="3787560"/>
              <a:ext cx="144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81040" y="3736800"/>
              <a:ext cx="18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35040" y="3895560"/>
              <a:ext cx="1440" cy="52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473120" y="5032440"/>
              <a:ext cx="14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17520" y="4422600"/>
              <a:ext cx="6458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14560" y="35845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2914560" y="34747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14560" y="38559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85960" y="37717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90920" y="4251240"/>
              <a:ext cx="7128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09840" y="3508200"/>
              <a:ext cx="18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81240" y="3431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4007160" y="3835800"/>
              <a:ext cx="20484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09840" y="373680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43160" y="3987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81240" y="4016160"/>
              <a:ext cx="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36680" y="427032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24040" y="42703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392280" y="457524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92280" y="47275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24040" y="4575240"/>
              <a:ext cx="1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43160" y="3051000"/>
              <a:ext cx="0" cy="4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81240" y="305100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3143160" y="2746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767360" y="950760"/>
              <a:ext cx="71640" cy="7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38440" y="442260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43160" y="320364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981240" y="320364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66640" y="312732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524040" y="320364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52640" y="4575240"/>
              <a:ext cx="54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82720" y="37875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438440" y="3736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82720" y="3927600"/>
              <a:ext cx="0" cy="49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24040" y="5032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559000" y="24145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95640" y="35845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4895640" y="34747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95640" y="38559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67040" y="37717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72000" y="4251240"/>
              <a:ext cx="7128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191280" y="3508200"/>
              <a:ext cx="14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62680" y="3431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988240" y="3835800"/>
              <a:ext cx="20484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1280" y="373680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24240" y="3987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62680" y="4016160"/>
              <a:ext cx="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18120" y="427032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505480" y="42703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73720" y="4575240"/>
              <a:ext cx="26640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3720" y="4727520"/>
              <a:ext cx="26640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05480" y="457524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0800000">
              <a:off x="5047920" y="160308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24240" y="3051000"/>
              <a:ext cx="0" cy="4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62680" y="305100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5124240" y="2746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7029360" y="38127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3280" y="442260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24240" y="29750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62680" y="320364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14760" y="3127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05480" y="3127320"/>
              <a:ext cx="52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34080" y="4651200"/>
              <a:ext cx="615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73520" y="37875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19880" y="3736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76760" y="3927600"/>
              <a:ext cx="0" cy="49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05480" y="5032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0800000">
              <a:off x="5884560" y="160308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49280" y="40417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291000" y="40417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335480" y="40417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97680" y="302112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5400000">
              <a:off x="7338600" y="243648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12040" y="25178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11320" y="28987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93000" y="2711520"/>
              <a:ext cx="5364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27760" y="3024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103720" y="27036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0800000">
              <a:off x="6952680" y="33555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5400000">
              <a:off x="7706160" y="17643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06960" y="41180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7029360" y="3050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477280" y="198432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020080" y="19843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7029360" y="198396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7029360" y="1984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5124240" y="206028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5962680" y="206028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5122800" y="99360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5962680" y="99360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24240" y="99360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505480" y="533700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78480" y="529920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87680" y="529920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85760" y="274644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43360" y="2746440"/>
              <a:ext cx="26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4743360" y="3051000"/>
              <a:ext cx="26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23840" y="3051000"/>
              <a:ext cx="226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03560" y="2685960"/>
              <a:ext cx="71280" cy="71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941640" y="30099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918040" y="969840"/>
              <a:ext cx="71640" cy="71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91080" y="27003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438440" y="27003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65640" y="27003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91080" y="30099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38440" y="30099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5640" y="30099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466640" y="5337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91080" y="52815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438440" y="52815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65640" y="52815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19680" y="53370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44960" y="14508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11440" y="35845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98280" y="152712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22160" y="152712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60960" y="5261040"/>
              <a:ext cx="626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442040" y="4346640"/>
              <a:ext cx="626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32680" y="5032440"/>
              <a:ext cx="60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56000" y="76500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45000" y="3508200"/>
              <a:ext cx="5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542960" y="3508200"/>
              <a:ext cx="53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02400" y="3508200"/>
              <a:ext cx="5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87480" y="3508200"/>
              <a:ext cx="510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983840" y="3508200"/>
              <a:ext cx="5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668560" y="3508200"/>
              <a:ext cx="510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26400" y="2289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40440" y="2975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18120" y="22892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56200" y="22892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507920" y="207468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46920" y="2136600"/>
              <a:ext cx="49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400480" y="1254240"/>
                <a:ext cx="33541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370440" y="304920"/>
            <a:ext cx="850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ażdej pary różnicowej, ze źródłem stałoprądowym w emiterz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chodzi związ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88080" y="2479680"/>
            <a:ext cx="5316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: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różnicowy prąd kolek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wejściowe napięc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6400" y="3622680"/>
            <a:ext cx="774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 par różnicowych wynikowy prąd różnicow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sać zależności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669960" y="4648320"/>
                <a:ext cx="77277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10440" y="45720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rowadzając zmienne unorm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2298600" y="898560"/>
                <a:ext cx="3786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R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912960" y="21337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004840" y="2666880"/>
                <a:ext cx="3764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369720" y="3962520"/>
            <a:ext cx="79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ksymującą z założoną dokładnością funkcję logarytmiczn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2224080" y="4876920"/>
                <a:ext cx="3529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367920" y="457200"/>
            <a:ext cx="8584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operacyjny spełnia rolę przetwornika przetwarzając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różnicowy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isując równania bilansów prądów dla węzłów A i B ma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2003400" y="1828800"/>
                <a:ext cx="422280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0" name=""/>
          <p:cNvSpPr/>
          <p:nvPr/>
        </p:nvSpPr>
        <p:spPr>
          <a:xfrm>
            <a:off x="741600" y="42321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wiązując powyższy układ równań otrzymuj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303640" y="4861080"/>
                <a:ext cx="3546360" cy="16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2549880" y="750960"/>
            <a:ext cx="24516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niewa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 &gt;&gt; 1 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7360" y="3995640"/>
            <a:ext cx="8190000" cy="2704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 monolityczny SN7650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wa układy logarytmicz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każdy z układów składa się z czterech par różnicowych (n=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okładność realizacji charakterystyki logarytmicznej +/- 0,5 d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zakres napięć wejściowych około 60 d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częstotliwość graniczna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40 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462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kłady mnożące i dzielą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7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ów mnożących i dziel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765000" y="1382760"/>
                <a:ext cx="3092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801720" y="2125800"/>
                <a:ext cx="269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4910040" y="1101600"/>
                <a:ext cx="25527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4890960" y="1935000"/>
                <a:ext cx="20894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0" name=""/>
          <p:cNvGrpSpPr/>
          <p:nvPr/>
        </p:nvGrpSpPr>
        <p:grpSpPr>
          <a:xfrm>
            <a:off x="960480" y="3648240"/>
            <a:ext cx="7161120" cy="1869480"/>
            <a:chOff x="960480" y="3648240"/>
            <a:chExt cx="7161120" cy="1869480"/>
          </a:xfrm>
        </p:grpSpPr>
        <p:sp>
          <p:nvSpPr>
            <p:cNvPr id="1161" name=""/>
            <p:cNvSpPr/>
            <p:nvPr/>
          </p:nvSpPr>
          <p:spPr>
            <a:xfrm>
              <a:off x="1878480" y="370512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n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56160" y="482292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n(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24040" y="4067280"/>
              <a:ext cx="903240" cy="879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3832200" y="4130640"/>
              <a:ext cx="271440" cy="309240"/>
              <a:chOff x="3832200" y="4130640"/>
              <a:chExt cx="271440" cy="309240"/>
            </a:xfrm>
          </p:grpSpPr>
          <p:sp>
            <p:nvSpPr>
              <p:cNvPr id="1165" name=""/>
              <p:cNvSpPr/>
              <p:nvPr/>
            </p:nvSpPr>
            <p:spPr>
              <a:xfrm>
                <a:off x="3972600" y="4130640"/>
                <a:ext cx="0" cy="30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832200" y="4288680"/>
                <a:ext cx="27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5110200" y="4044960"/>
              <a:ext cx="1793880" cy="95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8" name=""/>
                <p:cNvSpPr txBox="1"/>
                <p:nvPr/>
              </p:nvSpPr>
              <p:spPr>
                <a:xfrm>
                  <a:off x="5465520" y="4268880"/>
                  <a:ext cx="10479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9" name=""/>
                <p:cNvSpPr txBox="1"/>
                <p:nvPr/>
              </p:nvSpPr>
              <p:spPr>
                <a:xfrm>
                  <a:off x="7427880" y="3867120"/>
                  <a:ext cx="6937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⋅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0" name=""/>
            <p:cNvSpPr/>
            <p:nvPr/>
          </p:nvSpPr>
          <p:spPr>
            <a:xfrm>
              <a:off x="2671560" y="3921120"/>
              <a:ext cx="952560" cy="234720"/>
            </a:xfrm>
            <a:custGeom>
              <a:avLst/>
              <a:gdLst/>
              <a:ahLst/>
              <a:rect l="l" t="t" r="r" b="b"/>
              <a:pathLst>
                <a:path w="600" h="148">
                  <a:moveTo>
                    <a:pt x="0" y="0"/>
                  </a:moveTo>
                  <a:lnTo>
                    <a:pt x="452" y="0"/>
                  </a:lnTo>
                  <a:lnTo>
                    <a:pt x="600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2662200" y="4838040"/>
              <a:ext cx="952560" cy="234360"/>
            </a:xfrm>
            <a:custGeom>
              <a:avLst/>
              <a:gdLst/>
              <a:ahLst/>
              <a:rect l="l" t="t" r="r" b="b"/>
              <a:pathLst>
                <a:path w="600" h="148">
                  <a:moveTo>
                    <a:pt x="0" y="0"/>
                  </a:moveTo>
                  <a:lnTo>
                    <a:pt x="452" y="0"/>
                  </a:lnTo>
                  <a:lnTo>
                    <a:pt x="600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41680" y="4514760"/>
              <a:ext cx="5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49320" y="4052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02280" y="449100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5" name=""/>
                <p:cNvSpPr txBox="1"/>
                <p:nvPr/>
              </p:nvSpPr>
              <p:spPr>
                <a:xfrm>
                  <a:off x="7576920" y="4530600"/>
                  <a:ext cx="355680" cy="98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6" name=""/>
            <p:cNvSpPr/>
            <p:nvPr/>
          </p:nvSpPr>
          <p:spPr>
            <a:xfrm flipH="1">
              <a:off x="3846600" y="4811760"/>
              <a:ext cx="2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31960" y="3648240"/>
              <a:ext cx="9396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36640" y="4753080"/>
              <a:ext cx="939960" cy="60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60480" y="365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86040" y="476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11120" y="390852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278000" y="5025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46880" y="43718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529760" y="42591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5000" y="243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ksymacja funkcji nieliniow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6362640" y="2339640"/>
            <a:ext cx="1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7431120" y="2361960"/>
            <a:ext cx="1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7431120" y="235260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388280" y="23353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431120" y="167796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388280" y="19699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431120" y="2004840"/>
            <a:ext cx="1620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656120" y="20113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1041480" y="3276360"/>
            <a:ext cx="1068480" cy="80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36600" y="2408400"/>
            <a:ext cx="476280" cy="847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2612880" y="1574640"/>
            <a:ext cx="166680" cy="833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330800" y="196812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6362640" y="23605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319800" y="234324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362640" y="168588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319800" y="1978200"/>
            <a:ext cx="8244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6362640" y="2012760"/>
            <a:ext cx="162000" cy="37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600600" y="199404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64440" y="3373560"/>
            <a:ext cx="144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426440" y="3376440"/>
            <a:ext cx="144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845360" y="6060960"/>
            <a:ext cx="535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- klucze diodowe ( diody przełączają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3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556160" y="1654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124000" y="2428920"/>
            <a:ext cx="114300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254400" y="234468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1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83200" y="308772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2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283200" y="352584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3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381640" y="3581280"/>
            <a:ext cx="0" cy="34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745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99832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0653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1056960" y="541980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4440" y="51800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143080" y="419076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610000" y="4181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1037880" y="541980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038240" y="462888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0480" y="4700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9200" y="52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4327200" y="1890720"/>
            <a:ext cx="113040" cy="601560"/>
            <a:chOff x="4327200" y="1890720"/>
            <a:chExt cx="113040" cy="601560"/>
          </a:xfrm>
        </p:grpSpPr>
        <p:sp>
          <p:nvSpPr>
            <p:cNvPr id="1266" name=""/>
            <p:cNvSpPr/>
            <p:nvPr/>
          </p:nvSpPr>
          <p:spPr>
            <a:xfrm>
              <a:off x="4383000" y="189072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4327200" y="1895400"/>
              <a:ext cx="52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83000" y="1890720"/>
              <a:ext cx="180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362640" y="2339640"/>
            <a:ext cx="1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7431120" y="2361960"/>
            <a:ext cx="1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431120" y="235260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388280" y="23353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31120" y="167796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88280" y="19699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 flipV="1">
            <a:off x="7431120" y="2004840"/>
            <a:ext cx="1620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656120" y="20113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041480" y="3276360"/>
            <a:ext cx="1068480" cy="80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2136600" y="2408400"/>
            <a:ext cx="476280" cy="84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612880" y="1574640"/>
            <a:ext cx="166680" cy="833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4381560" y="199368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6362640" y="23605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319800" y="234324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362640" y="168588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19800" y="1978200"/>
            <a:ext cx="8244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6351480" y="2013120"/>
            <a:ext cx="11160" cy="40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00600" y="199404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364440" y="3373560"/>
            <a:ext cx="144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426440" y="3376440"/>
            <a:ext cx="144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845360" y="6060960"/>
            <a:ext cx="535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- klucze diodowe ( diody przełączają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43560" y="166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2133720" y="3247920"/>
            <a:ext cx="1133280" cy="8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2124000" y="2428920"/>
            <a:ext cx="114300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54400" y="234468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1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283200" y="308772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2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3200" y="352584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3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81640" y="3581280"/>
            <a:ext cx="0" cy="34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362640" y="3581280"/>
            <a:ext cx="0" cy="343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0745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9832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0653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1056960" y="541980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74440" y="51800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152800" y="4951440"/>
            <a:ext cx="0" cy="466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139840" y="4960800"/>
            <a:ext cx="12621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081520" y="4989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2143080" y="419076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2610000" y="4181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037880" y="541980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038240" y="462888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90480" y="4700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09200" y="52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4327200" y="1890720"/>
            <a:ext cx="113040" cy="601560"/>
            <a:chOff x="4327200" y="1890720"/>
            <a:chExt cx="113040" cy="601560"/>
          </a:xfrm>
        </p:grpSpPr>
        <p:sp>
          <p:nvSpPr>
            <p:cNvPr id="1351" name=""/>
            <p:cNvSpPr/>
            <p:nvPr/>
          </p:nvSpPr>
          <p:spPr>
            <a:xfrm>
              <a:off x="4383000" y="189072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4327200" y="1895400"/>
              <a:ext cx="52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83000" y="1890720"/>
              <a:ext cx="180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362640" y="2339640"/>
            <a:ext cx="1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7431120" y="2361960"/>
            <a:ext cx="1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431120" y="235260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388280" y="23353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31120" y="167796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388280" y="19699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7431120" y="2004840"/>
            <a:ext cx="0" cy="3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56120" y="20113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1041480" y="3276360"/>
            <a:ext cx="1068480" cy="80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6600" y="2408400"/>
            <a:ext cx="476280" cy="84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2612880" y="1574640"/>
            <a:ext cx="166680" cy="8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4381560" y="199368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6362640" y="23605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319800" y="234324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362640" y="168588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19800" y="1978200"/>
            <a:ext cx="8244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6362280" y="2012760"/>
            <a:ext cx="12600" cy="37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600600" y="199404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364440" y="3373560"/>
            <a:ext cx="144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426440" y="3376440"/>
            <a:ext cx="144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845360" y="6060960"/>
            <a:ext cx="535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- klucze diodowe ( diody przełączają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8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543560" y="166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2133720" y="3247920"/>
            <a:ext cx="1133280" cy="8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2619360" y="3657600"/>
            <a:ext cx="628560" cy="40968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2124000" y="2428920"/>
            <a:ext cx="114300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254400" y="234468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1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283200" y="308772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2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283200" y="352584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3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81640" y="3581280"/>
            <a:ext cx="0" cy="34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362640" y="3581280"/>
            <a:ext cx="0" cy="343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429680" y="3581280"/>
            <a:ext cx="0" cy="34308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745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99832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0653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1056960" y="541980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574440" y="51800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2152800" y="4951440"/>
            <a:ext cx="0" cy="466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9840" y="4960800"/>
            <a:ext cx="12621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2610000" y="4973760"/>
            <a:ext cx="0" cy="44424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631960" y="4983120"/>
            <a:ext cx="7542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081520" y="4989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529000" y="49798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143080" y="419076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2610000" y="4181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037880" y="541980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1038240" y="462888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90480" y="4700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09200" y="52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2443320" y="2133720"/>
            <a:ext cx="212400" cy="1942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967040" y="3048120"/>
            <a:ext cx="260280" cy="10285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4327200" y="1890720"/>
            <a:ext cx="113040" cy="601560"/>
            <a:chOff x="4327200" y="1890720"/>
            <a:chExt cx="113040" cy="601560"/>
          </a:xfrm>
        </p:grpSpPr>
        <p:sp>
          <p:nvSpPr>
            <p:cNvPr id="1443" name=""/>
            <p:cNvSpPr/>
            <p:nvPr/>
          </p:nvSpPr>
          <p:spPr>
            <a:xfrm>
              <a:off x="4383000" y="189072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4327200" y="1895400"/>
              <a:ext cx="52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83000" y="1890720"/>
              <a:ext cx="180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655760" y="2011320"/>
            <a:ext cx="32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1041480" y="3341160"/>
            <a:ext cx="981000" cy="73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195640" y="2560680"/>
            <a:ext cx="33156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647800" y="1574280"/>
            <a:ext cx="131760" cy="66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4381560" y="199368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600240" y="1994040"/>
            <a:ext cx="32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361200" y="1668600"/>
            <a:ext cx="4680" cy="24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23200" y="1681200"/>
            <a:ext cx="468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81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6188040" y="2048040"/>
            <a:ext cx="345600" cy="195120"/>
            <a:chOff x="6188040" y="2048040"/>
            <a:chExt cx="345600" cy="195120"/>
          </a:xfrm>
        </p:grpSpPr>
        <p:sp>
          <p:nvSpPr>
            <p:cNvPr id="1484" name=""/>
            <p:cNvSpPr/>
            <p:nvPr/>
          </p:nvSpPr>
          <p:spPr>
            <a:xfrm>
              <a:off x="6188040" y="2048040"/>
              <a:ext cx="332280" cy="183600"/>
            </a:xfrm>
            <a:custGeom>
              <a:avLst/>
              <a:gdLst/>
              <a:ahLst/>
              <a:rect l="l" t="t" r="r" b="b"/>
              <a:pathLst>
                <a:path w="267" h="178">
                  <a:moveTo>
                    <a:pt x="0" y="0"/>
                  </a:moveTo>
                  <a:lnTo>
                    <a:pt x="267" y="0"/>
                  </a:lnTo>
                  <a:lnTo>
                    <a:pt x="133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201720" y="2243160"/>
              <a:ext cx="33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7254720" y="2038320"/>
            <a:ext cx="345960" cy="195120"/>
            <a:chOff x="7254720" y="2038320"/>
            <a:chExt cx="345960" cy="195120"/>
          </a:xfrm>
        </p:grpSpPr>
        <p:sp>
          <p:nvSpPr>
            <p:cNvPr id="1487" name=""/>
            <p:cNvSpPr/>
            <p:nvPr/>
          </p:nvSpPr>
          <p:spPr>
            <a:xfrm>
              <a:off x="7254720" y="2038320"/>
              <a:ext cx="332640" cy="183600"/>
            </a:xfrm>
            <a:custGeom>
              <a:avLst/>
              <a:gdLst/>
              <a:ahLst/>
              <a:rect l="l" t="t" r="r" b="b"/>
              <a:pathLst>
                <a:path w="267" h="178">
                  <a:moveTo>
                    <a:pt x="0" y="0"/>
                  </a:moveTo>
                  <a:lnTo>
                    <a:pt x="267" y="0"/>
                  </a:lnTo>
                  <a:lnTo>
                    <a:pt x="133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8400" y="2233440"/>
              <a:ext cx="33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6191280" y="2438280"/>
            <a:ext cx="352440" cy="371520"/>
            <a:chOff x="6191280" y="2438280"/>
            <a:chExt cx="352440" cy="371520"/>
          </a:xfrm>
        </p:grpSpPr>
        <p:sp>
          <p:nvSpPr>
            <p:cNvPr id="1492" name=""/>
            <p:cNvSpPr/>
            <p:nvPr/>
          </p:nvSpPr>
          <p:spPr>
            <a:xfrm>
              <a:off x="6191280" y="2438280"/>
              <a:ext cx="352440" cy="37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6372360" y="250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48600" y="2438280"/>
            <a:ext cx="352440" cy="371520"/>
            <a:chOff x="7248600" y="2438280"/>
            <a:chExt cx="352440" cy="371520"/>
          </a:xfrm>
        </p:grpSpPr>
        <p:sp>
          <p:nvSpPr>
            <p:cNvPr id="1495" name=""/>
            <p:cNvSpPr/>
            <p:nvPr/>
          </p:nvSpPr>
          <p:spPr>
            <a:xfrm>
              <a:off x="7248600" y="2438280"/>
              <a:ext cx="352440" cy="37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7429680" y="250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5777280" y="2448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863040" y="247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43560" y="166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962000" y="3095640"/>
            <a:ext cx="266760" cy="295200"/>
          </a:xfrm>
          <a:custGeom>
            <a:avLst/>
            <a:gdLst/>
            <a:ahLst/>
            <a:rect l="l" t="t" r="r" b="b"/>
            <a:pathLst>
              <a:path w="168" h="186">
                <a:moveTo>
                  <a:pt x="168" y="0"/>
                </a:moveTo>
                <a:cubicBezTo>
                  <a:pt x="161" y="12"/>
                  <a:pt x="138" y="54"/>
                  <a:pt x="123" y="75"/>
                </a:cubicBezTo>
                <a:cubicBezTo>
                  <a:pt x="108" y="96"/>
                  <a:pt x="96" y="110"/>
                  <a:pt x="75" y="129"/>
                </a:cubicBezTo>
                <a:cubicBezTo>
                  <a:pt x="54" y="148"/>
                  <a:pt x="16" y="174"/>
                  <a:pt x="0" y="18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57360" y="2138400"/>
            <a:ext cx="20952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132" y="0"/>
                </a:moveTo>
                <a:cubicBezTo>
                  <a:pt x="128" y="18"/>
                  <a:pt x="118" y="78"/>
                  <a:pt x="111" y="108"/>
                </a:cubicBezTo>
                <a:cubicBezTo>
                  <a:pt x="104" y="138"/>
                  <a:pt x="99" y="158"/>
                  <a:pt x="90" y="183"/>
                </a:cubicBezTo>
                <a:cubicBezTo>
                  <a:pt x="81" y="208"/>
                  <a:pt x="72" y="231"/>
                  <a:pt x="57" y="258"/>
                </a:cubicBezTo>
                <a:cubicBezTo>
                  <a:pt x="42" y="285"/>
                  <a:pt x="12" y="327"/>
                  <a:pt x="0" y="34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39080" y="52592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zary włączania się d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084400" y="4105440"/>
            <a:ext cx="81000" cy="119052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2288880" y="4124160"/>
            <a:ext cx="214200" cy="11811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"/>
          <p:cNvGrpSpPr/>
          <p:nvPr/>
        </p:nvGrpSpPr>
        <p:grpSpPr>
          <a:xfrm>
            <a:off x="1734840" y="1136520"/>
            <a:ext cx="6080400" cy="4708080"/>
            <a:chOff x="1734840" y="1136520"/>
            <a:chExt cx="6080400" cy="4708080"/>
          </a:xfrm>
        </p:grpSpPr>
        <p:sp>
          <p:nvSpPr>
            <p:cNvPr id="1510" name=""/>
            <p:cNvSpPr/>
            <p:nvPr/>
          </p:nvSpPr>
          <p:spPr>
            <a:xfrm rot="5400000">
              <a:off x="4553280" y="41036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545080" y="45514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725640" y="4336920"/>
              <a:ext cx="874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79560" y="52387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782800" y="428616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902200" y="45259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014360" y="3346560"/>
              <a:ext cx="81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5919840" y="333864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37120" y="4554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37600" y="4641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626000" y="41083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625640" y="46418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90680" y="479412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rot="10800000">
              <a:off x="3914640" y="2746440"/>
              <a:ext cx="193680" cy="193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3884760" y="2965320"/>
              <a:ext cx="258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4014360" y="2964960"/>
              <a:ext cx="18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014720" y="334656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091040" y="47941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967200" y="540396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4089600" y="5098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5400000">
              <a:off x="3396240" y="41173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35400" y="378936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79800" y="42958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2871360" y="433692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410640" y="2736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056280" y="45543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841480" y="4489200"/>
              <a:ext cx="0" cy="66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727360" y="56005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2841480" y="5327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033880" y="52513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087880" y="48481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065560" y="38624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129280" y="39560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34840" y="2813040"/>
              <a:ext cx="549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93760" y="44895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2169720" y="43369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2170080" y="433692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986120" y="5175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70080" y="49467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054160" y="5784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2173320" y="5511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963440" y="509904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254680" y="448956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929840" y="5403960"/>
              <a:ext cx="70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929120" y="3498840"/>
              <a:ext cx="78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6834240" y="4641840"/>
              <a:ext cx="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7920" y="4489560"/>
              <a:ext cx="108000" cy="107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24760" y="4946760"/>
              <a:ext cx="45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223040" y="47941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850080" y="4548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7297920" y="45651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84880" y="55562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7307280" y="52509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375320" y="502272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7000" y="53132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05720" y="5676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6834240" y="54039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34280" y="45514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5400000">
              <a:off x="5225040" y="31266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5400000">
              <a:off x="3089880" y="22122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3089880" y="18313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5400000">
              <a:off x="3091320" y="13741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2490840" y="15937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2489400" y="2050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2489400" y="24321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490840" y="1593720"/>
              <a:ext cx="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432160" y="2889360"/>
              <a:ext cx="108000" cy="107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5400000">
              <a:off x="5453640" y="137088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5400000">
              <a:off x="5453640" y="18313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5400000">
              <a:off x="5453640" y="22122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919840" y="1596960"/>
              <a:ext cx="0" cy="174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767560" y="15937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767560" y="2050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767560" y="2432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983040" y="15796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83120" y="330984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883120" y="23860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883120" y="200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10800000">
              <a:off x="4243320" y="2736720"/>
              <a:ext cx="193680" cy="193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4212720" y="2955960"/>
              <a:ext cx="258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4343400" y="2955960"/>
              <a:ext cx="14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rot="10800000">
              <a:off x="4600440" y="2746440"/>
              <a:ext cx="193680" cy="193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4570560" y="2965320"/>
              <a:ext cx="258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4700160" y="2964960"/>
              <a:ext cx="18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05240" y="159372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05240" y="205092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405240" y="243216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4014720" y="159336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332240" y="20505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700520" y="24321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299120" y="20257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76760" y="24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19640" y="33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0280" y="33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983040" y="33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460600" y="20145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460600" y="24001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163840" y="28130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776840" y="3346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5538960" y="33465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392440" y="24321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782960" y="16700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92440" y="11365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01520" y="25081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487320" y="16700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35040" y="11365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09644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788720" y="2660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8" name=""/>
          <p:cNvSpPr/>
          <p:nvPr/>
        </p:nvSpPr>
        <p:spPr>
          <a:xfrm>
            <a:off x="98280" y="205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układu logarytmującego z kluczami diodowymi (aproksymacj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zter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cinkami linii prost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072120" y="31179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cinek 1;   R2 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071760" y="2279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cinek 2;   D3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071760" y="1854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cinek 3;   D2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71760" y="1417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dcinek 4;   D1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paraboliczn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4" name=""/>
          <p:cNvGraphicFramePr/>
          <p:nvPr/>
        </p:nvGraphicFramePr>
        <p:xfrm>
          <a:off x="1031760" y="912960"/>
          <a:ext cx="6372360" cy="27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12960"/>
                    <a:ext cx="6372360" cy="27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6" name=""/>
          <p:cNvSpPr/>
          <p:nvPr/>
        </p:nvSpPr>
        <p:spPr>
          <a:xfrm>
            <a:off x="2255040" y="3757680"/>
            <a:ext cx="39783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 układu parabolicz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41280" y="4272120"/>
            <a:ext cx="8663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napięciu wejściowym mniejszym od napięcia przewodzenia diod napięcie wyjściowe jest równe zeru. W miarę wzrostu napięcia wejściowego między wejście wzmacniacza operacyjneg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łego układu są dołączane równolegle kolejne rezysto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zmniejszając rezystancję gałęzi sprzężenia zwrotneg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większając wzmocnienie układu. Układ umożliwia realizację funkcji kwadratowej w zakresie napięć wejściowych od 2,5V do +2,5V z błędem mniejszym od +/3% wartości maksymalnej napięcia wyjści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6086520" y="309600"/>
                <a:ext cx="16732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0" y="22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938160" y="1039320"/>
            <a:ext cx="7287480" cy="5468760"/>
            <a:chOff x="938160" y="1039320"/>
            <a:chExt cx="7287480" cy="5468760"/>
          </a:xfrm>
        </p:grpSpPr>
        <p:sp>
          <p:nvSpPr>
            <p:cNvPr id="1631" name=""/>
            <p:cNvSpPr/>
            <p:nvPr/>
          </p:nvSpPr>
          <p:spPr>
            <a:xfrm>
              <a:off x="2463120" y="104472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2346480" y="1039320"/>
              <a:ext cx="0" cy="54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38160" y="3438360"/>
              <a:ext cx="68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49360" y="1916280"/>
              <a:ext cx="1262160" cy="153036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3601440" y="1911240"/>
              <a:ext cx="1261800" cy="152892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4875120" y="3450600"/>
              <a:ext cx="1262160" cy="153036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6127200" y="3456720"/>
              <a:ext cx="1261800" cy="152892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29160" y="18954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453760" y="60483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327400" y="370692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705040" y="2655720"/>
              <a:ext cx="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41440" y="4197240"/>
              <a:ext cx="10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3390840" y="1991880"/>
              <a:ext cx="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357280" y="2614680"/>
              <a:ext cx="349560" cy="823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706840" y="1969560"/>
              <a:ext cx="660240" cy="644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375000" y="1914480"/>
              <a:ext cx="247680" cy="55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62920" y="498636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884640" y="294480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338560" y="37130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376360" y="4137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25480" y="18604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341440" y="3451320"/>
              <a:ext cx="1278000" cy="87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2346120" y="4327560"/>
              <a:ext cx="1282680" cy="71280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474560" y="5046840"/>
              <a:ext cx="87156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73160" y="2641680"/>
              <a:ext cx="1254240" cy="79992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1077480" y="3481560"/>
              <a:ext cx="1262160" cy="153000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817720" y="3578400"/>
              <a:ext cx="45576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2901600" y="4565520"/>
              <a:ext cx="514440" cy="3002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3649680" y="1943280"/>
              <a:ext cx="1211040" cy="1497960"/>
              <a:chOff x="3649680" y="1943280"/>
              <a:chExt cx="1211040" cy="1497960"/>
            </a:xfrm>
          </p:grpSpPr>
          <p:sp>
            <p:nvSpPr>
              <p:cNvPr id="1660" name=""/>
              <p:cNvSpPr/>
              <p:nvPr/>
            </p:nvSpPr>
            <p:spPr>
              <a:xfrm flipH="1" flipV="1">
                <a:off x="4521960" y="2619000"/>
                <a:ext cx="338760" cy="82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3883320" y="1973880"/>
                <a:ext cx="638640" cy="644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flipV="1">
                <a:off x="3649680" y="194328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4881600" y="3463560"/>
              <a:ext cx="2502720" cy="1502280"/>
              <a:chOff x="4881600" y="3463560"/>
              <a:chExt cx="2502720" cy="1502280"/>
            </a:xfrm>
          </p:grpSpPr>
          <p:grpSp>
            <p:nvGrpSpPr>
              <p:cNvPr id="1664" name=""/>
              <p:cNvGrpSpPr/>
              <p:nvPr/>
            </p:nvGrpSpPr>
            <p:grpSpPr>
              <a:xfrm>
                <a:off x="4881600" y="3467520"/>
                <a:ext cx="1251000" cy="1498320"/>
                <a:chOff x="4881600" y="3467520"/>
                <a:chExt cx="1251000" cy="149832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4881600" y="346752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231520" y="4289760"/>
                  <a:ext cx="6595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5900040" y="4934880"/>
                  <a:ext cx="23256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6174720" y="3463560"/>
                <a:ext cx="1209600" cy="1498320"/>
                <a:chOff x="6174720" y="3463560"/>
                <a:chExt cx="1209600" cy="1498320"/>
              </a:xfrm>
            </p:grpSpPr>
            <p:sp>
              <p:nvSpPr>
                <p:cNvPr id="1669" name=""/>
                <p:cNvSpPr/>
                <p:nvPr/>
              </p:nvSpPr>
              <p:spPr>
                <a:xfrm flipH="1">
                  <a:off x="7045920" y="346356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H="1">
                  <a:off x="6408000" y="428580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H="1">
                  <a:off x="6174720" y="493092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"/>
          <p:cNvSpPr/>
          <p:nvPr/>
        </p:nvSpPr>
        <p:spPr>
          <a:xfrm>
            <a:off x="2059200" y="27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509920" y="197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372120" y="141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278080" y="2998800"/>
            <a:ext cx="181080" cy="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792520" y="2227320"/>
            <a:ext cx="2570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502080" y="1763640"/>
            <a:ext cx="2520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trójkąt-sinus z 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369720" y="1442880"/>
            <a:ext cx="8459640" cy="3447360"/>
            <a:chOff x="369720" y="1442880"/>
            <a:chExt cx="8459640" cy="3447360"/>
          </a:xfrm>
        </p:grpSpPr>
        <p:sp>
          <p:nvSpPr>
            <p:cNvPr id="1680" name=""/>
            <p:cNvSpPr/>
            <p:nvPr/>
          </p:nvSpPr>
          <p:spPr>
            <a:xfrm>
              <a:off x="2714760" y="14619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425680" y="3270240"/>
              <a:ext cx="144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2425680" y="3269880"/>
              <a:ext cx="71748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2425680" y="2909520"/>
              <a:ext cx="144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25680" y="2909880"/>
              <a:ext cx="71748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702520" y="3174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35480" y="2943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515680" y="33447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200320" y="3087720"/>
              <a:ext cx="223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516760" y="259884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U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322360" y="3448080"/>
              <a:ext cx="9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660760" y="244800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2211480" y="3446640"/>
              <a:ext cx="1440" cy="404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131920" y="3859200"/>
              <a:ext cx="1587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51680" y="37958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-U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133800" y="3270240"/>
              <a:ext cx="617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40320" y="22194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3963600" y="3354480"/>
              <a:ext cx="34920" cy="6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00680" y="3359160"/>
              <a:ext cx="2988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128120" y="3386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975120" y="32446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209320" y="3448080"/>
              <a:ext cx="112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844640" y="308772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21080" y="266400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192400" y="3071880"/>
              <a:ext cx="41040" cy="363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19800" y="18414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916200" y="27925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446120" y="172728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51760" y="1835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70840" y="146700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02000" y="247032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06720" y="387180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75120" y="37018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3998880" y="3747600"/>
              <a:ext cx="180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62200" y="2077920"/>
              <a:ext cx="270000" cy="907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421080" y="17463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660760" y="170352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220788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768760" y="2805120"/>
              <a:ext cx="4752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876320" y="21002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38120" y="210348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5200" y="2077920"/>
              <a:ext cx="269640" cy="907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58640" y="1747800"/>
              <a:ext cx="180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5200" y="1703520"/>
              <a:ext cx="26820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1851120" y="2244240"/>
              <a:ext cx="90360" cy="495360"/>
              <a:chOff x="1851120" y="2244240"/>
              <a:chExt cx="90360" cy="495360"/>
            </a:xfrm>
          </p:grpSpPr>
          <p:sp>
            <p:nvSpPr>
              <p:cNvPr id="1725" name=""/>
              <p:cNvSpPr/>
              <p:nvPr/>
            </p:nvSpPr>
            <p:spPr>
              <a:xfrm>
                <a:off x="1851120" y="242568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6" name=""/>
              <p:cNvGrpSpPr/>
              <p:nvPr/>
            </p:nvGrpSpPr>
            <p:grpSpPr>
              <a:xfrm>
                <a:off x="1851120" y="2244240"/>
                <a:ext cx="90360" cy="495360"/>
                <a:chOff x="1851120" y="2244240"/>
                <a:chExt cx="90360" cy="49536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1851120" y="2425680"/>
                  <a:ext cx="90360" cy="1332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V="1">
                  <a:off x="1897200" y="224424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V="1">
                  <a:off x="1897200" y="255852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0" name=""/>
            <p:cNvGrpSpPr/>
            <p:nvPr/>
          </p:nvGrpSpPr>
          <p:grpSpPr>
            <a:xfrm>
              <a:off x="1420920" y="2238480"/>
              <a:ext cx="90360" cy="493560"/>
              <a:chOff x="1420920" y="2238480"/>
              <a:chExt cx="90360" cy="493560"/>
            </a:xfrm>
          </p:grpSpPr>
          <p:sp>
            <p:nvSpPr>
              <p:cNvPr id="1731" name=""/>
              <p:cNvSpPr/>
              <p:nvPr/>
            </p:nvSpPr>
            <p:spPr>
              <a:xfrm>
                <a:off x="1420920" y="241776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1420920" y="2238480"/>
                <a:ext cx="90360" cy="493560"/>
                <a:chOff x="1420920" y="2238480"/>
                <a:chExt cx="90360" cy="49356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420920" y="2417760"/>
                  <a:ext cx="90360" cy="135000"/>
                </a:xfrm>
                <a:custGeom>
                  <a:avLst/>
                  <a:gdLst/>
                  <a:ahLst/>
                  <a:rect l="l" t="t" r="r" b="b"/>
                  <a:pathLst>
                    <a:path w="113" h="169">
                      <a:moveTo>
                        <a:pt x="56" y="0"/>
                      </a:moveTo>
                      <a:lnTo>
                        <a:pt x="113" y="169"/>
                      </a:lnTo>
                      <a:lnTo>
                        <a:pt x="0" y="169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V="1">
                  <a:off x="1467000" y="223848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V="1">
                  <a:off x="1467000" y="255276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6" name=""/>
            <p:cNvSpPr/>
            <p:nvPr/>
          </p:nvSpPr>
          <p:spPr>
            <a:xfrm flipV="1">
              <a:off x="1467000" y="173664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1461960" y="3087720"/>
              <a:ext cx="454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209680" y="2492280"/>
              <a:ext cx="180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59680" y="42958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70840" y="467676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8120" y="419904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0160" y="4172040"/>
              <a:ext cx="27000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458640" y="421308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31960" y="4540320"/>
              <a:ext cx="269640" cy="90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47800" y="304488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117440" y="3087720"/>
              <a:ext cx="479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1851120" y="3198960"/>
              <a:ext cx="90360" cy="493560"/>
              <a:chOff x="1851120" y="3198960"/>
              <a:chExt cx="90360" cy="493560"/>
            </a:xfrm>
          </p:grpSpPr>
          <p:sp>
            <p:nvSpPr>
              <p:cNvPr id="1748" name=""/>
              <p:cNvSpPr/>
              <p:nvPr/>
            </p:nvSpPr>
            <p:spPr>
              <a:xfrm>
                <a:off x="1851120" y="337824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9" name=""/>
              <p:cNvGrpSpPr/>
              <p:nvPr/>
            </p:nvGrpSpPr>
            <p:grpSpPr>
              <a:xfrm>
                <a:off x="1851120" y="3198960"/>
                <a:ext cx="90360" cy="493560"/>
                <a:chOff x="1851120" y="3198960"/>
                <a:chExt cx="90360" cy="49356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1851120" y="3378240"/>
                  <a:ext cx="90360" cy="1350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V="1">
                  <a:off x="1897200" y="319896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>
                  <a:off x="1897200" y="351324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3" name=""/>
            <p:cNvGrpSpPr/>
            <p:nvPr/>
          </p:nvGrpSpPr>
          <p:grpSpPr>
            <a:xfrm>
              <a:off x="1420920" y="3193560"/>
              <a:ext cx="90360" cy="495360"/>
              <a:chOff x="1420920" y="3193560"/>
              <a:chExt cx="90360" cy="495360"/>
            </a:xfrm>
          </p:grpSpPr>
          <p:sp>
            <p:nvSpPr>
              <p:cNvPr id="1754" name=""/>
              <p:cNvSpPr/>
              <p:nvPr/>
            </p:nvSpPr>
            <p:spPr>
              <a:xfrm>
                <a:off x="1420920" y="337500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5" name=""/>
              <p:cNvGrpSpPr/>
              <p:nvPr/>
            </p:nvGrpSpPr>
            <p:grpSpPr>
              <a:xfrm>
                <a:off x="1420920" y="3193560"/>
                <a:ext cx="90360" cy="495360"/>
                <a:chOff x="1420920" y="3193560"/>
                <a:chExt cx="90360" cy="49536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1420920" y="3375000"/>
                  <a:ext cx="90360" cy="1332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V="1">
                  <a:off x="1467000" y="319356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1467000" y="350784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9" name=""/>
            <p:cNvSpPr/>
            <p:nvPr/>
          </p:nvSpPr>
          <p:spPr>
            <a:xfrm>
              <a:off x="1897200" y="377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467000" y="4149720"/>
              <a:ext cx="1440" cy="4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1573200" y="308772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792520" y="3436920"/>
              <a:ext cx="1440" cy="268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2792520" y="2850840"/>
              <a:ext cx="1440" cy="236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874880" y="4195800"/>
              <a:ext cx="41400" cy="381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442880" y="3067200"/>
              <a:ext cx="43200" cy="378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874880" y="3067200"/>
              <a:ext cx="41400" cy="378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46800" y="466092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733840" y="429084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64000" y="4173480"/>
              <a:ext cx="268200" cy="842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1467000" y="38224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60760" y="4538520"/>
              <a:ext cx="269640" cy="907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71640" y="3703680"/>
              <a:ext cx="4788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1931760" y="4583160"/>
              <a:ext cx="72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446120" y="45608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194120" y="22096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622520" y="22147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164600" y="351648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2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998880" y="3365640"/>
              <a:ext cx="1800" cy="268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32880" y="3454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591560" y="352260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1467000" y="3449520"/>
              <a:ext cx="1440" cy="673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467000" y="2087280"/>
              <a:ext cx="1440" cy="190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20840" y="3174840"/>
              <a:ext cx="331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55760" y="3181320"/>
              <a:ext cx="2988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72040" y="328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33440" y="3067200"/>
              <a:ext cx="47520" cy="457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69720" y="386856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640" y="3706920"/>
              <a:ext cx="4608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53960" y="3752640"/>
              <a:ext cx="180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3960" y="3186000"/>
              <a:ext cx="180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65640" y="3354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53960" y="3346560"/>
              <a:ext cx="1800" cy="269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395520" y="4192560"/>
              <a:ext cx="46080" cy="396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3421080" y="2012760"/>
              <a:ext cx="1440" cy="67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02000" y="21002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458640" y="1747800"/>
              <a:ext cx="37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0080" y="2124000"/>
              <a:ext cx="36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58640" y="421956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458640" y="4584600"/>
              <a:ext cx="37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435400" y="249228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2933640" y="2122560"/>
              <a:ext cx="37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3047760" y="212256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421080" y="319716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1931760" y="4214880"/>
              <a:ext cx="72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402000" y="324972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416320" y="2122560"/>
              <a:ext cx="242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149184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110304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1684080" y="21225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1266840" y="212256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103040" y="21225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2209680" y="271620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344600" y="4214880"/>
              <a:ext cx="64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338120" y="4583160"/>
              <a:ext cx="644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03400" y="4583160"/>
              <a:ext cx="64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1467000" y="268092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1897200" y="3022560"/>
              <a:ext cx="144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933640" y="2492280"/>
              <a:ext cx="479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900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5592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2927160" y="1747800"/>
              <a:ext cx="371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3049560" y="1747800"/>
              <a:ext cx="37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933640" y="458460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21080" y="3589200"/>
              <a:ext cx="1440" cy="60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21080" y="397836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943360" y="4213080"/>
              <a:ext cx="480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30200" y="2482920"/>
              <a:ext cx="52560" cy="381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33440" y="4002120"/>
              <a:ext cx="4752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1839600" y="1746360"/>
              <a:ext cx="455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044440" y="21225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2208240" y="2492280"/>
              <a:ext cx="37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1897200" y="27255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1897200" y="2117520"/>
              <a:ext cx="1440" cy="4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97200" y="350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098720" y="4214880"/>
              <a:ext cx="645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25880" y="458460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195720" y="458460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10760" y="2538360"/>
              <a:ext cx="48996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+U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36760" y="3906720"/>
              <a:ext cx="36792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-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1467000" y="290520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458640" y="209700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458640" y="404820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77720" y="3089160"/>
              <a:ext cx="37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734160" y="3270240"/>
              <a:ext cx="144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6734160" y="3269880"/>
              <a:ext cx="71748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6734160" y="2909520"/>
              <a:ext cx="144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734160" y="2909880"/>
              <a:ext cx="71748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011000" y="3174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843960" y="2943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824160" y="33447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08800" y="3089160"/>
              <a:ext cx="223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417160" y="16398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U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35880" y="3454560"/>
              <a:ext cx="9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58120" y="2452680"/>
              <a:ext cx="268200" cy="90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6546960" y="3454560"/>
              <a:ext cx="1440" cy="403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72080" y="3868560"/>
              <a:ext cx="157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430120" y="44672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-U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442280" y="3270240"/>
              <a:ext cx="617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677280" y="22082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8272080" y="3354480"/>
              <a:ext cx="34920" cy="6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308800" y="3359160"/>
              <a:ext cx="3024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436600" y="3386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283600" y="32446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6546960" y="3454560"/>
              <a:ext cx="110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153120" y="3089160"/>
              <a:ext cx="447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728120" y="266400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305400" y="3068640"/>
              <a:ext cx="41400" cy="381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658200" y="18288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82000" y="27925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083360" y="4559400"/>
              <a:ext cx="3672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630120" y="1442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707240" y="24764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215200" y="387180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283600" y="37018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8307360" y="3747600"/>
              <a:ext cx="144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558120" y="208296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101000" y="24940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558120" y="1704960"/>
              <a:ext cx="266400" cy="874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609876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286840" y="1720800"/>
              <a:ext cx="4752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915160" y="2106720"/>
              <a:ext cx="3780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5891040" y="2244240"/>
              <a:ext cx="88920" cy="495360"/>
              <a:chOff x="5891040" y="2244240"/>
              <a:chExt cx="88920" cy="495360"/>
            </a:xfrm>
          </p:grpSpPr>
          <p:sp>
            <p:nvSpPr>
              <p:cNvPr id="1883" name=""/>
              <p:cNvSpPr/>
              <p:nvPr/>
            </p:nvSpPr>
            <p:spPr>
              <a:xfrm>
                <a:off x="5891040" y="2425680"/>
                <a:ext cx="8892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4" name=""/>
              <p:cNvGrpSpPr/>
              <p:nvPr/>
            </p:nvGrpSpPr>
            <p:grpSpPr>
              <a:xfrm>
                <a:off x="5891040" y="2244240"/>
                <a:ext cx="88920" cy="495360"/>
                <a:chOff x="5891040" y="2244240"/>
                <a:chExt cx="88920" cy="49536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5891040" y="2425680"/>
                  <a:ext cx="88920" cy="1332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V="1">
                  <a:off x="5935680" y="224424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V="1">
                  <a:off x="5935680" y="255852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8" name=""/>
            <p:cNvSpPr/>
            <p:nvPr/>
          </p:nvSpPr>
          <p:spPr>
            <a:xfrm flipV="1">
              <a:off x="5935680" y="174456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5770440" y="3089160"/>
              <a:ext cx="4557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327720" y="249696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582600" y="466740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558120" y="4535640"/>
              <a:ext cx="269640" cy="90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313240" y="3044880"/>
              <a:ext cx="26856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581800" y="3089160"/>
              <a:ext cx="479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5891040" y="3198960"/>
              <a:ext cx="88920" cy="493560"/>
              <a:chOff x="5891040" y="3198960"/>
              <a:chExt cx="88920" cy="493560"/>
            </a:xfrm>
          </p:grpSpPr>
          <p:sp>
            <p:nvSpPr>
              <p:cNvPr id="1896" name=""/>
              <p:cNvSpPr/>
              <p:nvPr/>
            </p:nvSpPr>
            <p:spPr>
              <a:xfrm>
                <a:off x="5891040" y="3378240"/>
                <a:ext cx="8892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7" name=""/>
              <p:cNvGrpSpPr/>
              <p:nvPr/>
            </p:nvGrpSpPr>
            <p:grpSpPr>
              <a:xfrm>
                <a:off x="5891040" y="3198960"/>
                <a:ext cx="88920" cy="493560"/>
                <a:chOff x="5891040" y="3198960"/>
                <a:chExt cx="88920" cy="49356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5891040" y="3378240"/>
                  <a:ext cx="88920" cy="1350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flipV="1">
                  <a:off x="5935680" y="319896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V="1">
                  <a:off x="5935680" y="351324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1" name=""/>
            <p:cNvSpPr/>
            <p:nvPr/>
          </p:nvSpPr>
          <p:spPr>
            <a:xfrm>
              <a:off x="5935680" y="377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7036920" y="457992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101000" y="3444840"/>
              <a:ext cx="144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101000" y="2850840"/>
              <a:ext cx="1440" cy="236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911920" y="4184640"/>
              <a:ext cx="41040" cy="381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913360" y="3067200"/>
              <a:ext cx="42840" cy="378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15360" y="428004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558120" y="4164120"/>
              <a:ext cx="268200" cy="838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285040" y="4559400"/>
              <a:ext cx="4788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81720" y="22035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307360" y="3365640"/>
              <a:ext cx="1440" cy="268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541360" y="3454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50760" y="351144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4885920" y="3174840"/>
              <a:ext cx="3348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21200" y="3181320"/>
              <a:ext cx="3024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037840" y="328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897440" y="3067200"/>
              <a:ext cx="47520" cy="457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835520" y="386712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897440" y="3706920"/>
              <a:ext cx="4608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919760" y="3752640"/>
              <a:ext cx="144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919760" y="3186000"/>
              <a:ext cx="144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131080" y="3354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919760" y="3346560"/>
              <a:ext cx="1440" cy="269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7728120" y="2127240"/>
              <a:ext cx="1440" cy="673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78680" y="172548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6184800" y="4579920"/>
              <a:ext cx="37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327720" y="249696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6826320" y="2127240"/>
              <a:ext cx="37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6190920" y="212724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728120" y="319716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6825960" y="4203720"/>
              <a:ext cx="725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710480" y="324972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829560" y="4579920"/>
              <a:ext cx="242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752904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327720" y="270504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5935680" y="3022560"/>
              <a:ext cx="144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197840" y="2496960"/>
              <a:ext cx="479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46748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66440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6822720" y="174636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172280" y="174636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728120" y="3597120"/>
              <a:ext cx="1440" cy="60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46800" y="4203720"/>
              <a:ext cx="481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5933880" y="1746360"/>
              <a:ext cx="455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5932440" y="2127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829200" y="2496960"/>
              <a:ext cx="36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5935680" y="27255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5935680" y="2117520"/>
              <a:ext cx="1440" cy="4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935680" y="350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35680" y="420840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4943160" y="3089160"/>
              <a:ext cx="36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7140240" y="212724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7358040" y="212724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5930640" y="420372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937120" y="457992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783396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250040" y="2496960"/>
              <a:ext cx="479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101000" y="1960560"/>
              <a:ext cx="1440" cy="60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101000" y="17463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6189480" y="420372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7440480" y="457992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7829280" y="457992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101000" y="363708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101000" y="398160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5" name=""/>
          <p:cNvSpPr/>
          <p:nvPr/>
        </p:nvSpPr>
        <p:spPr>
          <a:xfrm>
            <a:off x="2118240" y="5737320"/>
            <a:ext cx="4763520" cy="82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tworniki z napięciami pomocniczymi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038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35800" y="5006880"/>
            <a:ext cx="82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ksymacja trójodcinkowa          Aproksymacja dwuodcink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9" name=""/>
          <p:cNvGraphicFramePr/>
          <p:nvPr/>
        </p:nvGraphicFramePr>
        <p:xfrm>
          <a:off x="298440" y="1274760"/>
          <a:ext cx="87123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274760"/>
                    <a:ext cx="87123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1" name=""/>
          <p:cNvSpPr/>
          <p:nvPr/>
        </p:nvSpPr>
        <p:spPr>
          <a:xfrm>
            <a:off x="1979280" y="4941720"/>
            <a:ext cx="4987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i bez napięć pomocnicz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80240" y="404352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ksymacja trójodcinkowa       Aproksymacja dwuodcink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stownik precyzyjny jednopołówkowy;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zw. układ progowy: próg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939320" y="1257480"/>
            <a:ext cx="4142880" cy="1974240"/>
            <a:chOff x="1939320" y="1257480"/>
            <a:chExt cx="4142880" cy="1974240"/>
          </a:xfrm>
        </p:grpSpPr>
        <p:sp>
          <p:nvSpPr>
            <p:cNvPr id="1975" name=""/>
            <p:cNvSpPr/>
            <p:nvPr/>
          </p:nvSpPr>
          <p:spPr>
            <a:xfrm>
              <a:off x="2289600" y="1827720"/>
              <a:ext cx="51480" cy="590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939320" y="2257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2631240" y="2408760"/>
              <a:ext cx="270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901240" y="2131920"/>
              <a:ext cx="1800" cy="434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2901240" y="2131920"/>
              <a:ext cx="865800" cy="434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2901240" y="1695240"/>
              <a:ext cx="1800" cy="4363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901240" y="1695240"/>
              <a:ext cx="865800" cy="4363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973960" y="2251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974320" y="17398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670120" y="1257480"/>
              <a:ext cx="1274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+ Ucc (+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65240" y="2131920"/>
              <a:ext cx="39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631240" y="2408400"/>
              <a:ext cx="1440" cy="79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2634840" y="1856520"/>
              <a:ext cx="266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2347200" y="1856520"/>
              <a:ext cx="3621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3317400" y="2355480"/>
              <a:ext cx="1800" cy="321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836800" y="2718360"/>
              <a:ext cx="113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288960" y="2675520"/>
              <a:ext cx="54720" cy="53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2631240" y="3208680"/>
              <a:ext cx="2167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85480" y="2103120"/>
              <a:ext cx="55080" cy="53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719320" y="2258640"/>
              <a:ext cx="1440" cy="561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719320" y="2258640"/>
              <a:ext cx="40680" cy="8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679720" y="2260440"/>
              <a:ext cx="37080" cy="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857920" y="24235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810680" y="2110320"/>
              <a:ext cx="51480" cy="4428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851720" y="2131920"/>
              <a:ext cx="63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453200" y="2076120"/>
              <a:ext cx="163440" cy="109080"/>
            </a:xfrm>
            <a:custGeom>
              <a:avLst/>
              <a:gdLst/>
              <a:ahLst/>
              <a:rect l="l" t="t" r="r" b="b"/>
              <a:pathLst>
                <a:path w="183" h="121">
                  <a:moveTo>
                    <a:pt x="183" y="6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183" y="6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4617000" y="2075760"/>
              <a:ext cx="1440" cy="10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238280" y="2131920"/>
              <a:ext cx="21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412960" y="2131920"/>
              <a:ext cx="271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396320" y="17560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59800" y="2337480"/>
              <a:ext cx="108360" cy="162360"/>
            </a:xfrm>
            <a:custGeom>
              <a:avLst/>
              <a:gdLst/>
              <a:ahLst/>
              <a:rect l="l" t="t" r="r" b="b"/>
              <a:pathLst>
                <a:path w="122" h="183">
                  <a:moveTo>
                    <a:pt x="61" y="0"/>
                  </a:moveTo>
                  <a:lnTo>
                    <a:pt x="122" y="183"/>
                  </a:lnTo>
                  <a:lnTo>
                    <a:pt x="0" y="18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159800" y="2337480"/>
              <a:ext cx="1083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4213440" y="2119320"/>
              <a:ext cx="1440" cy="21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4213440" y="2500200"/>
              <a:ext cx="1440" cy="21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4213440" y="2153160"/>
              <a:ext cx="1440" cy="9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339440" y="227124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88600" y="2110320"/>
              <a:ext cx="51480" cy="4428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86760" y="2131920"/>
              <a:ext cx="372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837680" y="2131920"/>
              <a:ext cx="1440" cy="861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780440" y="2502000"/>
              <a:ext cx="111960" cy="3286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995000" y="2521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614560" y="3208680"/>
              <a:ext cx="2167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85000" y="3185280"/>
              <a:ext cx="52920" cy="4644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156560" y="2693520"/>
              <a:ext cx="111600" cy="3286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354920" y="2698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211640" y="3020400"/>
              <a:ext cx="1800" cy="17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837680" y="2958120"/>
              <a:ext cx="1440" cy="250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4088880" y="2131920"/>
              <a:ext cx="154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122720" y="2131920"/>
              <a:ext cx="508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68160" y="3208680"/>
              <a:ext cx="5691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211480" y="3208680"/>
              <a:ext cx="214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289600" y="2983320"/>
              <a:ext cx="51480" cy="58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314800" y="3042000"/>
              <a:ext cx="180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316960" y="1995840"/>
              <a:ext cx="1440" cy="56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316960" y="1995840"/>
              <a:ext cx="38880" cy="8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2277360" y="1997640"/>
              <a:ext cx="37080" cy="74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316960" y="1997640"/>
              <a:ext cx="1440" cy="90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2" name=""/>
            <p:cNvGrpSpPr/>
            <p:nvPr/>
          </p:nvGrpSpPr>
          <p:grpSpPr>
            <a:xfrm>
              <a:off x="3292200" y="1528920"/>
              <a:ext cx="52920" cy="378720"/>
              <a:chOff x="3292200" y="1528920"/>
              <a:chExt cx="52920" cy="378720"/>
            </a:xfrm>
          </p:grpSpPr>
          <p:sp>
            <p:nvSpPr>
              <p:cNvPr id="2033" name=""/>
              <p:cNvSpPr/>
              <p:nvPr/>
            </p:nvSpPr>
            <p:spPr>
              <a:xfrm>
                <a:off x="3317040" y="1585800"/>
                <a:ext cx="1440" cy="321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292200" y="1528920"/>
                <a:ext cx="52920" cy="554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5" name=""/>
            <p:cNvSpPr/>
            <p:nvPr/>
          </p:nvSpPr>
          <p:spPr>
            <a:xfrm>
              <a:off x="5974920" y="2523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048040" y="236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7" name=""/>
            <p:cNvGrpSpPr/>
            <p:nvPr/>
          </p:nvGrpSpPr>
          <p:grpSpPr>
            <a:xfrm>
              <a:off x="5614560" y="2983320"/>
              <a:ext cx="216360" cy="226440"/>
              <a:chOff x="5614560" y="2983320"/>
              <a:chExt cx="216360" cy="226440"/>
            </a:xfrm>
          </p:grpSpPr>
          <p:sp>
            <p:nvSpPr>
              <p:cNvPr id="2038" name=""/>
              <p:cNvSpPr/>
              <p:nvPr/>
            </p:nvSpPr>
            <p:spPr>
              <a:xfrm>
                <a:off x="5614560" y="3207960"/>
                <a:ext cx="2163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692680" y="2983320"/>
                <a:ext cx="53280" cy="5868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717520" y="3042000"/>
                <a:ext cx="1440" cy="165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3097440" y="2013840"/>
              <a:ext cx="235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700" spc="-1" strike="noStrike" baseline="-25000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6012000" y="5103720"/>
            <a:ext cx="1911240" cy="510120"/>
          </a:xfrm>
          <a:prstGeom prst="borderCallout2">
            <a:avLst>
              <a:gd name="adj1" fmla="val 18750"/>
              <a:gd name="adj2" fmla="val -8333"/>
              <a:gd name="adj3" fmla="val 16069"/>
              <a:gd name="adj4" fmla="val -35879"/>
              <a:gd name="adj5" fmla="val 235328"/>
              <a:gd name="adj6" fmla="val -15065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643120" y="597204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725560" y="5981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273400" y="627228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2725560" y="6300720"/>
            <a:ext cx="37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595120" y="580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2411280" y="3780000"/>
            <a:ext cx="3124080" cy="2355840"/>
            <a:chOff x="2411280" y="3780000"/>
            <a:chExt cx="3124080" cy="2355840"/>
          </a:xfrm>
        </p:grpSpPr>
        <p:sp>
          <p:nvSpPr>
            <p:cNvPr id="2049" name=""/>
            <p:cNvSpPr/>
            <p:nvPr/>
          </p:nvSpPr>
          <p:spPr>
            <a:xfrm flipV="1">
              <a:off x="2639880" y="3849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411280" y="60595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649240" y="4587840"/>
              <a:ext cx="1714680" cy="1467000"/>
            </a:xfrm>
            <a:custGeom>
              <a:avLst/>
              <a:gdLst/>
              <a:ahLst/>
              <a:rect l="l" t="t" r="r" b="b"/>
              <a:pathLst>
                <a:path w="1080" h="924">
                  <a:moveTo>
                    <a:pt x="0" y="924"/>
                  </a:moveTo>
                  <a:lnTo>
                    <a:pt x="45" y="924"/>
                  </a:lnTo>
                  <a:cubicBezTo>
                    <a:pt x="225" y="770"/>
                    <a:pt x="652" y="385"/>
                    <a:pt x="10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701080" y="3780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"/>
          <p:cNvSpPr/>
          <p:nvPr/>
        </p:nvSpPr>
        <p:spPr>
          <a:xfrm>
            <a:off x="2649600" y="4764240"/>
            <a:ext cx="2019240" cy="1328760"/>
          </a:xfrm>
          <a:custGeom>
            <a:avLst/>
            <a:gdLst/>
            <a:ahLst/>
            <a:rect l="l" t="t" r="r" b="b"/>
            <a:pathLst>
              <a:path w="1272" h="837">
                <a:moveTo>
                  <a:pt x="0" y="816"/>
                </a:moveTo>
                <a:lnTo>
                  <a:pt x="120" y="816"/>
                </a:lnTo>
                <a:cubicBezTo>
                  <a:pt x="174" y="815"/>
                  <a:pt x="260" y="829"/>
                  <a:pt x="324" y="810"/>
                </a:cubicBezTo>
                <a:cubicBezTo>
                  <a:pt x="388" y="791"/>
                  <a:pt x="346" y="837"/>
                  <a:pt x="504" y="702"/>
                </a:cubicBezTo>
                <a:cubicBezTo>
                  <a:pt x="662" y="567"/>
                  <a:pt x="967" y="283"/>
                  <a:pt x="127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011040" y="5743440"/>
            <a:ext cx="354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3596760" y="3068640"/>
            <a:ext cx="1855800" cy="820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 regulowanym progiem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1708200" y="4006800"/>
            <a:ext cx="5871240" cy="2551680"/>
            <a:chOff x="1708200" y="4006800"/>
            <a:chExt cx="5871240" cy="2551680"/>
          </a:xfrm>
        </p:grpSpPr>
        <p:sp>
          <p:nvSpPr>
            <p:cNvPr id="2058" name=""/>
            <p:cNvSpPr/>
            <p:nvPr/>
          </p:nvSpPr>
          <p:spPr>
            <a:xfrm>
              <a:off x="7090560" y="60483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4135320" y="40766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716120" y="6286320"/>
              <a:ext cx="531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1708200" y="4800600"/>
              <a:ext cx="1714320" cy="1466640"/>
            </a:xfrm>
            <a:custGeom>
              <a:avLst/>
              <a:gdLst/>
              <a:ahLst/>
              <a:rect l="l" t="t" r="r" b="b"/>
              <a:pathLst>
                <a:path w="1080" h="924">
                  <a:moveTo>
                    <a:pt x="0" y="924"/>
                  </a:moveTo>
                  <a:lnTo>
                    <a:pt x="45" y="924"/>
                  </a:lnTo>
                  <a:cubicBezTo>
                    <a:pt x="225" y="770"/>
                    <a:pt x="652" y="385"/>
                    <a:pt x="10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196520" y="4006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076360" y="5957640"/>
              <a:ext cx="608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3417120" y="4819680"/>
              <a:ext cx="1714680" cy="1466640"/>
            </a:xfrm>
            <a:custGeom>
              <a:avLst/>
              <a:gdLst/>
              <a:ahLst/>
              <a:rect l="l" t="t" r="r" b="b"/>
              <a:pathLst>
                <a:path w="1080" h="924">
                  <a:moveTo>
                    <a:pt x="0" y="924"/>
                  </a:moveTo>
                  <a:lnTo>
                    <a:pt x="45" y="924"/>
                  </a:lnTo>
                  <a:cubicBezTo>
                    <a:pt x="225" y="770"/>
                    <a:pt x="652" y="385"/>
                    <a:pt x="108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311280" y="5935680"/>
              <a:ext cx="608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1226520" y="1581120"/>
            <a:ext cx="5946480" cy="1763640"/>
            <a:chOff x="1226520" y="1581120"/>
            <a:chExt cx="5946480" cy="1763640"/>
          </a:xfrm>
        </p:grpSpPr>
        <p:sp>
          <p:nvSpPr>
            <p:cNvPr id="2067" name=""/>
            <p:cNvSpPr/>
            <p:nvPr/>
          </p:nvSpPr>
          <p:spPr>
            <a:xfrm>
              <a:off x="3138480" y="2589120"/>
              <a:ext cx="46080" cy="525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4060800" y="2614680"/>
              <a:ext cx="241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09920" y="2368440"/>
              <a:ext cx="1800" cy="3859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4309920" y="2368440"/>
              <a:ext cx="773280" cy="3859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4309920" y="1981080"/>
              <a:ext cx="1800" cy="38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309920" y="1981080"/>
              <a:ext cx="773280" cy="38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65360" y="24732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358880" y="201924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102200" y="1581120"/>
              <a:ext cx="1274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+ Ucc (+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079960" y="236844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4068720" y="2614320"/>
              <a:ext cx="1800" cy="70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2103120" y="2124000"/>
              <a:ext cx="2206440" cy="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4680000" y="2563920"/>
              <a:ext cx="1440" cy="28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203000" y="2865600"/>
              <a:ext cx="113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654440" y="2849400"/>
              <a:ext cx="49320" cy="493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2" name=""/>
            <p:cNvGrpSpPr/>
            <p:nvPr/>
          </p:nvGrpSpPr>
          <p:grpSpPr>
            <a:xfrm>
              <a:off x="2035080" y="2768400"/>
              <a:ext cx="193680" cy="231480"/>
              <a:chOff x="2035080" y="2768400"/>
              <a:chExt cx="193680" cy="231480"/>
            </a:xfrm>
          </p:grpSpPr>
          <p:sp>
            <p:nvSpPr>
              <p:cNvPr id="2083" name=""/>
              <p:cNvSpPr/>
              <p:nvPr/>
            </p:nvSpPr>
            <p:spPr>
              <a:xfrm>
                <a:off x="2035080" y="2998800"/>
                <a:ext cx="1936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2128680" y="2768400"/>
                <a:ext cx="144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"/>
            <p:cNvSpPr/>
            <p:nvPr/>
          </p:nvSpPr>
          <p:spPr>
            <a:xfrm>
              <a:off x="4044960" y="2593800"/>
              <a:ext cx="47520" cy="39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538440" y="2567160"/>
              <a:ext cx="292320" cy="982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556800" y="227016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4068720" y="3324240"/>
              <a:ext cx="1935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796080" y="2343240"/>
              <a:ext cx="49320" cy="475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826320" y="2481120"/>
              <a:ext cx="1440" cy="49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26320" y="2481120"/>
              <a:ext cx="34920" cy="7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6791400" y="2482920"/>
              <a:ext cx="33120" cy="66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949080" y="26272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014880" y="2349360"/>
              <a:ext cx="46080" cy="39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051600" y="2368440"/>
              <a:ext cx="568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695920" y="2319480"/>
              <a:ext cx="144360" cy="96840"/>
            </a:xfrm>
            <a:custGeom>
              <a:avLst/>
              <a:gdLst/>
              <a:ahLst/>
              <a:rect l="l" t="t" r="r" b="b"/>
              <a:pathLst>
                <a:path w="183" h="121">
                  <a:moveTo>
                    <a:pt x="183" y="6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183" y="6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5840280" y="2319120"/>
              <a:ext cx="1800" cy="96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502240" y="2368440"/>
              <a:ext cx="193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6552720" y="2368440"/>
              <a:ext cx="243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644440" y="20350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32400" y="2550960"/>
              <a:ext cx="96840" cy="144720"/>
            </a:xfrm>
            <a:custGeom>
              <a:avLst/>
              <a:gdLst/>
              <a:ahLst/>
              <a:rect l="l" t="t" r="r" b="b"/>
              <a:pathLst>
                <a:path w="122" h="183">
                  <a:moveTo>
                    <a:pt x="61" y="0"/>
                  </a:moveTo>
                  <a:lnTo>
                    <a:pt x="122" y="183"/>
                  </a:lnTo>
                  <a:lnTo>
                    <a:pt x="0" y="18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32400" y="2550960"/>
              <a:ext cx="968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5481720" y="2357280"/>
              <a:ext cx="144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5481720" y="2695680"/>
              <a:ext cx="144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5481720" y="2387160"/>
              <a:ext cx="1440" cy="87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593680" y="24922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457960" y="2349360"/>
              <a:ext cx="47520" cy="39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815080" y="2368440"/>
              <a:ext cx="3315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037200" y="2368440"/>
              <a:ext cx="1800" cy="765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987880" y="2697120"/>
              <a:ext cx="98640" cy="2923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179400" y="271476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732720" y="3324240"/>
              <a:ext cx="191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456160" y="3303720"/>
              <a:ext cx="46080" cy="4104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30960" y="2867040"/>
              <a:ext cx="98280" cy="29196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07720" y="2871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479920" y="3157560"/>
              <a:ext cx="1800" cy="158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037200" y="3102120"/>
              <a:ext cx="1800" cy="222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5370120" y="2368440"/>
              <a:ext cx="13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400720" y="2368440"/>
              <a:ext cx="453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529240" y="3324240"/>
              <a:ext cx="507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063960" y="3330720"/>
              <a:ext cx="1936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135240" y="3124080"/>
              <a:ext cx="46080" cy="525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157560" y="3176640"/>
              <a:ext cx="1440" cy="14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80000" y="1886040"/>
              <a:ext cx="1440" cy="28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653000" y="1836720"/>
              <a:ext cx="49320" cy="475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065720" y="2728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59800" y="2778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358800" y="2862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9" name=""/>
            <p:cNvGrpSpPr/>
            <p:nvPr/>
          </p:nvGrpSpPr>
          <p:grpSpPr>
            <a:xfrm>
              <a:off x="6732720" y="3124080"/>
              <a:ext cx="191880" cy="201240"/>
              <a:chOff x="6732720" y="3124080"/>
              <a:chExt cx="191880" cy="201240"/>
            </a:xfrm>
          </p:grpSpPr>
          <p:sp>
            <p:nvSpPr>
              <p:cNvPr id="2130" name=""/>
              <p:cNvSpPr/>
              <p:nvPr/>
            </p:nvSpPr>
            <p:spPr>
              <a:xfrm>
                <a:off x="6732720" y="3323880"/>
                <a:ext cx="1918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802560" y="3124080"/>
                <a:ext cx="45720" cy="5220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824520" y="3176280"/>
                <a:ext cx="1800" cy="147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3" name=""/>
            <p:cNvSpPr/>
            <p:nvPr/>
          </p:nvSpPr>
          <p:spPr>
            <a:xfrm>
              <a:off x="4477680" y="226368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3825360" y="2614680"/>
              <a:ext cx="241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184560" y="2616120"/>
              <a:ext cx="353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6" name=""/>
            <p:cNvGrpSpPr/>
            <p:nvPr/>
          </p:nvGrpSpPr>
          <p:grpSpPr>
            <a:xfrm>
              <a:off x="1855800" y="2263680"/>
              <a:ext cx="531720" cy="520560"/>
              <a:chOff x="1855800" y="2263680"/>
              <a:chExt cx="531720" cy="520560"/>
            </a:xfrm>
          </p:grpSpPr>
          <p:sp>
            <p:nvSpPr>
              <p:cNvPr id="2137" name=""/>
              <p:cNvSpPr/>
              <p:nvPr/>
            </p:nvSpPr>
            <p:spPr>
              <a:xfrm>
                <a:off x="1855800" y="2263680"/>
                <a:ext cx="531720" cy="52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2127240" y="23511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 flipV="1">
              <a:off x="2127240" y="21272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26520" y="22320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3154320" y="27460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stownik precyzyjny dwupołów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3" name=""/>
          <p:cNvGraphicFramePr/>
          <p:nvPr/>
        </p:nvGraphicFramePr>
        <p:xfrm>
          <a:off x="1390680" y="1104840"/>
          <a:ext cx="65530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104840"/>
                    <a:ext cx="65530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5" name=""/>
          <p:cNvSpPr/>
          <p:nvPr/>
        </p:nvSpPr>
        <p:spPr>
          <a:xfrm flipV="1">
            <a:off x="3630600" y="399744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055520" y="6207120"/>
            <a:ext cx="547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605040" y="4735440"/>
            <a:ext cx="1714680" cy="1467000"/>
          </a:xfrm>
          <a:custGeom>
            <a:avLst/>
            <a:gdLst/>
            <a:ahLst/>
            <a:rect l="l" t="t" r="r" b="b"/>
            <a:pathLst>
              <a:path w="1080" h="924">
                <a:moveTo>
                  <a:pt x="0" y="924"/>
                </a:moveTo>
                <a:lnTo>
                  <a:pt x="45" y="924"/>
                </a:lnTo>
                <a:cubicBezTo>
                  <a:pt x="225" y="770"/>
                  <a:pt x="652" y="385"/>
                  <a:pt x="10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691800" y="3927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1924200" y="4729320"/>
            <a:ext cx="1714320" cy="1466640"/>
          </a:xfrm>
          <a:custGeom>
            <a:avLst/>
            <a:gdLst/>
            <a:ahLst/>
            <a:rect l="l" t="t" r="r" b="b"/>
            <a:pathLst>
              <a:path w="1080" h="924">
                <a:moveTo>
                  <a:pt x="0" y="924"/>
                </a:moveTo>
                <a:lnTo>
                  <a:pt x="45" y="924"/>
                </a:lnTo>
                <a:cubicBezTo>
                  <a:pt x="225" y="770"/>
                  <a:pt x="652" y="385"/>
                  <a:pt x="10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631560" y="5869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222880" y="5057640"/>
            <a:ext cx="265572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: 1+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529080" y="4656240"/>
            <a:ext cx="0" cy="174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716280" y="4665600"/>
            <a:ext cx="0" cy="17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840040" y="4938840"/>
            <a:ext cx="6523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3696840" y="4950000"/>
            <a:ext cx="652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67080" y="4405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ownik quasi-szczyt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519920" y="95580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 wartość zbliżoną do szczytowej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322280" y="6384960"/>
            <a:ext cx="56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359000" y="4532400"/>
            <a:ext cx="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446120" y="5184720"/>
            <a:ext cx="4392720" cy="1505160"/>
          </a:xfrm>
          <a:custGeom>
            <a:avLst/>
            <a:gdLst/>
            <a:ahLst/>
            <a:rect l="l" t="t" r="r" b="b"/>
            <a:pathLst>
              <a:path w="2767" h="948">
                <a:moveTo>
                  <a:pt x="0" y="811"/>
                </a:moveTo>
                <a:cubicBezTo>
                  <a:pt x="94" y="746"/>
                  <a:pt x="189" y="681"/>
                  <a:pt x="245" y="600"/>
                </a:cubicBezTo>
                <a:cubicBezTo>
                  <a:pt x="301" y="519"/>
                  <a:pt x="273" y="401"/>
                  <a:pt x="334" y="323"/>
                </a:cubicBezTo>
                <a:cubicBezTo>
                  <a:pt x="395" y="245"/>
                  <a:pt x="541" y="147"/>
                  <a:pt x="611" y="134"/>
                </a:cubicBezTo>
                <a:cubicBezTo>
                  <a:pt x="681" y="121"/>
                  <a:pt x="725" y="212"/>
                  <a:pt x="756" y="245"/>
                </a:cubicBezTo>
                <a:cubicBezTo>
                  <a:pt x="787" y="278"/>
                  <a:pt x="781" y="286"/>
                  <a:pt x="800" y="334"/>
                </a:cubicBezTo>
                <a:cubicBezTo>
                  <a:pt x="819" y="382"/>
                  <a:pt x="843" y="479"/>
                  <a:pt x="867" y="534"/>
                </a:cubicBezTo>
                <a:cubicBezTo>
                  <a:pt x="891" y="589"/>
                  <a:pt x="925" y="632"/>
                  <a:pt x="945" y="667"/>
                </a:cubicBezTo>
                <a:cubicBezTo>
                  <a:pt x="965" y="702"/>
                  <a:pt x="972" y="710"/>
                  <a:pt x="989" y="745"/>
                </a:cubicBezTo>
                <a:cubicBezTo>
                  <a:pt x="1006" y="780"/>
                  <a:pt x="1015" y="880"/>
                  <a:pt x="1045" y="878"/>
                </a:cubicBezTo>
                <a:cubicBezTo>
                  <a:pt x="1075" y="876"/>
                  <a:pt x="1135" y="780"/>
                  <a:pt x="1167" y="734"/>
                </a:cubicBezTo>
                <a:cubicBezTo>
                  <a:pt x="1199" y="688"/>
                  <a:pt x="1208" y="663"/>
                  <a:pt x="1234" y="600"/>
                </a:cubicBezTo>
                <a:cubicBezTo>
                  <a:pt x="1260" y="537"/>
                  <a:pt x="1303" y="428"/>
                  <a:pt x="1323" y="356"/>
                </a:cubicBezTo>
                <a:cubicBezTo>
                  <a:pt x="1343" y="284"/>
                  <a:pt x="1339" y="219"/>
                  <a:pt x="1356" y="167"/>
                </a:cubicBezTo>
                <a:cubicBezTo>
                  <a:pt x="1373" y="115"/>
                  <a:pt x="1395" y="73"/>
                  <a:pt x="1423" y="45"/>
                </a:cubicBezTo>
                <a:cubicBezTo>
                  <a:pt x="1451" y="17"/>
                  <a:pt x="1494" y="0"/>
                  <a:pt x="1523" y="0"/>
                </a:cubicBezTo>
                <a:cubicBezTo>
                  <a:pt x="1552" y="0"/>
                  <a:pt x="1581" y="23"/>
                  <a:pt x="1600" y="45"/>
                </a:cubicBezTo>
                <a:cubicBezTo>
                  <a:pt x="1619" y="67"/>
                  <a:pt x="1621" y="102"/>
                  <a:pt x="1634" y="134"/>
                </a:cubicBezTo>
                <a:cubicBezTo>
                  <a:pt x="1647" y="166"/>
                  <a:pt x="1667" y="194"/>
                  <a:pt x="1678" y="234"/>
                </a:cubicBezTo>
                <a:cubicBezTo>
                  <a:pt x="1689" y="274"/>
                  <a:pt x="1678" y="321"/>
                  <a:pt x="1700" y="378"/>
                </a:cubicBezTo>
                <a:cubicBezTo>
                  <a:pt x="1722" y="435"/>
                  <a:pt x="1753" y="491"/>
                  <a:pt x="1812" y="578"/>
                </a:cubicBezTo>
                <a:cubicBezTo>
                  <a:pt x="1871" y="665"/>
                  <a:pt x="2002" y="852"/>
                  <a:pt x="2056" y="900"/>
                </a:cubicBezTo>
                <a:cubicBezTo>
                  <a:pt x="2110" y="948"/>
                  <a:pt x="2112" y="895"/>
                  <a:pt x="2134" y="867"/>
                </a:cubicBezTo>
                <a:cubicBezTo>
                  <a:pt x="2156" y="839"/>
                  <a:pt x="2174" y="767"/>
                  <a:pt x="2189" y="734"/>
                </a:cubicBezTo>
                <a:cubicBezTo>
                  <a:pt x="2204" y="701"/>
                  <a:pt x="2210" y="695"/>
                  <a:pt x="2223" y="667"/>
                </a:cubicBezTo>
                <a:cubicBezTo>
                  <a:pt x="2236" y="639"/>
                  <a:pt x="2249" y="593"/>
                  <a:pt x="2267" y="567"/>
                </a:cubicBezTo>
                <a:cubicBezTo>
                  <a:pt x="2285" y="541"/>
                  <a:pt x="2306" y="537"/>
                  <a:pt x="2334" y="511"/>
                </a:cubicBezTo>
                <a:cubicBezTo>
                  <a:pt x="2362" y="485"/>
                  <a:pt x="2403" y="431"/>
                  <a:pt x="2434" y="411"/>
                </a:cubicBezTo>
                <a:cubicBezTo>
                  <a:pt x="2465" y="391"/>
                  <a:pt x="2492" y="391"/>
                  <a:pt x="2523" y="389"/>
                </a:cubicBezTo>
                <a:cubicBezTo>
                  <a:pt x="2554" y="387"/>
                  <a:pt x="2593" y="393"/>
                  <a:pt x="2623" y="400"/>
                </a:cubicBezTo>
                <a:cubicBezTo>
                  <a:pt x="2653" y="407"/>
                  <a:pt x="2677" y="427"/>
                  <a:pt x="2701" y="434"/>
                </a:cubicBezTo>
                <a:cubicBezTo>
                  <a:pt x="2725" y="441"/>
                  <a:pt x="2746" y="443"/>
                  <a:pt x="2767" y="445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828000" y="1541520"/>
            <a:ext cx="7719120" cy="3393360"/>
            <a:chOff x="828000" y="1541520"/>
            <a:chExt cx="7719120" cy="3393360"/>
          </a:xfrm>
        </p:grpSpPr>
        <p:sp>
          <p:nvSpPr>
            <p:cNvPr id="2163" name=""/>
            <p:cNvSpPr/>
            <p:nvPr/>
          </p:nvSpPr>
          <p:spPr>
            <a:xfrm>
              <a:off x="1198440" y="2293920"/>
              <a:ext cx="66960" cy="745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28000" y="28353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2351160" y="3027240"/>
              <a:ext cx="342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693880" y="2678040"/>
              <a:ext cx="180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2693880" y="2678040"/>
              <a:ext cx="109692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2693880" y="2128680"/>
              <a:ext cx="180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693880" y="2128680"/>
              <a:ext cx="109692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862360" y="28288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36440" y="218916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337480" y="1541520"/>
              <a:ext cx="179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+ Ucc (+15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786120" y="2678040"/>
              <a:ext cx="5032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2352600" y="3027240"/>
              <a:ext cx="1800" cy="1006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2354040" y="2332080"/>
              <a:ext cx="3394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1944720" y="2332080"/>
              <a:ext cx="4586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3219480" y="295884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538720" y="3440160"/>
              <a:ext cx="159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87800" y="3370320"/>
              <a:ext cx="69840" cy="698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2352600" y="4033800"/>
              <a:ext cx="27432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023240" y="2641680"/>
              <a:ext cx="68040" cy="680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066080" y="286380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066080" y="286380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7016760" y="2865600"/>
              <a:ext cx="47520" cy="95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93600" y="3160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11640" y="2647800"/>
              <a:ext cx="66960" cy="5904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094520" y="2676600"/>
              <a:ext cx="8064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660920" y="2608200"/>
              <a:ext cx="204840" cy="138240"/>
            </a:xfrm>
            <a:custGeom>
              <a:avLst/>
              <a:gdLst/>
              <a:ahLst/>
              <a:rect l="l" t="t" r="r" b="b"/>
              <a:pathLst>
                <a:path w="259" h="173">
                  <a:moveTo>
                    <a:pt x="259" y="86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259" y="86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4865760" y="2608200"/>
              <a:ext cx="1440" cy="1382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386240" y="2678040"/>
              <a:ext cx="274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73160" y="22050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287960" y="2935440"/>
              <a:ext cx="136440" cy="20628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87" y="0"/>
                  </a:moveTo>
                  <a:lnTo>
                    <a:pt x="173" y="259"/>
                  </a:lnTo>
                  <a:lnTo>
                    <a:pt x="0" y="25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287960" y="2935440"/>
              <a:ext cx="13644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4356000" y="2661840"/>
              <a:ext cx="1800" cy="27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356000" y="3141360"/>
              <a:ext cx="1800" cy="274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4356000" y="2705040"/>
              <a:ext cx="1800" cy="123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593960" y="28526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2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829040" y="2678040"/>
              <a:ext cx="471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143680" y="2678040"/>
              <a:ext cx="1440" cy="10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072040" y="314640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89200" y="31687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2520" y="403560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319640" y="4005360"/>
              <a:ext cx="66600" cy="568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286160" y="338616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09440" y="3390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52760" y="3795840"/>
              <a:ext cx="180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43680" y="3718080"/>
              <a:ext cx="1440" cy="317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4199040" y="2678040"/>
              <a:ext cx="193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241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424400" y="4033800"/>
              <a:ext cx="720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098720" y="4035600"/>
              <a:ext cx="27432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198440" y="3749760"/>
              <a:ext cx="6696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3048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231920" y="250668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231920" y="250668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1182240" y="2508120"/>
              <a:ext cx="47880" cy="95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231920" y="2508120"/>
              <a:ext cx="1440" cy="1136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9" name=""/>
            <p:cNvGrpSpPr/>
            <p:nvPr/>
          </p:nvGrpSpPr>
          <p:grpSpPr>
            <a:xfrm>
              <a:off x="3187800" y="1919160"/>
              <a:ext cx="69840" cy="476280"/>
              <a:chOff x="3187800" y="1919160"/>
              <a:chExt cx="69840" cy="476280"/>
            </a:xfrm>
          </p:grpSpPr>
          <p:sp>
            <p:nvSpPr>
              <p:cNvPr id="2220" name=""/>
              <p:cNvSpPr/>
              <p:nvPr/>
            </p:nvSpPr>
            <p:spPr>
              <a:xfrm>
                <a:off x="3219480" y="1990800"/>
                <a:ext cx="1440" cy="404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187800" y="1919160"/>
                <a:ext cx="69840" cy="6984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7434000" y="32893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958320" y="29541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043760" y="3749760"/>
              <a:ext cx="6660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75440" y="3824280"/>
              <a:ext cx="180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011400" y="2529000"/>
              <a:ext cx="28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44560" y="2193840"/>
              <a:ext cx="180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1744560" y="2332080"/>
              <a:ext cx="2095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638360" y="2193480"/>
              <a:ext cx="144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428840" y="2333520"/>
              <a:ext cx="2095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66840" y="2333520"/>
              <a:ext cx="210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903320" y="404028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2044800" y="32364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13120" y="230832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978200" y="283068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2043000" y="2602080"/>
              <a:ext cx="1800" cy="226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2044800" y="230616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2044800" y="361440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2044800" y="34380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590120" y="283356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577520" y="17413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827840" y="3146400"/>
              <a:ext cx="13680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580000" y="2611440"/>
              <a:ext cx="411120" cy="13644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208560" y="2678040"/>
              <a:ext cx="8067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770360" y="2678040"/>
              <a:ext cx="8064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6" name=""/>
            <p:cNvGrpSpPr/>
            <p:nvPr/>
          </p:nvGrpSpPr>
          <p:grpSpPr>
            <a:xfrm>
              <a:off x="6289200" y="3097080"/>
              <a:ext cx="275040" cy="525600"/>
              <a:chOff x="6289200" y="3097080"/>
              <a:chExt cx="275040" cy="525600"/>
            </a:xfrm>
          </p:grpSpPr>
          <p:sp>
            <p:nvSpPr>
              <p:cNvPr id="2247" name=""/>
              <p:cNvSpPr/>
              <p:nvPr/>
            </p:nvSpPr>
            <p:spPr>
              <a:xfrm>
                <a:off x="6289560" y="330840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426360" y="3097080"/>
                <a:ext cx="1440" cy="211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>
                <a:off x="6289200" y="341316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V="1">
                <a:off x="6427800" y="3413160"/>
                <a:ext cx="1440" cy="209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1" name=""/>
            <p:cNvSpPr/>
            <p:nvPr/>
          </p:nvSpPr>
          <p:spPr>
            <a:xfrm>
              <a:off x="6284880" y="403704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42780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6427800" y="357516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6426360" y="284112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6426360" y="267984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87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7899480" y="2676600"/>
              <a:ext cx="1440" cy="30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7899480" y="284436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35320" y="31734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714640" y="22082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39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751880" y="403704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89480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7894800" y="357516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157600" y="31766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445040" y="44751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7" name=""/>
          <p:cNvSpPr/>
          <p:nvPr/>
        </p:nvSpPr>
        <p:spPr>
          <a:xfrm>
            <a:off x="7247880" y="6186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855400" y="5710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266840" y="5200560"/>
            <a:ext cx="5238720" cy="523800"/>
          </a:xfrm>
          <a:custGeom>
            <a:avLst/>
            <a:gdLst/>
            <a:ahLst/>
            <a:rect l="l" t="t" r="r" b="b"/>
            <a:pathLst>
              <a:path w="3300" h="330">
                <a:moveTo>
                  <a:pt x="0" y="252"/>
                </a:moveTo>
                <a:lnTo>
                  <a:pt x="24" y="246"/>
                </a:lnTo>
                <a:lnTo>
                  <a:pt x="204" y="288"/>
                </a:lnTo>
                <a:lnTo>
                  <a:pt x="342" y="318"/>
                </a:lnTo>
                <a:lnTo>
                  <a:pt x="432" y="330"/>
                </a:lnTo>
                <a:lnTo>
                  <a:pt x="528" y="222"/>
                </a:lnTo>
                <a:lnTo>
                  <a:pt x="648" y="156"/>
                </a:lnTo>
                <a:lnTo>
                  <a:pt x="738" y="126"/>
                </a:lnTo>
                <a:lnTo>
                  <a:pt x="1002" y="180"/>
                </a:lnTo>
                <a:lnTo>
                  <a:pt x="1146" y="216"/>
                </a:lnTo>
                <a:lnTo>
                  <a:pt x="1302" y="246"/>
                </a:lnTo>
                <a:lnTo>
                  <a:pt x="1428" y="252"/>
                </a:lnTo>
                <a:lnTo>
                  <a:pt x="1446" y="216"/>
                </a:lnTo>
                <a:lnTo>
                  <a:pt x="1482" y="144"/>
                </a:lnTo>
                <a:lnTo>
                  <a:pt x="1518" y="48"/>
                </a:lnTo>
                <a:lnTo>
                  <a:pt x="1596" y="0"/>
                </a:lnTo>
                <a:lnTo>
                  <a:pt x="2130" y="84"/>
                </a:lnTo>
                <a:lnTo>
                  <a:pt x="2502" y="132"/>
                </a:lnTo>
                <a:lnTo>
                  <a:pt x="2862" y="168"/>
                </a:lnTo>
                <a:lnTo>
                  <a:pt x="3300" y="19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ownik szczyt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337480" y="1541520"/>
            <a:ext cx="179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Ucc (+15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828000" y="1741320"/>
            <a:ext cx="6762240" cy="2320920"/>
            <a:chOff x="828000" y="1741320"/>
            <a:chExt cx="6762240" cy="2320920"/>
          </a:xfrm>
        </p:grpSpPr>
        <p:sp>
          <p:nvSpPr>
            <p:cNvPr id="2273" name=""/>
            <p:cNvSpPr/>
            <p:nvPr/>
          </p:nvSpPr>
          <p:spPr>
            <a:xfrm>
              <a:off x="1198440" y="2293920"/>
              <a:ext cx="66960" cy="745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28000" y="28353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2351160" y="3027240"/>
              <a:ext cx="342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693880" y="2678040"/>
              <a:ext cx="180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2693880" y="2678040"/>
              <a:ext cx="109692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2693880" y="2128680"/>
              <a:ext cx="180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693880" y="2128680"/>
              <a:ext cx="109692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862360" y="28288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836440" y="218916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786120" y="2678040"/>
              <a:ext cx="5032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2352600" y="3027240"/>
              <a:ext cx="1800" cy="1006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2354040" y="2332080"/>
              <a:ext cx="3394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1944720" y="2332080"/>
              <a:ext cx="4586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3219480" y="295884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538720" y="3440160"/>
              <a:ext cx="159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187800" y="3370320"/>
              <a:ext cx="69840" cy="698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2352600" y="4033800"/>
              <a:ext cx="27432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23240" y="2641680"/>
              <a:ext cx="68040" cy="680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066080" y="286380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66080" y="286380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7016760" y="2865600"/>
              <a:ext cx="47520" cy="95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93600" y="3160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111640" y="2647800"/>
              <a:ext cx="66960" cy="5904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660920" y="2608200"/>
              <a:ext cx="204840" cy="138240"/>
            </a:xfrm>
            <a:custGeom>
              <a:avLst/>
              <a:gdLst/>
              <a:ahLst/>
              <a:rect l="l" t="t" r="r" b="b"/>
              <a:pathLst>
                <a:path w="259" h="173">
                  <a:moveTo>
                    <a:pt x="259" y="86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259" y="86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4865760" y="2608200"/>
              <a:ext cx="1440" cy="1382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386240" y="2678040"/>
              <a:ext cx="274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673160" y="22050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287960" y="2935440"/>
              <a:ext cx="136440" cy="20628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87" y="0"/>
                  </a:moveTo>
                  <a:lnTo>
                    <a:pt x="173" y="259"/>
                  </a:lnTo>
                  <a:lnTo>
                    <a:pt x="0" y="25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287960" y="2935440"/>
              <a:ext cx="13644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4356000" y="2661840"/>
              <a:ext cx="1800" cy="27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4356000" y="3141360"/>
              <a:ext cx="1800" cy="274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4356000" y="2705040"/>
              <a:ext cx="1800" cy="123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593960" y="28526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32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829040" y="2678040"/>
              <a:ext cx="471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43680" y="2678040"/>
              <a:ext cx="1440" cy="10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072040" y="314640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389200" y="31687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932520" y="403560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319640" y="4005360"/>
              <a:ext cx="66600" cy="568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286160" y="338616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609440" y="3390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52760" y="3795840"/>
              <a:ext cx="180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143680" y="3718080"/>
              <a:ext cx="1440" cy="317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4199040" y="2678040"/>
              <a:ext cx="193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241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24400" y="4033800"/>
              <a:ext cx="720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098720" y="4035600"/>
              <a:ext cx="27432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198440" y="3749760"/>
              <a:ext cx="6696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23048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231920" y="250668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231920" y="250668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>
              <a:off x="1182240" y="2508120"/>
              <a:ext cx="47880" cy="95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231920" y="2508120"/>
              <a:ext cx="1440" cy="1136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3187800" y="1919160"/>
              <a:ext cx="69840" cy="476280"/>
              <a:chOff x="3187800" y="1919160"/>
              <a:chExt cx="69840" cy="476280"/>
            </a:xfrm>
          </p:grpSpPr>
          <p:sp>
            <p:nvSpPr>
              <p:cNvPr id="2328" name=""/>
              <p:cNvSpPr/>
              <p:nvPr/>
            </p:nvSpPr>
            <p:spPr>
              <a:xfrm>
                <a:off x="3219480" y="1990800"/>
                <a:ext cx="1440" cy="404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187800" y="1919160"/>
                <a:ext cx="69840" cy="6984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0" name=""/>
            <p:cNvSpPr/>
            <p:nvPr/>
          </p:nvSpPr>
          <p:spPr>
            <a:xfrm>
              <a:off x="7434000" y="32893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958320" y="29541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43760" y="3749760"/>
              <a:ext cx="6660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75440" y="3824280"/>
              <a:ext cx="180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011400" y="2529000"/>
              <a:ext cx="28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744560" y="2193840"/>
              <a:ext cx="180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1744560" y="2332080"/>
              <a:ext cx="2095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638360" y="2193480"/>
              <a:ext cx="144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428840" y="2333520"/>
              <a:ext cx="2095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266840" y="2333520"/>
              <a:ext cx="210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03320" y="404028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2044800" y="32364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013120" y="230832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978200" y="283068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2043000" y="2602080"/>
              <a:ext cx="1800" cy="226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2044800" y="230616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2044800" y="361440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2044800" y="34380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590120" y="283356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577520" y="17413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580000" y="2611440"/>
              <a:ext cx="411120" cy="13644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08560" y="2678040"/>
              <a:ext cx="8067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770360" y="2678040"/>
              <a:ext cx="8064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3" name=""/>
            <p:cNvGrpSpPr/>
            <p:nvPr/>
          </p:nvGrpSpPr>
          <p:grpSpPr>
            <a:xfrm>
              <a:off x="6289200" y="3097080"/>
              <a:ext cx="275040" cy="525600"/>
              <a:chOff x="6289200" y="3097080"/>
              <a:chExt cx="275040" cy="525600"/>
            </a:xfrm>
          </p:grpSpPr>
          <p:sp>
            <p:nvSpPr>
              <p:cNvPr id="2354" name=""/>
              <p:cNvSpPr/>
              <p:nvPr/>
            </p:nvSpPr>
            <p:spPr>
              <a:xfrm>
                <a:off x="6289560" y="330840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426360" y="3097080"/>
                <a:ext cx="1440" cy="211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>
                <a:off x="6289200" y="341316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6427800" y="3413160"/>
                <a:ext cx="1440" cy="209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8" name=""/>
            <p:cNvSpPr/>
            <p:nvPr/>
          </p:nvSpPr>
          <p:spPr>
            <a:xfrm>
              <a:off x="6284880" y="403704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42780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6427800" y="357516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6426360" y="284112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6426360" y="267984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987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35320" y="31734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714640" y="22082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39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"/>
          <p:cNvSpPr/>
          <p:nvPr/>
        </p:nvSpPr>
        <p:spPr>
          <a:xfrm>
            <a:off x="2165760" y="94284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 wartość szczytową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322280" y="6384960"/>
            <a:ext cx="56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1359000" y="4532400"/>
            <a:ext cx="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446120" y="5184720"/>
            <a:ext cx="4392720" cy="1505160"/>
          </a:xfrm>
          <a:custGeom>
            <a:avLst/>
            <a:gdLst/>
            <a:ahLst/>
            <a:rect l="l" t="t" r="r" b="b"/>
            <a:pathLst>
              <a:path w="2767" h="948">
                <a:moveTo>
                  <a:pt x="0" y="811"/>
                </a:moveTo>
                <a:cubicBezTo>
                  <a:pt x="94" y="746"/>
                  <a:pt x="189" y="681"/>
                  <a:pt x="245" y="600"/>
                </a:cubicBezTo>
                <a:cubicBezTo>
                  <a:pt x="301" y="519"/>
                  <a:pt x="273" y="401"/>
                  <a:pt x="334" y="323"/>
                </a:cubicBezTo>
                <a:cubicBezTo>
                  <a:pt x="395" y="245"/>
                  <a:pt x="541" y="147"/>
                  <a:pt x="611" y="134"/>
                </a:cubicBezTo>
                <a:cubicBezTo>
                  <a:pt x="681" y="121"/>
                  <a:pt x="725" y="212"/>
                  <a:pt x="756" y="245"/>
                </a:cubicBezTo>
                <a:cubicBezTo>
                  <a:pt x="787" y="278"/>
                  <a:pt x="781" y="286"/>
                  <a:pt x="800" y="334"/>
                </a:cubicBezTo>
                <a:cubicBezTo>
                  <a:pt x="819" y="382"/>
                  <a:pt x="843" y="479"/>
                  <a:pt x="867" y="534"/>
                </a:cubicBezTo>
                <a:cubicBezTo>
                  <a:pt x="891" y="589"/>
                  <a:pt x="925" y="632"/>
                  <a:pt x="945" y="667"/>
                </a:cubicBezTo>
                <a:cubicBezTo>
                  <a:pt x="965" y="702"/>
                  <a:pt x="972" y="710"/>
                  <a:pt x="989" y="745"/>
                </a:cubicBezTo>
                <a:cubicBezTo>
                  <a:pt x="1006" y="780"/>
                  <a:pt x="1015" y="880"/>
                  <a:pt x="1045" y="878"/>
                </a:cubicBezTo>
                <a:cubicBezTo>
                  <a:pt x="1075" y="876"/>
                  <a:pt x="1135" y="780"/>
                  <a:pt x="1167" y="734"/>
                </a:cubicBezTo>
                <a:cubicBezTo>
                  <a:pt x="1199" y="688"/>
                  <a:pt x="1208" y="663"/>
                  <a:pt x="1234" y="600"/>
                </a:cubicBezTo>
                <a:cubicBezTo>
                  <a:pt x="1260" y="537"/>
                  <a:pt x="1303" y="428"/>
                  <a:pt x="1323" y="356"/>
                </a:cubicBezTo>
                <a:cubicBezTo>
                  <a:pt x="1343" y="284"/>
                  <a:pt x="1339" y="219"/>
                  <a:pt x="1356" y="167"/>
                </a:cubicBezTo>
                <a:cubicBezTo>
                  <a:pt x="1373" y="115"/>
                  <a:pt x="1395" y="73"/>
                  <a:pt x="1423" y="45"/>
                </a:cubicBezTo>
                <a:cubicBezTo>
                  <a:pt x="1451" y="17"/>
                  <a:pt x="1494" y="0"/>
                  <a:pt x="1523" y="0"/>
                </a:cubicBezTo>
                <a:cubicBezTo>
                  <a:pt x="1552" y="0"/>
                  <a:pt x="1581" y="23"/>
                  <a:pt x="1600" y="45"/>
                </a:cubicBezTo>
                <a:cubicBezTo>
                  <a:pt x="1619" y="67"/>
                  <a:pt x="1621" y="102"/>
                  <a:pt x="1634" y="134"/>
                </a:cubicBezTo>
                <a:cubicBezTo>
                  <a:pt x="1647" y="166"/>
                  <a:pt x="1667" y="194"/>
                  <a:pt x="1678" y="234"/>
                </a:cubicBezTo>
                <a:cubicBezTo>
                  <a:pt x="1689" y="274"/>
                  <a:pt x="1678" y="321"/>
                  <a:pt x="1700" y="378"/>
                </a:cubicBezTo>
                <a:cubicBezTo>
                  <a:pt x="1722" y="435"/>
                  <a:pt x="1753" y="491"/>
                  <a:pt x="1812" y="578"/>
                </a:cubicBezTo>
                <a:cubicBezTo>
                  <a:pt x="1871" y="665"/>
                  <a:pt x="2002" y="852"/>
                  <a:pt x="2056" y="900"/>
                </a:cubicBezTo>
                <a:cubicBezTo>
                  <a:pt x="2110" y="948"/>
                  <a:pt x="2112" y="895"/>
                  <a:pt x="2134" y="867"/>
                </a:cubicBezTo>
                <a:cubicBezTo>
                  <a:pt x="2156" y="839"/>
                  <a:pt x="2174" y="767"/>
                  <a:pt x="2189" y="734"/>
                </a:cubicBezTo>
                <a:cubicBezTo>
                  <a:pt x="2204" y="701"/>
                  <a:pt x="2210" y="695"/>
                  <a:pt x="2223" y="667"/>
                </a:cubicBezTo>
                <a:cubicBezTo>
                  <a:pt x="2236" y="639"/>
                  <a:pt x="2249" y="593"/>
                  <a:pt x="2267" y="567"/>
                </a:cubicBezTo>
                <a:cubicBezTo>
                  <a:pt x="2285" y="541"/>
                  <a:pt x="2306" y="537"/>
                  <a:pt x="2334" y="511"/>
                </a:cubicBezTo>
                <a:cubicBezTo>
                  <a:pt x="2362" y="485"/>
                  <a:pt x="2403" y="431"/>
                  <a:pt x="2434" y="411"/>
                </a:cubicBezTo>
                <a:cubicBezTo>
                  <a:pt x="2465" y="391"/>
                  <a:pt x="2492" y="391"/>
                  <a:pt x="2523" y="389"/>
                </a:cubicBezTo>
                <a:cubicBezTo>
                  <a:pt x="2554" y="387"/>
                  <a:pt x="2593" y="393"/>
                  <a:pt x="2623" y="400"/>
                </a:cubicBezTo>
                <a:cubicBezTo>
                  <a:pt x="2653" y="407"/>
                  <a:pt x="2677" y="427"/>
                  <a:pt x="2701" y="434"/>
                </a:cubicBezTo>
                <a:cubicBezTo>
                  <a:pt x="2725" y="441"/>
                  <a:pt x="2746" y="443"/>
                  <a:pt x="2767" y="445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445040" y="44751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247880" y="6186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855400" y="5710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000080" y="5191200"/>
            <a:ext cx="5210280" cy="476280"/>
          </a:xfrm>
          <a:custGeom>
            <a:avLst/>
            <a:gdLst/>
            <a:ahLst/>
            <a:rect l="l" t="t" r="r" b="b"/>
            <a:pathLst>
              <a:path w="3282" h="300">
                <a:moveTo>
                  <a:pt x="0" y="300"/>
                </a:moveTo>
                <a:lnTo>
                  <a:pt x="624" y="300"/>
                </a:lnTo>
                <a:lnTo>
                  <a:pt x="684" y="240"/>
                </a:lnTo>
                <a:lnTo>
                  <a:pt x="798" y="174"/>
                </a:lnTo>
                <a:lnTo>
                  <a:pt x="882" y="126"/>
                </a:lnTo>
                <a:lnTo>
                  <a:pt x="1650" y="126"/>
                </a:lnTo>
                <a:lnTo>
                  <a:pt x="1695" y="48"/>
                </a:lnTo>
                <a:lnTo>
                  <a:pt x="1779" y="0"/>
                </a:lnTo>
                <a:lnTo>
                  <a:pt x="328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5364000" y="3057480"/>
            <a:ext cx="20880" cy="673200"/>
            <a:chOff x="5364000" y="3057480"/>
            <a:chExt cx="20880" cy="673200"/>
          </a:xfrm>
        </p:grpSpPr>
        <p:sp>
          <p:nvSpPr>
            <p:cNvPr id="2377" name=""/>
            <p:cNvSpPr/>
            <p:nvPr/>
          </p:nvSpPr>
          <p:spPr>
            <a:xfrm>
              <a:off x="5364000" y="305748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64000" y="30877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364000" y="31258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364000" y="316224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364000" y="319896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364000" y="323532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364000" y="32716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64000" y="330840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364000" y="33447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64000" y="3381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364000" y="34178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364000" y="345600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364000" y="349236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364000" y="35290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364000" y="356544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364000" y="3602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364000" y="36385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364000" y="3675240"/>
              <a:ext cx="2088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364000" y="371160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6" name=""/>
          <p:cNvSpPr/>
          <p:nvPr/>
        </p:nvSpPr>
        <p:spPr>
          <a:xfrm>
            <a:off x="5370480" y="2855880"/>
            <a:ext cx="792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5286240" y="3460680"/>
            <a:ext cx="176400" cy="409680"/>
            <a:chOff x="5286240" y="3460680"/>
            <a:chExt cx="176400" cy="409680"/>
          </a:xfrm>
        </p:grpSpPr>
        <p:sp>
          <p:nvSpPr>
            <p:cNvPr id="2398" name=""/>
            <p:cNvSpPr/>
            <p:nvPr/>
          </p:nvSpPr>
          <p:spPr>
            <a:xfrm>
              <a:off x="5351400" y="3460680"/>
              <a:ext cx="46080" cy="409680"/>
            </a:xfrm>
            <a:custGeom>
              <a:avLst/>
              <a:gdLst/>
              <a:ahLst/>
              <a:rect l="l" t="t" r="r" b="b"/>
              <a:pathLst>
                <a:path w="29" h="258">
                  <a:moveTo>
                    <a:pt x="25" y="0"/>
                  </a:moveTo>
                  <a:lnTo>
                    <a:pt x="0" y="0"/>
                  </a:lnTo>
                  <a:lnTo>
                    <a:pt x="4" y="258"/>
                  </a:lnTo>
                  <a:lnTo>
                    <a:pt x="29" y="25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286240" y="3711600"/>
              <a:ext cx="17640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0" y="0"/>
                  </a:moveTo>
                  <a:lnTo>
                    <a:pt x="58" y="100"/>
                  </a:lnTo>
                  <a:lnTo>
                    <a:pt x="111" y="0"/>
                  </a:lnTo>
                </a:path>
              </a:pathLst>
            </a:custGeom>
            <a:noFill/>
            <a:ln w="39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0" name=""/>
          <p:cNvSpPr/>
          <p:nvPr/>
        </p:nvSpPr>
        <p:spPr>
          <a:xfrm>
            <a:off x="4818240" y="4255920"/>
            <a:ext cx="664920" cy="61776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022720" y="4384800"/>
            <a:ext cx="1800" cy="349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5041800" y="4328640"/>
            <a:ext cx="336600" cy="135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5041800" y="4610160"/>
            <a:ext cx="211320" cy="128520"/>
            <a:chOff x="5041800" y="4610160"/>
            <a:chExt cx="211320" cy="128520"/>
          </a:xfrm>
        </p:grpSpPr>
        <p:sp>
          <p:nvSpPr>
            <p:cNvPr id="2404" name=""/>
            <p:cNvSpPr/>
            <p:nvPr/>
          </p:nvSpPr>
          <p:spPr>
            <a:xfrm>
              <a:off x="5041800" y="4635360"/>
              <a:ext cx="211320" cy="98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087880" y="4610160"/>
              <a:ext cx="165240" cy="128520"/>
            </a:xfrm>
            <a:custGeom>
              <a:avLst/>
              <a:gdLst/>
              <a:ahLst/>
              <a:rect l="l" t="t" r="r" b="b"/>
              <a:pathLst>
                <a:path w="104" h="81">
                  <a:moveTo>
                    <a:pt x="0" y="81"/>
                  </a:moveTo>
                  <a:lnTo>
                    <a:pt x="104" y="78"/>
                  </a:lnTo>
                  <a:lnTo>
                    <a:pt x="42" y="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6" name=""/>
          <p:cNvSpPr/>
          <p:nvPr/>
        </p:nvSpPr>
        <p:spPr>
          <a:xfrm>
            <a:off x="5253120" y="4734000"/>
            <a:ext cx="125280" cy="54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 flipH="1">
            <a:off x="4818240" y="4568760"/>
            <a:ext cx="2044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8" name=""/>
          <p:cNvGrpSpPr/>
          <p:nvPr/>
        </p:nvGrpSpPr>
        <p:grpSpPr>
          <a:xfrm>
            <a:off x="5299200" y="4788000"/>
            <a:ext cx="137880" cy="214200"/>
            <a:chOff x="5299200" y="4788000"/>
            <a:chExt cx="137880" cy="214200"/>
          </a:xfrm>
        </p:grpSpPr>
        <p:sp>
          <p:nvSpPr>
            <p:cNvPr id="2409" name=""/>
            <p:cNvSpPr/>
            <p:nvPr/>
          </p:nvSpPr>
          <p:spPr>
            <a:xfrm>
              <a:off x="5370480" y="4788000"/>
              <a:ext cx="792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99200" y="4873680"/>
              <a:ext cx="137880" cy="12852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0" y="4"/>
                  </a:moveTo>
                  <a:lnTo>
                    <a:pt x="50" y="81"/>
                  </a:lnTo>
                  <a:lnTo>
                    <a:pt x="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1" name=""/>
          <p:cNvSpPr/>
          <p:nvPr/>
        </p:nvSpPr>
        <p:spPr>
          <a:xfrm flipH="1" flipV="1">
            <a:off x="5370480" y="3816000"/>
            <a:ext cx="7920" cy="50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587840" y="4568760"/>
            <a:ext cx="238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364000" y="5021280"/>
            <a:ext cx="180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780000" y="4213080"/>
            <a:ext cx="1440" cy="722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792600" y="4206960"/>
            <a:ext cx="776160" cy="36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17880" y="4408560"/>
            <a:ext cx="1800" cy="982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859200" y="4457880"/>
            <a:ext cx="123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181320" y="4433760"/>
            <a:ext cx="604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851280" y="4751280"/>
            <a:ext cx="125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798360" y="4562640"/>
            <a:ext cx="776520" cy="3538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324400" y="2819520"/>
            <a:ext cx="856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265720" y="5435640"/>
            <a:ext cx="223920" cy="54432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370480" y="5222880"/>
            <a:ext cx="79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370480" y="5969160"/>
            <a:ext cx="79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562720" y="5546880"/>
            <a:ext cx="479160" cy="3967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724000" y="5600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65840" y="57229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324400" y="3968640"/>
            <a:ext cx="85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095640" y="4390920"/>
            <a:ext cx="921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324400" y="5191200"/>
            <a:ext cx="856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483160" y="4764240"/>
            <a:ext cx="908280" cy="41580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677920" y="48308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736600" y="4952880"/>
            <a:ext cx="13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901480" y="480708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057000" y="483084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181920" y="49528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456160" y="3638520"/>
            <a:ext cx="422280" cy="39204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643720" y="368784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718600" y="38098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</a:rPr>
              <a:t>ź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068640" y="3675240"/>
            <a:ext cx="539640" cy="6109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178800" y="3730680"/>
            <a:ext cx="3877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pl-PL" sz="3200" spc="-1" strike="noStrike" baseline="-25000">
                <a:solidFill>
                  <a:srgbClr val="0000ff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483160" y="2624040"/>
            <a:ext cx="822240" cy="39708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665680" y="2678040"/>
            <a:ext cx="35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007320" y="280044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535200" y="4745160"/>
            <a:ext cx="1797120" cy="471240"/>
          </a:xfrm>
          <a:custGeom>
            <a:avLst/>
            <a:gdLst/>
            <a:ahLst/>
            <a:rect l="l" t="t" r="r" b="b"/>
            <a:pathLst>
              <a:path w="1132" h="297">
                <a:moveTo>
                  <a:pt x="158" y="0"/>
                </a:moveTo>
                <a:lnTo>
                  <a:pt x="0" y="0"/>
                </a:lnTo>
                <a:lnTo>
                  <a:pt x="0" y="297"/>
                </a:lnTo>
                <a:lnTo>
                  <a:pt x="1132" y="29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207040" y="6188040"/>
            <a:ext cx="32868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7" name=""/>
          <p:cNvGrpSpPr/>
          <p:nvPr/>
        </p:nvGrpSpPr>
        <p:grpSpPr>
          <a:xfrm>
            <a:off x="3009960" y="4678200"/>
            <a:ext cx="269640" cy="1033560"/>
            <a:chOff x="3009960" y="4678200"/>
            <a:chExt cx="269640" cy="1033560"/>
          </a:xfrm>
        </p:grpSpPr>
        <p:sp>
          <p:nvSpPr>
            <p:cNvPr id="2448" name=""/>
            <p:cNvSpPr/>
            <p:nvPr/>
          </p:nvSpPr>
          <p:spPr>
            <a:xfrm>
              <a:off x="3121200" y="4910040"/>
              <a:ext cx="39600" cy="801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009960" y="4678200"/>
              <a:ext cx="269640" cy="244800"/>
            </a:xfrm>
            <a:custGeom>
              <a:avLst/>
              <a:gdLst/>
              <a:ahLst/>
              <a:rect l="l" t="t" r="r" b="b"/>
              <a:pathLst>
                <a:path w="170" h="154">
                  <a:moveTo>
                    <a:pt x="170" y="154"/>
                  </a:moveTo>
                  <a:lnTo>
                    <a:pt x="83" y="0"/>
                  </a:lnTo>
                  <a:lnTo>
                    <a:pt x="0" y="154"/>
                  </a:lnTo>
                  <a:lnTo>
                    <a:pt x="170" y="15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0" name=""/>
          <p:cNvSpPr/>
          <p:nvPr/>
        </p:nvSpPr>
        <p:spPr>
          <a:xfrm>
            <a:off x="3016080" y="6048360"/>
            <a:ext cx="32868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3154320" y="5851440"/>
            <a:ext cx="180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114720" y="5778360"/>
            <a:ext cx="7920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3" name=""/>
              <p:cNvSpPr txBox="1"/>
              <p:nvPr/>
            </p:nvSpPr>
            <p:spPr>
              <a:xfrm>
                <a:off x="5153040" y="1362240"/>
                <a:ext cx="1442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4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386160" y="4484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6" name="national" descr=""/>
          <p:cNvPicPr/>
          <p:nvPr/>
        </p:nvPicPr>
        <p:blipFill>
          <a:blip r:embed="rId1"/>
          <a:stretch/>
        </p:blipFill>
        <p:spPr>
          <a:xfrm>
            <a:off x="289080" y="406440"/>
            <a:ext cx="8600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7" name="national2" descr=""/>
          <p:cNvPicPr/>
          <p:nvPr/>
        </p:nvPicPr>
        <p:blipFill>
          <a:blip r:embed="rId1"/>
          <a:stretch/>
        </p:blipFill>
        <p:spPr>
          <a:xfrm>
            <a:off x="235080" y="260280"/>
            <a:ext cx="89089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national3" descr=""/>
          <p:cNvPicPr/>
          <p:nvPr/>
        </p:nvPicPr>
        <p:blipFill>
          <a:blip r:embed="rId1"/>
          <a:stretch/>
        </p:blipFill>
        <p:spPr>
          <a:xfrm>
            <a:off x="2593800" y="1708200"/>
            <a:ext cx="4202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national4" descr=""/>
          <p:cNvPicPr/>
          <p:nvPr/>
        </p:nvPicPr>
        <p:blipFill>
          <a:blip r:embed="rId1"/>
          <a:stretch/>
        </p:blipFill>
        <p:spPr>
          <a:xfrm>
            <a:off x="871560" y="1198440"/>
            <a:ext cx="72086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0" name="national6filtr_projektowanie" descr=""/>
          <p:cNvPicPr/>
          <p:nvPr/>
        </p:nvPicPr>
        <p:blipFill>
          <a:blip r:embed="rId1"/>
          <a:stretch/>
        </p:blipFill>
        <p:spPr>
          <a:xfrm>
            <a:off x="833400" y="644400"/>
            <a:ext cx="7848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1" name="national7currentfeedback" descr=""/>
          <p:cNvPicPr/>
          <p:nvPr/>
        </p:nvPicPr>
        <p:blipFill>
          <a:blip r:embed="rId1"/>
          <a:stretch/>
        </p:blipFill>
        <p:spPr>
          <a:xfrm>
            <a:off x="2168640" y="187200"/>
            <a:ext cx="467496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45960" y="3222720"/>
            <a:ext cx="7589880" cy="3103560"/>
            <a:chOff x="345960" y="3222720"/>
            <a:chExt cx="7589880" cy="3103560"/>
          </a:xfrm>
        </p:grpSpPr>
        <p:sp>
          <p:nvSpPr>
            <p:cNvPr id="69" name=""/>
            <p:cNvSpPr/>
            <p:nvPr/>
          </p:nvSpPr>
          <p:spPr>
            <a:xfrm>
              <a:off x="1098720" y="5305320"/>
              <a:ext cx="563400" cy="21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36200" y="5407200"/>
              <a:ext cx="241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820800" y="5407200"/>
              <a:ext cx="27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36520" y="4773600"/>
              <a:ext cx="406440" cy="46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11120" y="48243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117880" y="5218200"/>
              <a:ext cx="1440" cy="74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130480" y="5603400"/>
              <a:ext cx="747720" cy="37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238480" y="5686200"/>
              <a:ext cx="1440" cy="9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81240" y="5737320"/>
              <a:ext cx="120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03320" y="5737320"/>
              <a:ext cx="220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03320" y="5413320"/>
              <a:ext cx="220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7280" y="5610240"/>
              <a:ext cx="56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890720" y="5730480"/>
              <a:ext cx="648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062160" y="4698720"/>
              <a:ext cx="1800" cy="9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87720" y="5413320"/>
              <a:ext cx="120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36240" y="5237280"/>
              <a:ext cx="74772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52560" y="5375160"/>
              <a:ext cx="889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712960" y="451476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575080" y="451476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700000" y="4705200"/>
              <a:ext cx="36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90720" y="4698720"/>
              <a:ext cx="6652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8760" y="4938840"/>
              <a:ext cx="39852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57520" y="498960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24360" y="5572080"/>
              <a:ext cx="871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890720" y="4692600"/>
              <a:ext cx="648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6160" y="537516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90840" y="5572080"/>
              <a:ext cx="824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30520" y="5375160"/>
              <a:ext cx="411120" cy="462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77400" y="5425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91520" y="5553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960" y="5173560"/>
              <a:ext cx="405000" cy="4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280" y="52308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8400" y="535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76240" y="6280200"/>
              <a:ext cx="26064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9720" y="4730760"/>
              <a:ext cx="569880" cy="21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757560" y="4836960"/>
              <a:ext cx="4366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808600" y="4836960"/>
              <a:ext cx="417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1600" y="4957920"/>
              <a:ext cx="40464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89360" y="5008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60840" y="5256360"/>
              <a:ext cx="648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27640" y="525636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454360" y="5445000"/>
              <a:ext cx="353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240080" y="5445000"/>
              <a:ext cx="1068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43680" y="4756320"/>
              <a:ext cx="40608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10360" y="480528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45280" y="5610240"/>
              <a:ext cx="8748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056280" y="5256360"/>
              <a:ext cx="1800" cy="74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068880" y="5641920"/>
              <a:ext cx="74628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175440" y="5730840"/>
              <a:ext cx="14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19640" y="5773680"/>
              <a:ext cx="1191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40280" y="5773680"/>
              <a:ext cx="2224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40280" y="5451480"/>
              <a:ext cx="22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27760" y="5648400"/>
              <a:ext cx="6080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194600" y="4830840"/>
              <a:ext cx="1440" cy="82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821200" y="4843080"/>
              <a:ext cx="180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26120" y="5451480"/>
              <a:ext cx="119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6075000" y="5273280"/>
              <a:ext cx="74628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83400" y="5413320"/>
              <a:ext cx="8244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827680" y="5769000"/>
              <a:ext cx="648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76720" y="53942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5040" y="5610240"/>
              <a:ext cx="824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4720" y="5451480"/>
              <a:ext cx="41112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73040" y="55022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85720" y="5629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79840" y="5218200"/>
              <a:ext cx="411120" cy="46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69720" y="5267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5920" y="543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3560" y="6324480"/>
              <a:ext cx="253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719280" y="3222720"/>
                  <a:ext cx="26208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4614840" y="3317760"/>
                  <a:ext cx="24652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1892160" y="4311720"/>
              <a:ext cx="1171800" cy="398520"/>
            </a:xfrm>
            <a:custGeom>
              <a:avLst/>
              <a:gdLst/>
              <a:ahLst/>
              <a:rect l="l" t="t" r="r" b="b"/>
              <a:pathLst>
                <a:path w="738" h="251">
                  <a:moveTo>
                    <a:pt x="0" y="251"/>
                  </a:moveTo>
                  <a:lnTo>
                    <a:pt x="0" y="0"/>
                  </a:lnTo>
                  <a:lnTo>
                    <a:pt x="738" y="0"/>
                  </a:lnTo>
                  <a:lnTo>
                    <a:pt x="738" y="2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9480" y="4197240"/>
              <a:ext cx="563400" cy="21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05320" y="5354640"/>
              <a:ext cx="563400" cy="21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55480" y="399096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03240" y="49546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81040" y="1365120"/>
            <a:ext cx="7646040" cy="3707640"/>
            <a:chOff x="581040" y="1365120"/>
            <a:chExt cx="7646040" cy="3707640"/>
          </a:xfrm>
        </p:grpSpPr>
        <p:grpSp>
          <p:nvGrpSpPr>
            <p:cNvPr id="145" name=""/>
            <p:cNvGrpSpPr/>
            <p:nvPr/>
          </p:nvGrpSpPr>
          <p:grpSpPr>
            <a:xfrm>
              <a:off x="1035000" y="1789200"/>
              <a:ext cx="2638440" cy="2792160"/>
              <a:chOff x="1035000" y="1789200"/>
              <a:chExt cx="2638440" cy="279216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1042200" y="1789200"/>
                <a:ext cx="0" cy="27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35000" y="4573440"/>
                <a:ext cx="26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818240" y="1773360"/>
              <a:ext cx="3280680" cy="2792160"/>
              <a:chOff x="4818240" y="1773360"/>
              <a:chExt cx="3280680" cy="2792160"/>
            </a:xfrm>
          </p:grpSpPr>
          <p:sp>
            <p:nvSpPr>
              <p:cNvPr id="149" name=""/>
              <p:cNvSpPr/>
              <p:nvPr/>
            </p:nvSpPr>
            <p:spPr>
              <a:xfrm flipV="1">
                <a:off x="4827240" y="1773360"/>
                <a:ext cx="0" cy="27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18240" y="4557600"/>
                <a:ext cx="328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428840" y="2033640"/>
              <a:ext cx="1930320" cy="19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017720" y="2471760"/>
              <a:ext cx="83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35400" y="2276280"/>
              <a:ext cx="1944720" cy="19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5320" y="2895480"/>
              <a:ext cx="56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27920" y="2908440"/>
              <a:ext cx="87624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43280" y="2341440"/>
              <a:ext cx="0" cy="2587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0360" y="2403360"/>
              <a:ext cx="0" cy="2587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70320" y="2284560"/>
              <a:ext cx="0" cy="2587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11880" y="2346480"/>
              <a:ext cx="0" cy="2587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25160" y="13651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28760" y="14652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760" y="46735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9400" y="47354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81040" y="2162160"/>
                  <a:ext cx="40788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7189920" y="2519280"/>
                  <a:ext cx="47304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"/>
            <p:cNvSpPr/>
            <p:nvPr/>
          </p:nvSpPr>
          <p:spPr>
            <a:xfrm>
              <a:off x="2214000" y="19969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6160" y="207324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70120" y="86364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5:54:04Z</dcterms:created>
  <dc:creator>Agnieszka Kukawczynska</dc:creator>
  <dc:description/>
  <dc:language>en-US</dc:language>
  <cp:lastModifiedBy>MK</cp:lastModifiedBy>
  <dcterms:modified xsi:type="dcterms:W3CDTF">2008-12-02T08:54:58Z</dcterms:modified>
  <cp:revision>98</cp:revision>
  <dc:subject/>
  <dc:title>Nieliniowe zastosowania wzmacniaczy operacyjnych</dc:title>
</cp:coreProperties>
</file>