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17.jpeg" ContentType="image/jpeg"/>
  <Override PartName="/ppt/media/image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5.png" ContentType="image/png"/>
  <Override PartName="/ppt/media/image21.png" ContentType="image/png"/>
  <Override PartName="/ppt/media/image20.wmf" ContentType="image/x-wmf"/>
  <Override PartName="/ppt/media/image18.jpeg" ContentType="image/jpeg"/>
  <Override PartName="/ppt/media/image19.wmf" ContentType="image/x-wmf"/>
  <Override PartName="/ppt/media/image16.jpeg" ContentType="image/jpeg"/>
  <Override PartName="/ppt/media/image15.wmf" ContentType="image/x-wmf"/>
  <Override PartName="/ppt/media/image14.wmf" ContentType="image/x-wmf"/>
  <Override PartName="/ppt/media/image1.png" ContentType="image/pn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0441-9932-446D-8F43-E5E97132A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D96B-9BE4-4DD6-A31D-E3B9429A1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0FAB-1BB3-42ED-A2A6-B559CF032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B65B-E61A-4620-8466-1931457CB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DFFE-9BF2-48A9-A824-2BA2FC5F5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AFBA-EC67-4E08-AFCE-4DA55D79C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580E-AD62-468C-BE0F-6A90AEAFF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9CBC-C247-4983-8894-6142BDB6D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B4CF-8A67-48E6-AA80-1B262BEB9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97D9-8830-4EF5-BFEF-2A8D86AB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1497-247F-4899-AAC7-5DA9DEC9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0C79-4A2B-4CAD-A094-4AD2668A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D40A8-EA1D-40FC-8372-1E83807736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35120" y="2910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Zasilacze niestabilizowane</a:t>
            </a:r>
            <a:br>
              <a:rPr sz="4400"/>
            </a:b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m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202680" y="179280"/>
            <a:ext cx="849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równanie przebiegów w prostownikach jedno i dwupołówk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 filtrami pojemnościowy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611280" y="1284120"/>
            <a:ext cx="820584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4" name=""/>
          <p:cNvGraphicFramePr/>
          <p:nvPr/>
        </p:nvGraphicFramePr>
        <p:xfrm>
          <a:off x="258840" y="231840"/>
          <a:ext cx="8885160" cy="662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8840" y="231840"/>
                    <a:ext cx="8885160" cy="66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6" name=""/>
          <p:cNvSpPr/>
          <p:nvPr/>
        </p:nvSpPr>
        <p:spPr>
          <a:xfrm>
            <a:off x="1326960" y="0"/>
            <a:ext cx="62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53040" y="6400800"/>
            <a:ext cx="7634520" cy="5101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ąd tętnień 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może zniszczyć pojemność zbiorczą C (filtru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218880" y="5027760"/>
            <a:ext cx="4468320" cy="1226160"/>
            <a:chOff x="218880" y="5027760"/>
            <a:chExt cx="4468320" cy="1226160"/>
          </a:xfrm>
        </p:grpSpPr>
        <p:sp>
          <p:nvSpPr>
            <p:cNvPr id="589" name=""/>
            <p:cNvSpPr/>
            <p:nvPr/>
          </p:nvSpPr>
          <p:spPr>
            <a:xfrm>
              <a:off x="218880" y="5027760"/>
              <a:ext cx="1837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spółczynnik tętnień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0" name=""/>
            <p:cNvGrpSpPr/>
            <p:nvPr/>
          </p:nvGrpSpPr>
          <p:grpSpPr>
            <a:xfrm>
              <a:off x="2106000" y="5609880"/>
              <a:ext cx="2470320" cy="644040"/>
              <a:chOff x="2106000" y="5609880"/>
              <a:chExt cx="2470320" cy="644040"/>
            </a:xfrm>
          </p:grpSpPr>
          <p:sp>
            <p:nvSpPr>
              <p:cNvPr id="591" name=""/>
              <p:cNvSpPr/>
              <p:nvPr/>
            </p:nvSpPr>
            <p:spPr>
              <a:xfrm>
                <a:off x="2558880" y="5909760"/>
                <a:ext cx="2966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3116160" y="5909760"/>
                <a:ext cx="5662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3948120" y="5909760"/>
                <a:ext cx="6282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106000" y="5783040"/>
                <a:ext cx="102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566800" y="5609880"/>
                <a:ext cx="16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555640" y="5943240"/>
                <a:ext cx="16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3328920" y="56163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128400" y="5943240"/>
                <a:ext cx="3056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800" spc="-1" strike="noStrike">
                    <a:solidFill>
                      <a:srgbClr val="000000"/>
                    </a:solidFill>
                    <a:latin typeface="Times New Roman"/>
                  </a:rPr>
                  <a:t>m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3514320" y="5943240"/>
                <a:ext cx="153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3958560" y="5943240"/>
                <a:ext cx="369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800" spc="-1" strike="noStrike">
                    <a:solidFill>
                      <a:srgbClr val="000000"/>
                    </a:solidFill>
                    <a:latin typeface="Times New Roman"/>
                  </a:rPr>
                  <a:t>mf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406400" y="5943240"/>
                <a:ext cx="153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223000" y="59274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754720" y="57528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2335320" y="5756040"/>
                <a:ext cx="182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895480" y="5756040"/>
                <a:ext cx="182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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3724200" y="5756040"/>
                <a:ext cx="182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743920" y="608616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432960" y="608616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325040" y="608616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4207680" y="5616360"/>
                <a:ext cx="115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1" name=""/>
            <p:cNvSpPr/>
            <p:nvPr/>
          </p:nvSpPr>
          <p:spPr>
            <a:xfrm>
              <a:off x="4628520" y="5784480"/>
              <a:ext cx="5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2" name=""/>
          <p:cNvGraphicFramePr/>
          <p:nvPr/>
        </p:nvGraphicFramePr>
        <p:xfrm>
          <a:off x="914400" y="1676520"/>
          <a:ext cx="6735600" cy="29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76520"/>
                    <a:ext cx="673560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4" name=""/>
          <p:cNvSpPr/>
          <p:nvPr/>
        </p:nvSpPr>
        <p:spPr>
          <a:xfrm>
            <a:off x="1288800" y="304920"/>
            <a:ext cx="626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zmniejszenie tętnień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2124000" y="1789200"/>
            <a:ext cx="425880" cy="725400"/>
            <a:chOff x="2124000" y="1789200"/>
            <a:chExt cx="425880" cy="725400"/>
          </a:xfrm>
        </p:grpSpPr>
        <p:sp>
          <p:nvSpPr>
            <p:cNvPr id="616" name=""/>
            <p:cNvSpPr/>
            <p:nvPr/>
          </p:nvSpPr>
          <p:spPr>
            <a:xfrm>
              <a:off x="2218320" y="178920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124000" y="2057400"/>
              <a:ext cx="282600" cy="457200"/>
            </a:xfrm>
            <a:custGeom>
              <a:avLst/>
              <a:gdLst/>
              <a:ahLst/>
              <a:rect l="l" t="t" r="r" b="b"/>
              <a:pathLst>
                <a:path w="178" h="288">
                  <a:moveTo>
                    <a:pt x="168" y="0"/>
                  </a:moveTo>
                  <a:cubicBezTo>
                    <a:pt x="173" y="93"/>
                    <a:pt x="178" y="186"/>
                    <a:pt x="150" y="234"/>
                  </a:cubicBezTo>
                  <a:cubicBezTo>
                    <a:pt x="122" y="282"/>
                    <a:pt x="61" y="285"/>
                    <a:pt x="0" y="288"/>
                  </a:cubicBez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8" name=""/>
          <p:cNvGraphicFramePr/>
          <p:nvPr/>
        </p:nvGraphicFramePr>
        <p:xfrm>
          <a:off x="990720" y="685800"/>
          <a:ext cx="7162560" cy="384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685800"/>
                    <a:ext cx="7162560" cy="38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0" name=""/>
          <p:cNvSpPr/>
          <p:nvPr/>
        </p:nvSpPr>
        <p:spPr>
          <a:xfrm>
            <a:off x="1597320" y="4703760"/>
            <a:ext cx="57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r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193480" y="4703760"/>
            <a:ext cx="3417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ść średnia napięcia wyprostowaneg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2606400" y="4997520"/>
            <a:ext cx="3721680" cy="677160"/>
            <a:chOff x="2606400" y="4997520"/>
            <a:chExt cx="3721680" cy="677160"/>
          </a:xfrm>
        </p:grpSpPr>
        <p:sp>
          <p:nvSpPr>
            <p:cNvPr id="623" name=""/>
            <p:cNvSpPr/>
            <p:nvPr/>
          </p:nvSpPr>
          <p:spPr>
            <a:xfrm>
              <a:off x="3659040" y="5330880"/>
              <a:ext cx="276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951440" y="5330880"/>
              <a:ext cx="685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606400" y="520380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154680" y="520380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708360" y="503064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256280" y="520380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272200" y="5037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081400" y="5362560"/>
              <a:ext cx="305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800" spc="-1" strike="noStrike">
                  <a:solidFill>
                    <a:srgbClr val="000000"/>
                  </a:solidFill>
                  <a:latin typeface="Times New Roman"/>
                </a:rPr>
                <a:t>m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518440" y="536256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064560" y="520380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300120" y="534816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871440" y="51735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403520" y="534816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210000" y="534816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772000" y="53481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413680" y="55069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789000" y="53625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681080" y="52038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014440" y="53625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951280" y="5178600"/>
              <a:ext cx="182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576960" y="517860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049640" y="5178600"/>
              <a:ext cx="182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870800" y="517860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614480" y="4997520"/>
              <a:ext cx="78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614480" y="5346720"/>
              <a:ext cx="78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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614480" y="5176800"/>
              <a:ext cx="78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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720760" y="4997520"/>
              <a:ext cx="78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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720760" y="5346720"/>
              <a:ext cx="78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720760" y="5176800"/>
              <a:ext cx="78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859360" y="5178600"/>
              <a:ext cx="182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"/>
          <p:cNvSpPr/>
          <p:nvPr/>
        </p:nvSpPr>
        <p:spPr>
          <a:xfrm>
            <a:off x="6408000" y="519912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1537920" y="5708520"/>
            <a:ext cx="4301640" cy="914040"/>
            <a:chOff x="1537920" y="5708520"/>
            <a:chExt cx="4301640" cy="914040"/>
          </a:xfrm>
        </p:grpSpPr>
        <p:sp>
          <p:nvSpPr>
            <p:cNvPr id="655" name=""/>
            <p:cNvSpPr/>
            <p:nvPr/>
          </p:nvSpPr>
          <p:spPr>
            <a:xfrm>
              <a:off x="1537920" y="5708520"/>
              <a:ext cx="53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Wspó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157480" y="5708520"/>
              <a:ext cx="1536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łczynnik tętnień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7" name=""/>
            <p:cNvGrpSpPr/>
            <p:nvPr/>
          </p:nvGrpSpPr>
          <p:grpSpPr>
            <a:xfrm>
              <a:off x="3259080" y="5978520"/>
              <a:ext cx="2454480" cy="644040"/>
              <a:chOff x="3259080" y="5978520"/>
              <a:chExt cx="2454480" cy="644040"/>
            </a:xfrm>
          </p:grpSpPr>
          <p:sp>
            <p:nvSpPr>
              <p:cNvPr id="658" name=""/>
              <p:cNvSpPr/>
              <p:nvPr/>
            </p:nvSpPr>
            <p:spPr>
              <a:xfrm>
                <a:off x="3662280" y="6278400"/>
                <a:ext cx="2970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4219560" y="6278400"/>
                <a:ext cx="5666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5051520" y="6278400"/>
                <a:ext cx="6285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259080" y="6151680"/>
                <a:ext cx="102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721680" y="5978520"/>
                <a:ext cx="16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710520" y="6311880"/>
                <a:ext cx="16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483080" y="59850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231800" y="6311880"/>
                <a:ext cx="3056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800" spc="-1" strike="noStrike">
                    <a:solidFill>
                      <a:srgbClr val="000000"/>
                    </a:solidFill>
                    <a:latin typeface="Times New Roman"/>
                  </a:rPr>
                  <a:t>m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668480" y="6311880"/>
                <a:ext cx="153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062320" y="6311880"/>
                <a:ext cx="369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800" spc="-1" strike="noStrike">
                    <a:solidFill>
                      <a:srgbClr val="000000"/>
                    </a:solidFill>
                    <a:latin typeface="Times New Roman"/>
                  </a:rPr>
                  <a:t>mf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560560" y="6311880"/>
                <a:ext cx="153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3354120" y="62960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3885840" y="61214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512520" y="6124680"/>
                <a:ext cx="182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072680" y="6124680"/>
                <a:ext cx="182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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4901400" y="6124680"/>
                <a:ext cx="182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875400" y="645480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4564080" y="645480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456520" y="645480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361120" y="5985000"/>
                <a:ext cx="115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8" name=""/>
            <p:cNvSpPr/>
            <p:nvPr/>
          </p:nvSpPr>
          <p:spPr>
            <a:xfrm>
              <a:off x="5780880" y="6153120"/>
              <a:ext cx="5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1441440" y="0"/>
            <a:ext cx="62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0" name=""/>
          <p:cNvGraphicFramePr/>
          <p:nvPr/>
        </p:nvGraphicFramePr>
        <p:xfrm>
          <a:off x="1066680" y="1295280"/>
          <a:ext cx="73152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295280"/>
                    <a:ext cx="73152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2" name=""/>
          <p:cNvSpPr/>
          <p:nvPr/>
        </p:nvSpPr>
        <p:spPr>
          <a:xfrm>
            <a:off x="1288800" y="304920"/>
            <a:ext cx="62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914400" y="1219320"/>
          <a:ext cx="7507440" cy="45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219320"/>
                    <a:ext cx="750744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5" name=""/>
          <p:cNvSpPr/>
          <p:nvPr/>
        </p:nvSpPr>
        <p:spPr>
          <a:xfrm>
            <a:off x="1288800" y="304920"/>
            <a:ext cx="62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6" name=""/>
          <p:cNvGraphicFramePr/>
          <p:nvPr/>
        </p:nvGraphicFramePr>
        <p:xfrm>
          <a:off x="1979640" y="1138320"/>
          <a:ext cx="5108400" cy="4602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138320"/>
                    <a:ext cx="5108400" cy="460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8" name=""/>
          <p:cNvSpPr/>
          <p:nvPr/>
        </p:nvSpPr>
        <p:spPr>
          <a:xfrm>
            <a:off x="1288800" y="304920"/>
            <a:ext cx="62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9" name=""/>
          <p:cNvGraphicFramePr/>
          <p:nvPr/>
        </p:nvGraphicFramePr>
        <p:xfrm>
          <a:off x="228600" y="4495680"/>
          <a:ext cx="8915400" cy="109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495680"/>
                    <a:ext cx="8915400" cy="109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1" name=""/>
          <p:cNvSpPr/>
          <p:nvPr/>
        </p:nvSpPr>
        <p:spPr>
          <a:xfrm>
            <a:off x="396720" y="304920"/>
            <a:ext cx="626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ostowniki z filtrem o wejściu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podwajacz napięcia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799160" y="1868400"/>
            <a:ext cx="32040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2514600" y="1585800"/>
            <a:ext cx="3909600" cy="2411280"/>
            <a:chOff x="2514600" y="1585800"/>
            <a:chExt cx="3909600" cy="2411280"/>
          </a:xfrm>
        </p:grpSpPr>
        <p:sp>
          <p:nvSpPr>
            <p:cNvPr id="694" name=""/>
            <p:cNvSpPr/>
            <p:nvPr/>
          </p:nvSpPr>
          <p:spPr>
            <a:xfrm>
              <a:off x="4792320" y="2070360"/>
              <a:ext cx="71640" cy="59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487480" y="2695320"/>
              <a:ext cx="308160" cy="30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513400" y="272916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665680" y="28299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821200" y="2549520"/>
              <a:ext cx="173520" cy="4500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902200" y="2098800"/>
              <a:ext cx="1800" cy="46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902200" y="2990520"/>
              <a:ext cx="1800" cy="62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051960" y="2644560"/>
              <a:ext cx="372240" cy="3204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132240" y="268416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265080" y="27849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H="1">
              <a:off x="4668480" y="2514960"/>
              <a:ext cx="3081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>
              <a:off x="4668480" y="2625120"/>
              <a:ext cx="3081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821480" y="2109960"/>
              <a:ext cx="1800" cy="41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821480" y="2639160"/>
              <a:ext cx="180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279320" y="2405160"/>
              <a:ext cx="374040" cy="3182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356720" y="2450160"/>
              <a:ext cx="127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500000" y="25495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348000" y="2599560"/>
              <a:ext cx="311400" cy="1598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348000" y="2444760"/>
              <a:ext cx="311400" cy="1598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348000" y="2284560"/>
              <a:ext cx="311400" cy="1656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492000" y="2255760"/>
              <a:ext cx="193320" cy="5342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V="1">
              <a:off x="3475080" y="2749320"/>
              <a:ext cx="5400" cy="18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V="1">
              <a:off x="3475080" y="2094840"/>
              <a:ext cx="54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>
              <a:off x="4689000" y="3219120"/>
              <a:ext cx="302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4689000" y="3328920"/>
              <a:ext cx="302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838400" y="2945520"/>
              <a:ext cx="144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838400" y="3345480"/>
              <a:ext cx="5400" cy="27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296240" y="3109320"/>
              <a:ext cx="372240" cy="3204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371480" y="3148920"/>
              <a:ext cx="127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14760" y="32497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434120" y="1989000"/>
              <a:ext cx="1800" cy="205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449240" y="2005560"/>
              <a:ext cx="97200" cy="93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>
              <a:off x="4417560" y="2098800"/>
              <a:ext cx="128520" cy="126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561920" y="2005560"/>
              <a:ext cx="1440" cy="204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927520" y="2270160"/>
              <a:ext cx="307800" cy="1598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927520" y="2424960"/>
              <a:ext cx="307800" cy="1602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927520" y="2579760"/>
              <a:ext cx="307800" cy="1602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903400" y="2234160"/>
              <a:ext cx="187920" cy="5400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102480" y="2095200"/>
              <a:ext cx="18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102480" y="2749320"/>
              <a:ext cx="1800" cy="18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281400" y="2255760"/>
              <a:ext cx="1800" cy="54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702520" y="2095200"/>
              <a:ext cx="3996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719080" y="2929320"/>
              <a:ext cx="383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647080" y="2900160"/>
              <a:ext cx="71640" cy="59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647080" y="2070360"/>
              <a:ext cx="71640" cy="5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514600" y="2365560"/>
              <a:ext cx="357480" cy="31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620440" y="2405160"/>
              <a:ext cx="118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1" name=""/>
            <p:cNvGrpSpPr/>
            <p:nvPr/>
          </p:nvGrpSpPr>
          <p:grpSpPr>
            <a:xfrm>
              <a:off x="3532320" y="2255760"/>
              <a:ext cx="106560" cy="563040"/>
              <a:chOff x="3532320" y="2255760"/>
              <a:chExt cx="106560" cy="563040"/>
            </a:xfrm>
          </p:grpSpPr>
          <p:sp>
            <p:nvSpPr>
              <p:cNvPr id="742" name=""/>
              <p:cNvSpPr/>
              <p:nvPr/>
            </p:nvSpPr>
            <p:spPr>
              <a:xfrm>
                <a:off x="3583440" y="2255760"/>
                <a:ext cx="1800" cy="56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3532320" y="2255760"/>
                <a:ext cx="106560" cy="10404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58" y="58"/>
                    </a:moveTo>
                    <a:lnTo>
                      <a:pt x="28" y="0"/>
                    </a:lnTo>
                    <a:lnTo>
                      <a:pt x="0" y="5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4" name=""/>
            <p:cNvSpPr/>
            <p:nvPr/>
          </p:nvSpPr>
          <p:spPr>
            <a:xfrm>
              <a:off x="3645000" y="2334960"/>
              <a:ext cx="342720" cy="33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731400" y="2369160"/>
              <a:ext cx="84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828600" y="24699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>
              <a:off x="3480120" y="2098800"/>
              <a:ext cx="921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3480480" y="2929320"/>
              <a:ext cx="1352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V="1">
              <a:off x="4198320" y="2094840"/>
              <a:ext cx="1440" cy="151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541400" y="3503880"/>
              <a:ext cx="1440" cy="204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4428720" y="3525480"/>
              <a:ext cx="95760" cy="88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428720" y="3613680"/>
              <a:ext cx="132840" cy="125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412160" y="3525480"/>
              <a:ext cx="1800" cy="199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576320" y="2098800"/>
              <a:ext cx="1311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192920" y="3613680"/>
              <a:ext cx="225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561920" y="3613680"/>
              <a:ext cx="1340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7" name=""/>
            <p:cNvGrpSpPr/>
            <p:nvPr/>
          </p:nvGrpSpPr>
          <p:grpSpPr>
            <a:xfrm>
              <a:off x="5002200" y="2320200"/>
              <a:ext cx="106560" cy="419400"/>
              <a:chOff x="5002200" y="2320200"/>
              <a:chExt cx="106560" cy="419400"/>
            </a:xfrm>
          </p:grpSpPr>
          <p:sp>
            <p:nvSpPr>
              <p:cNvPr id="758" name=""/>
              <p:cNvSpPr/>
              <p:nvPr/>
            </p:nvSpPr>
            <p:spPr>
              <a:xfrm>
                <a:off x="5052240" y="2320200"/>
                <a:ext cx="5400" cy="419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002200" y="2320200"/>
                <a:ext cx="106560" cy="10440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58" y="58"/>
                    </a:moveTo>
                    <a:lnTo>
                      <a:pt x="27" y="0"/>
                    </a:lnTo>
                    <a:lnTo>
                      <a:pt x="0" y="5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0" name=""/>
            <p:cNvGrpSpPr/>
            <p:nvPr/>
          </p:nvGrpSpPr>
          <p:grpSpPr>
            <a:xfrm>
              <a:off x="5022720" y="3084120"/>
              <a:ext cx="106560" cy="424440"/>
              <a:chOff x="5022720" y="3084120"/>
              <a:chExt cx="106560" cy="424440"/>
            </a:xfrm>
          </p:grpSpPr>
          <p:sp>
            <p:nvSpPr>
              <p:cNvPr id="761" name=""/>
              <p:cNvSpPr/>
              <p:nvPr/>
            </p:nvSpPr>
            <p:spPr>
              <a:xfrm>
                <a:off x="5072040" y="3084120"/>
                <a:ext cx="1440" cy="42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5022720" y="3084120"/>
                <a:ext cx="106560" cy="105840"/>
              </a:xfrm>
              <a:custGeom>
                <a:avLst/>
                <a:gdLst/>
                <a:ahLst/>
                <a:rect l="l" t="t" r="r" b="b"/>
                <a:pathLst>
                  <a:path w="58" h="59">
                    <a:moveTo>
                      <a:pt x="58" y="59"/>
                    </a:moveTo>
                    <a:lnTo>
                      <a:pt x="27" y="0"/>
                    </a:lnTo>
                    <a:lnTo>
                      <a:pt x="0" y="5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3" name=""/>
            <p:cNvSpPr/>
            <p:nvPr/>
          </p:nvSpPr>
          <p:spPr>
            <a:xfrm>
              <a:off x="5103720" y="2399400"/>
              <a:ext cx="276120" cy="300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128920" y="2430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216400" y="2509560"/>
              <a:ext cx="8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118480" y="3148920"/>
              <a:ext cx="276840" cy="30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144400" y="31795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232240" y="3258720"/>
              <a:ext cx="8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Times New Roman"/>
                </a:rPr>
                <a:t>c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"/>
            <p:cNvGrpSpPr/>
            <p:nvPr/>
          </p:nvGrpSpPr>
          <p:grpSpPr>
            <a:xfrm>
              <a:off x="5386320" y="2275560"/>
              <a:ext cx="106200" cy="1213200"/>
              <a:chOff x="5386320" y="2275560"/>
              <a:chExt cx="106200" cy="1213200"/>
            </a:xfrm>
          </p:grpSpPr>
          <p:sp>
            <p:nvSpPr>
              <p:cNvPr id="770" name=""/>
              <p:cNvSpPr/>
              <p:nvPr/>
            </p:nvSpPr>
            <p:spPr>
              <a:xfrm>
                <a:off x="5437440" y="2275560"/>
                <a:ext cx="3600" cy="121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5386320" y="2275560"/>
                <a:ext cx="106200" cy="10440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58" y="58"/>
                    </a:moveTo>
                    <a:lnTo>
                      <a:pt x="28" y="0"/>
                    </a:lnTo>
                    <a:lnTo>
                      <a:pt x="0" y="5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2" name=""/>
            <p:cNvSpPr/>
            <p:nvPr/>
          </p:nvSpPr>
          <p:spPr>
            <a:xfrm>
              <a:off x="5400720" y="2070360"/>
              <a:ext cx="66240" cy="5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167000" y="2070360"/>
              <a:ext cx="71640" cy="59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807080" y="3584880"/>
              <a:ext cx="71640" cy="59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792320" y="2900160"/>
              <a:ext cx="71640" cy="59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400720" y="3584880"/>
              <a:ext cx="66240" cy="59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761000" y="3782880"/>
              <a:ext cx="176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4849200" y="360972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9" name=""/>
            <p:cNvGrpSpPr/>
            <p:nvPr/>
          </p:nvGrpSpPr>
          <p:grpSpPr>
            <a:xfrm>
              <a:off x="4412160" y="1585800"/>
              <a:ext cx="439200" cy="822960"/>
              <a:chOff x="4412160" y="1585800"/>
              <a:chExt cx="439200" cy="822960"/>
            </a:xfrm>
          </p:grpSpPr>
          <p:sp>
            <p:nvSpPr>
              <p:cNvPr id="780" name=""/>
              <p:cNvSpPr/>
              <p:nvPr/>
            </p:nvSpPr>
            <p:spPr>
              <a:xfrm>
                <a:off x="4519800" y="1585800"/>
                <a:ext cx="33156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4412160" y="1890000"/>
                <a:ext cx="327960" cy="518760"/>
              </a:xfrm>
              <a:custGeom>
                <a:avLst/>
                <a:gdLst/>
                <a:ahLst/>
                <a:rect l="l" t="t" r="r" b="b"/>
                <a:pathLst>
                  <a:path w="178" h="288">
                    <a:moveTo>
                      <a:pt x="168" y="0"/>
                    </a:moveTo>
                    <a:cubicBezTo>
                      <a:pt x="173" y="93"/>
                      <a:pt x="178" y="186"/>
                      <a:pt x="150" y="234"/>
                    </a:cubicBezTo>
                    <a:cubicBezTo>
                      <a:pt x="122" y="282"/>
                      <a:pt x="61" y="285"/>
                      <a:pt x="0" y="288"/>
                    </a:cubicBez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2" name=""/>
            <p:cNvGrpSpPr/>
            <p:nvPr/>
          </p:nvGrpSpPr>
          <p:grpSpPr>
            <a:xfrm>
              <a:off x="4401360" y="3450960"/>
              <a:ext cx="495360" cy="546120"/>
              <a:chOff x="4401360" y="3450960"/>
              <a:chExt cx="495360" cy="546120"/>
            </a:xfrm>
          </p:grpSpPr>
          <p:sp>
            <p:nvSpPr>
              <p:cNvPr id="783" name=""/>
              <p:cNvSpPr/>
              <p:nvPr/>
            </p:nvSpPr>
            <p:spPr>
              <a:xfrm flipV="1">
                <a:off x="4565160" y="3450600"/>
                <a:ext cx="33156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flipV="1">
                <a:off x="4401360" y="3478680"/>
                <a:ext cx="327960" cy="518040"/>
              </a:xfrm>
              <a:custGeom>
                <a:avLst/>
                <a:gdLst/>
                <a:ahLst/>
                <a:rect l="l" t="t" r="r" b="b"/>
                <a:pathLst>
                  <a:path w="178" h="288">
                    <a:moveTo>
                      <a:pt x="168" y="0"/>
                    </a:moveTo>
                    <a:cubicBezTo>
                      <a:pt x="173" y="93"/>
                      <a:pt x="178" y="186"/>
                      <a:pt x="150" y="234"/>
                    </a:cubicBezTo>
                    <a:cubicBezTo>
                      <a:pt x="122" y="282"/>
                      <a:pt x="61" y="285"/>
                      <a:pt x="0" y="288"/>
                    </a:cubicBez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" descr=""/>
          <p:cNvPicPr/>
          <p:nvPr/>
        </p:nvPicPr>
        <p:blipFill>
          <a:blip r:embed="rId1"/>
          <a:stretch/>
        </p:blipFill>
        <p:spPr>
          <a:xfrm>
            <a:off x="474840" y="1217520"/>
            <a:ext cx="8393040" cy="5278680"/>
          </a:xfrm>
          <a:prstGeom prst="rect">
            <a:avLst/>
          </a:prstGeom>
          <a:ln w="0">
            <a:noFill/>
          </a:ln>
        </p:spPr>
      </p:pic>
      <p:sp>
        <p:nvSpPr>
          <p:cNvPr id="786" name=""/>
          <p:cNvSpPr/>
          <p:nvPr/>
        </p:nvSpPr>
        <p:spPr>
          <a:xfrm>
            <a:off x="2317680" y="301680"/>
            <a:ext cx="412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ebiegi w podwajaczu Del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7" name=""/>
          <p:cNvGraphicFramePr/>
          <p:nvPr/>
        </p:nvGraphicFramePr>
        <p:xfrm>
          <a:off x="841320" y="3129120"/>
          <a:ext cx="6840720" cy="313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3129120"/>
                    <a:ext cx="6840720" cy="31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9" name=""/>
          <p:cNvGraphicFramePr/>
          <p:nvPr/>
        </p:nvGraphicFramePr>
        <p:xfrm>
          <a:off x="228600" y="1371600"/>
          <a:ext cx="8610480" cy="1035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371600"/>
                    <a:ext cx="861048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1" name=""/>
          <p:cNvSpPr/>
          <p:nvPr/>
        </p:nvSpPr>
        <p:spPr>
          <a:xfrm>
            <a:off x="1288800" y="304920"/>
            <a:ext cx="62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28600" y="923760"/>
            <a:ext cx="89154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średniczy w zasilan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mienia napięcie zmienne na stałe o możliwie małych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ętnieni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wykle zawiera transformator, układ prostowniczy i filt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ormat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łuży do uzyskania napięć, które bezpośrednio będą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 ogół ma przekładnię obniżając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zoluje galwanicznie prostownik i zasilane układy od sie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c przetwarzan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     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 f    S   B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ierzchnia rdzeni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94760" y="304920"/>
            <a:ext cx="28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sieci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4724280" y="5867280"/>
                <a:ext cx="91440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≈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5353200" y="4946760"/>
            <a:ext cx="490320" cy="430200"/>
          </a:xfrm>
          <a:custGeom>
            <a:avLst/>
            <a:gdLst/>
            <a:ahLst/>
            <a:rect l="l" t="t" r="r" b="b"/>
            <a:pathLst>
              <a:path w="309" h="271">
                <a:moveTo>
                  <a:pt x="0" y="58"/>
                </a:moveTo>
                <a:cubicBezTo>
                  <a:pt x="8" y="164"/>
                  <a:pt x="16" y="271"/>
                  <a:pt x="30" y="268"/>
                </a:cubicBezTo>
                <a:cubicBezTo>
                  <a:pt x="44" y="265"/>
                  <a:pt x="42" y="80"/>
                  <a:pt x="84" y="40"/>
                </a:cubicBezTo>
                <a:cubicBezTo>
                  <a:pt x="126" y="0"/>
                  <a:pt x="255" y="33"/>
                  <a:pt x="282" y="28"/>
                </a:cubicBezTo>
                <a:cubicBezTo>
                  <a:pt x="309" y="23"/>
                  <a:pt x="277" y="16"/>
                  <a:pt x="246" y="1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>
            <a:off x="2956320" y="2800440"/>
            <a:ext cx="293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ykresy Schad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3" name="Wykres_Schadego1" descr=""/>
          <p:cNvPicPr/>
          <p:nvPr/>
        </p:nvPicPr>
        <p:blipFill>
          <a:blip r:embed="rId1"/>
          <a:stretch/>
        </p:blipFill>
        <p:spPr>
          <a:xfrm>
            <a:off x="762120" y="392040"/>
            <a:ext cx="7924680" cy="6072120"/>
          </a:xfrm>
          <a:prstGeom prst="rect">
            <a:avLst/>
          </a:prstGeom>
          <a:ln w="0">
            <a:noFill/>
          </a:ln>
        </p:spPr>
      </p:pic>
      <p:sp>
        <p:nvSpPr>
          <p:cNvPr id="794" name=""/>
          <p:cNvSpPr/>
          <p:nvPr/>
        </p:nvSpPr>
        <p:spPr>
          <a:xfrm>
            <a:off x="2433600" y="5105520"/>
            <a:ext cx="4894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półczynnik wykorzystania napię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8458200" y="3429000"/>
                <a:ext cx="4334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6" name="Wykres_Schadego2" descr=""/>
          <p:cNvPicPr/>
          <p:nvPr/>
        </p:nvPicPr>
        <p:blipFill>
          <a:blip r:embed="rId1"/>
          <a:stretch/>
        </p:blipFill>
        <p:spPr>
          <a:xfrm>
            <a:off x="609480" y="0"/>
            <a:ext cx="7772400" cy="6515280"/>
          </a:xfrm>
          <a:prstGeom prst="rect">
            <a:avLst/>
          </a:prstGeom>
          <a:ln w="0">
            <a:noFill/>
          </a:ln>
        </p:spPr>
      </p:pic>
      <p:sp>
        <p:nvSpPr>
          <p:cNvPr id="797" name=""/>
          <p:cNvSpPr/>
          <p:nvPr/>
        </p:nvSpPr>
        <p:spPr>
          <a:xfrm>
            <a:off x="1281240" y="193680"/>
            <a:ext cx="3992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rt. skuteczna prądu di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204560" y="2174760"/>
            <a:ext cx="40089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rt. szczytowa prądu di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9" name="Wykres_Schadego3" descr=""/>
          <p:cNvPicPr/>
          <p:nvPr/>
        </p:nvPicPr>
        <p:blipFill>
          <a:blip r:embed="rId1"/>
          <a:stretch/>
        </p:blipFill>
        <p:spPr>
          <a:xfrm>
            <a:off x="685800" y="77760"/>
            <a:ext cx="7086600" cy="6569280"/>
          </a:xfrm>
          <a:prstGeom prst="rect">
            <a:avLst/>
          </a:prstGeom>
          <a:ln w="0">
            <a:noFill/>
          </a:ln>
        </p:spPr>
      </p:pic>
      <p:sp>
        <p:nvSpPr>
          <p:cNvPr id="800" name=""/>
          <p:cNvSpPr/>
          <p:nvPr/>
        </p:nvSpPr>
        <p:spPr>
          <a:xfrm>
            <a:off x="1524240" y="4343400"/>
            <a:ext cx="3003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spółczynnik tętnie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1" name=""/>
          <p:cNvGraphicFramePr/>
          <p:nvPr/>
        </p:nvGraphicFramePr>
        <p:xfrm>
          <a:off x="1066680" y="762120"/>
          <a:ext cx="7010640" cy="422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762120"/>
                    <a:ext cx="7010640" cy="42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3" name=""/>
          <p:cNvGraphicFramePr/>
          <p:nvPr/>
        </p:nvGraphicFramePr>
        <p:xfrm>
          <a:off x="762120" y="5105520"/>
          <a:ext cx="7543800" cy="15476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5105520"/>
                    <a:ext cx="7543800" cy="15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5" name=""/>
          <p:cNvSpPr/>
          <p:nvPr/>
        </p:nvSpPr>
        <p:spPr>
          <a:xfrm>
            <a:off x="1517760" y="228600"/>
            <a:ext cx="570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induk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6" name=""/>
          <p:cNvGrpSpPr/>
          <p:nvPr/>
        </p:nvGrpSpPr>
        <p:grpSpPr>
          <a:xfrm>
            <a:off x="2981160" y="2130120"/>
            <a:ext cx="152280" cy="152640"/>
            <a:chOff x="2981160" y="2130120"/>
            <a:chExt cx="152280" cy="152640"/>
          </a:xfrm>
        </p:grpSpPr>
        <p:sp>
          <p:nvSpPr>
            <p:cNvPr id="807" name=""/>
            <p:cNvSpPr/>
            <p:nvPr/>
          </p:nvSpPr>
          <p:spPr>
            <a:xfrm>
              <a:off x="2981160" y="228276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3057480" y="21301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6789600" y="1882440"/>
            <a:ext cx="152280" cy="152640"/>
            <a:chOff x="6789600" y="1882440"/>
            <a:chExt cx="152280" cy="152640"/>
          </a:xfrm>
        </p:grpSpPr>
        <p:sp>
          <p:nvSpPr>
            <p:cNvPr id="810" name=""/>
            <p:cNvSpPr/>
            <p:nvPr/>
          </p:nvSpPr>
          <p:spPr>
            <a:xfrm>
              <a:off x="6789600" y="203508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6865920" y="18824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2" name=""/>
          <p:cNvGrpSpPr/>
          <p:nvPr/>
        </p:nvGrpSpPr>
        <p:grpSpPr>
          <a:xfrm>
            <a:off x="2757600" y="3947760"/>
            <a:ext cx="152280" cy="152640"/>
            <a:chOff x="2757600" y="3947760"/>
            <a:chExt cx="152280" cy="152640"/>
          </a:xfrm>
        </p:grpSpPr>
        <p:sp>
          <p:nvSpPr>
            <p:cNvPr id="813" name=""/>
            <p:cNvSpPr/>
            <p:nvPr/>
          </p:nvSpPr>
          <p:spPr>
            <a:xfrm>
              <a:off x="2757600" y="410040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>
              <a:off x="2833920" y="39477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2266920" y="636480"/>
            <a:ext cx="425880" cy="725400"/>
            <a:chOff x="2266920" y="636480"/>
            <a:chExt cx="425880" cy="725400"/>
          </a:xfrm>
        </p:grpSpPr>
        <p:sp>
          <p:nvSpPr>
            <p:cNvPr id="816" name=""/>
            <p:cNvSpPr/>
            <p:nvPr/>
          </p:nvSpPr>
          <p:spPr>
            <a:xfrm>
              <a:off x="2361240" y="636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266920" y="904680"/>
              <a:ext cx="282600" cy="457200"/>
            </a:xfrm>
            <a:custGeom>
              <a:avLst/>
              <a:gdLst/>
              <a:ahLst/>
              <a:rect l="l" t="t" r="r" b="b"/>
              <a:pathLst>
                <a:path w="178" h="288">
                  <a:moveTo>
                    <a:pt x="168" y="0"/>
                  </a:moveTo>
                  <a:cubicBezTo>
                    <a:pt x="173" y="93"/>
                    <a:pt x="178" y="186"/>
                    <a:pt x="150" y="234"/>
                  </a:cubicBezTo>
                  <a:cubicBezTo>
                    <a:pt x="122" y="282"/>
                    <a:pt x="61" y="285"/>
                    <a:pt x="0" y="288"/>
                  </a:cubicBez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8" name="" descr=""/>
          <p:cNvPicPr/>
          <p:nvPr/>
        </p:nvPicPr>
        <p:blipFill>
          <a:blip r:embed="rId1"/>
          <a:stretch/>
        </p:blipFill>
        <p:spPr>
          <a:xfrm>
            <a:off x="511200" y="1306440"/>
            <a:ext cx="8096400" cy="5091120"/>
          </a:xfrm>
          <a:prstGeom prst="rect">
            <a:avLst/>
          </a:prstGeom>
          <a:ln w="0">
            <a:noFill/>
          </a:ln>
        </p:spPr>
      </p:pic>
      <p:pic>
        <p:nvPicPr>
          <p:cNvPr id="819" name="" descr=""/>
          <p:cNvPicPr/>
          <p:nvPr/>
        </p:nvPicPr>
        <p:blipFill>
          <a:blip r:embed="rId2"/>
          <a:stretch/>
        </p:blipFill>
        <p:spPr>
          <a:xfrm>
            <a:off x="5500800" y="1839960"/>
            <a:ext cx="3052800" cy="1836720"/>
          </a:xfrm>
          <a:prstGeom prst="rect">
            <a:avLst/>
          </a:prstGeom>
          <a:ln w="0">
            <a:noFill/>
          </a:ln>
        </p:spPr>
      </p:pic>
      <p:sp>
        <p:nvSpPr>
          <p:cNvPr id="820" name=""/>
          <p:cNvSpPr/>
          <p:nvPr/>
        </p:nvSpPr>
        <p:spPr>
          <a:xfrm>
            <a:off x="1518480" y="22860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 z filtrem o wejściu induk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7486560" y="2046240"/>
            <a:ext cx="425880" cy="725400"/>
            <a:chOff x="7486560" y="2046240"/>
            <a:chExt cx="425880" cy="725400"/>
          </a:xfrm>
        </p:grpSpPr>
        <p:sp>
          <p:nvSpPr>
            <p:cNvPr id="822" name=""/>
            <p:cNvSpPr/>
            <p:nvPr/>
          </p:nvSpPr>
          <p:spPr>
            <a:xfrm>
              <a:off x="7580880" y="2046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486560" y="2314440"/>
              <a:ext cx="282600" cy="457200"/>
            </a:xfrm>
            <a:custGeom>
              <a:avLst/>
              <a:gdLst/>
              <a:ahLst/>
              <a:rect l="l" t="t" r="r" b="b"/>
              <a:pathLst>
                <a:path w="178" h="288">
                  <a:moveTo>
                    <a:pt x="168" y="0"/>
                  </a:moveTo>
                  <a:cubicBezTo>
                    <a:pt x="173" y="93"/>
                    <a:pt x="178" y="186"/>
                    <a:pt x="150" y="234"/>
                  </a:cubicBezTo>
                  <a:cubicBezTo>
                    <a:pt x="122" y="282"/>
                    <a:pt x="61" y="285"/>
                    <a:pt x="0" y="288"/>
                  </a:cubicBez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4" name=""/>
          <p:cNvGraphicFramePr/>
          <p:nvPr/>
        </p:nvGraphicFramePr>
        <p:xfrm>
          <a:off x="533520" y="787320"/>
          <a:ext cx="8001000" cy="523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787320"/>
                    <a:ext cx="8001000" cy="523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6" name=""/>
          <p:cNvSpPr/>
          <p:nvPr/>
        </p:nvSpPr>
        <p:spPr>
          <a:xfrm>
            <a:off x="1517760" y="228600"/>
            <a:ext cx="577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indukcyjny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7" name=""/>
          <p:cNvGraphicFramePr/>
          <p:nvPr/>
        </p:nvGraphicFramePr>
        <p:xfrm>
          <a:off x="762120" y="1211400"/>
          <a:ext cx="7711920" cy="396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211400"/>
                    <a:ext cx="7711920" cy="39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9" name=""/>
          <p:cNvSpPr/>
          <p:nvPr/>
        </p:nvSpPr>
        <p:spPr>
          <a:xfrm>
            <a:off x="1517760" y="228600"/>
            <a:ext cx="570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induk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0" name=""/>
          <p:cNvGraphicFramePr/>
          <p:nvPr/>
        </p:nvGraphicFramePr>
        <p:xfrm>
          <a:off x="457200" y="1617840"/>
          <a:ext cx="8077320" cy="36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17840"/>
                    <a:ext cx="8077320" cy="36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2" name=""/>
          <p:cNvSpPr/>
          <p:nvPr/>
        </p:nvSpPr>
        <p:spPr>
          <a:xfrm>
            <a:off x="1517760" y="228600"/>
            <a:ext cx="570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induk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685800"/>
            <a:ext cx="8686800" cy="6030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Główne parametry układów prostowniczyc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/E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spółczynnik wykorzystania napięcia prostowan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/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=k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spółczynnik zawartości tętnień (wart. skuteczna tętnień/nap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yjsciowego -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ripple factor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artość średnia prądu wyjściow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ąd tętnień w kondensatorze filtru (zbiorczy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DM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wtarzająca się wartość szczytowa prądu di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artość szczytowa pojedynczego impulsu prądu diody (prąd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darowego -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surge current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DRMS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artość skuteczna prądu di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ZW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artość maksymalna napięcia polaryzacji zwrotnej di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lość prostowanych połówek (1, 2, 3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prawność energetycz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71520" y="1066680"/>
            <a:ext cx="8017200" cy="1191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obciążeniem ( filtr o wejściu ..) rezystan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obciążeniem ( filtr o wejściu ..)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obciążeniem ( filtr o wejściu ..) induk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58520" y="2819520"/>
            <a:ext cx="7579800" cy="8254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ostowniki półprzewodnikowe niesterowa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ostowniki półprzewodnikowe sterowane (np. tyrystorow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3360" y="4343400"/>
            <a:ext cx="7148520" cy="1557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ostowniki lampowe (można spotkać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lampy próżniowe - praktycznie już nie stosow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lampy gazowane (ksenonowe, rteciow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lampy gazowane sterowane (tyratro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76800" y="1143000"/>
            <a:ext cx="7820640" cy="44830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obciążeniem rezystancyjny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tosowane, np. do  ładowanie akumulator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obciążeniem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małe i średnie moc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kilkudziesięciu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obciążeniem induk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uże i bardzo duże moce (setki - tysiące 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lampowe z lampami gazowanym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megawaty (tysiące amperów i dziesiątki kilowoltó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1523880" y="2819520"/>
            <a:ext cx="5538600" cy="2016360"/>
            <a:chOff x="1523880" y="2819520"/>
            <a:chExt cx="5538600" cy="2016360"/>
          </a:xfrm>
        </p:grpSpPr>
        <p:sp>
          <p:nvSpPr>
            <p:cNvPr id="52" name=""/>
            <p:cNvSpPr/>
            <p:nvPr/>
          </p:nvSpPr>
          <p:spPr>
            <a:xfrm>
              <a:off x="4057560" y="3127320"/>
              <a:ext cx="1440" cy="912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4057560" y="3217680"/>
              <a:ext cx="68472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067640" y="3217680"/>
              <a:ext cx="68472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5514840" y="3227040"/>
              <a:ext cx="68544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24560" y="3227040"/>
              <a:ext cx="68544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4057560" y="3624120"/>
              <a:ext cx="684720" cy="79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076640" y="3624120"/>
              <a:ext cx="685440" cy="79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5505480" y="3633480"/>
              <a:ext cx="684720" cy="79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524560" y="3633480"/>
              <a:ext cx="685440" cy="79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00280" y="3217680"/>
              <a:ext cx="2152800" cy="108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4781520" y="3217680"/>
              <a:ext cx="68472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791600" y="3217680"/>
              <a:ext cx="68472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4781520" y="3624120"/>
              <a:ext cx="684720" cy="79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800600" y="3624120"/>
              <a:ext cx="685440" cy="79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052520" y="4034880"/>
              <a:ext cx="300996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6229080" y="3217680"/>
              <a:ext cx="68544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219720" y="3624120"/>
              <a:ext cx="684720" cy="79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400280" y="3624120"/>
              <a:ext cx="2162160" cy="108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38400" y="3425760"/>
              <a:ext cx="171360" cy="2250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1793880" y="3303360"/>
              <a:ext cx="195120" cy="482400"/>
              <a:chOff x="1793880" y="3303360"/>
              <a:chExt cx="195120" cy="482400"/>
            </a:xfrm>
          </p:grpSpPr>
          <p:sp>
            <p:nvSpPr>
              <p:cNvPr id="72" name=""/>
              <p:cNvSpPr/>
              <p:nvPr/>
            </p:nvSpPr>
            <p:spPr>
              <a:xfrm>
                <a:off x="1808280" y="3403080"/>
                <a:ext cx="18072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808280" y="3493440"/>
                <a:ext cx="18072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808280" y="3584160"/>
                <a:ext cx="18072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793880" y="3385080"/>
                <a:ext cx="109800" cy="307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912680" y="330336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912680" y="368352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2138400" y="3533400"/>
              <a:ext cx="37800" cy="3312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301920" y="3368520"/>
              <a:ext cx="100080" cy="256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351240" y="3081240"/>
              <a:ext cx="1440" cy="296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351240" y="3622320"/>
              <a:ext cx="1440" cy="417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440160" y="3423960"/>
              <a:ext cx="218880" cy="182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2079360" y="3068280"/>
              <a:ext cx="195480" cy="482400"/>
              <a:chOff x="2079360" y="3068280"/>
              <a:chExt cx="195480" cy="482400"/>
            </a:xfrm>
          </p:grpSpPr>
          <p:sp>
            <p:nvSpPr>
              <p:cNvPr id="84" name=""/>
              <p:cNvSpPr/>
              <p:nvPr/>
            </p:nvSpPr>
            <p:spPr>
              <a:xfrm>
                <a:off x="2079360" y="3359880"/>
                <a:ext cx="18108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079360" y="3269520"/>
                <a:ext cx="18108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079360" y="3179160"/>
                <a:ext cx="18108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164680" y="3160800"/>
                <a:ext cx="110160" cy="307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>
                <a:off x="2155320" y="344844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>
                <a:off x="2155320" y="306828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" name=""/>
            <p:cNvGrpSpPr/>
            <p:nvPr/>
          </p:nvGrpSpPr>
          <p:grpSpPr>
            <a:xfrm>
              <a:off x="2079360" y="3547800"/>
              <a:ext cx="195480" cy="482400"/>
              <a:chOff x="2079360" y="3547800"/>
              <a:chExt cx="195480" cy="482400"/>
            </a:xfrm>
          </p:grpSpPr>
          <p:sp>
            <p:nvSpPr>
              <p:cNvPr id="91" name=""/>
              <p:cNvSpPr/>
              <p:nvPr/>
            </p:nvSpPr>
            <p:spPr>
              <a:xfrm>
                <a:off x="2079360" y="3839400"/>
                <a:ext cx="18108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079360" y="3749040"/>
                <a:ext cx="18108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079360" y="3658680"/>
                <a:ext cx="18108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164680" y="3640320"/>
                <a:ext cx="110160" cy="307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V="1">
                <a:off x="2155320" y="392796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V="1">
                <a:off x="2155320" y="354780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1724040" y="3308040"/>
              <a:ext cx="1904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733400" y="3786120"/>
              <a:ext cx="1904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690560" y="3768480"/>
              <a:ext cx="39600" cy="331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690560" y="3288960"/>
              <a:ext cx="39600" cy="331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523880" y="3416040"/>
              <a:ext cx="304920" cy="2808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819160" y="4039920"/>
              <a:ext cx="5428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2037960" y="3195360"/>
              <a:ext cx="4680" cy="718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2162160" y="3017520"/>
              <a:ext cx="419040" cy="136440"/>
              <a:chOff x="2162160" y="3017520"/>
              <a:chExt cx="419040" cy="13644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2333160" y="3017520"/>
                <a:ext cx="86400" cy="136440"/>
                <a:chOff x="2333160" y="3017520"/>
                <a:chExt cx="86400" cy="13644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2342880" y="3017520"/>
                  <a:ext cx="360" cy="118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2352240" y="3026520"/>
                  <a:ext cx="57600" cy="55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 flipH="1">
                  <a:off x="2333160" y="3080880"/>
                  <a:ext cx="76680" cy="73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2419200" y="3026520"/>
                  <a:ext cx="360" cy="118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0" name=""/>
              <p:cNvSpPr/>
              <p:nvPr/>
            </p:nvSpPr>
            <p:spPr>
              <a:xfrm>
                <a:off x="2162160" y="3080880"/>
                <a:ext cx="19080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418840" y="3080880"/>
                <a:ext cx="16236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2152440" y="3976560"/>
              <a:ext cx="419040" cy="136080"/>
              <a:chOff x="2152440" y="3976560"/>
              <a:chExt cx="419040" cy="13608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2323080" y="3976560"/>
                <a:ext cx="86400" cy="136080"/>
                <a:chOff x="2323080" y="3976560"/>
                <a:chExt cx="86400" cy="13608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2332800" y="3976560"/>
                  <a:ext cx="360" cy="118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2342520" y="3985560"/>
                  <a:ext cx="57600" cy="54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 flipH="1">
                  <a:off x="2323080" y="4039920"/>
                  <a:ext cx="76680" cy="72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2409120" y="3985560"/>
                  <a:ext cx="360" cy="118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8" name=""/>
              <p:cNvSpPr/>
              <p:nvPr/>
            </p:nvSpPr>
            <p:spPr>
              <a:xfrm>
                <a:off x="2152440" y="4039920"/>
                <a:ext cx="19080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409120" y="4039920"/>
                <a:ext cx="16236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2562120" y="4039920"/>
              <a:ext cx="11412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2676240" y="3081240"/>
              <a:ext cx="1800" cy="958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600280" y="3081240"/>
              <a:ext cx="22860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62160" y="3551040"/>
              <a:ext cx="66672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2819160" y="3550680"/>
              <a:ext cx="1800" cy="488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838240" y="3081240"/>
              <a:ext cx="5144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2209680" y="3171600"/>
              <a:ext cx="1440" cy="280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2200320" y="3650760"/>
              <a:ext cx="1440" cy="280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238120" y="3225600"/>
              <a:ext cx="162000" cy="1821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i="1" lang="en-US" sz="9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238120" y="3705120"/>
              <a:ext cx="162000" cy="1821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i="1" lang="en-US" sz="9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295360" y="2819520"/>
              <a:ext cx="190440" cy="1807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266920" y="4140000"/>
              <a:ext cx="190440" cy="1807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019320" y="3180600"/>
              <a:ext cx="1440" cy="741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85800" y="2873160"/>
              <a:ext cx="219240" cy="1728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d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95520" y="4076640"/>
              <a:ext cx="218880" cy="1710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d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743200" y="2873160"/>
              <a:ext cx="180720" cy="1728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995560" y="4022640"/>
              <a:ext cx="38160" cy="313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985840" y="3063600"/>
              <a:ext cx="38160" cy="313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652480" y="3063600"/>
              <a:ext cx="38160" cy="3132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962160" y="4066920"/>
              <a:ext cx="2886120" cy="190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                      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                   2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                   3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09880" y="3063600"/>
              <a:ext cx="219240" cy="3268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628880" y="3009600"/>
              <a:ext cx="247680" cy="1728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924440" y="3416040"/>
              <a:ext cx="295200" cy="1807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D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1676520" y="1295280"/>
            <a:ext cx="5438160" cy="1817640"/>
            <a:chOff x="1676520" y="1295280"/>
            <a:chExt cx="5438160" cy="1817640"/>
          </a:xfrm>
        </p:grpSpPr>
        <p:sp>
          <p:nvSpPr>
            <p:cNvPr id="144" name=""/>
            <p:cNvSpPr/>
            <p:nvPr/>
          </p:nvSpPr>
          <p:spPr>
            <a:xfrm>
              <a:off x="4114800" y="1403280"/>
              <a:ext cx="0" cy="914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4114800" y="1494000"/>
              <a:ext cx="68400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125240" y="1494000"/>
              <a:ext cx="68400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5553000" y="1503360"/>
              <a:ext cx="684000" cy="160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63440" y="1503360"/>
              <a:ext cx="684000" cy="160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4114800" y="1900080"/>
              <a:ext cx="684000" cy="79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34600" y="1900080"/>
              <a:ext cx="684000" cy="79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5543280" y="1909800"/>
              <a:ext cx="684720" cy="79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563440" y="1909800"/>
              <a:ext cx="684000" cy="79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57520" y="1494000"/>
              <a:ext cx="1456920" cy="14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457520" y="1900080"/>
              <a:ext cx="2161800" cy="180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4105080" y="2313000"/>
              <a:ext cx="30096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857320" y="1657440"/>
              <a:ext cx="237960" cy="1807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3197160" y="1519200"/>
              <a:ext cx="356760" cy="480960"/>
              <a:chOff x="3197160" y="1519200"/>
              <a:chExt cx="356760" cy="480960"/>
            </a:xfrm>
          </p:grpSpPr>
          <p:sp>
            <p:nvSpPr>
              <p:cNvPr id="158" name=""/>
              <p:cNvSpPr/>
              <p:nvPr/>
            </p:nvSpPr>
            <p:spPr>
              <a:xfrm>
                <a:off x="3197160" y="1619280"/>
                <a:ext cx="100800" cy="256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247200" y="1519200"/>
                <a:ext cx="360" cy="109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247200" y="1873080"/>
                <a:ext cx="360" cy="127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334680" y="1673280"/>
                <a:ext cx="219240" cy="183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i="1" lang="en-US" sz="10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2232000" y="1509840"/>
              <a:ext cx="194760" cy="482400"/>
              <a:chOff x="2232000" y="1509840"/>
              <a:chExt cx="194760" cy="482400"/>
            </a:xfrm>
          </p:grpSpPr>
          <p:sp>
            <p:nvSpPr>
              <p:cNvPr id="163" name=""/>
              <p:cNvSpPr/>
              <p:nvPr/>
            </p:nvSpPr>
            <p:spPr>
              <a:xfrm>
                <a:off x="2232000" y="1609560"/>
                <a:ext cx="18036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232000" y="1700280"/>
                <a:ext cx="18036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232000" y="1790640"/>
                <a:ext cx="18036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316960" y="1591560"/>
                <a:ext cx="109800" cy="307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307600" y="150984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307600" y="189000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2190600" y="1620720"/>
              <a:ext cx="0" cy="254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304720" y="1992240"/>
              <a:ext cx="9428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2314440" y="1449360"/>
              <a:ext cx="418680" cy="136440"/>
              <a:chOff x="2314440" y="1449360"/>
              <a:chExt cx="418680" cy="136440"/>
            </a:xfrm>
          </p:grpSpPr>
          <p:grpSp>
            <p:nvGrpSpPr>
              <p:cNvPr id="172" name=""/>
              <p:cNvGrpSpPr/>
              <p:nvPr/>
            </p:nvGrpSpPr>
            <p:grpSpPr>
              <a:xfrm>
                <a:off x="2485080" y="1449360"/>
                <a:ext cx="86400" cy="136440"/>
                <a:chOff x="2485080" y="1449360"/>
                <a:chExt cx="86400" cy="1364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2494800" y="1449360"/>
                  <a:ext cx="360" cy="118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2504160" y="1458360"/>
                  <a:ext cx="57600" cy="54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flipH="1">
                  <a:off x="2485080" y="1512720"/>
                  <a:ext cx="76680" cy="73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571120" y="1458360"/>
                  <a:ext cx="360" cy="118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7" name=""/>
              <p:cNvSpPr/>
              <p:nvPr/>
            </p:nvSpPr>
            <p:spPr>
              <a:xfrm>
                <a:off x="2314440" y="1512720"/>
                <a:ext cx="19044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571120" y="1512720"/>
                <a:ext cx="16200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>
              <a:off x="2724120" y="1512720"/>
              <a:ext cx="5328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885760" y="1584360"/>
              <a:ext cx="0" cy="336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862000" y="1494000"/>
              <a:ext cx="37800" cy="331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862000" y="1974960"/>
              <a:ext cx="37800" cy="316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1946160" y="1509840"/>
              <a:ext cx="194760" cy="482400"/>
              <a:chOff x="1946160" y="1509840"/>
              <a:chExt cx="194760" cy="482400"/>
            </a:xfrm>
          </p:grpSpPr>
          <p:sp>
            <p:nvSpPr>
              <p:cNvPr id="184" name=""/>
              <p:cNvSpPr/>
              <p:nvPr/>
            </p:nvSpPr>
            <p:spPr>
              <a:xfrm>
                <a:off x="1960560" y="1609560"/>
                <a:ext cx="18036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960560" y="1699920"/>
                <a:ext cx="18036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960560" y="1790640"/>
                <a:ext cx="18036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946160" y="1591560"/>
                <a:ext cx="109800" cy="307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064600" y="150984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064600" y="189000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1876320" y="1512720"/>
              <a:ext cx="1900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885680" y="1992240"/>
              <a:ext cx="1900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842840" y="1973160"/>
              <a:ext cx="39240" cy="334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842840" y="1494000"/>
              <a:ext cx="39240" cy="331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676520" y="1620720"/>
              <a:ext cx="304560" cy="2811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028760" y="2325600"/>
              <a:ext cx="2885760" cy="1904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                      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                   2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                   3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867120" y="1368360"/>
              <a:ext cx="218520" cy="3254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010120" y="1295280"/>
              <a:ext cx="247320" cy="1731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010120" y="1684440"/>
              <a:ext cx="294840" cy="1807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D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670040" y="228600"/>
            <a:ext cx="549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obciążeniem rezystan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07120" y="76212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Jednopołówko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79240" y="251460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Dwupołówko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980720" y="4495680"/>
            <a:ext cx="35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Dwupołówkowy w układzie Great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806560" y="1993680"/>
            <a:ext cx="152280" cy="152640"/>
            <a:chOff x="2806560" y="1993680"/>
            <a:chExt cx="152280" cy="152640"/>
          </a:xfrm>
        </p:grpSpPr>
        <p:sp>
          <p:nvSpPr>
            <p:cNvPr id="204" name=""/>
            <p:cNvSpPr/>
            <p:nvPr/>
          </p:nvSpPr>
          <p:spPr>
            <a:xfrm>
              <a:off x="2806560" y="214632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2882880" y="19936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2940120" y="4032000"/>
            <a:ext cx="152280" cy="152640"/>
            <a:chOff x="2940120" y="4032000"/>
            <a:chExt cx="152280" cy="152640"/>
          </a:xfrm>
        </p:grpSpPr>
        <p:sp>
          <p:nvSpPr>
            <p:cNvPr id="207" name=""/>
            <p:cNvSpPr/>
            <p:nvPr/>
          </p:nvSpPr>
          <p:spPr>
            <a:xfrm>
              <a:off x="2940120" y="418464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3016440" y="4032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2533680" y="1017720"/>
            <a:ext cx="425880" cy="725400"/>
            <a:chOff x="2533680" y="1017720"/>
            <a:chExt cx="425880" cy="725400"/>
          </a:xfrm>
        </p:grpSpPr>
        <p:sp>
          <p:nvSpPr>
            <p:cNvPr id="210" name=""/>
            <p:cNvSpPr/>
            <p:nvPr/>
          </p:nvSpPr>
          <p:spPr>
            <a:xfrm>
              <a:off x="2628000" y="101772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533680" y="1285920"/>
              <a:ext cx="282600" cy="457200"/>
            </a:xfrm>
            <a:custGeom>
              <a:avLst/>
              <a:gdLst/>
              <a:ahLst/>
              <a:rect l="l" t="t" r="r" b="b"/>
              <a:pathLst>
                <a:path w="178" h="288">
                  <a:moveTo>
                    <a:pt x="168" y="0"/>
                  </a:moveTo>
                  <a:cubicBezTo>
                    <a:pt x="173" y="93"/>
                    <a:pt x="178" y="186"/>
                    <a:pt x="150" y="234"/>
                  </a:cubicBezTo>
                  <a:cubicBezTo>
                    <a:pt x="122" y="282"/>
                    <a:pt x="61" y="285"/>
                    <a:pt x="0" y="288"/>
                  </a:cubicBez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800440" y="2674800"/>
            <a:ext cx="425880" cy="725400"/>
            <a:chOff x="2800440" y="2674800"/>
            <a:chExt cx="425880" cy="725400"/>
          </a:xfrm>
        </p:grpSpPr>
        <p:sp>
          <p:nvSpPr>
            <p:cNvPr id="213" name=""/>
            <p:cNvSpPr/>
            <p:nvPr/>
          </p:nvSpPr>
          <p:spPr>
            <a:xfrm>
              <a:off x="2894760" y="267480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00440" y="2943000"/>
              <a:ext cx="282600" cy="457200"/>
            </a:xfrm>
            <a:custGeom>
              <a:avLst/>
              <a:gdLst/>
              <a:ahLst/>
              <a:rect l="l" t="t" r="r" b="b"/>
              <a:pathLst>
                <a:path w="178" h="288">
                  <a:moveTo>
                    <a:pt x="168" y="0"/>
                  </a:moveTo>
                  <a:cubicBezTo>
                    <a:pt x="173" y="93"/>
                    <a:pt x="178" y="186"/>
                    <a:pt x="150" y="234"/>
                  </a:cubicBezTo>
                  <a:cubicBezTo>
                    <a:pt x="122" y="282"/>
                    <a:pt x="61" y="285"/>
                    <a:pt x="0" y="288"/>
                  </a:cubicBez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1941480" y="5106600"/>
            <a:ext cx="4477680" cy="1324440"/>
            <a:chOff x="1941480" y="5106600"/>
            <a:chExt cx="4477680" cy="1324440"/>
          </a:xfrm>
        </p:grpSpPr>
        <p:grpSp>
          <p:nvGrpSpPr>
            <p:cNvPr id="216" name=""/>
            <p:cNvGrpSpPr/>
            <p:nvPr/>
          </p:nvGrpSpPr>
          <p:grpSpPr>
            <a:xfrm>
              <a:off x="5423040" y="6305040"/>
              <a:ext cx="144360" cy="126000"/>
              <a:chOff x="5423040" y="6305040"/>
              <a:chExt cx="144360" cy="126000"/>
            </a:xfrm>
          </p:grpSpPr>
          <p:sp>
            <p:nvSpPr>
              <p:cNvPr id="217" name=""/>
              <p:cNvSpPr/>
              <p:nvPr/>
            </p:nvSpPr>
            <p:spPr>
              <a:xfrm>
                <a:off x="5423040" y="6431040"/>
                <a:ext cx="14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V="1">
                <a:off x="5495400" y="6305040"/>
                <a:ext cx="0" cy="12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9" name=""/>
            <p:cNvSpPr/>
            <p:nvPr/>
          </p:nvSpPr>
          <p:spPr>
            <a:xfrm>
              <a:off x="4238640" y="5411880"/>
              <a:ext cx="293760" cy="22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89400" y="544212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13960" y="55148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494160" y="5983200"/>
              <a:ext cx="293760" cy="21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546360" y="600876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669480" y="60818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184640" y="5946840"/>
              <a:ext cx="293760" cy="220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238640" y="597528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365000" y="60483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521160" y="5369040"/>
              <a:ext cx="291960" cy="22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570120" y="539424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95040" y="54673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3741480" y="5935680"/>
              <a:ext cx="122040" cy="101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741840" y="5935680"/>
              <a:ext cx="1440" cy="90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51200" y="5932440"/>
              <a:ext cx="10332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3677760" y="5884920"/>
              <a:ext cx="117720" cy="104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 flipV="1">
              <a:off x="3561840" y="5775120"/>
              <a:ext cx="179640" cy="16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 flipV="1">
              <a:off x="3795480" y="5983200"/>
              <a:ext cx="183960" cy="16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4160520" y="5572080"/>
              <a:ext cx="119160" cy="101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160880" y="5572080"/>
              <a:ext cx="1440" cy="90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167360" y="5568840"/>
              <a:ext cx="10620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4096800" y="5521320"/>
              <a:ext cx="117720" cy="106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 flipV="1">
              <a:off x="3979440" y="5411520"/>
              <a:ext cx="181080" cy="16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 flipV="1">
              <a:off x="4214520" y="5619240"/>
              <a:ext cx="18252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4160520" y="5890680"/>
              <a:ext cx="119160" cy="103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4160880" y="5903640"/>
              <a:ext cx="1440" cy="90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67360" y="5997600"/>
              <a:ext cx="106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 flipV="1">
              <a:off x="4096800" y="5938560"/>
              <a:ext cx="117720" cy="106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3979440" y="5994360"/>
              <a:ext cx="18108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4214520" y="5791320"/>
              <a:ext cx="18252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 flipV="1">
              <a:off x="3741480" y="5538960"/>
              <a:ext cx="122040" cy="102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3741840" y="5549760"/>
              <a:ext cx="1440" cy="921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751200" y="5645160"/>
              <a:ext cx="103320" cy="3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 flipV="1">
              <a:off x="3677760" y="5591160"/>
              <a:ext cx="117720" cy="101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3561840" y="5641920"/>
              <a:ext cx="17964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3795480" y="5437080"/>
              <a:ext cx="183960" cy="16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987720" y="6138720"/>
              <a:ext cx="468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987720" y="5289480"/>
              <a:ext cx="468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4376880" y="5792760"/>
              <a:ext cx="171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3381480" y="5792760"/>
              <a:ext cx="171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625840" y="5856120"/>
              <a:ext cx="252360" cy="1159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625840" y="5743440"/>
              <a:ext cx="252360" cy="1159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625840" y="5627520"/>
              <a:ext cx="252360" cy="1191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743200" y="5605560"/>
              <a:ext cx="154080" cy="3920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2727360" y="5964120"/>
              <a:ext cx="324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 flipV="1">
              <a:off x="2727000" y="5289480"/>
              <a:ext cx="324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2722320" y="5289480"/>
              <a:ext cx="1269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3403440" y="5106600"/>
              <a:ext cx="18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2722320" y="6288120"/>
              <a:ext cx="1269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997600" y="5594400"/>
              <a:ext cx="142920" cy="323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064200" y="5300640"/>
              <a:ext cx="46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064200" y="5910120"/>
              <a:ext cx="4680" cy="37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252840" y="569268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360480" y="57643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861080" y="5118120"/>
              <a:ext cx="1440" cy="17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3403080" y="5118120"/>
              <a:ext cx="145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4552920" y="5792760"/>
              <a:ext cx="1440" cy="49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4552560" y="6288120"/>
              <a:ext cx="1515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4852800" y="5300640"/>
              <a:ext cx="1199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5450040" y="5427720"/>
              <a:ext cx="88920" cy="716040"/>
              <a:chOff x="5450040" y="5427720"/>
              <a:chExt cx="88920" cy="716040"/>
            </a:xfrm>
          </p:grpSpPr>
          <p:sp>
            <p:nvSpPr>
              <p:cNvPr id="279" name=""/>
              <p:cNvSpPr/>
              <p:nvPr/>
            </p:nvSpPr>
            <p:spPr>
              <a:xfrm>
                <a:off x="5492160" y="5427720"/>
                <a:ext cx="1080" cy="716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450040" y="5427720"/>
                <a:ext cx="88920" cy="75960"/>
              </a:xfrm>
              <a:custGeom>
                <a:avLst/>
                <a:gdLst/>
                <a:ahLst/>
                <a:rect l="l" t="t" r="r" b="b"/>
                <a:pathLst>
                  <a:path w="59" h="58">
                    <a:moveTo>
                      <a:pt x="59" y="58"/>
                    </a:moveTo>
                    <a:lnTo>
                      <a:pt x="28" y="0"/>
                    </a:lnTo>
                    <a:lnTo>
                      <a:pt x="0" y="5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1" name=""/>
            <p:cNvSpPr/>
            <p:nvPr/>
          </p:nvSpPr>
          <p:spPr>
            <a:xfrm>
              <a:off x="5472000" y="6265800"/>
              <a:ext cx="58680" cy="4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446800" y="5278320"/>
              <a:ext cx="57240" cy="44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351320" y="5764320"/>
              <a:ext cx="5400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565440" y="5772240"/>
              <a:ext cx="5868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962520" y="6113520"/>
              <a:ext cx="58680" cy="44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962520" y="5411880"/>
              <a:ext cx="5868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79520" y="5627520"/>
              <a:ext cx="250920" cy="1159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79520" y="5740560"/>
              <a:ext cx="250920" cy="1155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279520" y="5853240"/>
              <a:ext cx="250920" cy="1188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259000" y="5605560"/>
              <a:ext cx="154080" cy="3888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421000" y="5500800"/>
              <a:ext cx="1440" cy="12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421000" y="5979960"/>
              <a:ext cx="1440" cy="12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567160" y="5619600"/>
              <a:ext cx="1440" cy="3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095560" y="5502240"/>
              <a:ext cx="33012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108160" y="6107040"/>
              <a:ext cx="33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054160" y="6083280"/>
              <a:ext cx="54000" cy="46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054160" y="5481720"/>
              <a:ext cx="54000" cy="4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941480" y="5699160"/>
              <a:ext cx="29196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028600" y="5726160"/>
              <a:ext cx="118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2784600" y="5608800"/>
              <a:ext cx="88920" cy="407880"/>
              <a:chOff x="2784600" y="5608800"/>
              <a:chExt cx="88920" cy="407880"/>
            </a:xfrm>
          </p:grpSpPr>
          <p:sp>
            <p:nvSpPr>
              <p:cNvPr id="301" name=""/>
              <p:cNvSpPr/>
              <p:nvPr/>
            </p:nvSpPr>
            <p:spPr>
              <a:xfrm>
                <a:off x="2826360" y="5608800"/>
                <a:ext cx="4320" cy="407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784600" y="5608800"/>
                <a:ext cx="88920" cy="75960"/>
              </a:xfrm>
              <a:custGeom>
                <a:avLst/>
                <a:gdLst/>
                <a:ahLst/>
                <a:rect l="l" t="t" r="r" b="b"/>
                <a:pathLst>
                  <a:path w="59" h="58">
                    <a:moveTo>
                      <a:pt x="59" y="58"/>
                    </a:moveTo>
                    <a:lnTo>
                      <a:pt x="28" y="0"/>
                    </a:lnTo>
                    <a:lnTo>
                      <a:pt x="0" y="5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>
              <a:off x="2868480" y="5673600"/>
              <a:ext cx="279360" cy="244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935080" y="5703840"/>
              <a:ext cx="84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013920" y="57754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541840" y="5662440"/>
              <a:ext cx="293760" cy="23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595840" y="568800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722200" y="57610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288800" y="304920"/>
            <a:ext cx="62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514600" y="1160640"/>
            <a:ext cx="3088800" cy="946800"/>
            <a:chOff x="2514600" y="1160640"/>
            <a:chExt cx="3088800" cy="946800"/>
          </a:xfrm>
        </p:grpSpPr>
        <p:sp>
          <p:nvSpPr>
            <p:cNvPr id="311" name=""/>
            <p:cNvSpPr/>
            <p:nvPr/>
          </p:nvSpPr>
          <p:spPr>
            <a:xfrm>
              <a:off x="4608000" y="1505880"/>
              <a:ext cx="351360" cy="314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685760" y="15408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819320" y="1639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086080" y="1443240"/>
              <a:ext cx="148320" cy="439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155920" y="1275480"/>
              <a:ext cx="2160" cy="18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155920" y="1877040"/>
              <a:ext cx="2160" cy="213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282640" y="1537560"/>
              <a:ext cx="320760" cy="314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52480" y="15757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468040" y="1674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3311280" y="1257840"/>
              <a:ext cx="290160" cy="816840"/>
              <a:chOff x="3311280" y="1257840"/>
              <a:chExt cx="290160" cy="816840"/>
            </a:xfrm>
          </p:grpSpPr>
          <p:sp>
            <p:nvSpPr>
              <p:cNvPr id="321" name=""/>
              <p:cNvSpPr/>
              <p:nvPr/>
            </p:nvSpPr>
            <p:spPr>
              <a:xfrm>
                <a:off x="3311280" y="1428840"/>
                <a:ext cx="267840" cy="157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311280" y="1578960"/>
                <a:ext cx="267840" cy="156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311280" y="1732680"/>
                <a:ext cx="267840" cy="160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33320" y="1401120"/>
                <a:ext cx="168120" cy="523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420000" y="1257840"/>
                <a:ext cx="4320" cy="174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420000" y="1903680"/>
                <a:ext cx="4320" cy="171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7" name=""/>
            <p:cNvSpPr/>
            <p:nvPr/>
          </p:nvSpPr>
          <p:spPr>
            <a:xfrm>
              <a:off x="3254400" y="1450440"/>
              <a:ext cx="2160" cy="429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416400" y="2075760"/>
              <a:ext cx="1752840" cy="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9" name=""/>
            <p:cNvGrpSpPr/>
            <p:nvPr/>
          </p:nvGrpSpPr>
          <p:grpSpPr>
            <a:xfrm>
              <a:off x="3679920" y="1160640"/>
              <a:ext cx="124200" cy="229680"/>
              <a:chOff x="3679920" y="1160640"/>
              <a:chExt cx="124200" cy="229680"/>
            </a:xfrm>
          </p:grpSpPr>
          <p:sp>
            <p:nvSpPr>
              <p:cNvPr id="330" name=""/>
              <p:cNvSpPr/>
              <p:nvPr/>
            </p:nvSpPr>
            <p:spPr>
              <a:xfrm>
                <a:off x="3693600" y="1160640"/>
                <a:ext cx="1800" cy="19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706200" y="1173960"/>
                <a:ext cx="82800" cy="9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3679920" y="1260720"/>
                <a:ext cx="109080" cy="12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801960" y="1173960"/>
                <a:ext cx="2160" cy="195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4" name=""/>
            <p:cNvSpPr/>
            <p:nvPr/>
          </p:nvSpPr>
          <p:spPr>
            <a:xfrm>
              <a:off x="3429360" y="1261080"/>
              <a:ext cx="277200" cy="6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802680" y="1261080"/>
              <a:ext cx="231480" cy="6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020840" y="1261080"/>
              <a:ext cx="1148400" cy="6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7" name=""/>
            <p:cNvGrpSpPr/>
            <p:nvPr/>
          </p:nvGrpSpPr>
          <p:grpSpPr>
            <a:xfrm>
              <a:off x="4608000" y="1383840"/>
              <a:ext cx="91440" cy="568800"/>
              <a:chOff x="4608000" y="1383840"/>
              <a:chExt cx="91440" cy="568800"/>
            </a:xfrm>
          </p:grpSpPr>
          <p:sp>
            <p:nvSpPr>
              <p:cNvPr id="338" name=""/>
              <p:cNvSpPr/>
              <p:nvPr/>
            </p:nvSpPr>
            <p:spPr>
              <a:xfrm>
                <a:off x="4651560" y="1383840"/>
                <a:ext cx="1800" cy="568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608000" y="1383840"/>
                <a:ext cx="91440" cy="10440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42" y="30"/>
                    </a:moveTo>
                    <a:lnTo>
                      <a:pt x="20" y="0"/>
                    </a:lnTo>
                    <a:lnTo>
                      <a:pt x="0" y="3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>
              <a:off x="4617000" y="1233360"/>
              <a:ext cx="60840" cy="59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617000" y="2048040"/>
              <a:ext cx="60840" cy="59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2905560" y="1257840"/>
              <a:ext cx="282960" cy="816840"/>
              <a:chOff x="2905560" y="1257840"/>
              <a:chExt cx="282960" cy="816840"/>
            </a:xfrm>
          </p:grpSpPr>
          <p:sp>
            <p:nvSpPr>
              <p:cNvPr id="343" name=""/>
              <p:cNvSpPr/>
              <p:nvPr/>
            </p:nvSpPr>
            <p:spPr>
              <a:xfrm>
                <a:off x="2922840" y="1428840"/>
                <a:ext cx="265680" cy="157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922840" y="1578960"/>
                <a:ext cx="265680" cy="156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922840" y="1732680"/>
                <a:ext cx="265680" cy="160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905560" y="1401120"/>
                <a:ext cx="160920" cy="523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075480" y="1257840"/>
                <a:ext cx="1800" cy="174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075480" y="1903680"/>
                <a:ext cx="1800" cy="171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2802960" y="1261080"/>
              <a:ext cx="272520" cy="6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815920" y="2075760"/>
              <a:ext cx="259560" cy="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755080" y="2048040"/>
              <a:ext cx="60840" cy="59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755080" y="1233360"/>
              <a:ext cx="60840" cy="59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514600" y="1450440"/>
              <a:ext cx="443520" cy="4784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671920" y="1481400"/>
              <a:ext cx="83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3911760" y="1597320"/>
              <a:ext cx="2592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3911760" y="1704960"/>
              <a:ext cx="259200" cy="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4038120" y="1261080"/>
              <a:ext cx="4320" cy="346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042440" y="1719360"/>
              <a:ext cx="4320" cy="356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219200" y="1503000"/>
              <a:ext cx="318600" cy="314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315320" y="15408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012560" y="2048040"/>
              <a:ext cx="60840" cy="594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012560" y="1233360"/>
              <a:ext cx="60840" cy="594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2514600" y="2394000"/>
            <a:ext cx="3018600" cy="2043720"/>
            <a:chOff x="2514600" y="2394000"/>
            <a:chExt cx="3018600" cy="2043720"/>
          </a:xfrm>
        </p:grpSpPr>
        <p:sp>
          <p:nvSpPr>
            <p:cNvPr id="364" name=""/>
            <p:cNvSpPr/>
            <p:nvPr/>
          </p:nvSpPr>
          <p:spPr>
            <a:xfrm>
              <a:off x="4791240" y="3201120"/>
              <a:ext cx="209160" cy="3067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816440" y="32284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924080" y="33051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2836080" y="3041640"/>
              <a:ext cx="235800" cy="638640"/>
              <a:chOff x="2836080" y="3041640"/>
              <a:chExt cx="235800" cy="638640"/>
            </a:xfrm>
          </p:grpSpPr>
          <p:sp>
            <p:nvSpPr>
              <p:cNvPr id="368" name=""/>
              <p:cNvSpPr/>
              <p:nvPr/>
            </p:nvSpPr>
            <p:spPr>
              <a:xfrm>
                <a:off x="2854080" y="3172680"/>
                <a:ext cx="217800" cy="126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854080" y="3290760"/>
                <a:ext cx="217800" cy="128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854080" y="3413880"/>
                <a:ext cx="217800" cy="1234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836080" y="3148560"/>
                <a:ext cx="133200" cy="414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976840" y="3041640"/>
                <a:ext cx="1440" cy="134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976840" y="3546000"/>
                <a:ext cx="1440" cy="134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4" name=""/>
            <p:cNvSpPr/>
            <p:nvPr/>
          </p:nvSpPr>
          <p:spPr>
            <a:xfrm>
              <a:off x="3246120" y="3346200"/>
              <a:ext cx="50400" cy="4644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05520" y="3126240"/>
              <a:ext cx="124920" cy="345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167080" y="2745360"/>
              <a:ext cx="1800" cy="392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167080" y="3466800"/>
              <a:ext cx="1800" cy="554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270040" y="3201120"/>
              <a:ext cx="263160" cy="243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331240" y="323100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424840" y="33080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1" name=""/>
            <p:cNvGrpSpPr/>
            <p:nvPr/>
          </p:nvGrpSpPr>
          <p:grpSpPr>
            <a:xfrm>
              <a:off x="3177360" y="2726280"/>
              <a:ext cx="234000" cy="641520"/>
              <a:chOff x="3177360" y="2726280"/>
              <a:chExt cx="234000" cy="641520"/>
            </a:xfrm>
          </p:grpSpPr>
          <p:sp>
            <p:nvSpPr>
              <p:cNvPr id="382" name=""/>
              <p:cNvSpPr/>
              <p:nvPr/>
            </p:nvSpPr>
            <p:spPr>
              <a:xfrm>
                <a:off x="3177360" y="3115440"/>
                <a:ext cx="216360" cy="126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177360" y="2994840"/>
                <a:ext cx="216360" cy="123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177360" y="2876760"/>
                <a:ext cx="216360" cy="1234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278160" y="2849400"/>
                <a:ext cx="133200" cy="4165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V="1">
                <a:off x="3267720" y="3233160"/>
                <a:ext cx="1440" cy="134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V="1">
                <a:off x="3267720" y="2726280"/>
                <a:ext cx="1440" cy="139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3177360" y="3364920"/>
              <a:ext cx="234000" cy="642240"/>
              <a:chOff x="3177360" y="3364920"/>
              <a:chExt cx="234000" cy="642240"/>
            </a:xfrm>
          </p:grpSpPr>
          <p:sp>
            <p:nvSpPr>
              <p:cNvPr id="389" name=""/>
              <p:cNvSpPr/>
              <p:nvPr/>
            </p:nvSpPr>
            <p:spPr>
              <a:xfrm>
                <a:off x="3177360" y="3754440"/>
                <a:ext cx="216360" cy="1234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177360" y="3633840"/>
                <a:ext cx="216360" cy="1234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177360" y="3510720"/>
                <a:ext cx="216360" cy="128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278160" y="3488760"/>
                <a:ext cx="133200" cy="411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V="1">
                <a:off x="3267720" y="3870360"/>
                <a:ext cx="1440" cy="136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V="1">
                <a:off x="3267720" y="3364920"/>
                <a:ext cx="1440" cy="134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5" name=""/>
            <p:cNvSpPr/>
            <p:nvPr/>
          </p:nvSpPr>
          <p:spPr>
            <a:xfrm>
              <a:off x="2752920" y="3047400"/>
              <a:ext cx="22716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763720" y="3681000"/>
              <a:ext cx="227520" cy="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713320" y="3659040"/>
              <a:ext cx="50400" cy="464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713320" y="3022560"/>
              <a:ext cx="50400" cy="464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514600" y="3186720"/>
              <a:ext cx="368280" cy="3787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647080" y="3214800"/>
              <a:ext cx="83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053960" y="4021200"/>
              <a:ext cx="111276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3126600" y="2896200"/>
              <a:ext cx="6840" cy="95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3274920" y="2660040"/>
              <a:ext cx="496080" cy="180000"/>
              <a:chOff x="3274920" y="2660040"/>
              <a:chExt cx="496080" cy="180000"/>
            </a:xfrm>
          </p:grpSpPr>
          <p:grpSp>
            <p:nvGrpSpPr>
              <p:cNvPr id="404" name=""/>
              <p:cNvGrpSpPr/>
              <p:nvPr/>
            </p:nvGrpSpPr>
            <p:grpSpPr>
              <a:xfrm>
                <a:off x="3476520" y="2660040"/>
                <a:ext cx="104760" cy="180000"/>
                <a:chOff x="3476520" y="2660040"/>
                <a:chExt cx="104760" cy="180000"/>
              </a:xfrm>
            </p:grpSpPr>
            <p:sp>
              <p:nvSpPr>
                <p:cNvPr id="405" name=""/>
                <p:cNvSpPr/>
                <p:nvPr/>
              </p:nvSpPr>
              <p:spPr>
                <a:xfrm>
                  <a:off x="3487680" y="2660040"/>
                  <a:ext cx="1440" cy="158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3498480" y="2670480"/>
                  <a:ext cx="68400" cy="74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flipH="1">
                  <a:off x="3476520" y="2744640"/>
                  <a:ext cx="90360" cy="95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3579480" y="2670480"/>
                  <a:ext cx="1800" cy="158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9" name=""/>
              <p:cNvSpPr/>
              <p:nvPr/>
            </p:nvSpPr>
            <p:spPr>
              <a:xfrm>
                <a:off x="3274920" y="2745000"/>
                <a:ext cx="223920" cy="2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0" name=""/>
              <p:cNvGrpSpPr/>
              <p:nvPr/>
            </p:nvGrpSpPr>
            <p:grpSpPr>
              <a:xfrm>
                <a:off x="3579840" y="2706480"/>
                <a:ext cx="191160" cy="81360"/>
                <a:chOff x="3579840" y="2706480"/>
                <a:chExt cx="191160" cy="81360"/>
              </a:xfrm>
            </p:grpSpPr>
            <p:sp>
              <p:nvSpPr>
                <p:cNvPr id="411" name=""/>
                <p:cNvSpPr/>
                <p:nvPr/>
              </p:nvSpPr>
              <p:spPr>
                <a:xfrm>
                  <a:off x="3579840" y="2744640"/>
                  <a:ext cx="191160" cy="21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3695400" y="2706480"/>
                  <a:ext cx="75600" cy="81360"/>
                </a:xfrm>
                <a:custGeom>
                  <a:avLst/>
                  <a:gdLst/>
                  <a:ahLst/>
                  <a:rect l="l" t="t" r="r" b="b"/>
                  <a:pathLst>
                    <a:path w="42" h="30">
                      <a:moveTo>
                        <a:pt x="0" y="30"/>
                      </a:moveTo>
                      <a:lnTo>
                        <a:pt x="42" y="1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3" name=""/>
            <p:cNvGrpSpPr/>
            <p:nvPr/>
          </p:nvGrpSpPr>
          <p:grpSpPr>
            <a:xfrm>
              <a:off x="3264480" y="3936240"/>
              <a:ext cx="495720" cy="180000"/>
              <a:chOff x="3264480" y="3936240"/>
              <a:chExt cx="495720" cy="180000"/>
            </a:xfrm>
          </p:grpSpPr>
          <p:grpSp>
            <p:nvGrpSpPr>
              <p:cNvPr id="414" name=""/>
              <p:cNvGrpSpPr/>
              <p:nvPr/>
            </p:nvGrpSpPr>
            <p:grpSpPr>
              <a:xfrm>
                <a:off x="3466440" y="3936240"/>
                <a:ext cx="102600" cy="180000"/>
                <a:chOff x="3466440" y="3936240"/>
                <a:chExt cx="102600" cy="18000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3477240" y="3936240"/>
                  <a:ext cx="1800" cy="156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3488400" y="3947400"/>
                  <a:ext cx="68040" cy="73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 flipH="1">
                  <a:off x="3466440" y="4020840"/>
                  <a:ext cx="89640" cy="95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3567600" y="3947400"/>
                  <a:ext cx="1440" cy="155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9" name=""/>
              <p:cNvSpPr/>
              <p:nvPr/>
            </p:nvSpPr>
            <p:spPr>
              <a:xfrm>
                <a:off x="3264480" y="4021200"/>
                <a:ext cx="223920" cy="2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0" name=""/>
              <p:cNvGrpSpPr/>
              <p:nvPr/>
            </p:nvGrpSpPr>
            <p:grpSpPr>
              <a:xfrm>
                <a:off x="3567960" y="3982680"/>
                <a:ext cx="192240" cy="78840"/>
                <a:chOff x="3567960" y="3982680"/>
                <a:chExt cx="192240" cy="7884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3567960" y="4020840"/>
                  <a:ext cx="192240" cy="21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3684600" y="3982680"/>
                  <a:ext cx="75600" cy="78840"/>
                </a:xfrm>
                <a:custGeom>
                  <a:avLst/>
                  <a:gdLst/>
                  <a:ahLst/>
                  <a:rect l="l" t="t" r="r" b="b"/>
                  <a:pathLst>
                    <a:path w="42" h="29">
                      <a:moveTo>
                        <a:pt x="0" y="29"/>
                      </a:moveTo>
                      <a:lnTo>
                        <a:pt x="42" y="1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3" name=""/>
            <p:cNvSpPr/>
            <p:nvPr/>
          </p:nvSpPr>
          <p:spPr>
            <a:xfrm>
              <a:off x="3750480" y="4021200"/>
              <a:ext cx="13716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3884040" y="2745360"/>
              <a:ext cx="3600" cy="1275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793680" y="2745360"/>
              <a:ext cx="27432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274920" y="3368520"/>
              <a:ext cx="79308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4053960" y="3368160"/>
              <a:ext cx="1440" cy="652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053960" y="2745360"/>
              <a:ext cx="111276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9" name=""/>
            <p:cNvGrpSpPr/>
            <p:nvPr/>
          </p:nvGrpSpPr>
          <p:grpSpPr>
            <a:xfrm>
              <a:off x="3292920" y="2866320"/>
              <a:ext cx="75600" cy="372240"/>
              <a:chOff x="3292920" y="2866320"/>
              <a:chExt cx="75600" cy="372240"/>
            </a:xfrm>
          </p:grpSpPr>
          <p:sp>
            <p:nvSpPr>
              <p:cNvPr id="430" name=""/>
              <p:cNvSpPr/>
              <p:nvPr/>
            </p:nvSpPr>
            <p:spPr>
              <a:xfrm flipV="1">
                <a:off x="3328920" y="2866320"/>
                <a:ext cx="1440" cy="37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292920" y="2866320"/>
                <a:ext cx="75600" cy="78840"/>
              </a:xfrm>
              <a:custGeom>
                <a:avLst/>
                <a:gdLst/>
                <a:ahLst/>
                <a:rect l="l" t="t" r="r" b="b"/>
                <a:pathLst>
                  <a:path w="42" h="29">
                    <a:moveTo>
                      <a:pt x="42" y="29"/>
                    </a:moveTo>
                    <a:lnTo>
                      <a:pt x="20" y="0"/>
                    </a:lnTo>
                    <a:lnTo>
                      <a:pt x="0" y="29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2" name=""/>
            <p:cNvGrpSpPr/>
            <p:nvPr/>
          </p:nvGrpSpPr>
          <p:grpSpPr>
            <a:xfrm>
              <a:off x="3282480" y="3505320"/>
              <a:ext cx="75240" cy="372960"/>
              <a:chOff x="3282480" y="3505320"/>
              <a:chExt cx="75240" cy="372960"/>
            </a:xfrm>
          </p:grpSpPr>
          <p:sp>
            <p:nvSpPr>
              <p:cNvPr id="433" name=""/>
              <p:cNvSpPr/>
              <p:nvPr/>
            </p:nvSpPr>
            <p:spPr>
              <a:xfrm flipV="1">
                <a:off x="3318120" y="3505320"/>
                <a:ext cx="1440" cy="37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282480" y="3505320"/>
                <a:ext cx="75240" cy="79560"/>
              </a:xfrm>
              <a:custGeom>
                <a:avLst/>
                <a:gdLst/>
                <a:ahLst/>
                <a:rect l="l" t="t" r="r" b="b"/>
                <a:pathLst>
                  <a:path w="42" h="29">
                    <a:moveTo>
                      <a:pt x="42" y="29"/>
                    </a:moveTo>
                    <a:lnTo>
                      <a:pt x="20" y="0"/>
                    </a:lnTo>
                    <a:lnTo>
                      <a:pt x="0" y="29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5" name=""/>
            <p:cNvSpPr/>
            <p:nvPr/>
          </p:nvSpPr>
          <p:spPr>
            <a:xfrm>
              <a:off x="3365640" y="2937240"/>
              <a:ext cx="194760" cy="2444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408480" y="2962080"/>
              <a:ext cx="67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466080" y="30225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365640" y="3573720"/>
              <a:ext cx="194760" cy="246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408480" y="3601080"/>
              <a:ext cx="67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466080" y="36615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430440" y="2394000"/>
              <a:ext cx="232920" cy="246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466800" y="24213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576240" y="2498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398040" y="4150080"/>
              <a:ext cx="232920" cy="246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430440" y="41774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538080" y="42548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7" name=""/>
            <p:cNvGrpSpPr/>
            <p:nvPr/>
          </p:nvGrpSpPr>
          <p:grpSpPr>
            <a:xfrm>
              <a:off x="4733280" y="2876400"/>
              <a:ext cx="75240" cy="984600"/>
              <a:chOff x="4733280" y="2876400"/>
              <a:chExt cx="75240" cy="984600"/>
            </a:xfrm>
          </p:grpSpPr>
          <p:sp>
            <p:nvSpPr>
              <p:cNvPr id="448" name=""/>
              <p:cNvSpPr/>
              <p:nvPr/>
            </p:nvSpPr>
            <p:spPr>
              <a:xfrm flipV="1">
                <a:off x="4768920" y="2876400"/>
                <a:ext cx="1440" cy="98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733280" y="2876760"/>
                <a:ext cx="75240" cy="79560"/>
              </a:xfrm>
              <a:custGeom>
                <a:avLst/>
                <a:gdLst/>
                <a:ahLst/>
                <a:rect l="l" t="t" r="r" b="b"/>
                <a:pathLst>
                  <a:path w="42" h="29">
                    <a:moveTo>
                      <a:pt x="42" y="29"/>
                    </a:moveTo>
                    <a:lnTo>
                      <a:pt x="20" y="0"/>
                    </a:lnTo>
                    <a:lnTo>
                      <a:pt x="0" y="29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0" name=""/>
            <p:cNvSpPr/>
            <p:nvPr/>
          </p:nvSpPr>
          <p:spPr>
            <a:xfrm>
              <a:off x="3659760" y="2467800"/>
              <a:ext cx="263880" cy="2307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717720" y="24951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760560" y="2572560"/>
              <a:ext cx="15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670920" y="4065480"/>
              <a:ext cx="263880" cy="2358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728520" y="40928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771360" y="4169520"/>
              <a:ext cx="15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740480" y="3996360"/>
              <a:ext cx="50760" cy="464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729680" y="2717640"/>
              <a:ext cx="50760" cy="522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858840" y="2717640"/>
              <a:ext cx="46440" cy="522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4225680" y="3291480"/>
              <a:ext cx="21672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4225680" y="3376440"/>
              <a:ext cx="21672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326840" y="2745360"/>
              <a:ext cx="6840" cy="553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333680" y="3387240"/>
              <a:ext cx="1800" cy="639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424400" y="3433680"/>
              <a:ext cx="265320" cy="246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503240" y="34668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312080" y="3996360"/>
              <a:ext cx="46800" cy="4644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301640" y="2717640"/>
              <a:ext cx="46800" cy="522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2514600" y="4684320"/>
            <a:ext cx="3999240" cy="1582920"/>
            <a:chOff x="2514600" y="4684320"/>
            <a:chExt cx="3999240" cy="1582920"/>
          </a:xfrm>
        </p:grpSpPr>
        <p:grpSp>
          <p:nvGrpSpPr>
            <p:cNvPr id="468" name=""/>
            <p:cNvGrpSpPr/>
            <p:nvPr/>
          </p:nvGrpSpPr>
          <p:grpSpPr>
            <a:xfrm>
              <a:off x="5605560" y="6118200"/>
              <a:ext cx="128520" cy="149040"/>
              <a:chOff x="5605560" y="6118200"/>
              <a:chExt cx="128520" cy="149040"/>
            </a:xfrm>
          </p:grpSpPr>
          <p:sp>
            <p:nvSpPr>
              <p:cNvPr id="469" name=""/>
              <p:cNvSpPr/>
              <p:nvPr/>
            </p:nvSpPr>
            <p:spPr>
              <a:xfrm>
                <a:off x="5605560" y="6267240"/>
                <a:ext cx="128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5670000" y="6118200"/>
                <a:ext cx="0" cy="14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1" name=""/>
            <p:cNvSpPr/>
            <p:nvPr/>
          </p:nvSpPr>
          <p:spPr>
            <a:xfrm>
              <a:off x="4554360" y="5049720"/>
              <a:ext cx="260640" cy="264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597200" y="50846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709880" y="51735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892680" y="5732280"/>
              <a:ext cx="261720" cy="260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36600" y="57610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049280" y="5850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506840" y="5688000"/>
              <a:ext cx="260280" cy="264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552560" y="57229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665240" y="58118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917880" y="4997520"/>
              <a:ext cx="258840" cy="266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960360" y="50274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071600" y="51148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4113000" y="5675040"/>
              <a:ext cx="107640" cy="122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113360" y="5675040"/>
              <a:ext cx="1440" cy="108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121280" y="5672160"/>
              <a:ext cx="918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4055760" y="5614920"/>
              <a:ext cx="104760" cy="125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 flipV="1">
              <a:off x="3954240" y="5482800"/>
              <a:ext cx="158760" cy="19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 flipV="1">
              <a:off x="4160880" y="5732280"/>
              <a:ext cx="163440" cy="1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4484520" y="5240160"/>
              <a:ext cx="106560" cy="122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84520" y="5240160"/>
              <a:ext cx="1800" cy="108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491000" y="5236920"/>
              <a:ext cx="9360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4428720" y="5180040"/>
              <a:ext cx="104760" cy="126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 flipV="1">
              <a:off x="4323960" y="5049360"/>
              <a:ext cx="16020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 flipV="1">
              <a:off x="4533840" y="5297040"/>
              <a:ext cx="16200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 flipV="1">
              <a:off x="4484520" y="5622840"/>
              <a:ext cx="106560" cy="122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4484520" y="5637240"/>
              <a:ext cx="1800" cy="108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491000" y="5749920"/>
              <a:ext cx="936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 flipV="1">
              <a:off x="4428720" y="5677920"/>
              <a:ext cx="104760" cy="128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4323960" y="5745240"/>
              <a:ext cx="16020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4533840" y="5502240"/>
              <a:ext cx="162000" cy="18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 flipV="1">
              <a:off x="4113000" y="5200560"/>
              <a:ext cx="107640" cy="123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4113360" y="5214960"/>
              <a:ext cx="1440" cy="109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121280" y="5327640"/>
              <a:ext cx="91800" cy="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 flipV="1">
              <a:off x="4055760" y="5263920"/>
              <a:ext cx="104760" cy="120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>
              <a:off x="3954240" y="5324400"/>
              <a:ext cx="158760" cy="18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4160880" y="5079960"/>
              <a:ext cx="163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332240" y="5918040"/>
              <a:ext cx="324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332240" y="4902120"/>
              <a:ext cx="324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4676400" y="5503680"/>
              <a:ext cx="15228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3792240" y="5503680"/>
              <a:ext cx="15228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122640" y="5580000"/>
              <a:ext cx="223920" cy="139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122640" y="5445000"/>
              <a:ext cx="223920" cy="139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122640" y="5306760"/>
              <a:ext cx="223920" cy="1429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225960" y="5279760"/>
              <a:ext cx="137880" cy="4701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3213000" y="5709960"/>
              <a:ext cx="1800" cy="38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 flipV="1">
              <a:off x="3212640" y="4901760"/>
              <a:ext cx="1800" cy="39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>
              <a:off x="3207960" y="4902120"/>
              <a:ext cx="112716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3813120" y="4684320"/>
              <a:ext cx="1800" cy="81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>
              <a:off x="3207960" y="6095880"/>
              <a:ext cx="112716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116760" y="5267160"/>
              <a:ext cx="126720" cy="387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75440" y="4916520"/>
              <a:ext cx="4680" cy="36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175440" y="5645160"/>
              <a:ext cx="4680" cy="45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340320" y="53848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436800" y="5468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>
              <a:off x="4997520" y="5344920"/>
              <a:ext cx="2160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4997520" y="5441760"/>
              <a:ext cx="21600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>
              <a:off x="5103360" y="4697280"/>
              <a:ext cx="32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103720" y="5452920"/>
              <a:ext cx="3240" cy="64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197320" y="5503680"/>
              <a:ext cx="270000" cy="279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282640" y="5545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>
              <a:off x="3813120" y="4697280"/>
              <a:ext cx="12938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4834080" y="5503320"/>
              <a:ext cx="1440" cy="59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4833720" y="6095880"/>
              <a:ext cx="13460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>
              <a:off x="5098680" y="491652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5" name=""/>
            <p:cNvGrpSpPr/>
            <p:nvPr/>
          </p:nvGrpSpPr>
          <p:grpSpPr>
            <a:xfrm>
              <a:off x="5629320" y="5067360"/>
              <a:ext cx="79200" cy="857160"/>
              <a:chOff x="5629320" y="5067360"/>
              <a:chExt cx="79200" cy="857160"/>
            </a:xfrm>
          </p:grpSpPr>
          <p:sp>
            <p:nvSpPr>
              <p:cNvPr id="536" name=""/>
              <p:cNvSpPr/>
              <p:nvPr/>
            </p:nvSpPr>
            <p:spPr>
              <a:xfrm>
                <a:off x="5666760" y="5067360"/>
                <a:ext cx="1080" cy="85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629320" y="5067360"/>
                <a:ext cx="79200" cy="90720"/>
              </a:xfrm>
              <a:custGeom>
                <a:avLst/>
                <a:gdLst/>
                <a:ahLst/>
                <a:rect l="l" t="t" r="r" b="b"/>
                <a:pathLst>
                  <a:path w="59" h="58">
                    <a:moveTo>
                      <a:pt x="59" y="58"/>
                    </a:moveTo>
                    <a:lnTo>
                      <a:pt x="28" y="0"/>
                    </a:lnTo>
                    <a:lnTo>
                      <a:pt x="0" y="5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8" name=""/>
            <p:cNvSpPr/>
            <p:nvPr/>
          </p:nvSpPr>
          <p:spPr>
            <a:xfrm>
              <a:off x="5649840" y="6070680"/>
              <a:ext cx="52560" cy="50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627520" y="4889520"/>
              <a:ext cx="5112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081760" y="6070680"/>
              <a:ext cx="5220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081760" y="4889520"/>
              <a:ext cx="5220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654440" y="5470560"/>
              <a:ext cx="47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956040" y="5479920"/>
              <a:ext cx="5256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308480" y="5887800"/>
              <a:ext cx="52560" cy="52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308480" y="5049720"/>
              <a:ext cx="52560" cy="55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814480" y="5306760"/>
              <a:ext cx="222480" cy="1382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814480" y="5441760"/>
              <a:ext cx="222480" cy="1382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814480" y="5576760"/>
              <a:ext cx="222480" cy="1429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797200" y="5279760"/>
              <a:ext cx="136440" cy="4654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940120" y="5154480"/>
              <a:ext cx="144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940120" y="5727600"/>
              <a:ext cx="14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070080" y="5297400"/>
              <a:ext cx="1800" cy="47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651040" y="5157720"/>
              <a:ext cx="29376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62200" y="5879880"/>
              <a:ext cx="29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614680" y="5851440"/>
              <a:ext cx="47520" cy="5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614680" y="5132160"/>
              <a:ext cx="47520" cy="50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514600" y="5392800"/>
              <a:ext cx="258840" cy="27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2000" y="5424480"/>
              <a:ext cx="83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9" name=""/>
            <p:cNvGrpSpPr/>
            <p:nvPr/>
          </p:nvGrpSpPr>
          <p:grpSpPr>
            <a:xfrm>
              <a:off x="3263760" y="5284800"/>
              <a:ext cx="77760" cy="487080"/>
              <a:chOff x="3263760" y="5284800"/>
              <a:chExt cx="77760" cy="487080"/>
            </a:xfrm>
          </p:grpSpPr>
          <p:sp>
            <p:nvSpPr>
              <p:cNvPr id="560" name=""/>
              <p:cNvSpPr/>
              <p:nvPr/>
            </p:nvSpPr>
            <p:spPr>
              <a:xfrm>
                <a:off x="3300480" y="5284800"/>
                <a:ext cx="3600" cy="48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3263760" y="5284800"/>
                <a:ext cx="77760" cy="90720"/>
              </a:xfrm>
              <a:custGeom>
                <a:avLst/>
                <a:gdLst/>
                <a:ahLst/>
                <a:rect l="l" t="t" r="r" b="b"/>
                <a:pathLst>
                  <a:path w="59" h="58">
                    <a:moveTo>
                      <a:pt x="59" y="58"/>
                    </a:moveTo>
                    <a:lnTo>
                      <a:pt x="28" y="0"/>
                    </a:lnTo>
                    <a:lnTo>
                      <a:pt x="0" y="5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2" name=""/>
            <p:cNvSpPr/>
            <p:nvPr/>
          </p:nvSpPr>
          <p:spPr>
            <a:xfrm>
              <a:off x="3338640" y="5362560"/>
              <a:ext cx="247680" cy="29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397320" y="5395680"/>
              <a:ext cx="67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466800" y="54831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711760" y="5348160"/>
              <a:ext cx="260280" cy="279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758920" y="53798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873400" y="5467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277920" y="1090440"/>
            <a:ext cx="8456400" cy="5318280"/>
          </a:xfrm>
          <a:prstGeom prst="rect">
            <a:avLst/>
          </a:prstGeom>
          <a:ln w="0">
            <a:noFill/>
          </a:ln>
        </p:spPr>
      </p:pic>
      <p:pic>
        <p:nvPicPr>
          <p:cNvPr id="569" name="" descr=""/>
          <p:cNvPicPr/>
          <p:nvPr/>
        </p:nvPicPr>
        <p:blipFill>
          <a:blip r:embed="rId2"/>
          <a:stretch/>
        </p:blipFill>
        <p:spPr>
          <a:xfrm>
            <a:off x="1614600" y="2847960"/>
            <a:ext cx="2063520" cy="171612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/>
          <p:nvPr/>
        </p:nvSpPr>
        <p:spPr>
          <a:xfrm>
            <a:off x="1613160" y="179280"/>
            <a:ext cx="566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ebiegi w prostowniku jednopołówk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 wejściem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2476440" y="2770200"/>
            <a:ext cx="425880" cy="725400"/>
            <a:chOff x="2476440" y="2770200"/>
            <a:chExt cx="425880" cy="725400"/>
          </a:xfrm>
        </p:grpSpPr>
        <p:sp>
          <p:nvSpPr>
            <p:cNvPr id="572" name=""/>
            <p:cNvSpPr/>
            <p:nvPr/>
          </p:nvSpPr>
          <p:spPr>
            <a:xfrm>
              <a:off x="2570760" y="277020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476440" y="3038400"/>
              <a:ext cx="282600" cy="457200"/>
            </a:xfrm>
            <a:custGeom>
              <a:avLst/>
              <a:gdLst/>
              <a:ahLst/>
              <a:rect l="l" t="t" r="r" b="b"/>
              <a:pathLst>
                <a:path w="178" h="288">
                  <a:moveTo>
                    <a:pt x="168" y="0"/>
                  </a:moveTo>
                  <a:cubicBezTo>
                    <a:pt x="173" y="93"/>
                    <a:pt x="178" y="186"/>
                    <a:pt x="150" y="234"/>
                  </a:cubicBezTo>
                  <a:cubicBezTo>
                    <a:pt x="122" y="282"/>
                    <a:pt x="61" y="285"/>
                    <a:pt x="0" y="288"/>
                  </a:cubicBez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399960" y="1252440"/>
            <a:ext cx="8436240" cy="5305680"/>
          </a:xfrm>
          <a:prstGeom prst="rect">
            <a:avLst/>
          </a:prstGeom>
          <a:ln w="0">
            <a:noFill/>
          </a:ln>
        </p:spPr>
      </p:pic>
      <p:pic>
        <p:nvPicPr>
          <p:cNvPr id="575" name="" descr=""/>
          <p:cNvPicPr/>
          <p:nvPr/>
        </p:nvPicPr>
        <p:blipFill>
          <a:blip r:embed="rId2"/>
          <a:stretch/>
        </p:blipFill>
        <p:spPr>
          <a:xfrm>
            <a:off x="4916520" y="1592280"/>
            <a:ext cx="2800440" cy="2362320"/>
          </a:xfrm>
          <a:prstGeom prst="rect">
            <a:avLst/>
          </a:prstGeom>
          <a:ln w="0">
            <a:noFill/>
          </a:ln>
        </p:spPr>
      </p:pic>
      <p:sp>
        <p:nvSpPr>
          <p:cNvPr id="576" name=""/>
          <p:cNvSpPr/>
          <p:nvPr/>
        </p:nvSpPr>
        <p:spPr>
          <a:xfrm>
            <a:off x="1288800" y="304920"/>
            <a:ext cx="626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ostowniki z filtrem o wejściu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prąd udarowy diody - (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sur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7" name=""/>
              <p:cNvSpPr txBox="1"/>
              <p:nvPr/>
            </p:nvSpPr>
            <p:spPr>
              <a:xfrm>
                <a:off x="3473280" y="1773360"/>
                <a:ext cx="101124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5184720" y="3544920"/>
                <a:ext cx="141300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1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79" name=""/>
          <p:cNvGrpSpPr/>
          <p:nvPr/>
        </p:nvGrpSpPr>
        <p:grpSpPr>
          <a:xfrm>
            <a:off x="6324480" y="1674720"/>
            <a:ext cx="425880" cy="725400"/>
            <a:chOff x="6324480" y="1674720"/>
            <a:chExt cx="425880" cy="725400"/>
          </a:xfrm>
        </p:grpSpPr>
        <p:sp>
          <p:nvSpPr>
            <p:cNvPr id="580" name=""/>
            <p:cNvSpPr/>
            <p:nvPr/>
          </p:nvSpPr>
          <p:spPr>
            <a:xfrm>
              <a:off x="6418800" y="167472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324480" y="1942920"/>
              <a:ext cx="282600" cy="457200"/>
            </a:xfrm>
            <a:custGeom>
              <a:avLst/>
              <a:gdLst/>
              <a:ahLst/>
              <a:rect l="l" t="t" r="r" b="b"/>
              <a:pathLst>
                <a:path w="178" h="288">
                  <a:moveTo>
                    <a:pt x="168" y="0"/>
                  </a:moveTo>
                  <a:cubicBezTo>
                    <a:pt x="173" y="93"/>
                    <a:pt x="178" y="186"/>
                    <a:pt x="150" y="234"/>
                  </a:cubicBezTo>
                  <a:cubicBezTo>
                    <a:pt x="122" y="282"/>
                    <a:pt x="61" y="285"/>
                    <a:pt x="0" y="288"/>
                  </a:cubicBez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7T07:53:30Z</dcterms:created>
  <dc:creator>Agnieszka Kukawczynska</dc:creator>
  <dc:description/>
  <dc:language>en-US</dc:language>
  <cp:lastModifiedBy>MK</cp:lastModifiedBy>
  <dcterms:modified xsi:type="dcterms:W3CDTF">2013-02-21T15:48:31Z</dcterms:modified>
  <cp:revision>61</cp:revision>
  <dc:subject/>
  <dc:title>Bez tytułu slajdu</dc:title>
</cp:coreProperties>
</file>