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10.png" ContentType="image/png"/>
  <Override PartName="/ppt/media/image50.wmf" ContentType="image/x-wmf"/>
  <Override PartName="/ppt/media/image37.wmf" ContentType="image/x-wmf"/>
  <Override PartName="/ppt/media/image49.wmf" ContentType="image/x-wmf"/>
  <Override PartName="/ppt/media/image6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30.wmf" ContentType="image/x-wmf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51.wmf" ContentType="image/x-wmf"/>
  <Override PartName="/ppt/media/image1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B47-C889-4434-951E-54BEC617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79C-4DA9-49AC-8E0D-8EDDF391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621-C790-4BB2-8E42-AAC8338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C17-14C1-4F4B-A3C5-F4CD585C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2EB-7321-426A-A73B-6C521DDA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0C8-0F19-4424-B406-6B9C0DD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C72-4096-4FFA-BD34-6CEB496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7B2-21F6-4786-80CE-0163323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08D-B8AD-4C4E-9238-2AFE22C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CE8-987E-4AB9-A0A5-7FC1754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581-C690-4AF9-BB5A-BE8F5600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51E-7AC7-4BCD-BD56-8ECA2B3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13A-7CD0-41BC-A304-82E3AE383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3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48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1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7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9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4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6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2455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7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2460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2463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6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9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520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9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2550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8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2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593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5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2596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2599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1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3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2604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6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2607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9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2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2623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2636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9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1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2652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5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2656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2661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2666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8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5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6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6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2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5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7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6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0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6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6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7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6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46160" y="22766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owe warunki gen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owa teoria gen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17400" y="26971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7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3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5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8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39560" y="701640"/>
            <a:ext cx="8169120" cy="5397480"/>
            <a:chOff x="439560" y="701640"/>
            <a:chExt cx="8169120" cy="539748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>
              <a:off x="439560" y="9604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334120" y="14414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76600" y="30528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16520" y="38815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44880" y="45990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>
              <a:off x="1228320" y="7016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8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121932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849240" y="260496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50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wykorzystywane tylko jedno ma s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2599200" y="4344840"/>
            <a:ext cx="564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prawdzać!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79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0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1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3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96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8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7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3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1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1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1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6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8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1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generatora LC z ujemną rezystan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6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2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4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6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2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495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496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3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509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510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3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9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37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38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4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4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2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4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0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4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1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6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7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9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82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88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702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28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32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1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46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3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5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3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5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8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1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5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0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1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52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903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1953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5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7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9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6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1982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4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0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1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199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6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8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2018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7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2038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9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0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1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4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6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8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5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2066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8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9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2070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6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207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2242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2265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2316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0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31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0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240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2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3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5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1997-03-25T17:06:10Z</dcterms:modified>
  <cp:revision>88</cp:revision>
  <dc:subject/>
  <dc:title>Generatory LC</dc:title>
</cp:coreProperties>
</file>