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7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wmf" ContentType="image/x-wmf"/>
  <Override PartName="/ppt/media/image34.wmf" ContentType="image/x-wmf"/>
  <Override PartName="/ppt/media/image14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1E1-3600-4B4D-B998-D14B56A1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106-887E-4794-8413-DACE6BF0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5143-0905-4996-AF60-DA967A89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6C3-EA9B-41AE-AE03-FC5CD501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990-3ED0-416B-B42E-0A790AC0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CF5-0243-4816-9273-973F9379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B9F-FED0-4FC6-9B80-3D66FB62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604-B75B-435C-8C31-EE5D23C9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383-EAA4-4B2B-A030-1B20F332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FD79-E504-43A2-A8EB-75AB4118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268-43BB-44B2-B03A-FE5298D4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C20-6CFF-4F4C-BF7B-E6F923BE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E263-A236-413E-BBCB-17E76CC43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960" y="2652480"/>
            <a:ext cx="86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ASILACZE IMPULSOW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5520" y="2511360"/>
            <a:ext cx="8720280" cy="184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e&gt;Uwy    -  podwyższajace (step-up, boost conver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e&lt;Uwy    -  obniżające  (step-down, buck converter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-Uwe   -  zmieniające polaryzację (invert conver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1520" y="65160"/>
            <a:ext cx="904248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ział konwerterów ze względu na wartość napięcia wyjściowego w stosunku do napięcia zasilająceg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ział  konwerterów względu na ilość kluczy i sposobów ich połączenia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6280" y="1959120"/>
            <a:ext cx="8720280" cy="309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ciwsobne (push-pull)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wa klucze i transform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ółmostkowe (half-bridge)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wa klucze i transforma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stkowe (full bridge)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cztery klucze i transform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341360" y="301680"/>
            <a:ext cx="622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y mocy w tranzystorach kluczując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zar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55600" y="1720440"/>
            <a:ext cx="8076960" cy="4662360"/>
            <a:chOff x="255600" y="1720440"/>
            <a:chExt cx="8076960" cy="4662360"/>
          </a:xfrm>
        </p:grpSpPr>
        <p:grpSp>
          <p:nvGrpSpPr>
            <p:cNvPr id="373" name=""/>
            <p:cNvGrpSpPr/>
            <p:nvPr/>
          </p:nvGrpSpPr>
          <p:grpSpPr>
            <a:xfrm>
              <a:off x="255600" y="2330280"/>
              <a:ext cx="2476800" cy="1677960"/>
              <a:chOff x="255600" y="2330280"/>
              <a:chExt cx="2476800" cy="1677960"/>
            </a:xfrm>
          </p:grpSpPr>
          <p:grpSp>
            <p:nvGrpSpPr>
              <p:cNvPr id="374" name=""/>
              <p:cNvGrpSpPr/>
              <p:nvPr/>
            </p:nvGrpSpPr>
            <p:grpSpPr>
              <a:xfrm>
                <a:off x="255600" y="2730240"/>
                <a:ext cx="1068480" cy="1278000"/>
                <a:chOff x="255600" y="2730240"/>
                <a:chExt cx="1068480" cy="127800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1133640" y="3076560"/>
                  <a:ext cx="0" cy="58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"/>
                <p:cNvGrpSpPr/>
                <p:nvPr/>
              </p:nvGrpSpPr>
              <p:grpSpPr>
                <a:xfrm>
                  <a:off x="1133640" y="2730240"/>
                  <a:ext cx="162000" cy="532080"/>
                  <a:chOff x="1133640" y="2730240"/>
                  <a:chExt cx="162000" cy="53208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1133640" y="3251160"/>
                    <a:ext cx="162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V="1">
                    <a:off x="1295640" y="2730240"/>
                    <a:ext cx="0" cy="532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1162080" y="3476520"/>
                  <a:ext cx="162000" cy="531720"/>
                  <a:chOff x="1162080" y="3476520"/>
                  <a:chExt cx="162000" cy="53172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>
                    <a:off x="1162080" y="3487320"/>
                    <a:ext cx="162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1324080" y="3476520"/>
                    <a:ext cx="0" cy="53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2" name=""/>
                <p:cNvSpPr/>
                <p:nvPr/>
              </p:nvSpPr>
              <p:spPr>
                <a:xfrm>
                  <a:off x="1060560" y="3225600"/>
                  <a:ext cx="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>
                  <a:off x="255600" y="3497040"/>
                  <a:ext cx="804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 flipV="1">
                <a:off x="1670040" y="2804400"/>
                <a:ext cx="0" cy="11890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298520" y="2842920"/>
                <a:ext cx="0" cy="30960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834920" y="3220560"/>
                <a:ext cx="897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s(t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954360" y="2330280"/>
                <a:ext cx="64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t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 flipV="1">
              <a:off x="3068640" y="1720440"/>
              <a:ext cx="0" cy="21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83040" y="3902040"/>
              <a:ext cx="438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08280" y="2668680"/>
              <a:ext cx="3683160" cy="1233360"/>
            </a:xfrm>
            <a:custGeom>
              <a:avLst/>
              <a:gdLst/>
              <a:ahLst/>
              <a:rect l="l" t="t" r="r" b="b"/>
              <a:pathLst>
                <a:path w="2072" h="639">
                  <a:moveTo>
                    <a:pt x="0" y="639"/>
                  </a:moveTo>
                  <a:lnTo>
                    <a:pt x="272" y="639"/>
                  </a:lnTo>
                  <a:lnTo>
                    <a:pt x="374" y="0"/>
                  </a:lnTo>
                  <a:lnTo>
                    <a:pt x="888" y="0"/>
                  </a:lnTo>
                  <a:lnTo>
                    <a:pt x="1005" y="639"/>
                  </a:lnTo>
                  <a:lnTo>
                    <a:pt x="1522" y="638"/>
                  </a:lnTo>
                  <a:lnTo>
                    <a:pt x="1636" y="8"/>
                  </a:lnTo>
                  <a:lnTo>
                    <a:pt x="2072" y="8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27560" y="2473200"/>
              <a:ext cx="3684600" cy="1428840"/>
            </a:xfrm>
            <a:custGeom>
              <a:avLst/>
              <a:gdLst/>
              <a:ahLst/>
              <a:rect l="l" t="t" r="r" b="b"/>
              <a:pathLst>
                <a:path w="2073" h="740">
                  <a:moveTo>
                    <a:pt x="0" y="0"/>
                  </a:moveTo>
                  <a:lnTo>
                    <a:pt x="351" y="0"/>
                  </a:lnTo>
                  <a:lnTo>
                    <a:pt x="452" y="740"/>
                  </a:lnTo>
                  <a:lnTo>
                    <a:pt x="980" y="727"/>
                  </a:lnTo>
                  <a:lnTo>
                    <a:pt x="1122" y="0"/>
                  </a:lnTo>
                  <a:lnTo>
                    <a:pt x="1598" y="0"/>
                  </a:lnTo>
                  <a:lnTo>
                    <a:pt x="1754" y="740"/>
                  </a:lnTo>
                  <a:lnTo>
                    <a:pt x="2073" y="74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068640" y="4111200"/>
              <a:ext cx="0" cy="18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83040" y="6006960"/>
              <a:ext cx="447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89320" y="4933800"/>
              <a:ext cx="4002120" cy="1097280"/>
            </a:xfrm>
            <a:custGeom>
              <a:avLst/>
              <a:gdLst/>
              <a:ahLst/>
              <a:rect l="l" t="t" r="r" b="b"/>
              <a:pathLst>
                <a:path w="2252" h="568">
                  <a:moveTo>
                    <a:pt x="0" y="556"/>
                  </a:moveTo>
                  <a:lnTo>
                    <a:pt x="195" y="556"/>
                  </a:lnTo>
                  <a:lnTo>
                    <a:pt x="442" y="560"/>
                  </a:lnTo>
                  <a:lnTo>
                    <a:pt x="470" y="16"/>
                  </a:lnTo>
                  <a:lnTo>
                    <a:pt x="510" y="108"/>
                  </a:lnTo>
                  <a:lnTo>
                    <a:pt x="530" y="564"/>
                  </a:lnTo>
                  <a:lnTo>
                    <a:pt x="1066" y="556"/>
                  </a:lnTo>
                  <a:lnTo>
                    <a:pt x="1098" y="4"/>
                  </a:lnTo>
                  <a:lnTo>
                    <a:pt x="1154" y="0"/>
                  </a:lnTo>
                  <a:lnTo>
                    <a:pt x="1162" y="224"/>
                  </a:lnTo>
                  <a:lnTo>
                    <a:pt x="1202" y="560"/>
                  </a:lnTo>
                  <a:lnTo>
                    <a:pt x="1702" y="568"/>
                  </a:lnTo>
                  <a:lnTo>
                    <a:pt x="1738" y="12"/>
                  </a:lnTo>
                  <a:lnTo>
                    <a:pt x="1790" y="64"/>
                  </a:lnTo>
                  <a:lnTo>
                    <a:pt x="1798" y="560"/>
                  </a:lnTo>
                  <a:lnTo>
                    <a:pt x="2252" y="556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65480" y="2398680"/>
              <a:ext cx="0" cy="3743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99280" y="2389320"/>
              <a:ext cx="0" cy="3743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76800" y="2403360"/>
              <a:ext cx="0" cy="3745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27720" y="2401920"/>
              <a:ext cx="0" cy="3744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37200" y="2406600"/>
              <a:ext cx="0" cy="3743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97640" y="2392200"/>
              <a:ext cx="0" cy="374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43880" y="4521240"/>
              <a:ext cx="1588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6600"/>
                  </a:solidFill>
                  <a:latin typeface="Times New Roman"/>
                </a:rPr>
                <a:t>p(t)=u</a:t>
              </a:r>
              <a:r>
                <a:rPr b="0" lang="pl-PL" sz="1800" spc="-1" strike="noStrike" baseline="-25000">
                  <a:solidFill>
                    <a:srgbClr val="006600"/>
                  </a:solidFill>
                  <a:latin typeface="Times New Roman"/>
                </a:rPr>
                <a:t>d</a:t>
              </a:r>
              <a:r>
                <a:rPr b="0" lang="pl-PL" sz="1800" spc="-1" strike="noStrike">
                  <a:solidFill>
                    <a:srgbClr val="006600"/>
                  </a:solidFill>
                  <a:latin typeface="Times New Roman"/>
                </a:rPr>
                <a:t>s(t)*i</a:t>
              </a:r>
              <a:r>
                <a:rPr b="0" lang="pl-PL" sz="1800" spc="-1" strike="noStrike" baseline="-25000">
                  <a:solidFill>
                    <a:srgbClr val="006600"/>
                  </a:solidFill>
                  <a:latin typeface="Times New Roman"/>
                </a:rPr>
                <a:t>d</a:t>
              </a:r>
              <a:r>
                <a:rPr b="0" lang="pl-PL" sz="1800" spc="-1" strike="noStrike">
                  <a:solidFill>
                    <a:srgbClr val="006600"/>
                  </a:solidFill>
                  <a:latin typeface="Times New Roman"/>
                </a:rPr>
                <a:t>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05360" y="35640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60720" y="59230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313400" y="245412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0" lang="pl-PL" sz="1800" spc="-1" strike="noStrike" baseline="-25000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0" lang="pl-PL" sz="1800" spc="-1" strike="noStrike">
                  <a:solidFill>
                    <a:srgbClr val="ff3300"/>
                  </a:solidFill>
                  <a:latin typeface="Times New Roman"/>
                </a:rPr>
                <a:t>s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62080" y="2004840"/>
              <a:ext cx="528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33cc"/>
                  </a:solidFill>
                  <a:latin typeface="Times New Roman"/>
                </a:rPr>
                <a:t>d</a:t>
              </a: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30640" y="5889600"/>
              <a:ext cx="481968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32720" y="5234040"/>
              <a:ext cx="57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cc99"/>
                  </a:solidFill>
                  <a:latin typeface="Times New Roman"/>
                </a:rPr>
                <a:t>Pś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0480" y="19810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to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68800" y="200340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610280" y="0"/>
            <a:ext cx="601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bieg prądu w cewce przy sterow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pięciem impuls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42800" y="861840"/>
            <a:ext cx="8353440" cy="5996160"/>
            <a:chOff x="442800" y="861840"/>
            <a:chExt cx="8353440" cy="5996160"/>
          </a:xfrm>
        </p:grpSpPr>
        <p:grpSp>
          <p:nvGrpSpPr>
            <p:cNvPr id="412" name=""/>
            <p:cNvGrpSpPr/>
            <p:nvPr/>
          </p:nvGrpSpPr>
          <p:grpSpPr>
            <a:xfrm>
              <a:off x="1644480" y="1360080"/>
              <a:ext cx="1552320" cy="1460520"/>
              <a:chOff x="1644480" y="1360080"/>
              <a:chExt cx="1552320" cy="146052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2951280" y="1724040"/>
                <a:ext cx="245520" cy="725400"/>
                <a:chOff x="2951280" y="1724040"/>
                <a:chExt cx="245520" cy="7254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2999880" y="1741320"/>
                  <a:ext cx="196920" cy="172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99880" y="1916640"/>
                  <a:ext cx="196920" cy="172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99160" y="2088360"/>
                  <a:ext cx="196920" cy="172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99160" y="2263680"/>
                  <a:ext cx="196920" cy="172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51280" y="1724040"/>
                  <a:ext cx="146520" cy="725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9" name=""/>
              <p:cNvSpPr/>
              <p:nvPr/>
            </p:nvSpPr>
            <p:spPr>
              <a:xfrm>
                <a:off x="3098520" y="2446920"/>
                <a:ext cx="0" cy="37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00680" y="1362960"/>
                <a:ext cx="0" cy="37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1951200" y="1360440"/>
                <a:ext cx="113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1946520" y="2816280"/>
                <a:ext cx="1154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1943640" y="1360080"/>
                <a:ext cx="0" cy="146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44480" y="1762560"/>
                <a:ext cx="605880" cy="532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1936080" y="1885320"/>
                <a:ext cx="0" cy="28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2236680" y="1362240"/>
              <a:ext cx="8035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411360" y="1496880"/>
              <a:ext cx="0" cy="1200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37360" y="1825560"/>
              <a:ext cx="73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00040" y="861840"/>
              <a:ext cx="66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4978440" y="1379520"/>
                  <a:ext cx="18208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L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31" name=""/>
            <p:cNvSpPr/>
            <p:nvPr/>
          </p:nvSpPr>
          <p:spPr>
            <a:xfrm>
              <a:off x="906840" y="175104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4929120" y="2230560"/>
                  <a:ext cx="2878200" cy="68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3" name=""/>
                <p:cNvSpPr txBox="1"/>
                <p:nvPr/>
              </p:nvSpPr>
              <p:spPr>
                <a:xfrm>
                  <a:off x="1781280" y="3233880"/>
                  <a:ext cx="117792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4" name=""/>
            <p:cNvSpPr/>
            <p:nvPr/>
          </p:nvSpPr>
          <p:spPr>
            <a:xfrm flipV="1">
              <a:off x="442800" y="3903840"/>
              <a:ext cx="0" cy="13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42800" y="5214960"/>
              <a:ext cx="585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3760" y="3846600"/>
              <a:ext cx="49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01800" y="4386240"/>
              <a:ext cx="4959360" cy="828720"/>
            </a:xfrm>
            <a:custGeom>
              <a:avLst/>
              <a:gdLst/>
              <a:ahLst/>
              <a:rect l="l" t="t" r="r" b="b"/>
              <a:pathLst>
                <a:path w="3124" h="522">
                  <a:moveTo>
                    <a:pt x="0" y="522"/>
                  </a:moveTo>
                  <a:lnTo>
                    <a:pt x="343" y="522"/>
                  </a:lnTo>
                  <a:lnTo>
                    <a:pt x="343" y="8"/>
                  </a:lnTo>
                  <a:lnTo>
                    <a:pt x="576" y="8"/>
                  </a:lnTo>
                  <a:lnTo>
                    <a:pt x="576" y="515"/>
                  </a:lnTo>
                  <a:lnTo>
                    <a:pt x="1324" y="522"/>
                  </a:lnTo>
                  <a:lnTo>
                    <a:pt x="1324" y="0"/>
                  </a:lnTo>
                  <a:lnTo>
                    <a:pt x="2033" y="4"/>
                  </a:lnTo>
                  <a:lnTo>
                    <a:pt x="2033" y="507"/>
                  </a:lnTo>
                  <a:lnTo>
                    <a:pt x="3124" y="522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2800" y="5302080"/>
              <a:ext cx="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5760" y="6477120"/>
              <a:ext cx="578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11240" y="5338800"/>
              <a:ext cx="4800600" cy="1150920"/>
            </a:xfrm>
            <a:custGeom>
              <a:avLst/>
              <a:gdLst/>
              <a:ahLst/>
              <a:rect l="l" t="t" r="r" b="b"/>
              <a:pathLst>
                <a:path w="3024" h="725">
                  <a:moveTo>
                    <a:pt x="0" y="725"/>
                  </a:moveTo>
                  <a:lnTo>
                    <a:pt x="273" y="717"/>
                  </a:lnTo>
                  <a:lnTo>
                    <a:pt x="507" y="437"/>
                  </a:lnTo>
                  <a:lnTo>
                    <a:pt x="710" y="717"/>
                  </a:lnTo>
                  <a:lnTo>
                    <a:pt x="1278" y="717"/>
                  </a:lnTo>
                  <a:lnTo>
                    <a:pt x="1964" y="0"/>
                  </a:lnTo>
                  <a:lnTo>
                    <a:pt x="2681" y="694"/>
                  </a:lnTo>
                  <a:lnTo>
                    <a:pt x="3024" y="71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7320" y="5210280"/>
              <a:ext cx="37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92200" y="47149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21000" y="60292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444680" y="4176720"/>
              <a:ext cx="0" cy="2647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19440" y="4194000"/>
              <a:ext cx="0" cy="2648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97360" y="4210200"/>
              <a:ext cx="0" cy="2647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13360" y="4189320"/>
              <a:ext cx="0" cy="2648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1440" y="4224240"/>
              <a:ext cx="42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974520" y="4403880"/>
              <a:ext cx="3747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60440" y="3786120"/>
              <a:ext cx="1052640" cy="2251080"/>
            </a:xfrm>
            <a:custGeom>
              <a:avLst/>
              <a:gdLst/>
              <a:ahLst/>
              <a:rect l="l" t="t" r="r" b="b"/>
              <a:pathLst>
                <a:path w="663" h="1418">
                  <a:moveTo>
                    <a:pt x="0" y="0"/>
                  </a:moveTo>
                  <a:cubicBezTo>
                    <a:pt x="40" y="266"/>
                    <a:pt x="80" y="533"/>
                    <a:pt x="141" y="724"/>
                  </a:cubicBezTo>
                  <a:cubicBezTo>
                    <a:pt x="202" y="915"/>
                    <a:pt x="280" y="1029"/>
                    <a:pt x="367" y="1145"/>
                  </a:cubicBezTo>
                  <a:cubicBezTo>
                    <a:pt x="454" y="1261"/>
                    <a:pt x="613" y="1373"/>
                    <a:pt x="663" y="14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17840" y="3822840"/>
              <a:ext cx="606240" cy="2350800"/>
            </a:xfrm>
            <a:custGeom>
              <a:avLst/>
              <a:gdLst/>
              <a:ahLst/>
              <a:rect l="l" t="t" r="r" b="b"/>
              <a:pathLst>
                <a:path w="382" h="1481">
                  <a:moveTo>
                    <a:pt x="382" y="0"/>
                  </a:moveTo>
                  <a:cubicBezTo>
                    <a:pt x="342" y="372"/>
                    <a:pt x="303" y="744"/>
                    <a:pt x="249" y="943"/>
                  </a:cubicBezTo>
                  <a:cubicBezTo>
                    <a:pt x="195" y="1142"/>
                    <a:pt x="96" y="1102"/>
                    <a:pt x="55" y="1192"/>
                  </a:cubicBezTo>
                  <a:cubicBezTo>
                    <a:pt x="14" y="1282"/>
                    <a:pt x="7" y="1381"/>
                    <a:pt x="0" y="148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7104240" y="3473280"/>
                  <a:ext cx="1692000" cy="80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L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"/>
            <p:cNvSpPr/>
            <p:nvPr/>
          </p:nvSpPr>
          <p:spPr>
            <a:xfrm>
              <a:off x="5276520" y="5619600"/>
              <a:ext cx="69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5864040" y="4098960"/>
              <a:ext cx="2460600" cy="17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59040" y="3652920"/>
              <a:ext cx="342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ergia zgromadzona w cewc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4167360" y="5356080"/>
              <a:ext cx="1134720" cy="49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92480" y="2741760"/>
              <a:ext cx="2303280" cy="707760"/>
            </a:xfrm>
            <a:custGeom>
              <a:avLst/>
              <a:gdLst/>
              <a:ahLst/>
              <a:rect l="l" t="t" r="r" b="b"/>
              <a:pathLst>
                <a:path w="1451" h="446">
                  <a:moveTo>
                    <a:pt x="1451" y="0"/>
                  </a:moveTo>
                  <a:cubicBezTo>
                    <a:pt x="1451" y="0"/>
                    <a:pt x="725" y="223"/>
                    <a:pt x="0" y="446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08320" y="11239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44600" y="0"/>
            <a:ext cx="82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bieg prądu w cewce przy kluczowaniu napięci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55040" y="861840"/>
            <a:ext cx="8133480" cy="5996160"/>
            <a:chOff x="455040" y="861840"/>
            <a:chExt cx="8133480" cy="5996160"/>
          </a:xfrm>
        </p:grpSpPr>
        <p:grpSp>
          <p:nvGrpSpPr>
            <p:cNvPr id="461" name=""/>
            <p:cNvGrpSpPr/>
            <p:nvPr/>
          </p:nvGrpSpPr>
          <p:grpSpPr>
            <a:xfrm>
              <a:off x="455040" y="861840"/>
              <a:ext cx="7458480" cy="5996160"/>
              <a:chOff x="455040" y="861840"/>
              <a:chExt cx="7458480" cy="599616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3057480" y="1724040"/>
                <a:ext cx="245520" cy="725400"/>
                <a:chOff x="3057480" y="1724040"/>
                <a:chExt cx="245520" cy="7254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106080" y="1741320"/>
                  <a:ext cx="196920" cy="172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106080" y="1916640"/>
                  <a:ext cx="196920" cy="172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105360" y="2088360"/>
                  <a:ext cx="196920" cy="172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3105360" y="2263680"/>
                  <a:ext cx="196920" cy="172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057480" y="1724040"/>
                  <a:ext cx="146520" cy="725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>
                <a:off x="3205080" y="244620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206520" y="1363680"/>
                <a:ext cx="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057400" y="1360440"/>
                <a:ext cx="113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1323360" y="281628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2" name=""/>
              <p:cNvGrpSpPr/>
              <p:nvPr/>
            </p:nvGrpSpPr>
            <p:grpSpPr>
              <a:xfrm>
                <a:off x="1033200" y="1360080"/>
                <a:ext cx="606240" cy="1460520"/>
                <a:chOff x="1033200" y="1360080"/>
                <a:chExt cx="606240" cy="1460520"/>
              </a:xfrm>
            </p:grpSpPr>
            <p:sp>
              <p:nvSpPr>
                <p:cNvPr id="473" name=""/>
                <p:cNvSpPr/>
                <p:nvPr/>
              </p:nvSpPr>
              <p:spPr>
                <a:xfrm flipV="1">
                  <a:off x="1333080" y="1360080"/>
                  <a:ext cx="0" cy="146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033200" y="1763640"/>
                  <a:ext cx="606240" cy="531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1325160" y="1886040"/>
                  <a:ext cx="0" cy="28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6" name=""/>
              <p:cNvSpPr/>
              <p:nvPr/>
            </p:nvSpPr>
            <p:spPr>
              <a:xfrm>
                <a:off x="2882880" y="1362240"/>
                <a:ext cx="28872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3517920" y="1496880"/>
                <a:ext cx="0" cy="12002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43560" y="1825560"/>
                <a:ext cx="730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L</a:t>
                </a:r>
                <a:r>
                  <a:rPr b="0" lang="pl-PL" sz="2400" spc="-1" strike="noStrike">
                    <a:solidFill>
                      <a:srgbClr val="ff3300"/>
                    </a:solidFill>
                    <a:latin typeface="Times New Roman"/>
                  </a:rPr>
                  <a:t>(t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406240" y="861840"/>
                <a:ext cx="663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33cc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33cc"/>
                    </a:solidFill>
                    <a:latin typeface="Times New Roman"/>
                  </a:rPr>
                  <a:t>L</a:t>
                </a:r>
                <a:r>
                  <a:rPr b="0" lang="pl-PL" sz="2400" spc="-1" strike="noStrike">
                    <a:solidFill>
                      <a:srgbClr val="0033cc"/>
                    </a:solidFill>
                    <a:latin typeface="Times New Roman"/>
                  </a:rPr>
                  <a:t>(t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0" name=""/>
                  <p:cNvSpPr txBox="1"/>
                  <p:nvPr/>
                </p:nvSpPr>
                <p:spPr>
                  <a:xfrm>
                    <a:off x="4948200" y="1330200"/>
                    <a:ext cx="2095560" cy="793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1" name=""/>
              <p:cNvSpPr/>
              <p:nvPr/>
            </p:nvSpPr>
            <p:spPr>
              <a:xfrm>
                <a:off x="455040" y="1739880"/>
                <a:ext cx="503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2" name=""/>
                  <p:cNvSpPr txBox="1"/>
                  <p:nvPr/>
                </p:nvSpPr>
                <p:spPr>
                  <a:xfrm>
                    <a:off x="5035320" y="2230560"/>
                    <a:ext cx="2878200" cy="688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83" name=""/>
                  <p:cNvSpPr txBox="1"/>
                  <p:nvPr/>
                </p:nvSpPr>
                <p:spPr>
                  <a:xfrm>
                    <a:off x="1817640" y="3182760"/>
                    <a:ext cx="1320840" cy="65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4" name=""/>
              <p:cNvSpPr/>
              <p:nvPr/>
            </p:nvSpPr>
            <p:spPr>
              <a:xfrm flipV="1">
                <a:off x="549000" y="3903840"/>
                <a:ext cx="0" cy="131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49000" y="5214960"/>
                <a:ext cx="585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6800" y="3846600"/>
                <a:ext cx="5450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(t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008000" y="3824280"/>
                <a:ext cx="4959360" cy="2771640"/>
              </a:xfrm>
              <a:custGeom>
                <a:avLst/>
                <a:gdLst/>
                <a:ahLst/>
                <a:rect l="l" t="t" r="r" b="b"/>
                <a:pathLst>
                  <a:path w="3124" h="1746">
                    <a:moveTo>
                      <a:pt x="0" y="876"/>
                    </a:moveTo>
                    <a:lnTo>
                      <a:pt x="343" y="876"/>
                    </a:lnTo>
                    <a:lnTo>
                      <a:pt x="343" y="362"/>
                    </a:lnTo>
                    <a:lnTo>
                      <a:pt x="576" y="362"/>
                    </a:lnTo>
                    <a:lnTo>
                      <a:pt x="576" y="1277"/>
                    </a:lnTo>
                    <a:lnTo>
                      <a:pt x="607" y="498"/>
                    </a:lnTo>
                    <a:lnTo>
                      <a:pt x="616" y="1143"/>
                    </a:lnTo>
                    <a:lnTo>
                      <a:pt x="640" y="612"/>
                    </a:lnTo>
                    <a:lnTo>
                      <a:pt x="649" y="1044"/>
                    </a:lnTo>
                    <a:lnTo>
                      <a:pt x="676" y="738"/>
                    </a:lnTo>
                    <a:lnTo>
                      <a:pt x="685" y="954"/>
                    </a:lnTo>
                    <a:lnTo>
                      <a:pt x="703" y="846"/>
                    </a:lnTo>
                    <a:lnTo>
                      <a:pt x="718" y="894"/>
                    </a:lnTo>
                    <a:lnTo>
                      <a:pt x="733" y="867"/>
                    </a:lnTo>
                    <a:lnTo>
                      <a:pt x="754" y="879"/>
                    </a:lnTo>
                    <a:lnTo>
                      <a:pt x="1324" y="876"/>
                    </a:lnTo>
                    <a:lnTo>
                      <a:pt x="1324" y="354"/>
                    </a:lnTo>
                    <a:lnTo>
                      <a:pt x="2033" y="358"/>
                    </a:lnTo>
                    <a:lnTo>
                      <a:pt x="2038" y="1746"/>
                    </a:lnTo>
                    <a:lnTo>
                      <a:pt x="2080" y="0"/>
                    </a:lnTo>
                    <a:lnTo>
                      <a:pt x="2095" y="1392"/>
                    </a:lnTo>
                    <a:lnTo>
                      <a:pt x="2128" y="381"/>
                    </a:lnTo>
                    <a:lnTo>
                      <a:pt x="2143" y="1227"/>
                    </a:lnTo>
                    <a:lnTo>
                      <a:pt x="2179" y="498"/>
                    </a:lnTo>
                    <a:lnTo>
                      <a:pt x="2194" y="1152"/>
                    </a:lnTo>
                    <a:lnTo>
                      <a:pt x="2230" y="597"/>
                    </a:lnTo>
                    <a:lnTo>
                      <a:pt x="2248" y="1020"/>
                    </a:lnTo>
                    <a:lnTo>
                      <a:pt x="2287" y="786"/>
                    </a:lnTo>
                    <a:lnTo>
                      <a:pt x="2308" y="942"/>
                    </a:lnTo>
                    <a:lnTo>
                      <a:pt x="2335" y="840"/>
                    </a:lnTo>
                    <a:lnTo>
                      <a:pt x="2356" y="906"/>
                    </a:lnTo>
                    <a:lnTo>
                      <a:pt x="2383" y="867"/>
                    </a:lnTo>
                    <a:lnTo>
                      <a:pt x="2401" y="888"/>
                    </a:lnTo>
                    <a:lnTo>
                      <a:pt x="2422" y="879"/>
                    </a:lnTo>
                    <a:lnTo>
                      <a:pt x="3124" y="876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9000" y="5302080"/>
                <a:ext cx="0" cy="117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61960" y="6477120"/>
                <a:ext cx="578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123920" y="5326200"/>
                <a:ext cx="4800600" cy="1519200"/>
              </a:xfrm>
              <a:custGeom>
                <a:avLst/>
                <a:gdLst/>
                <a:ahLst/>
                <a:rect l="l" t="t" r="r" b="b"/>
                <a:pathLst>
                  <a:path w="3024" h="957">
                    <a:moveTo>
                      <a:pt x="0" y="725"/>
                    </a:moveTo>
                    <a:lnTo>
                      <a:pt x="273" y="717"/>
                    </a:lnTo>
                    <a:lnTo>
                      <a:pt x="507" y="437"/>
                    </a:lnTo>
                    <a:lnTo>
                      <a:pt x="521" y="869"/>
                    </a:lnTo>
                    <a:lnTo>
                      <a:pt x="545" y="533"/>
                    </a:lnTo>
                    <a:lnTo>
                      <a:pt x="565" y="805"/>
                    </a:lnTo>
                    <a:lnTo>
                      <a:pt x="597" y="673"/>
                    </a:lnTo>
                    <a:lnTo>
                      <a:pt x="621" y="733"/>
                    </a:lnTo>
                    <a:lnTo>
                      <a:pt x="645" y="721"/>
                    </a:lnTo>
                    <a:lnTo>
                      <a:pt x="1278" y="717"/>
                    </a:lnTo>
                    <a:lnTo>
                      <a:pt x="1964" y="0"/>
                    </a:lnTo>
                    <a:lnTo>
                      <a:pt x="1973" y="949"/>
                    </a:lnTo>
                    <a:lnTo>
                      <a:pt x="2033" y="957"/>
                    </a:lnTo>
                    <a:lnTo>
                      <a:pt x="2033" y="241"/>
                    </a:lnTo>
                    <a:lnTo>
                      <a:pt x="2065" y="889"/>
                    </a:lnTo>
                    <a:lnTo>
                      <a:pt x="2085" y="373"/>
                    </a:lnTo>
                    <a:lnTo>
                      <a:pt x="2101" y="829"/>
                    </a:lnTo>
                    <a:lnTo>
                      <a:pt x="2125" y="493"/>
                    </a:lnTo>
                    <a:lnTo>
                      <a:pt x="2149" y="769"/>
                    </a:lnTo>
                    <a:lnTo>
                      <a:pt x="2165" y="561"/>
                    </a:lnTo>
                    <a:lnTo>
                      <a:pt x="2189" y="741"/>
                    </a:lnTo>
                    <a:lnTo>
                      <a:pt x="2213" y="641"/>
                    </a:lnTo>
                    <a:lnTo>
                      <a:pt x="2237" y="737"/>
                    </a:lnTo>
                    <a:lnTo>
                      <a:pt x="2261" y="701"/>
                    </a:lnTo>
                    <a:lnTo>
                      <a:pt x="2293" y="713"/>
                    </a:lnTo>
                    <a:lnTo>
                      <a:pt x="3024" y="710"/>
                    </a:ln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13520" y="5210280"/>
                <a:ext cx="374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098400" y="471492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127200" y="602928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550880" y="4176720"/>
                <a:ext cx="0" cy="2647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925640" y="4194000"/>
                <a:ext cx="0" cy="2648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03560" y="4210200"/>
                <a:ext cx="0" cy="2647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219560" y="4189320"/>
                <a:ext cx="0" cy="2648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7640" y="4224240"/>
                <a:ext cx="424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pl-PL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1080720" y="4403880"/>
                <a:ext cx="374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7000" y="3786120"/>
                <a:ext cx="1052280" cy="2251080"/>
              </a:xfrm>
              <a:custGeom>
                <a:avLst/>
                <a:gdLst/>
                <a:ahLst/>
                <a:rect l="l" t="t" r="r" b="b"/>
                <a:pathLst>
                  <a:path w="663" h="1418">
                    <a:moveTo>
                      <a:pt x="0" y="0"/>
                    </a:moveTo>
                    <a:cubicBezTo>
                      <a:pt x="40" y="266"/>
                      <a:pt x="80" y="533"/>
                      <a:pt x="141" y="724"/>
                    </a:cubicBezTo>
                    <a:cubicBezTo>
                      <a:pt x="202" y="915"/>
                      <a:pt x="280" y="1029"/>
                      <a:pt x="367" y="1145"/>
                    </a:cubicBezTo>
                    <a:cubicBezTo>
                      <a:pt x="454" y="1261"/>
                      <a:pt x="613" y="1373"/>
                      <a:pt x="663" y="141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724040" y="3822840"/>
                <a:ext cx="606240" cy="2350800"/>
              </a:xfrm>
              <a:custGeom>
                <a:avLst/>
                <a:gdLst/>
                <a:ahLst/>
                <a:rect l="l" t="t" r="r" b="b"/>
                <a:pathLst>
                  <a:path w="382" h="1481">
                    <a:moveTo>
                      <a:pt x="382" y="0"/>
                    </a:moveTo>
                    <a:cubicBezTo>
                      <a:pt x="342" y="372"/>
                      <a:pt x="303" y="744"/>
                      <a:pt x="249" y="943"/>
                    </a:cubicBezTo>
                    <a:cubicBezTo>
                      <a:pt x="195" y="1142"/>
                      <a:pt x="96" y="1102"/>
                      <a:pt x="55" y="1192"/>
                    </a:cubicBezTo>
                    <a:cubicBezTo>
                      <a:pt x="14" y="1282"/>
                      <a:pt x="7" y="1381"/>
                      <a:pt x="0" y="148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 flipV="1">
                <a:off x="1662120" y="1131480"/>
                <a:ext cx="395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28760" y="1386000"/>
                <a:ext cx="28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2638440" y="2031840"/>
                <a:ext cx="330120" cy="60480"/>
                <a:chOff x="2638440" y="2031840"/>
                <a:chExt cx="330120" cy="604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2646360" y="2031840"/>
                  <a:ext cx="322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638440" y="2092320"/>
                  <a:ext cx="322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" name=""/>
              <p:cNvSpPr/>
              <p:nvPr/>
            </p:nvSpPr>
            <p:spPr>
              <a:xfrm>
                <a:off x="2805120" y="2085840"/>
                <a:ext cx="399960" cy="419400"/>
              </a:xfrm>
              <a:custGeom>
                <a:avLst/>
                <a:gdLst/>
                <a:ahLst/>
                <a:rect l="l" t="t" r="r" b="b"/>
                <a:pathLst>
                  <a:path w="252" h="264">
                    <a:moveTo>
                      <a:pt x="0" y="0"/>
                    </a:moveTo>
                    <a:lnTo>
                      <a:pt x="0" y="264"/>
                    </a:lnTo>
                    <a:lnTo>
                      <a:pt x="252" y="26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243880" y="1881360"/>
                <a:ext cx="3819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2803320" y="1363680"/>
                <a:ext cx="0" cy="657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88680" y="5727600"/>
                <a:ext cx="9853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wpływ C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4567320" y="5946840"/>
                <a:ext cx="68256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 flipV="1">
                <a:off x="4630320" y="5457960"/>
                <a:ext cx="593640" cy="41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5155560" y="3444840"/>
              <a:ext cx="343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3300"/>
                  </a:solidFill>
                  <a:latin typeface="Times New Roman"/>
                </a:rPr>
                <a:t>wartość szczytowa &gt;&gt;? E</a:t>
              </a:r>
              <a:r>
                <a:rPr b="0" lang="pl-PL" sz="2400" spc="-1" strike="noStrike" baseline="-25000">
                  <a:solidFill>
                    <a:srgbClr val="ff33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4429080" y="3797280"/>
              <a:ext cx="82224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08320" y="12668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t blokowy typowego zasilacza impul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7230600" y="5442120"/>
            <a:ext cx="847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74720" y="1546200"/>
            <a:ext cx="6880320" cy="317520"/>
          </a:xfrm>
          <a:custGeom>
            <a:avLst/>
            <a:gdLst/>
            <a:ahLst/>
            <a:rect l="l" t="t" r="r" b="b"/>
            <a:pathLst>
              <a:path w="4334" h="200">
                <a:moveTo>
                  <a:pt x="0" y="200"/>
                </a:moveTo>
                <a:lnTo>
                  <a:pt x="0" y="167"/>
                </a:lnTo>
                <a:lnTo>
                  <a:pt x="71" y="133"/>
                </a:lnTo>
                <a:lnTo>
                  <a:pt x="213" y="100"/>
                </a:lnTo>
                <a:lnTo>
                  <a:pt x="354" y="83"/>
                </a:lnTo>
                <a:lnTo>
                  <a:pt x="1989" y="83"/>
                </a:lnTo>
                <a:lnTo>
                  <a:pt x="2131" y="0"/>
                </a:lnTo>
                <a:lnTo>
                  <a:pt x="2273" y="83"/>
                </a:lnTo>
                <a:lnTo>
                  <a:pt x="3978" y="83"/>
                </a:lnTo>
                <a:lnTo>
                  <a:pt x="4120" y="100"/>
                </a:lnTo>
                <a:lnTo>
                  <a:pt x="4263" y="133"/>
                </a:lnTo>
                <a:lnTo>
                  <a:pt x="4334" y="167"/>
                </a:lnTo>
                <a:lnTo>
                  <a:pt x="4334" y="200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67080" y="2585880"/>
            <a:ext cx="2224080" cy="1165320"/>
          </a:xfrm>
          <a:prstGeom prst="rect">
            <a:avLst/>
          </a:prstGeom>
          <a:solidFill>
            <a:srgbClr val="99ccff"/>
          </a:solidFill>
          <a:ln w="52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97000" y="2585880"/>
            <a:ext cx="2224080" cy="11653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75160" y="3032280"/>
            <a:ext cx="1059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stown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667800" y="3432240"/>
            <a:ext cx="5302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67800" y="2903400"/>
            <a:ext cx="530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0360" y="2867040"/>
            <a:ext cx="77760" cy="745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0360" y="3395520"/>
            <a:ext cx="77760" cy="7488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421080" y="2797200"/>
            <a:ext cx="8460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21080" y="3538440"/>
            <a:ext cx="8460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44800" y="3538440"/>
            <a:ext cx="1800" cy="317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38600" y="3855960"/>
            <a:ext cx="21096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05200" y="3502080"/>
            <a:ext cx="77760" cy="745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3640" y="30322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14960" y="3032280"/>
            <a:ext cx="12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78480" y="30322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78640" y="31989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056120" y="2692080"/>
            <a:ext cx="210960" cy="104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056120" y="2797200"/>
            <a:ext cx="210960" cy="106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4056120" y="3431880"/>
            <a:ext cx="210960" cy="106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4056120" y="3538440"/>
            <a:ext cx="210960" cy="106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419360" y="2714760"/>
            <a:ext cx="1082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erowany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423320" y="2925720"/>
            <a:ext cx="95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onwer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24040" y="3138480"/>
            <a:ext cx="1566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apięcia stałeg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117600" y="1127160"/>
            <a:ext cx="186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Zasilacz impulsow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04480" y="1940040"/>
            <a:ext cx="3438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Arial"/>
              </a:rPr>
              <a:t>Stabilizator impulsow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56120" y="2268360"/>
            <a:ext cx="4019400" cy="209880"/>
          </a:xfrm>
          <a:custGeom>
            <a:avLst/>
            <a:gdLst/>
            <a:ahLst/>
            <a:rect l="l" t="t" r="r" b="b"/>
            <a:pathLst>
              <a:path w="2532" h="132">
                <a:moveTo>
                  <a:pt x="0" y="132"/>
                </a:moveTo>
                <a:lnTo>
                  <a:pt x="0" y="110"/>
                </a:lnTo>
                <a:lnTo>
                  <a:pt x="40" y="88"/>
                </a:lnTo>
                <a:lnTo>
                  <a:pt x="124" y="65"/>
                </a:lnTo>
                <a:lnTo>
                  <a:pt x="207" y="54"/>
                </a:lnTo>
                <a:lnTo>
                  <a:pt x="1163" y="54"/>
                </a:lnTo>
                <a:lnTo>
                  <a:pt x="1245" y="0"/>
                </a:lnTo>
                <a:lnTo>
                  <a:pt x="1328" y="54"/>
                </a:lnTo>
                <a:lnTo>
                  <a:pt x="2325" y="54"/>
                </a:lnTo>
                <a:lnTo>
                  <a:pt x="2407" y="65"/>
                </a:lnTo>
                <a:lnTo>
                  <a:pt x="2492" y="88"/>
                </a:lnTo>
                <a:lnTo>
                  <a:pt x="2532" y="110"/>
                </a:lnTo>
                <a:lnTo>
                  <a:pt x="2532" y="132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89720" y="3220920"/>
            <a:ext cx="1693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183520" y="3749760"/>
            <a:ext cx="1800" cy="317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078760" y="4067280"/>
            <a:ext cx="21132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145360" y="3713040"/>
            <a:ext cx="76320" cy="7488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145360" y="3184560"/>
            <a:ext cx="76320" cy="745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229960" y="33498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431560" y="35164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14520" y="4595760"/>
            <a:ext cx="1484280" cy="1057320"/>
          </a:xfrm>
          <a:prstGeom prst="rect">
            <a:avLst/>
          </a:prstGeom>
          <a:solidFill>
            <a:srgbClr val="99cc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669680" y="4830840"/>
            <a:ext cx="962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dulat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67880" y="5041800"/>
            <a:ext cx="1023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zerokośc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69320" y="5253120"/>
            <a:ext cx="904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mpulsó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091880" y="5124600"/>
            <a:ext cx="4237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1092240" y="4384440"/>
            <a:ext cx="1440" cy="739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092240" y="4384800"/>
            <a:ext cx="41274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219640" y="3749760"/>
            <a:ext cx="1800" cy="635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5114520" y="3749760"/>
            <a:ext cx="104760" cy="106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19640" y="3749760"/>
            <a:ext cx="106560" cy="106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89200" y="3852720"/>
            <a:ext cx="107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48480" y="4595760"/>
            <a:ext cx="1484280" cy="1057320"/>
          </a:xfrm>
          <a:prstGeom prst="rect">
            <a:avLst/>
          </a:prstGeom>
          <a:solidFill>
            <a:srgbClr val="99cc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25840" y="4595760"/>
            <a:ext cx="1484280" cy="1057320"/>
          </a:xfrm>
          <a:prstGeom prst="rect">
            <a:avLst/>
          </a:prstGeom>
          <a:solidFill>
            <a:srgbClr val="99cc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702240" y="4900680"/>
            <a:ext cx="11682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ltr sygnał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łę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997360" y="5124600"/>
            <a:ext cx="529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2997360" y="5019480"/>
            <a:ext cx="106200" cy="104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997360" y="5124600"/>
            <a:ext cx="106200" cy="106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008320" y="5124600"/>
            <a:ext cx="741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008680" y="5019480"/>
            <a:ext cx="106200" cy="104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008680" y="5124600"/>
            <a:ext cx="106200" cy="106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05800" y="4830840"/>
            <a:ext cx="1227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zmacniacz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902560" y="5041800"/>
            <a:ext cx="133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ygnału błę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394840" y="5737320"/>
            <a:ext cx="16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229960" y="55706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039160" y="5407200"/>
            <a:ext cx="77760" cy="745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30960" y="5124600"/>
            <a:ext cx="5302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230960" y="5019480"/>
            <a:ext cx="106560" cy="104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230960" y="5124600"/>
            <a:ext cx="106560" cy="106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761240" y="3220920"/>
            <a:ext cx="1800" cy="1903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721640" y="3184560"/>
            <a:ext cx="77760" cy="745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03200" y="5651640"/>
            <a:ext cx="6142320" cy="320400"/>
          </a:xfrm>
          <a:custGeom>
            <a:avLst/>
            <a:gdLst/>
            <a:ahLst/>
            <a:rect l="l" t="t" r="r" b="b"/>
            <a:pathLst>
              <a:path w="3869" h="202">
                <a:moveTo>
                  <a:pt x="0" y="0"/>
                </a:moveTo>
                <a:lnTo>
                  <a:pt x="0" y="34"/>
                </a:lnTo>
                <a:lnTo>
                  <a:pt x="62" y="67"/>
                </a:lnTo>
                <a:lnTo>
                  <a:pt x="188" y="102"/>
                </a:lnTo>
                <a:lnTo>
                  <a:pt x="316" y="118"/>
                </a:lnTo>
                <a:lnTo>
                  <a:pt x="1776" y="118"/>
                </a:lnTo>
                <a:lnTo>
                  <a:pt x="1901" y="202"/>
                </a:lnTo>
                <a:lnTo>
                  <a:pt x="2028" y="118"/>
                </a:lnTo>
                <a:lnTo>
                  <a:pt x="3552" y="118"/>
                </a:lnTo>
                <a:lnTo>
                  <a:pt x="3677" y="102"/>
                </a:lnTo>
                <a:lnTo>
                  <a:pt x="3806" y="67"/>
                </a:lnTo>
                <a:lnTo>
                  <a:pt x="3869" y="34"/>
                </a:lnTo>
                <a:lnTo>
                  <a:pt x="3869" y="0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33560" y="6064200"/>
            <a:ext cx="4239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kład regulacji współczynnika wypełnienia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14400" y="332748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/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1866960" y="930240"/>
            <a:ext cx="23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zw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k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2    1   2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konwertera napięcia stał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niżającego napięc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21000" y="912960"/>
            <a:ext cx="1440" cy="1787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425600" y="2604960"/>
            <a:ext cx="27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1425240" y="912960"/>
            <a:ext cx="9540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521000" y="912960"/>
            <a:ext cx="9360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059360" y="2511360"/>
            <a:ext cx="9504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4059360" y="2604960"/>
            <a:ext cx="95040" cy="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530360" y="2003400"/>
            <a:ext cx="2538360" cy="1440"/>
          </a:xfrm>
          <a:prstGeom prst="line">
            <a:avLst/>
          </a:prstGeom>
          <a:ln w="38160">
            <a:solidFill>
              <a:srgbClr val="ff33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1000" y="1476360"/>
            <a:ext cx="253836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521000" y="1476360"/>
            <a:ext cx="2538360" cy="1128600"/>
          </a:xfrm>
          <a:custGeom>
            <a:avLst/>
            <a:gdLst/>
            <a:ahLst/>
            <a:rect l="l" t="t" r="r" b="b"/>
            <a:pathLst>
              <a:path w="1599" h="711">
                <a:moveTo>
                  <a:pt x="0" y="711"/>
                </a:moveTo>
                <a:lnTo>
                  <a:pt x="237" y="711"/>
                </a:lnTo>
                <a:lnTo>
                  <a:pt x="237" y="0"/>
                </a:lnTo>
                <a:lnTo>
                  <a:pt x="474" y="0"/>
                </a:lnTo>
                <a:lnTo>
                  <a:pt x="474" y="711"/>
                </a:lnTo>
                <a:lnTo>
                  <a:pt x="711" y="711"/>
                </a:lnTo>
                <a:lnTo>
                  <a:pt x="711" y="0"/>
                </a:lnTo>
                <a:lnTo>
                  <a:pt x="888" y="0"/>
                </a:lnTo>
                <a:lnTo>
                  <a:pt x="948" y="0"/>
                </a:lnTo>
                <a:lnTo>
                  <a:pt x="948" y="711"/>
                </a:lnTo>
                <a:lnTo>
                  <a:pt x="1185" y="711"/>
                </a:lnTo>
                <a:lnTo>
                  <a:pt x="1185" y="0"/>
                </a:lnTo>
                <a:lnTo>
                  <a:pt x="1422" y="0"/>
                </a:lnTo>
                <a:lnTo>
                  <a:pt x="1422" y="711"/>
                </a:lnTo>
                <a:lnTo>
                  <a:pt x="1599" y="71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97200" y="2604960"/>
            <a:ext cx="1440" cy="752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49600" y="2604960"/>
            <a:ext cx="1440" cy="752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73400" y="2604960"/>
            <a:ext cx="1440" cy="376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897200" y="2981160"/>
            <a:ext cx="376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97200" y="3357720"/>
            <a:ext cx="75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897200" y="2887560"/>
            <a:ext cx="93600" cy="189000"/>
          </a:xfrm>
          <a:custGeom>
            <a:avLst/>
            <a:gdLst/>
            <a:ahLst/>
            <a:rect l="l" t="t" r="r" b="b"/>
            <a:pathLst>
              <a:path w="59" h="119">
                <a:moveTo>
                  <a:pt x="0" y="59"/>
                </a:moveTo>
                <a:lnTo>
                  <a:pt x="59" y="0"/>
                </a:lnTo>
                <a:lnTo>
                  <a:pt x="59" y="59"/>
                </a:lnTo>
                <a:lnTo>
                  <a:pt x="59" y="119"/>
                </a:lnTo>
                <a:lnTo>
                  <a:pt x="0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178000" y="2887560"/>
            <a:ext cx="95400" cy="189000"/>
          </a:xfrm>
          <a:custGeom>
            <a:avLst/>
            <a:gdLst/>
            <a:ahLst/>
            <a:rect l="l" t="t" r="r" b="b"/>
            <a:pathLst>
              <a:path w="60" h="119">
                <a:moveTo>
                  <a:pt x="60" y="59"/>
                </a:moveTo>
                <a:lnTo>
                  <a:pt x="0" y="0"/>
                </a:lnTo>
                <a:lnTo>
                  <a:pt x="0" y="119"/>
                </a:lnTo>
                <a:lnTo>
                  <a:pt x="60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897200" y="3263760"/>
            <a:ext cx="187200" cy="18900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0" y="59"/>
                </a:moveTo>
                <a:lnTo>
                  <a:pt x="118" y="0"/>
                </a:lnTo>
                <a:lnTo>
                  <a:pt x="118" y="119"/>
                </a:lnTo>
                <a:lnTo>
                  <a:pt x="0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60600" y="3263760"/>
            <a:ext cx="189000" cy="1890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119" y="59"/>
                </a:moveTo>
                <a:lnTo>
                  <a:pt x="0" y="0"/>
                </a:lnTo>
                <a:lnTo>
                  <a:pt x="0" y="119"/>
                </a:lnTo>
                <a:lnTo>
                  <a:pt x="119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77280" y="33782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990440" y="2603520"/>
            <a:ext cx="107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083680" y="2625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53680" y="27194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31640" y="15508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44080" y="14032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44080" y="1873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31280" y="20210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62120" y="873000"/>
            <a:ext cx="444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4943520" y="1120680"/>
                <a:ext cx="324180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δ</m:t>
                        </m:r>
                      </m:e>
                      <m:e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0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δT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  </m:t>
                                  </m:r>
                                  <m:r>
                                    <m:t xml:space="preserve">δT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 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>
            <a:off x="1763640" y="4003560"/>
            <a:ext cx="3194280" cy="130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amiana napię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łego 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 prostokątne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klucze tranzystorowe i diodow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815080" y="4014720"/>
            <a:ext cx="1341360" cy="130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182080" y="4162320"/>
            <a:ext cx="1440" cy="9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086680" y="4411800"/>
            <a:ext cx="189000" cy="46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280360" y="4149720"/>
            <a:ext cx="2062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154640" y="5118120"/>
            <a:ext cx="102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7145280" y="416556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4963680" y="41752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4954680" y="5127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1184040" y="4203720"/>
            <a:ext cx="5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27000" y="4384800"/>
            <a:ext cx="552600" cy="552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1184040" y="5184720"/>
            <a:ext cx="5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1203480" y="44514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193760" y="42037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84400" y="49370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22400" y="3654360"/>
            <a:ext cx="45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145840" y="3625920"/>
            <a:ext cx="71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433280" y="36925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5354640" y="44323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7688160" y="44514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11680" y="5621400"/>
            <a:ext cx="873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żeli proces kluczowania jest bezstratny i filtr LC też nie wnosi stra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prawność przetwarzan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457920" y="2624040"/>
            <a:ext cx="84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WERTERY WSPÓŁBIEŻNE (JEDNOTAKTO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werter współbieżny (jednotaktowy) - bezstrat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55920" y="3805200"/>
            <a:ext cx="1440" cy="1787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60520" y="5497560"/>
            <a:ext cx="27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1460160" y="3805200"/>
            <a:ext cx="9540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55920" y="3805200"/>
            <a:ext cx="9360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 flipV="1">
            <a:off x="4094280" y="5403960"/>
            <a:ext cx="9504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4094280" y="5497560"/>
            <a:ext cx="95040" cy="9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55920" y="4933800"/>
            <a:ext cx="2538360" cy="18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55920" y="4368960"/>
            <a:ext cx="253836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55920" y="4368960"/>
            <a:ext cx="2538360" cy="1128600"/>
          </a:xfrm>
          <a:custGeom>
            <a:avLst/>
            <a:gdLst/>
            <a:ahLst/>
            <a:rect l="l" t="t" r="r" b="b"/>
            <a:pathLst>
              <a:path w="1599" h="711">
                <a:moveTo>
                  <a:pt x="0" y="711"/>
                </a:moveTo>
                <a:lnTo>
                  <a:pt x="237" y="711"/>
                </a:lnTo>
                <a:lnTo>
                  <a:pt x="237" y="0"/>
                </a:lnTo>
                <a:lnTo>
                  <a:pt x="474" y="0"/>
                </a:lnTo>
                <a:lnTo>
                  <a:pt x="474" y="711"/>
                </a:lnTo>
                <a:lnTo>
                  <a:pt x="711" y="711"/>
                </a:lnTo>
                <a:lnTo>
                  <a:pt x="711" y="0"/>
                </a:lnTo>
                <a:lnTo>
                  <a:pt x="888" y="0"/>
                </a:lnTo>
                <a:lnTo>
                  <a:pt x="948" y="0"/>
                </a:lnTo>
                <a:lnTo>
                  <a:pt x="948" y="711"/>
                </a:lnTo>
                <a:lnTo>
                  <a:pt x="1185" y="711"/>
                </a:lnTo>
                <a:lnTo>
                  <a:pt x="1185" y="0"/>
                </a:lnTo>
                <a:lnTo>
                  <a:pt x="1422" y="0"/>
                </a:lnTo>
                <a:lnTo>
                  <a:pt x="1422" y="711"/>
                </a:lnTo>
                <a:lnTo>
                  <a:pt x="1599" y="71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32120" y="5497560"/>
            <a:ext cx="1440" cy="75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84520" y="5497560"/>
            <a:ext cx="1440" cy="75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308320" y="5497560"/>
            <a:ext cx="1440" cy="376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932120" y="5873760"/>
            <a:ext cx="376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932120" y="6249960"/>
            <a:ext cx="75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932120" y="5780160"/>
            <a:ext cx="93600" cy="189000"/>
          </a:xfrm>
          <a:custGeom>
            <a:avLst/>
            <a:gdLst/>
            <a:ahLst/>
            <a:rect l="l" t="t" r="r" b="b"/>
            <a:pathLst>
              <a:path w="59" h="119">
                <a:moveTo>
                  <a:pt x="0" y="59"/>
                </a:moveTo>
                <a:lnTo>
                  <a:pt x="59" y="0"/>
                </a:lnTo>
                <a:lnTo>
                  <a:pt x="59" y="59"/>
                </a:lnTo>
                <a:lnTo>
                  <a:pt x="59" y="119"/>
                </a:lnTo>
                <a:lnTo>
                  <a:pt x="0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212920" y="5780160"/>
            <a:ext cx="95400" cy="189000"/>
          </a:xfrm>
          <a:custGeom>
            <a:avLst/>
            <a:gdLst/>
            <a:ahLst/>
            <a:rect l="l" t="t" r="r" b="b"/>
            <a:pathLst>
              <a:path w="60" h="119">
                <a:moveTo>
                  <a:pt x="60" y="59"/>
                </a:moveTo>
                <a:lnTo>
                  <a:pt x="0" y="0"/>
                </a:lnTo>
                <a:lnTo>
                  <a:pt x="0" y="119"/>
                </a:lnTo>
                <a:lnTo>
                  <a:pt x="60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32120" y="6156360"/>
            <a:ext cx="187200" cy="18900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0" y="59"/>
                </a:moveTo>
                <a:lnTo>
                  <a:pt x="118" y="0"/>
                </a:lnTo>
                <a:lnTo>
                  <a:pt x="118" y="119"/>
                </a:lnTo>
                <a:lnTo>
                  <a:pt x="0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95520" y="6156360"/>
            <a:ext cx="189000" cy="1890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119" y="59"/>
                </a:moveTo>
                <a:lnTo>
                  <a:pt x="0" y="0"/>
                </a:lnTo>
                <a:lnTo>
                  <a:pt x="0" y="119"/>
                </a:lnTo>
                <a:lnTo>
                  <a:pt x="119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212200" y="62704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308320" y="333540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460520" y="1360440"/>
            <a:ext cx="1440" cy="197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73320" y="1924200"/>
            <a:ext cx="376200" cy="376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60520" y="2017800"/>
            <a:ext cx="1440" cy="18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1366920" y="2017800"/>
            <a:ext cx="93600" cy="9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460520" y="2017800"/>
            <a:ext cx="95400" cy="9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460520" y="1360440"/>
            <a:ext cx="847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08320" y="136044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308320" y="1736640"/>
            <a:ext cx="1440" cy="159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460520" y="3335400"/>
            <a:ext cx="5645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89120" y="1643040"/>
            <a:ext cx="941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118960" y="1547280"/>
            <a:ext cx="469800" cy="95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530520" y="1547640"/>
            <a:ext cx="187560" cy="18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718080" y="1547640"/>
            <a:ext cx="188640" cy="18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906720" y="1547640"/>
            <a:ext cx="187560" cy="18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94280" y="1547640"/>
            <a:ext cx="188640" cy="18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30520" y="1643040"/>
            <a:ext cx="752400" cy="18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282920" y="1643040"/>
            <a:ext cx="2822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105680" y="1643040"/>
            <a:ext cx="1440" cy="16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010280" y="2206800"/>
            <a:ext cx="189000" cy="46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99080" y="1643040"/>
            <a:ext cx="1800" cy="750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599080" y="2489040"/>
            <a:ext cx="1800" cy="84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411880" y="2489040"/>
            <a:ext cx="376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11880" y="2394000"/>
            <a:ext cx="376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934640" y="909720"/>
            <a:ext cx="101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lucze a i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284000" y="109872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ltr 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635160" y="109872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bciąże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932120" y="250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79360" y="180972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788080" y="209232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718080" y="1098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06000" y="12463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30520" y="1454040"/>
            <a:ext cx="752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3530520" y="1360440"/>
            <a:ext cx="93600" cy="9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30520" y="1454040"/>
            <a:ext cx="93600" cy="9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836720" y="1830240"/>
            <a:ext cx="2257560" cy="141156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742400" y="2884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118600" y="1379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118960" y="1662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25360" y="2655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k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2212560" y="2865600"/>
            <a:ext cx="95400" cy="9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08320" y="2865600"/>
            <a:ext cx="93600" cy="9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495520" y="2017800"/>
            <a:ext cx="1503360" cy="103500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64960" y="27907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41520" y="1736640"/>
            <a:ext cx="1800" cy="150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3247920" y="1736640"/>
            <a:ext cx="93600" cy="1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41520" y="1736640"/>
            <a:ext cx="95400" cy="1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39080" y="2414520"/>
            <a:ext cx="49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   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623760" y="2562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694480" y="1944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941720" y="1285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052240" y="13795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203960" y="1944720"/>
            <a:ext cx="2062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906000" y="1662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81320" y="2320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990360" y="16621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446880" y="1736640"/>
            <a:ext cx="1440" cy="150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353280" y="1736640"/>
            <a:ext cx="93600" cy="1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446880" y="1736640"/>
            <a:ext cx="93600" cy="1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540120" y="2414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28760" y="2562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60520" y="1003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555560" y="1152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k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>
            <a:off x="1743120" y="1266840"/>
            <a:ext cx="93600" cy="9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743120" y="1360440"/>
            <a:ext cx="93600" cy="9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 flipV="1">
            <a:off x="5222520" y="1547280"/>
            <a:ext cx="95400" cy="95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5222520" y="1643040"/>
            <a:ext cx="95400" cy="9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5505480" y="2112840"/>
            <a:ext cx="189000" cy="93600"/>
            <a:chOff x="5505480" y="2112840"/>
            <a:chExt cx="189000" cy="93600"/>
          </a:xfrm>
        </p:grpSpPr>
        <p:sp>
          <p:nvSpPr>
            <p:cNvPr id="725" name=""/>
            <p:cNvSpPr/>
            <p:nvPr/>
          </p:nvSpPr>
          <p:spPr>
            <a:xfrm flipH="1" flipV="1">
              <a:off x="5505480" y="2112840"/>
              <a:ext cx="93600" cy="9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5599080" y="2112840"/>
              <a:ext cx="95400" cy="9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5881680" y="119700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976720" y="1344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6070680" y="1459080"/>
            <a:ext cx="93600" cy="95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070680" y="1554120"/>
            <a:ext cx="93600" cy="93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74840" y="3303720"/>
            <a:ext cx="65160" cy="64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74840" y="1704960"/>
            <a:ext cx="65160" cy="65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274840" y="1517760"/>
            <a:ext cx="65160" cy="63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567400" y="3303720"/>
            <a:ext cx="65160" cy="64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67400" y="1609560"/>
            <a:ext cx="65160" cy="63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413400" y="3303720"/>
            <a:ext cx="66600" cy="64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413400" y="1611360"/>
            <a:ext cx="66600" cy="63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212920" y="3522600"/>
            <a:ext cx="189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401560" y="1263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494800" y="12859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25360" y="5495760"/>
            <a:ext cx="107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18600" y="55180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649160" y="3637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89680" y="56116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366560" y="44434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79000" y="42958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79000" y="47656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66200" y="4913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742400" y="3784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5006880" y="4075200"/>
                <a:ext cx="2914920" cy="24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δ</m:t>
                        </m:r>
                      </m:e>
                      <m:e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0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δT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  </m:t>
                                  </m:r>
                                  <m:r>
                                    <m:t xml:space="preserve">δT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 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1" name=""/>
          <p:cNvSpPr/>
          <p:nvPr/>
        </p:nvSpPr>
        <p:spPr>
          <a:xfrm flipH="1">
            <a:off x="1235880" y="3597120"/>
            <a:ext cx="865080" cy="704880"/>
          </a:xfrm>
          <a:prstGeom prst="wedgeEllipseCallout">
            <a:avLst>
              <a:gd name="adj1" fmla="val -183763"/>
              <a:gd name="adj2" fmla="val -205634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636440" y="3892680"/>
            <a:ext cx="865080" cy="704880"/>
          </a:xfrm>
          <a:prstGeom prst="wedgeEllipseCallout">
            <a:avLst>
              <a:gd name="adj1" fmla="val -151287"/>
              <a:gd name="adj2" fmla="val -221171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 rot="16223400">
            <a:off x="-192960" y="2467440"/>
            <a:ext cx="205596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zebiegi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konw. współbież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046240" y="390600"/>
            <a:ext cx="180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73160" y="1082520"/>
            <a:ext cx="6083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1972800" y="390600"/>
            <a:ext cx="7308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46240" y="390600"/>
            <a:ext cx="7164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 flipV="1">
            <a:off x="7983000" y="1023480"/>
            <a:ext cx="7308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7983000" y="1082520"/>
            <a:ext cx="7308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046240" y="1312920"/>
            <a:ext cx="1800" cy="75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973160" y="2006640"/>
            <a:ext cx="6083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1972800" y="1312920"/>
            <a:ext cx="7308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046240" y="1312920"/>
            <a:ext cx="716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7983000" y="1947600"/>
            <a:ext cx="7308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7983000" y="2006640"/>
            <a:ext cx="7308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6240" y="2236680"/>
            <a:ext cx="1800" cy="75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73160" y="2928960"/>
            <a:ext cx="6083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1972800" y="2236680"/>
            <a:ext cx="7308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046240" y="2236680"/>
            <a:ext cx="7164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7983000" y="2871360"/>
            <a:ext cx="7308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7983000" y="2928960"/>
            <a:ext cx="7308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046240" y="3160800"/>
            <a:ext cx="1800" cy="75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973160" y="3852720"/>
            <a:ext cx="6083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1972800" y="3160800"/>
            <a:ext cx="7308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046240" y="3160800"/>
            <a:ext cx="7164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7983000" y="3795840"/>
            <a:ext cx="73080" cy="5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7983000" y="3852720"/>
            <a:ext cx="73080" cy="5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046240" y="4025880"/>
            <a:ext cx="1800" cy="75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973160" y="4719600"/>
            <a:ext cx="6083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1972800" y="4025880"/>
            <a:ext cx="7308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046240" y="4025880"/>
            <a:ext cx="716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7983000" y="4660560"/>
            <a:ext cx="7308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7983000" y="4719600"/>
            <a:ext cx="7308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046240" y="4892760"/>
            <a:ext cx="180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973160" y="5238720"/>
            <a:ext cx="60832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1972800" y="4892760"/>
            <a:ext cx="7308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046240" y="4892760"/>
            <a:ext cx="7164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983000" y="5179680"/>
            <a:ext cx="73080" cy="116280"/>
            <a:chOff x="7983000" y="5179680"/>
            <a:chExt cx="73080" cy="116280"/>
          </a:xfrm>
        </p:grpSpPr>
        <p:sp>
          <p:nvSpPr>
            <p:cNvPr id="789" name=""/>
            <p:cNvSpPr/>
            <p:nvPr/>
          </p:nvSpPr>
          <p:spPr>
            <a:xfrm flipH="1" flipV="1">
              <a:off x="7983000" y="5179680"/>
              <a:ext cx="73080" cy="5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7983000" y="5238720"/>
              <a:ext cx="7308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 flipV="1">
            <a:off x="2697120" y="1082160"/>
            <a:ext cx="1800" cy="531036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3929040" y="1082160"/>
            <a:ext cx="1440" cy="531036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521320" y="1082160"/>
            <a:ext cx="1440" cy="531036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6753240" y="1082160"/>
            <a:ext cx="1440" cy="531036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046240" y="1082520"/>
            <a:ext cx="650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697120" y="736200"/>
            <a:ext cx="180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697120" y="736560"/>
            <a:ext cx="1231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929040" y="736560"/>
            <a:ext cx="144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29040" y="1082520"/>
            <a:ext cx="159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5521320" y="736200"/>
            <a:ext cx="144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521320" y="736560"/>
            <a:ext cx="1231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753240" y="736560"/>
            <a:ext cx="144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753240" y="1082520"/>
            <a:ext cx="723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2697120" y="331920"/>
            <a:ext cx="1800" cy="40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5521320" y="331920"/>
            <a:ext cx="1440" cy="40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046240" y="1486080"/>
            <a:ext cx="5430960" cy="522000"/>
            <a:chOff x="2046240" y="1486080"/>
            <a:chExt cx="5430960" cy="522000"/>
          </a:xfrm>
        </p:grpSpPr>
        <p:sp>
          <p:nvSpPr>
            <p:cNvPr id="807" name=""/>
            <p:cNvSpPr/>
            <p:nvPr/>
          </p:nvSpPr>
          <p:spPr>
            <a:xfrm>
              <a:off x="2046240" y="2006640"/>
              <a:ext cx="65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697120" y="1486080"/>
              <a:ext cx="1800" cy="5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97120" y="1486080"/>
              <a:ext cx="1231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929040" y="1486080"/>
              <a:ext cx="1440" cy="5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29040" y="2006640"/>
              <a:ext cx="1592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5521320" y="1486080"/>
              <a:ext cx="1440" cy="5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521320" y="1486080"/>
              <a:ext cx="1231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753240" y="1486080"/>
              <a:ext cx="1440" cy="5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753240" y="2006640"/>
              <a:ext cx="723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2046240" y="1486080"/>
            <a:ext cx="5575320" cy="144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046240" y="1774800"/>
            <a:ext cx="55753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046240" y="2583000"/>
            <a:ext cx="650880" cy="17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697120" y="2525400"/>
            <a:ext cx="1231920" cy="23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929040" y="2525760"/>
            <a:ext cx="1592280" cy="23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5521320" y="2525400"/>
            <a:ext cx="1231920" cy="23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53240" y="2525760"/>
            <a:ext cx="723960" cy="17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046240" y="2525760"/>
            <a:ext cx="57196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046240" y="2641680"/>
            <a:ext cx="5719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046240" y="2755800"/>
            <a:ext cx="571968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046240" y="3449520"/>
            <a:ext cx="571968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46240" y="3564000"/>
            <a:ext cx="57196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046240" y="3679920"/>
            <a:ext cx="57196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46240" y="3449520"/>
            <a:ext cx="5719680" cy="403200"/>
          </a:xfrm>
          <a:custGeom>
            <a:avLst/>
            <a:gdLst/>
            <a:ahLst/>
            <a:rect l="l" t="t" r="r" b="b"/>
            <a:pathLst>
              <a:path w="7207" h="509">
                <a:moveTo>
                  <a:pt x="0" y="509"/>
                </a:moveTo>
                <a:lnTo>
                  <a:pt x="821" y="509"/>
                </a:lnTo>
                <a:lnTo>
                  <a:pt x="821" y="291"/>
                </a:lnTo>
                <a:lnTo>
                  <a:pt x="2372" y="0"/>
                </a:lnTo>
                <a:lnTo>
                  <a:pt x="2372" y="509"/>
                </a:lnTo>
                <a:lnTo>
                  <a:pt x="4379" y="509"/>
                </a:lnTo>
                <a:lnTo>
                  <a:pt x="4379" y="291"/>
                </a:lnTo>
                <a:lnTo>
                  <a:pt x="5929" y="0"/>
                </a:lnTo>
                <a:lnTo>
                  <a:pt x="5929" y="509"/>
                </a:lnTo>
                <a:lnTo>
                  <a:pt x="7207" y="50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46240" y="4257720"/>
            <a:ext cx="57196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046240" y="4371840"/>
            <a:ext cx="57196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046240" y="4487760"/>
            <a:ext cx="571968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046240" y="4257720"/>
            <a:ext cx="5937120" cy="461880"/>
          </a:xfrm>
          <a:custGeom>
            <a:avLst/>
            <a:gdLst/>
            <a:ahLst/>
            <a:rect l="l" t="t" r="r" b="b"/>
            <a:pathLst>
              <a:path w="7480" h="582">
                <a:moveTo>
                  <a:pt x="0" y="146"/>
                </a:moveTo>
                <a:lnTo>
                  <a:pt x="821" y="291"/>
                </a:lnTo>
                <a:lnTo>
                  <a:pt x="821" y="582"/>
                </a:lnTo>
                <a:lnTo>
                  <a:pt x="2372" y="582"/>
                </a:lnTo>
                <a:lnTo>
                  <a:pt x="2372" y="0"/>
                </a:lnTo>
                <a:lnTo>
                  <a:pt x="4379" y="291"/>
                </a:lnTo>
                <a:lnTo>
                  <a:pt x="4379" y="582"/>
                </a:lnTo>
                <a:lnTo>
                  <a:pt x="5929" y="582"/>
                </a:lnTo>
                <a:lnTo>
                  <a:pt x="5929" y="0"/>
                </a:lnTo>
                <a:lnTo>
                  <a:pt x="7480" y="2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046240" y="5122800"/>
            <a:ext cx="571968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046240" y="5354640"/>
            <a:ext cx="57196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046240" y="5122800"/>
            <a:ext cx="5719680" cy="231840"/>
          </a:xfrm>
          <a:custGeom>
            <a:avLst/>
            <a:gdLst/>
            <a:ahLst/>
            <a:rect l="l" t="t" r="r" b="b"/>
            <a:pathLst>
              <a:path w="7207" h="291">
                <a:moveTo>
                  <a:pt x="0" y="146"/>
                </a:moveTo>
                <a:lnTo>
                  <a:pt x="821" y="291"/>
                </a:lnTo>
                <a:lnTo>
                  <a:pt x="2372" y="0"/>
                </a:lnTo>
                <a:lnTo>
                  <a:pt x="4379" y="291"/>
                </a:lnTo>
                <a:lnTo>
                  <a:pt x="5929" y="0"/>
                </a:lnTo>
                <a:lnTo>
                  <a:pt x="7207" y="2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46240" y="5700600"/>
            <a:ext cx="180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973160" y="6392880"/>
            <a:ext cx="6083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1972800" y="5700600"/>
            <a:ext cx="7308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046240" y="5700600"/>
            <a:ext cx="7164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7983000" y="6335280"/>
            <a:ext cx="7308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7983000" y="6392880"/>
            <a:ext cx="7308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046240" y="5931000"/>
            <a:ext cx="57196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046240" y="6046920"/>
            <a:ext cx="5719680" cy="144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046240" y="6162840"/>
            <a:ext cx="57196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349800" y="5238720"/>
            <a:ext cx="1440" cy="115416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726080" y="5238720"/>
            <a:ext cx="1440" cy="115416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73640" y="5238720"/>
            <a:ext cx="1800" cy="115416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046240" y="5931000"/>
            <a:ext cx="4707000" cy="231840"/>
          </a:xfrm>
          <a:custGeom>
            <a:avLst/>
            <a:gdLst/>
            <a:ahLst/>
            <a:rect l="l" t="t" r="r" b="b"/>
            <a:pathLst>
              <a:path w="5929" h="291">
                <a:moveTo>
                  <a:pt x="0" y="0"/>
                </a:moveTo>
                <a:lnTo>
                  <a:pt x="547" y="73"/>
                </a:lnTo>
                <a:lnTo>
                  <a:pt x="1003" y="218"/>
                </a:lnTo>
                <a:lnTo>
                  <a:pt x="1642" y="291"/>
                </a:lnTo>
                <a:lnTo>
                  <a:pt x="2189" y="218"/>
                </a:lnTo>
                <a:lnTo>
                  <a:pt x="2554" y="73"/>
                </a:lnTo>
                <a:lnTo>
                  <a:pt x="3284" y="0"/>
                </a:lnTo>
                <a:lnTo>
                  <a:pt x="3466" y="0"/>
                </a:lnTo>
                <a:lnTo>
                  <a:pt x="4196" y="73"/>
                </a:lnTo>
                <a:lnTo>
                  <a:pt x="4561" y="218"/>
                </a:lnTo>
                <a:lnTo>
                  <a:pt x="5200" y="291"/>
                </a:lnTo>
                <a:lnTo>
                  <a:pt x="5929" y="218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697120" y="331920"/>
            <a:ext cx="282420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2697120" y="274320"/>
            <a:ext cx="7308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697120" y="331920"/>
            <a:ext cx="7308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 flipV="1">
            <a:off x="5450040" y="274320"/>
            <a:ext cx="7128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5450040" y="331920"/>
            <a:ext cx="7128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265280" y="3697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056080" y="12096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983360" y="2076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983000" y="30574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983000" y="39225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056080" y="47894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983000" y="5365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056080" y="64627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69840" y="115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594040" y="115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999960" y="115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824160" y="115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76360" y="8287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725720" y="8287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100560" y="8287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17240" y="600120"/>
            <a:ext cx="1521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gnał sterują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lucz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531080" y="1249200"/>
            <a:ext cx="182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25600" y="1176480"/>
            <a:ext cx="209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988720" y="230652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i    /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31640" y="23972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581000" y="230652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i    /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725720" y="23972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927920" y="2279520"/>
            <a:ext cx="82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948440" y="2585880"/>
            <a:ext cx="9082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765560" y="3633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988720" y="32306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i    /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131640" y="33210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831680" y="245736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Times New Roman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796760" y="344808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Times New Roman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577520" y="2133720"/>
            <a:ext cx="1454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599120" y="3057480"/>
            <a:ext cx="19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509720" y="403848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i    /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652640" y="4129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64200" y="3922560"/>
            <a:ext cx="199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796760" y="437040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Times New Roman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349800" y="5122800"/>
            <a:ext cx="1376280" cy="115920"/>
          </a:xfrm>
          <a:custGeom>
            <a:avLst/>
            <a:gdLst/>
            <a:ahLst/>
            <a:rect l="l" t="t" r="r" b="b"/>
            <a:pathLst>
              <a:path w="1733" h="146">
                <a:moveTo>
                  <a:pt x="0" y="146"/>
                </a:moveTo>
                <a:lnTo>
                  <a:pt x="1733" y="146"/>
                </a:lnTo>
                <a:lnTo>
                  <a:pt x="730" y="0"/>
                </a:lnTo>
                <a:lnTo>
                  <a:pt x="0" y="14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421080" y="4846680"/>
            <a:ext cx="23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Q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638520" y="5006880"/>
            <a:ext cx="217440" cy="17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604520" y="4789440"/>
            <a:ext cx="15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8480" y="5006880"/>
            <a:ext cx="1800" cy="52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 flipV="1">
            <a:off x="7477200" y="5065200"/>
            <a:ext cx="7128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7548480" y="5065200"/>
            <a:ext cx="7308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7477200" y="5354640"/>
            <a:ext cx="7128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548480" y="5354640"/>
            <a:ext cx="7308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403760" y="552600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548480" y="5538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621560" y="563076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654920" y="5562720"/>
            <a:ext cx="182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625480" y="6462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449320" y="6462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855600" y="6462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679800" y="6462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276360" y="6462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652640" y="6462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100200" y="6462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546200" y="5884920"/>
            <a:ext cx="43668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332840" y="5815080"/>
            <a:ext cx="1440" cy="52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 flipV="1">
            <a:off x="7259400" y="5873400"/>
            <a:ext cx="7308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7332840" y="5873400"/>
            <a:ext cx="7128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7259400" y="6162840"/>
            <a:ext cx="73080" cy="5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332840" y="6162840"/>
            <a:ext cx="71280" cy="5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403760" y="621972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548120" y="62326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621200" y="63230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681200" y="1555920"/>
            <a:ext cx="3142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1" lang="en-US" sz="1800" spc="-1" strike="noStrike" baseline="-25000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065320"/>
            <a:ext cx="9144000" cy="3506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witching power supplies - zasilacz impulsow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onverter DC/DC - przetwornica napięcia stał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napięcie stał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zęść zasilacza impulsow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inear regulator - stabilizator kompensacyj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54360" y="51768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olo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biegi w konwerterze współbieżnym, bezstra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043520" y="4027320"/>
            <a:ext cx="49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509520" y="40244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387360" y="1568520"/>
                <a:ext cx="4724280" cy="44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+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i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dla t</m:t>
                        </m:r>
                        <m:r>
                          <m:t xml:space="preserve">Î</m:t>
                        </m:r>
                        <m:r>
                          <m:t xml:space="preserve">⟨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+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a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dla t</m:t>
                        </m:r>
                        <m:r>
                          <m:t xml:space="preserve">Î</m:t>
                        </m:r>
                        <m:r>
                          <m:t xml:space="preserve">⟨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i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i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L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L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052960" y="3624120"/>
                <a:ext cx="3716280" cy="232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t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b>
                          <m:e>
                            <m: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LC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>
                              <m:t xml:space="preserve">d</m:t>
                            </m:r>
                          </m:e>
                        </m:d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biegi prądu przy obciążeniu nadkrytycznym, krytyczny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podkrytycznym w 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werterze współbieżnym, bezstra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81000" y="1324080"/>
            <a:ext cx="1800" cy="15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981000" y="2882880"/>
            <a:ext cx="7478640" cy="3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flipV="1">
            <a:off x="8356680" y="2777760"/>
            <a:ext cx="102960" cy="1047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8356680" y="2882880"/>
            <a:ext cx="102960" cy="1033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878040" y="1324080"/>
            <a:ext cx="102960" cy="1047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981000" y="1324080"/>
            <a:ext cx="104760" cy="1047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981000" y="3297240"/>
            <a:ext cx="1800" cy="15573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981000" y="4854600"/>
            <a:ext cx="747864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 flipV="1">
            <a:off x="8356680" y="4750920"/>
            <a:ext cx="102960" cy="1033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8356680" y="4854600"/>
            <a:ext cx="102960" cy="1047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878040" y="3297240"/>
            <a:ext cx="102960" cy="1047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981000" y="3297240"/>
            <a:ext cx="104760" cy="1047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397160" y="2882880"/>
            <a:ext cx="1440" cy="1971720"/>
          </a:xfrm>
          <a:prstGeom prst="line">
            <a:avLst/>
          </a:prstGeom>
          <a:ln w="14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24000" y="2882880"/>
            <a:ext cx="1800" cy="1971720"/>
          </a:xfrm>
          <a:prstGeom prst="line">
            <a:avLst/>
          </a:prstGeom>
          <a:ln w="14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51200" y="2882880"/>
            <a:ext cx="1440" cy="1971720"/>
          </a:xfrm>
          <a:prstGeom prst="line">
            <a:avLst/>
          </a:prstGeom>
          <a:ln w="14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578400" y="2882880"/>
            <a:ext cx="1440" cy="1971720"/>
          </a:xfrm>
          <a:prstGeom prst="line">
            <a:avLst/>
          </a:prstGeom>
          <a:ln w="14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305240" y="2882880"/>
            <a:ext cx="1800" cy="1971720"/>
          </a:xfrm>
          <a:prstGeom prst="line">
            <a:avLst/>
          </a:prstGeom>
          <a:ln w="14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032440" y="2882880"/>
            <a:ext cx="1440" cy="1971720"/>
          </a:xfrm>
          <a:prstGeom prst="line">
            <a:avLst/>
          </a:prstGeom>
          <a:ln w="14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59280" y="2882880"/>
            <a:ext cx="1800" cy="1971720"/>
          </a:xfrm>
          <a:prstGeom prst="line">
            <a:avLst/>
          </a:prstGeom>
          <a:ln w="14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86480" y="2882880"/>
            <a:ext cx="1800" cy="1971720"/>
          </a:xfrm>
          <a:prstGeom prst="line">
            <a:avLst/>
          </a:prstGeom>
          <a:ln w="14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213680" y="2882880"/>
            <a:ext cx="1440" cy="1971720"/>
          </a:xfrm>
          <a:prstGeom prst="line">
            <a:avLst/>
          </a:prstGeom>
          <a:ln w="14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940520" y="2882880"/>
            <a:ext cx="1800" cy="1971720"/>
          </a:xfrm>
          <a:prstGeom prst="line">
            <a:avLst/>
          </a:prstGeom>
          <a:ln w="14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981000" y="2138400"/>
            <a:ext cx="6977160" cy="760320"/>
          </a:xfrm>
          <a:custGeom>
            <a:avLst/>
            <a:gdLst/>
            <a:ahLst/>
            <a:rect l="l" t="t" r="r" b="b"/>
            <a:pathLst>
              <a:path w="4395" h="479">
                <a:moveTo>
                  <a:pt x="0" y="458"/>
                </a:moveTo>
                <a:lnTo>
                  <a:pt x="0" y="479"/>
                </a:lnTo>
                <a:lnTo>
                  <a:pt x="262" y="479"/>
                </a:lnTo>
                <a:lnTo>
                  <a:pt x="262" y="479"/>
                </a:lnTo>
                <a:lnTo>
                  <a:pt x="270" y="476"/>
                </a:lnTo>
                <a:lnTo>
                  <a:pt x="273" y="469"/>
                </a:lnTo>
                <a:lnTo>
                  <a:pt x="273" y="469"/>
                </a:lnTo>
                <a:lnTo>
                  <a:pt x="273" y="11"/>
                </a:lnTo>
                <a:lnTo>
                  <a:pt x="262" y="11"/>
                </a:lnTo>
                <a:lnTo>
                  <a:pt x="262" y="21"/>
                </a:lnTo>
                <a:lnTo>
                  <a:pt x="270" y="19"/>
                </a:lnTo>
                <a:lnTo>
                  <a:pt x="273" y="11"/>
                </a:lnTo>
                <a:lnTo>
                  <a:pt x="262" y="21"/>
                </a:lnTo>
                <a:lnTo>
                  <a:pt x="720" y="21"/>
                </a:lnTo>
                <a:lnTo>
                  <a:pt x="720" y="11"/>
                </a:lnTo>
                <a:lnTo>
                  <a:pt x="712" y="19"/>
                </a:lnTo>
                <a:lnTo>
                  <a:pt x="710" y="11"/>
                </a:lnTo>
                <a:lnTo>
                  <a:pt x="710" y="469"/>
                </a:lnTo>
                <a:lnTo>
                  <a:pt x="712" y="476"/>
                </a:lnTo>
                <a:lnTo>
                  <a:pt x="720" y="479"/>
                </a:lnTo>
                <a:lnTo>
                  <a:pt x="1178" y="479"/>
                </a:lnTo>
                <a:lnTo>
                  <a:pt x="1178" y="479"/>
                </a:lnTo>
                <a:lnTo>
                  <a:pt x="1186" y="476"/>
                </a:lnTo>
                <a:lnTo>
                  <a:pt x="1189" y="469"/>
                </a:lnTo>
                <a:lnTo>
                  <a:pt x="1189" y="469"/>
                </a:lnTo>
                <a:lnTo>
                  <a:pt x="1189" y="11"/>
                </a:lnTo>
                <a:lnTo>
                  <a:pt x="1178" y="11"/>
                </a:lnTo>
                <a:lnTo>
                  <a:pt x="1178" y="21"/>
                </a:lnTo>
                <a:lnTo>
                  <a:pt x="1186" y="19"/>
                </a:lnTo>
                <a:lnTo>
                  <a:pt x="1189" y="11"/>
                </a:lnTo>
                <a:lnTo>
                  <a:pt x="1178" y="21"/>
                </a:lnTo>
                <a:lnTo>
                  <a:pt x="1636" y="21"/>
                </a:lnTo>
                <a:lnTo>
                  <a:pt x="1636" y="11"/>
                </a:lnTo>
                <a:lnTo>
                  <a:pt x="1628" y="19"/>
                </a:lnTo>
                <a:lnTo>
                  <a:pt x="1626" y="11"/>
                </a:lnTo>
                <a:lnTo>
                  <a:pt x="1626" y="469"/>
                </a:lnTo>
                <a:lnTo>
                  <a:pt x="1628" y="476"/>
                </a:lnTo>
                <a:lnTo>
                  <a:pt x="1636" y="479"/>
                </a:lnTo>
                <a:lnTo>
                  <a:pt x="2094" y="479"/>
                </a:lnTo>
                <a:lnTo>
                  <a:pt x="2094" y="479"/>
                </a:lnTo>
                <a:lnTo>
                  <a:pt x="2102" y="476"/>
                </a:lnTo>
                <a:lnTo>
                  <a:pt x="2105" y="469"/>
                </a:lnTo>
                <a:lnTo>
                  <a:pt x="2105" y="469"/>
                </a:lnTo>
                <a:lnTo>
                  <a:pt x="2105" y="11"/>
                </a:lnTo>
                <a:lnTo>
                  <a:pt x="2094" y="11"/>
                </a:lnTo>
                <a:lnTo>
                  <a:pt x="2094" y="21"/>
                </a:lnTo>
                <a:lnTo>
                  <a:pt x="2102" y="19"/>
                </a:lnTo>
                <a:lnTo>
                  <a:pt x="2105" y="11"/>
                </a:lnTo>
                <a:lnTo>
                  <a:pt x="2094" y="21"/>
                </a:lnTo>
                <a:lnTo>
                  <a:pt x="2552" y="21"/>
                </a:lnTo>
                <a:lnTo>
                  <a:pt x="2552" y="11"/>
                </a:lnTo>
                <a:lnTo>
                  <a:pt x="2544" y="19"/>
                </a:lnTo>
                <a:lnTo>
                  <a:pt x="2542" y="11"/>
                </a:lnTo>
                <a:lnTo>
                  <a:pt x="2542" y="469"/>
                </a:lnTo>
                <a:lnTo>
                  <a:pt x="2544" y="476"/>
                </a:lnTo>
                <a:lnTo>
                  <a:pt x="2552" y="479"/>
                </a:lnTo>
                <a:lnTo>
                  <a:pt x="3010" y="479"/>
                </a:lnTo>
                <a:lnTo>
                  <a:pt x="3010" y="479"/>
                </a:lnTo>
                <a:lnTo>
                  <a:pt x="3018" y="476"/>
                </a:lnTo>
                <a:lnTo>
                  <a:pt x="3021" y="469"/>
                </a:lnTo>
                <a:lnTo>
                  <a:pt x="3021" y="469"/>
                </a:lnTo>
                <a:lnTo>
                  <a:pt x="3021" y="11"/>
                </a:lnTo>
                <a:lnTo>
                  <a:pt x="3010" y="11"/>
                </a:lnTo>
                <a:lnTo>
                  <a:pt x="3010" y="21"/>
                </a:lnTo>
                <a:lnTo>
                  <a:pt x="3018" y="19"/>
                </a:lnTo>
                <a:lnTo>
                  <a:pt x="3021" y="11"/>
                </a:lnTo>
                <a:lnTo>
                  <a:pt x="3010" y="21"/>
                </a:lnTo>
                <a:lnTo>
                  <a:pt x="3468" y="21"/>
                </a:lnTo>
                <a:lnTo>
                  <a:pt x="3468" y="11"/>
                </a:lnTo>
                <a:lnTo>
                  <a:pt x="3460" y="19"/>
                </a:lnTo>
                <a:lnTo>
                  <a:pt x="3458" y="11"/>
                </a:lnTo>
                <a:lnTo>
                  <a:pt x="3458" y="469"/>
                </a:lnTo>
                <a:lnTo>
                  <a:pt x="3460" y="476"/>
                </a:lnTo>
                <a:lnTo>
                  <a:pt x="3468" y="479"/>
                </a:lnTo>
                <a:lnTo>
                  <a:pt x="3926" y="479"/>
                </a:lnTo>
                <a:lnTo>
                  <a:pt x="3926" y="479"/>
                </a:lnTo>
                <a:lnTo>
                  <a:pt x="3934" y="476"/>
                </a:lnTo>
                <a:lnTo>
                  <a:pt x="3937" y="469"/>
                </a:lnTo>
                <a:lnTo>
                  <a:pt x="3937" y="469"/>
                </a:lnTo>
                <a:lnTo>
                  <a:pt x="3937" y="11"/>
                </a:lnTo>
                <a:lnTo>
                  <a:pt x="3926" y="11"/>
                </a:lnTo>
                <a:lnTo>
                  <a:pt x="3926" y="21"/>
                </a:lnTo>
                <a:lnTo>
                  <a:pt x="3934" y="19"/>
                </a:lnTo>
                <a:lnTo>
                  <a:pt x="3937" y="11"/>
                </a:lnTo>
                <a:lnTo>
                  <a:pt x="3926" y="21"/>
                </a:lnTo>
                <a:lnTo>
                  <a:pt x="4384" y="21"/>
                </a:lnTo>
                <a:lnTo>
                  <a:pt x="4384" y="11"/>
                </a:lnTo>
                <a:lnTo>
                  <a:pt x="4376" y="19"/>
                </a:lnTo>
                <a:lnTo>
                  <a:pt x="4374" y="11"/>
                </a:lnTo>
                <a:lnTo>
                  <a:pt x="4374" y="469"/>
                </a:lnTo>
                <a:lnTo>
                  <a:pt x="4395" y="469"/>
                </a:lnTo>
                <a:lnTo>
                  <a:pt x="4395" y="11"/>
                </a:lnTo>
                <a:lnTo>
                  <a:pt x="4392" y="3"/>
                </a:lnTo>
                <a:lnTo>
                  <a:pt x="4384" y="0"/>
                </a:lnTo>
                <a:lnTo>
                  <a:pt x="3926" y="0"/>
                </a:lnTo>
                <a:lnTo>
                  <a:pt x="3926" y="0"/>
                </a:lnTo>
                <a:lnTo>
                  <a:pt x="3918" y="3"/>
                </a:lnTo>
                <a:lnTo>
                  <a:pt x="3916" y="11"/>
                </a:lnTo>
                <a:lnTo>
                  <a:pt x="3916" y="11"/>
                </a:lnTo>
                <a:lnTo>
                  <a:pt x="3916" y="11"/>
                </a:lnTo>
                <a:lnTo>
                  <a:pt x="3916" y="469"/>
                </a:lnTo>
                <a:lnTo>
                  <a:pt x="3926" y="458"/>
                </a:lnTo>
                <a:lnTo>
                  <a:pt x="3918" y="461"/>
                </a:lnTo>
                <a:lnTo>
                  <a:pt x="3916" y="469"/>
                </a:lnTo>
                <a:lnTo>
                  <a:pt x="3916" y="469"/>
                </a:lnTo>
                <a:lnTo>
                  <a:pt x="3926" y="469"/>
                </a:lnTo>
                <a:lnTo>
                  <a:pt x="3926" y="458"/>
                </a:lnTo>
                <a:lnTo>
                  <a:pt x="3468" y="458"/>
                </a:lnTo>
                <a:lnTo>
                  <a:pt x="3476" y="461"/>
                </a:lnTo>
                <a:lnTo>
                  <a:pt x="3468" y="469"/>
                </a:lnTo>
                <a:lnTo>
                  <a:pt x="3479" y="469"/>
                </a:lnTo>
                <a:lnTo>
                  <a:pt x="3479" y="11"/>
                </a:lnTo>
                <a:lnTo>
                  <a:pt x="3476" y="3"/>
                </a:lnTo>
                <a:lnTo>
                  <a:pt x="3468" y="0"/>
                </a:lnTo>
                <a:lnTo>
                  <a:pt x="3010" y="0"/>
                </a:lnTo>
                <a:lnTo>
                  <a:pt x="3010" y="0"/>
                </a:lnTo>
                <a:lnTo>
                  <a:pt x="3002" y="3"/>
                </a:lnTo>
                <a:lnTo>
                  <a:pt x="3000" y="11"/>
                </a:lnTo>
                <a:lnTo>
                  <a:pt x="3000" y="11"/>
                </a:lnTo>
                <a:lnTo>
                  <a:pt x="3000" y="11"/>
                </a:lnTo>
                <a:lnTo>
                  <a:pt x="3000" y="469"/>
                </a:lnTo>
                <a:lnTo>
                  <a:pt x="3010" y="458"/>
                </a:lnTo>
                <a:lnTo>
                  <a:pt x="3002" y="461"/>
                </a:lnTo>
                <a:lnTo>
                  <a:pt x="3000" y="469"/>
                </a:lnTo>
                <a:lnTo>
                  <a:pt x="3000" y="469"/>
                </a:lnTo>
                <a:lnTo>
                  <a:pt x="3010" y="469"/>
                </a:lnTo>
                <a:lnTo>
                  <a:pt x="3010" y="458"/>
                </a:lnTo>
                <a:lnTo>
                  <a:pt x="2552" y="458"/>
                </a:lnTo>
                <a:lnTo>
                  <a:pt x="2560" y="461"/>
                </a:lnTo>
                <a:lnTo>
                  <a:pt x="2552" y="469"/>
                </a:lnTo>
                <a:lnTo>
                  <a:pt x="2563" y="469"/>
                </a:lnTo>
                <a:lnTo>
                  <a:pt x="2563" y="11"/>
                </a:lnTo>
                <a:lnTo>
                  <a:pt x="2560" y="3"/>
                </a:lnTo>
                <a:lnTo>
                  <a:pt x="2552" y="0"/>
                </a:lnTo>
                <a:lnTo>
                  <a:pt x="2094" y="0"/>
                </a:lnTo>
                <a:lnTo>
                  <a:pt x="2094" y="0"/>
                </a:lnTo>
                <a:lnTo>
                  <a:pt x="2086" y="3"/>
                </a:lnTo>
                <a:lnTo>
                  <a:pt x="2084" y="11"/>
                </a:lnTo>
                <a:lnTo>
                  <a:pt x="2084" y="11"/>
                </a:lnTo>
                <a:lnTo>
                  <a:pt x="2084" y="11"/>
                </a:lnTo>
                <a:lnTo>
                  <a:pt x="2084" y="469"/>
                </a:lnTo>
                <a:lnTo>
                  <a:pt x="2094" y="458"/>
                </a:lnTo>
                <a:lnTo>
                  <a:pt x="2086" y="461"/>
                </a:lnTo>
                <a:lnTo>
                  <a:pt x="2084" y="469"/>
                </a:lnTo>
                <a:lnTo>
                  <a:pt x="2084" y="469"/>
                </a:lnTo>
                <a:lnTo>
                  <a:pt x="2094" y="469"/>
                </a:lnTo>
                <a:lnTo>
                  <a:pt x="2094" y="458"/>
                </a:lnTo>
                <a:lnTo>
                  <a:pt x="1636" y="458"/>
                </a:lnTo>
                <a:lnTo>
                  <a:pt x="1644" y="461"/>
                </a:lnTo>
                <a:lnTo>
                  <a:pt x="1636" y="469"/>
                </a:lnTo>
                <a:lnTo>
                  <a:pt x="1647" y="469"/>
                </a:lnTo>
                <a:lnTo>
                  <a:pt x="1647" y="11"/>
                </a:lnTo>
                <a:lnTo>
                  <a:pt x="1644" y="3"/>
                </a:lnTo>
                <a:lnTo>
                  <a:pt x="1636" y="0"/>
                </a:lnTo>
                <a:lnTo>
                  <a:pt x="1178" y="0"/>
                </a:lnTo>
                <a:lnTo>
                  <a:pt x="1178" y="0"/>
                </a:lnTo>
                <a:lnTo>
                  <a:pt x="1170" y="3"/>
                </a:lnTo>
                <a:lnTo>
                  <a:pt x="1168" y="11"/>
                </a:lnTo>
                <a:lnTo>
                  <a:pt x="1168" y="11"/>
                </a:lnTo>
                <a:lnTo>
                  <a:pt x="1168" y="11"/>
                </a:lnTo>
                <a:lnTo>
                  <a:pt x="1168" y="469"/>
                </a:lnTo>
                <a:lnTo>
                  <a:pt x="1178" y="458"/>
                </a:lnTo>
                <a:lnTo>
                  <a:pt x="1170" y="461"/>
                </a:lnTo>
                <a:lnTo>
                  <a:pt x="1168" y="469"/>
                </a:lnTo>
                <a:lnTo>
                  <a:pt x="1168" y="469"/>
                </a:lnTo>
                <a:lnTo>
                  <a:pt x="1178" y="469"/>
                </a:lnTo>
                <a:lnTo>
                  <a:pt x="1178" y="458"/>
                </a:lnTo>
                <a:lnTo>
                  <a:pt x="720" y="458"/>
                </a:lnTo>
                <a:lnTo>
                  <a:pt x="728" y="461"/>
                </a:lnTo>
                <a:lnTo>
                  <a:pt x="720" y="469"/>
                </a:lnTo>
                <a:lnTo>
                  <a:pt x="731" y="469"/>
                </a:lnTo>
                <a:lnTo>
                  <a:pt x="731" y="11"/>
                </a:lnTo>
                <a:lnTo>
                  <a:pt x="728" y="3"/>
                </a:lnTo>
                <a:lnTo>
                  <a:pt x="720" y="0"/>
                </a:lnTo>
                <a:lnTo>
                  <a:pt x="262" y="0"/>
                </a:lnTo>
                <a:lnTo>
                  <a:pt x="262" y="0"/>
                </a:lnTo>
                <a:lnTo>
                  <a:pt x="254" y="3"/>
                </a:lnTo>
                <a:lnTo>
                  <a:pt x="252" y="11"/>
                </a:lnTo>
                <a:lnTo>
                  <a:pt x="252" y="11"/>
                </a:lnTo>
                <a:lnTo>
                  <a:pt x="252" y="11"/>
                </a:lnTo>
                <a:lnTo>
                  <a:pt x="252" y="469"/>
                </a:lnTo>
                <a:lnTo>
                  <a:pt x="262" y="458"/>
                </a:lnTo>
                <a:lnTo>
                  <a:pt x="254" y="461"/>
                </a:lnTo>
                <a:lnTo>
                  <a:pt x="252" y="469"/>
                </a:lnTo>
                <a:lnTo>
                  <a:pt x="252" y="469"/>
                </a:lnTo>
                <a:lnTo>
                  <a:pt x="262" y="469"/>
                </a:lnTo>
                <a:lnTo>
                  <a:pt x="262" y="458"/>
                </a:lnTo>
                <a:lnTo>
                  <a:pt x="0" y="4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940520" y="2865600"/>
            <a:ext cx="41616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0"/>
                </a:moveTo>
                <a:lnTo>
                  <a:pt x="0" y="21"/>
                </a:lnTo>
                <a:lnTo>
                  <a:pt x="262" y="24"/>
                </a:lnTo>
                <a:lnTo>
                  <a:pt x="262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981000" y="3816360"/>
            <a:ext cx="550548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973080" y="3489480"/>
            <a:ext cx="3033720" cy="655560"/>
          </a:xfrm>
          <a:custGeom>
            <a:avLst/>
            <a:gdLst/>
            <a:ahLst/>
            <a:rect l="l" t="t" r="r" b="b"/>
            <a:pathLst>
              <a:path w="1911" h="413">
                <a:moveTo>
                  <a:pt x="13" y="198"/>
                </a:moveTo>
                <a:lnTo>
                  <a:pt x="0" y="214"/>
                </a:lnTo>
                <a:lnTo>
                  <a:pt x="262" y="410"/>
                </a:lnTo>
                <a:lnTo>
                  <a:pt x="267" y="413"/>
                </a:lnTo>
                <a:lnTo>
                  <a:pt x="275" y="410"/>
                </a:lnTo>
                <a:lnTo>
                  <a:pt x="733" y="18"/>
                </a:lnTo>
                <a:lnTo>
                  <a:pt x="725" y="10"/>
                </a:lnTo>
                <a:lnTo>
                  <a:pt x="725" y="20"/>
                </a:lnTo>
                <a:lnTo>
                  <a:pt x="720" y="18"/>
                </a:lnTo>
                <a:lnTo>
                  <a:pt x="1178" y="410"/>
                </a:lnTo>
                <a:lnTo>
                  <a:pt x="1183" y="413"/>
                </a:lnTo>
                <a:lnTo>
                  <a:pt x="1191" y="410"/>
                </a:lnTo>
                <a:lnTo>
                  <a:pt x="1649" y="18"/>
                </a:lnTo>
                <a:lnTo>
                  <a:pt x="1641" y="10"/>
                </a:lnTo>
                <a:lnTo>
                  <a:pt x="1641" y="20"/>
                </a:lnTo>
                <a:lnTo>
                  <a:pt x="1636" y="18"/>
                </a:lnTo>
                <a:lnTo>
                  <a:pt x="1898" y="214"/>
                </a:lnTo>
                <a:lnTo>
                  <a:pt x="1911" y="198"/>
                </a:lnTo>
                <a:lnTo>
                  <a:pt x="1649" y="2"/>
                </a:lnTo>
                <a:lnTo>
                  <a:pt x="1641" y="0"/>
                </a:lnTo>
                <a:lnTo>
                  <a:pt x="1636" y="2"/>
                </a:lnTo>
                <a:lnTo>
                  <a:pt x="1178" y="395"/>
                </a:lnTo>
                <a:lnTo>
                  <a:pt x="1183" y="392"/>
                </a:lnTo>
                <a:lnTo>
                  <a:pt x="1183" y="402"/>
                </a:lnTo>
                <a:lnTo>
                  <a:pt x="1191" y="395"/>
                </a:lnTo>
                <a:lnTo>
                  <a:pt x="733" y="2"/>
                </a:lnTo>
                <a:lnTo>
                  <a:pt x="725" y="0"/>
                </a:lnTo>
                <a:lnTo>
                  <a:pt x="720" y="2"/>
                </a:lnTo>
                <a:lnTo>
                  <a:pt x="262" y="395"/>
                </a:lnTo>
                <a:lnTo>
                  <a:pt x="267" y="392"/>
                </a:lnTo>
                <a:lnTo>
                  <a:pt x="267" y="402"/>
                </a:lnTo>
                <a:lnTo>
                  <a:pt x="275" y="395"/>
                </a:lnTo>
                <a:lnTo>
                  <a:pt x="13" y="1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801880" y="4179960"/>
            <a:ext cx="3033720" cy="657000"/>
          </a:xfrm>
          <a:custGeom>
            <a:avLst/>
            <a:gdLst/>
            <a:ahLst/>
            <a:rect l="l" t="t" r="r" b="b"/>
            <a:pathLst>
              <a:path w="1911" h="414">
                <a:moveTo>
                  <a:pt x="13" y="199"/>
                </a:moveTo>
                <a:lnTo>
                  <a:pt x="0" y="215"/>
                </a:lnTo>
                <a:lnTo>
                  <a:pt x="262" y="411"/>
                </a:lnTo>
                <a:lnTo>
                  <a:pt x="267" y="414"/>
                </a:lnTo>
                <a:lnTo>
                  <a:pt x="275" y="411"/>
                </a:lnTo>
                <a:lnTo>
                  <a:pt x="733" y="19"/>
                </a:lnTo>
                <a:lnTo>
                  <a:pt x="725" y="11"/>
                </a:lnTo>
                <a:lnTo>
                  <a:pt x="725" y="21"/>
                </a:lnTo>
                <a:lnTo>
                  <a:pt x="720" y="19"/>
                </a:lnTo>
                <a:lnTo>
                  <a:pt x="1178" y="411"/>
                </a:lnTo>
                <a:lnTo>
                  <a:pt x="1183" y="414"/>
                </a:lnTo>
                <a:lnTo>
                  <a:pt x="1191" y="411"/>
                </a:lnTo>
                <a:lnTo>
                  <a:pt x="1649" y="19"/>
                </a:lnTo>
                <a:lnTo>
                  <a:pt x="1641" y="11"/>
                </a:lnTo>
                <a:lnTo>
                  <a:pt x="1641" y="21"/>
                </a:lnTo>
                <a:lnTo>
                  <a:pt x="1636" y="19"/>
                </a:lnTo>
                <a:lnTo>
                  <a:pt x="1898" y="215"/>
                </a:lnTo>
                <a:lnTo>
                  <a:pt x="1911" y="199"/>
                </a:lnTo>
                <a:lnTo>
                  <a:pt x="1649" y="3"/>
                </a:lnTo>
                <a:lnTo>
                  <a:pt x="1641" y="0"/>
                </a:lnTo>
                <a:lnTo>
                  <a:pt x="1636" y="3"/>
                </a:lnTo>
                <a:lnTo>
                  <a:pt x="1178" y="395"/>
                </a:lnTo>
                <a:lnTo>
                  <a:pt x="1183" y="393"/>
                </a:lnTo>
                <a:lnTo>
                  <a:pt x="1183" y="403"/>
                </a:lnTo>
                <a:lnTo>
                  <a:pt x="1191" y="395"/>
                </a:lnTo>
                <a:lnTo>
                  <a:pt x="733" y="3"/>
                </a:lnTo>
                <a:lnTo>
                  <a:pt x="725" y="0"/>
                </a:lnTo>
                <a:lnTo>
                  <a:pt x="720" y="3"/>
                </a:lnTo>
                <a:lnTo>
                  <a:pt x="262" y="395"/>
                </a:lnTo>
                <a:lnTo>
                  <a:pt x="267" y="393"/>
                </a:lnTo>
                <a:lnTo>
                  <a:pt x="267" y="403"/>
                </a:lnTo>
                <a:lnTo>
                  <a:pt x="275" y="395"/>
                </a:lnTo>
                <a:lnTo>
                  <a:pt x="13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560" y="4422600"/>
            <a:ext cx="3033720" cy="657360"/>
          </a:xfrm>
          <a:custGeom>
            <a:avLst/>
            <a:gdLst/>
            <a:ahLst/>
            <a:rect l="l" t="t" r="r" b="b"/>
            <a:pathLst>
              <a:path w="1911" h="414">
                <a:moveTo>
                  <a:pt x="13" y="199"/>
                </a:moveTo>
                <a:lnTo>
                  <a:pt x="0" y="215"/>
                </a:lnTo>
                <a:lnTo>
                  <a:pt x="262" y="411"/>
                </a:lnTo>
                <a:lnTo>
                  <a:pt x="267" y="414"/>
                </a:lnTo>
                <a:lnTo>
                  <a:pt x="275" y="411"/>
                </a:lnTo>
                <a:lnTo>
                  <a:pt x="733" y="19"/>
                </a:lnTo>
                <a:lnTo>
                  <a:pt x="725" y="11"/>
                </a:lnTo>
                <a:lnTo>
                  <a:pt x="725" y="21"/>
                </a:lnTo>
                <a:lnTo>
                  <a:pt x="720" y="19"/>
                </a:lnTo>
                <a:lnTo>
                  <a:pt x="1178" y="411"/>
                </a:lnTo>
                <a:lnTo>
                  <a:pt x="1183" y="414"/>
                </a:lnTo>
                <a:lnTo>
                  <a:pt x="1191" y="411"/>
                </a:lnTo>
                <a:lnTo>
                  <a:pt x="1649" y="19"/>
                </a:lnTo>
                <a:lnTo>
                  <a:pt x="1641" y="11"/>
                </a:lnTo>
                <a:lnTo>
                  <a:pt x="1641" y="21"/>
                </a:lnTo>
                <a:lnTo>
                  <a:pt x="1636" y="19"/>
                </a:lnTo>
                <a:lnTo>
                  <a:pt x="1898" y="215"/>
                </a:lnTo>
                <a:lnTo>
                  <a:pt x="1911" y="199"/>
                </a:lnTo>
                <a:lnTo>
                  <a:pt x="1649" y="3"/>
                </a:lnTo>
                <a:lnTo>
                  <a:pt x="1641" y="0"/>
                </a:lnTo>
                <a:lnTo>
                  <a:pt x="1636" y="3"/>
                </a:lnTo>
                <a:lnTo>
                  <a:pt x="1178" y="395"/>
                </a:lnTo>
                <a:lnTo>
                  <a:pt x="1183" y="393"/>
                </a:lnTo>
                <a:lnTo>
                  <a:pt x="1183" y="403"/>
                </a:lnTo>
                <a:lnTo>
                  <a:pt x="1191" y="395"/>
                </a:lnTo>
                <a:lnTo>
                  <a:pt x="733" y="3"/>
                </a:lnTo>
                <a:lnTo>
                  <a:pt x="725" y="0"/>
                </a:lnTo>
                <a:lnTo>
                  <a:pt x="720" y="3"/>
                </a:lnTo>
                <a:lnTo>
                  <a:pt x="262" y="395"/>
                </a:lnTo>
                <a:lnTo>
                  <a:pt x="267" y="393"/>
                </a:lnTo>
                <a:lnTo>
                  <a:pt x="267" y="403"/>
                </a:lnTo>
                <a:lnTo>
                  <a:pt x="275" y="395"/>
                </a:lnTo>
                <a:lnTo>
                  <a:pt x="13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73280" y="5373720"/>
            <a:ext cx="1741320" cy="208080"/>
          </a:xfrm>
          <a:custGeom>
            <a:avLst/>
            <a:gdLst/>
            <a:ahLst/>
            <a:rect l="l" t="t" r="r" b="b"/>
            <a:pathLst>
              <a:path w="1097" h="131">
                <a:moveTo>
                  <a:pt x="0" y="0"/>
                </a:moveTo>
                <a:lnTo>
                  <a:pt x="0" y="24"/>
                </a:lnTo>
                <a:lnTo>
                  <a:pt x="50" y="47"/>
                </a:lnTo>
                <a:lnTo>
                  <a:pt x="150" y="61"/>
                </a:lnTo>
                <a:lnTo>
                  <a:pt x="998" y="61"/>
                </a:lnTo>
                <a:lnTo>
                  <a:pt x="1047" y="131"/>
                </a:lnTo>
                <a:lnTo>
                  <a:pt x="1097" y="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357280" y="5373720"/>
            <a:ext cx="1739880" cy="208080"/>
          </a:xfrm>
          <a:custGeom>
            <a:avLst/>
            <a:gdLst/>
            <a:ahLst/>
            <a:rect l="l" t="t" r="r" b="b"/>
            <a:pathLst>
              <a:path w="1096" h="131">
                <a:moveTo>
                  <a:pt x="1096" y="0"/>
                </a:moveTo>
                <a:lnTo>
                  <a:pt x="1096" y="24"/>
                </a:lnTo>
                <a:lnTo>
                  <a:pt x="1046" y="47"/>
                </a:lnTo>
                <a:lnTo>
                  <a:pt x="947" y="61"/>
                </a:lnTo>
                <a:lnTo>
                  <a:pt x="99" y="61"/>
                </a:lnTo>
                <a:lnTo>
                  <a:pt x="49" y="131"/>
                </a:lnTo>
                <a:lnTo>
                  <a:pt x="0" y="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162240" y="5789520"/>
            <a:ext cx="1741680" cy="208080"/>
          </a:xfrm>
          <a:custGeom>
            <a:avLst/>
            <a:gdLst/>
            <a:ahLst/>
            <a:rect l="l" t="t" r="r" b="b"/>
            <a:pathLst>
              <a:path w="1097" h="131">
                <a:moveTo>
                  <a:pt x="0" y="0"/>
                </a:moveTo>
                <a:lnTo>
                  <a:pt x="0" y="24"/>
                </a:lnTo>
                <a:lnTo>
                  <a:pt x="50" y="47"/>
                </a:lnTo>
                <a:lnTo>
                  <a:pt x="150" y="60"/>
                </a:lnTo>
                <a:lnTo>
                  <a:pt x="997" y="60"/>
                </a:lnTo>
                <a:lnTo>
                  <a:pt x="1047" y="131"/>
                </a:lnTo>
                <a:lnTo>
                  <a:pt x="1097" y="6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745160" y="5789520"/>
            <a:ext cx="1741320" cy="208080"/>
          </a:xfrm>
          <a:custGeom>
            <a:avLst/>
            <a:gdLst/>
            <a:ahLst/>
            <a:rect l="l" t="t" r="r" b="b"/>
            <a:pathLst>
              <a:path w="1097" h="131">
                <a:moveTo>
                  <a:pt x="1097" y="0"/>
                </a:moveTo>
                <a:lnTo>
                  <a:pt x="1097" y="24"/>
                </a:lnTo>
                <a:lnTo>
                  <a:pt x="1047" y="47"/>
                </a:lnTo>
                <a:lnTo>
                  <a:pt x="948" y="60"/>
                </a:lnTo>
                <a:lnTo>
                  <a:pt x="100" y="60"/>
                </a:lnTo>
                <a:lnTo>
                  <a:pt x="50" y="131"/>
                </a:lnTo>
                <a:lnTo>
                  <a:pt x="0" y="6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343480" y="6205680"/>
            <a:ext cx="1741680" cy="206280"/>
          </a:xfrm>
          <a:custGeom>
            <a:avLst/>
            <a:gdLst/>
            <a:ahLst/>
            <a:rect l="l" t="t" r="r" b="b"/>
            <a:pathLst>
              <a:path w="1097" h="130">
                <a:moveTo>
                  <a:pt x="0" y="0"/>
                </a:moveTo>
                <a:lnTo>
                  <a:pt x="0" y="23"/>
                </a:lnTo>
                <a:lnTo>
                  <a:pt x="50" y="47"/>
                </a:lnTo>
                <a:lnTo>
                  <a:pt x="150" y="60"/>
                </a:lnTo>
                <a:lnTo>
                  <a:pt x="997" y="60"/>
                </a:lnTo>
                <a:lnTo>
                  <a:pt x="1047" y="130"/>
                </a:lnTo>
                <a:lnTo>
                  <a:pt x="1097" y="6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926400" y="6205680"/>
            <a:ext cx="1741320" cy="206280"/>
          </a:xfrm>
          <a:custGeom>
            <a:avLst/>
            <a:gdLst/>
            <a:ahLst/>
            <a:rect l="l" t="t" r="r" b="b"/>
            <a:pathLst>
              <a:path w="1097" h="130">
                <a:moveTo>
                  <a:pt x="1097" y="0"/>
                </a:moveTo>
                <a:lnTo>
                  <a:pt x="1097" y="23"/>
                </a:lnTo>
                <a:lnTo>
                  <a:pt x="1047" y="47"/>
                </a:lnTo>
                <a:lnTo>
                  <a:pt x="948" y="60"/>
                </a:lnTo>
                <a:lnTo>
                  <a:pt x="100" y="60"/>
                </a:lnTo>
                <a:lnTo>
                  <a:pt x="50" y="130"/>
                </a:lnTo>
                <a:lnTo>
                  <a:pt x="0" y="6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397160" y="5087880"/>
            <a:ext cx="7437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00400" y="5087880"/>
            <a:ext cx="5736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0         t1            t2           t3           t4          t5           t6           t7          t8           t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604880" y="5560920"/>
            <a:ext cx="16542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886760" y="5560920"/>
            <a:ext cx="18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ciążenie nadkrytycz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94200" y="5977080"/>
            <a:ext cx="14209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277160" y="5977080"/>
            <a:ext cx="159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ciążenie krytycz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070680" y="6391440"/>
            <a:ext cx="1654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352560" y="6391440"/>
            <a:ext cx="18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ciążenie podkrytycz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032440" y="4751280"/>
            <a:ext cx="3531960" cy="5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278400" y="5457960"/>
            <a:ext cx="14796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278400" y="5457960"/>
            <a:ext cx="251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miana kierunku prądu w cew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6278040" y="5686560"/>
            <a:ext cx="1351080" cy="2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 flipV="1">
            <a:off x="5759280" y="5062320"/>
            <a:ext cx="519120" cy="623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31800" y="3114720"/>
            <a:ext cx="1414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82560" y="3218040"/>
            <a:ext cx="270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44120" y="3218040"/>
            <a:ext cx="1198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085760" y="1407960"/>
            <a:ext cx="4651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083600" y="1407960"/>
            <a:ext cx="7063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gna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erują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085760" y="1616040"/>
            <a:ext cx="6224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3840" y="1927080"/>
            <a:ext cx="987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290600" y="1927080"/>
            <a:ext cx="115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lucz włączo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021040" y="2965320"/>
            <a:ext cx="10540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017440" y="2965320"/>
            <a:ext cx="124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lucz wyłączo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564400" y="3011400"/>
            <a:ext cx="152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8564040" y="30114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564400" y="4983120"/>
            <a:ext cx="152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564040" y="49831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729320" y="3584520"/>
            <a:ext cx="53172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854240" y="36511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923720" y="3741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5578560" y="1197000"/>
                <a:ext cx="258264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kr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>
                              <m:t xml:space="preserve">δ</m:t>
                            </m:r>
                          </m:e>
                        </m:d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L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k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kr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L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-</m:t>
                                </m:r>
                                <m:r>
                                  <m:t xml:space="preserve">δ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1" name=""/>
          <p:cNvSpPr/>
          <p:nvPr/>
        </p:nvSpPr>
        <p:spPr>
          <a:xfrm>
            <a:off x="987480" y="4532400"/>
            <a:ext cx="501012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552680" y="4307040"/>
            <a:ext cx="541080" cy="31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0 k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kcyjność krytyczna w konwerterze współbież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1528920"/>
            <a:ext cx="9144000" cy="60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imalną wartość indukcyjności L</a:t>
            </a:r>
            <a:r>
              <a:rPr b="0" lang="pl-PL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kr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zy której prąd w indukcyjności L nie zmienia kierun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zywamy</a:t>
            </a:r>
            <a:r>
              <a:rPr b="0" lang="pl-PL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ukcyjnością krytyczn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żeli L&lt;L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to kierunek prądu płynącego przez klucze zmienia si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nergia z obwodu wyjściowego jest oddawana z powrotem do źródła zasilania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żeli klucze nie są wstanie przewodzić prądu dwukierunkowo, wówczas napięcie wyjściowe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zaczyna wzrastać, aż do osiągnięcia wartości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tość L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aleje przy wzroście prądu obciąż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9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żna stwierdzić, ż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 bezstratnym konwerterze współbież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1127160"/>
            <a:ext cx="91440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prawność =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e na wejściu filtru (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zmienia się od zera do wartości napięcia zasilając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e napięcie na kluczu jest równe napięciu zasilającemu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e wyjściowe nie zależy od rezystancji obciążenia, jest natomiast zależne od napięcia zasilającego i współczynnika wypełnienia: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pobierany ze źródła zasilania płynie impulsami w czasie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y prąd płynący przez klucz (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w praktyce jest niewiele większy niż prąd wyjściowy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gdyż najczęściej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&lt;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półbieżny konwerter napięcia stał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kluczami jednokierunkowym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313200" y="979560"/>
            <a:ext cx="8008200" cy="5673600"/>
            <a:chOff x="313200" y="979560"/>
            <a:chExt cx="8008200" cy="5673600"/>
          </a:xfrm>
        </p:grpSpPr>
        <p:sp>
          <p:nvSpPr>
            <p:cNvPr id="999" name=""/>
            <p:cNvSpPr/>
            <p:nvPr/>
          </p:nvSpPr>
          <p:spPr>
            <a:xfrm>
              <a:off x="3326760" y="3283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455280" y="3394440"/>
              <a:ext cx="18324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455280" y="339444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526440" y="320796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4230360" y="1776240"/>
              <a:ext cx="1080" cy="35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584520" y="2131560"/>
              <a:ext cx="778320" cy="498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651640" y="1705320"/>
              <a:ext cx="132120" cy="143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780880" y="1705320"/>
              <a:ext cx="130320" cy="143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908680" y="1705320"/>
              <a:ext cx="131760" cy="143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039360" y="1705320"/>
              <a:ext cx="132120" cy="143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651640" y="1776240"/>
              <a:ext cx="519840" cy="141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167160" y="1776240"/>
              <a:ext cx="1937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105040" y="1776240"/>
              <a:ext cx="1080" cy="127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041320" y="2202480"/>
              <a:ext cx="130320" cy="356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71480" y="1776240"/>
              <a:ext cx="1080" cy="56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71480" y="2414160"/>
              <a:ext cx="1080" cy="64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942240" y="2414160"/>
              <a:ext cx="25956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942240" y="2342880"/>
              <a:ext cx="25956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202160" y="2117520"/>
              <a:ext cx="82440" cy="1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202520" y="2117520"/>
              <a:ext cx="6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780880" y="1365480"/>
              <a:ext cx="15084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780880" y="1370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908680" y="1476720"/>
              <a:ext cx="8856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908320" y="14767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51640" y="1632960"/>
              <a:ext cx="515160" cy="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5651640" y="1561320"/>
              <a:ext cx="63720" cy="7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51640" y="1632960"/>
              <a:ext cx="6372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137000" y="2006280"/>
              <a:ext cx="8712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137000" y="2007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169120" y="2006280"/>
              <a:ext cx="15228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168040" y="2007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08680" y="1791720"/>
              <a:ext cx="13032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908320" y="17964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266240" y="2288880"/>
              <a:ext cx="15228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265520" y="2293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653600" y="1845720"/>
              <a:ext cx="1080" cy="11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7588080" y="1845720"/>
              <a:ext cx="65160" cy="14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53600" y="1845720"/>
              <a:ext cx="63720" cy="14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717680" y="2360160"/>
              <a:ext cx="15228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717680" y="23630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46920" y="2471040"/>
              <a:ext cx="8712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846560" y="2471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1" name=""/>
            <p:cNvGrpSpPr/>
            <p:nvPr/>
          </p:nvGrpSpPr>
          <p:grpSpPr>
            <a:xfrm>
              <a:off x="6749280" y="1667880"/>
              <a:ext cx="165600" cy="214560"/>
              <a:chOff x="6749280" y="1667880"/>
              <a:chExt cx="165600" cy="214560"/>
            </a:xfrm>
          </p:grpSpPr>
          <p:sp>
            <p:nvSpPr>
              <p:cNvPr id="1042" name=""/>
              <p:cNvSpPr/>
              <p:nvPr/>
            </p:nvSpPr>
            <p:spPr>
              <a:xfrm flipH="1" flipV="1">
                <a:off x="6749280" y="1667880"/>
                <a:ext cx="165600" cy="10836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6749280" y="1776600"/>
                <a:ext cx="165600" cy="1058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4" name=""/>
            <p:cNvSpPr/>
            <p:nvPr/>
          </p:nvSpPr>
          <p:spPr>
            <a:xfrm flipH="1" flipV="1">
              <a:off x="7005960" y="2131200"/>
              <a:ext cx="65160" cy="7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7071480" y="2131200"/>
              <a:ext cx="65160" cy="7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266240" y="1509120"/>
              <a:ext cx="9468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265520" y="1510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29960" y="1617480"/>
              <a:ext cx="88560" cy="1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48320" y="157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 flipV="1">
              <a:off x="7393680" y="1704960"/>
              <a:ext cx="65160" cy="7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7393680" y="1776240"/>
              <a:ext cx="65160" cy="6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049520" y="1753200"/>
              <a:ext cx="4824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628760" y="1753200"/>
              <a:ext cx="5004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62320" y="3054960"/>
              <a:ext cx="48427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049520" y="3030120"/>
              <a:ext cx="48240" cy="52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628760" y="3030120"/>
              <a:ext cx="50040" cy="52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43000" y="2217960"/>
              <a:ext cx="38736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842280" y="22226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22640" y="22226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ł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715200" y="2360160"/>
              <a:ext cx="57276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715200" y="23630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eru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053240" y="23630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ą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520960" y="1776240"/>
              <a:ext cx="1080" cy="127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457240" y="2342880"/>
              <a:ext cx="130320" cy="1418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0" y="70"/>
                  </a:lnTo>
                  <a:lnTo>
                    <a:pt x="71" y="7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457240" y="2342880"/>
              <a:ext cx="13032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5456880" y="2058840"/>
              <a:ext cx="6372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20960" y="2058840"/>
              <a:ext cx="66600" cy="7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972240" y="1776240"/>
              <a:ext cx="16794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166640" y="2628720"/>
              <a:ext cx="1440" cy="42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3715200" y="2628720"/>
              <a:ext cx="1440" cy="70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499360" y="3030120"/>
              <a:ext cx="49680" cy="52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141800" y="3030120"/>
              <a:ext cx="49680" cy="52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3843000" y="1776240"/>
              <a:ext cx="128880" cy="14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 flipV="1">
              <a:off x="3715200" y="1776240"/>
              <a:ext cx="127440" cy="14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262320" y="1776240"/>
              <a:ext cx="452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715200" y="1916640"/>
              <a:ext cx="256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3906360" y="1776240"/>
              <a:ext cx="65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972240" y="1776240"/>
              <a:ext cx="1080" cy="6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843000" y="1916640"/>
              <a:ext cx="1080" cy="21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90360" y="3315600"/>
              <a:ext cx="49680" cy="49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38920" y="3030120"/>
              <a:ext cx="49680" cy="52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238920" y="1753200"/>
              <a:ext cx="4968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207320" y="1753200"/>
              <a:ext cx="4968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499360" y="1753200"/>
              <a:ext cx="4968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505760" y="1845720"/>
              <a:ext cx="2880" cy="11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24760" y="1845720"/>
              <a:ext cx="63720" cy="14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488840" y="1845720"/>
              <a:ext cx="65160" cy="14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554360" y="2360160"/>
              <a:ext cx="12744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554000" y="236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465440" y="1753200"/>
              <a:ext cx="4968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465440" y="3030120"/>
              <a:ext cx="49680" cy="52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18080" y="2471040"/>
              <a:ext cx="8856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17720" y="2471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27480" y="3283560"/>
              <a:ext cx="15228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715200" y="1580400"/>
              <a:ext cx="13536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715200" y="1581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684120" y="1436760"/>
              <a:ext cx="8712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683400" y="1439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749280" y="1547640"/>
              <a:ext cx="8712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749640" y="15476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651640" y="2077560"/>
              <a:ext cx="8856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650920" y="207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715720" y="2187000"/>
              <a:ext cx="8856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714640" y="2187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196800" y="1135440"/>
              <a:ext cx="709560" cy="143280"/>
            </a:xfrm>
            <a:custGeom>
              <a:avLst/>
              <a:gdLst/>
              <a:ahLst/>
              <a:rect l="l" t="t" r="r" b="b"/>
              <a:pathLst>
                <a:path w="387" h="71">
                  <a:moveTo>
                    <a:pt x="0" y="71"/>
                  </a:moveTo>
                  <a:lnTo>
                    <a:pt x="0" y="58"/>
                  </a:lnTo>
                  <a:lnTo>
                    <a:pt x="17" y="45"/>
                  </a:lnTo>
                  <a:lnTo>
                    <a:pt x="53" y="40"/>
                  </a:lnTo>
                  <a:lnTo>
                    <a:pt x="352" y="40"/>
                  </a:lnTo>
                  <a:lnTo>
                    <a:pt x="369" y="0"/>
                  </a:lnTo>
                  <a:lnTo>
                    <a:pt x="387" y="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843000" y="1135440"/>
              <a:ext cx="711000" cy="143280"/>
            </a:xfrm>
            <a:custGeom>
              <a:avLst/>
              <a:gdLst/>
              <a:ahLst/>
              <a:rect l="l" t="t" r="r" b="b"/>
              <a:pathLst>
                <a:path w="387" h="71">
                  <a:moveTo>
                    <a:pt x="387" y="71"/>
                  </a:moveTo>
                  <a:lnTo>
                    <a:pt x="387" y="58"/>
                  </a:lnTo>
                  <a:lnTo>
                    <a:pt x="369" y="45"/>
                  </a:lnTo>
                  <a:lnTo>
                    <a:pt x="334" y="40"/>
                  </a:lnTo>
                  <a:lnTo>
                    <a:pt x="35" y="40"/>
                  </a:lnTo>
                  <a:lnTo>
                    <a:pt x="17" y="0"/>
                  </a:lnTo>
                  <a:lnTo>
                    <a:pt x="0" y="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554360" y="1135440"/>
              <a:ext cx="572760" cy="143280"/>
            </a:xfrm>
            <a:custGeom>
              <a:avLst/>
              <a:gdLst/>
              <a:ahLst/>
              <a:rect l="l" t="t" r="r" b="b"/>
              <a:pathLst>
                <a:path w="312" h="71">
                  <a:moveTo>
                    <a:pt x="0" y="71"/>
                  </a:moveTo>
                  <a:lnTo>
                    <a:pt x="0" y="58"/>
                  </a:lnTo>
                  <a:lnTo>
                    <a:pt x="13" y="45"/>
                  </a:lnTo>
                  <a:lnTo>
                    <a:pt x="42" y="40"/>
                  </a:lnTo>
                  <a:lnTo>
                    <a:pt x="284" y="40"/>
                  </a:lnTo>
                  <a:lnTo>
                    <a:pt x="298" y="0"/>
                  </a:lnTo>
                  <a:lnTo>
                    <a:pt x="312" y="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075640" y="1135440"/>
              <a:ext cx="576000" cy="143280"/>
            </a:xfrm>
            <a:custGeom>
              <a:avLst/>
              <a:gdLst/>
              <a:ahLst/>
              <a:rect l="l" t="t" r="r" b="b"/>
              <a:pathLst>
                <a:path w="314" h="71">
                  <a:moveTo>
                    <a:pt x="314" y="71"/>
                  </a:moveTo>
                  <a:lnTo>
                    <a:pt x="314" y="58"/>
                  </a:lnTo>
                  <a:lnTo>
                    <a:pt x="300" y="45"/>
                  </a:lnTo>
                  <a:lnTo>
                    <a:pt x="272" y="40"/>
                  </a:lnTo>
                  <a:lnTo>
                    <a:pt x="28" y="40"/>
                  </a:lnTo>
                  <a:lnTo>
                    <a:pt x="14" y="0"/>
                  </a:lnTo>
                  <a:lnTo>
                    <a:pt x="0" y="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715200" y="979560"/>
              <a:ext cx="35496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15560" y="979560"/>
              <a:ext cx="5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lucz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941720" y="979560"/>
              <a:ext cx="35496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942080" y="979560"/>
              <a:ext cx="50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lucz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2320" y="1845720"/>
              <a:ext cx="2880" cy="11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3196440" y="1845720"/>
              <a:ext cx="65160" cy="14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62320" y="1845720"/>
              <a:ext cx="65160" cy="14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327480" y="2360160"/>
              <a:ext cx="15228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326760" y="23630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455280" y="2471040"/>
              <a:ext cx="6516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455280" y="2471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520440" y="1987920"/>
              <a:ext cx="3099240" cy="994320"/>
            </a:xfrm>
            <a:custGeom>
              <a:avLst/>
              <a:gdLst/>
              <a:ahLst/>
              <a:rect l="l" t="t" r="r" b="b"/>
              <a:pathLst>
                <a:path w="1688" h="492">
                  <a:moveTo>
                    <a:pt x="61" y="0"/>
                  </a:moveTo>
                  <a:lnTo>
                    <a:pt x="48" y="2"/>
                  </a:lnTo>
                  <a:lnTo>
                    <a:pt x="37" y="6"/>
                  </a:lnTo>
                  <a:lnTo>
                    <a:pt x="27" y="11"/>
                  </a:lnTo>
                  <a:lnTo>
                    <a:pt x="19" y="19"/>
                  </a:lnTo>
                  <a:lnTo>
                    <a:pt x="10" y="28"/>
                  </a:lnTo>
                  <a:lnTo>
                    <a:pt x="5" y="38"/>
                  </a:lnTo>
                  <a:lnTo>
                    <a:pt x="2" y="49"/>
                  </a:lnTo>
                  <a:lnTo>
                    <a:pt x="0" y="62"/>
                  </a:lnTo>
                  <a:lnTo>
                    <a:pt x="0" y="432"/>
                  </a:lnTo>
                  <a:lnTo>
                    <a:pt x="2" y="445"/>
                  </a:lnTo>
                  <a:lnTo>
                    <a:pt x="5" y="456"/>
                  </a:lnTo>
                  <a:lnTo>
                    <a:pt x="10" y="466"/>
                  </a:lnTo>
                  <a:lnTo>
                    <a:pt x="19" y="476"/>
                  </a:lnTo>
                  <a:lnTo>
                    <a:pt x="27" y="483"/>
                  </a:lnTo>
                  <a:lnTo>
                    <a:pt x="37" y="488"/>
                  </a:lnTo>
                  <a:lnTo>
                    <a:pt x="48" y="491"/>
                  </a:lnTo>
                  <a:lnTo>
                    <a:pt x="61" y="492"/>
                  </a:lnTo>
                  <a:lnTo>
                    <a:pt x="1626" y="492"/>
                  </a:lnTo>
                  <a:lnTo>
                    <a:pt x="1639" y="491"/>
                  </a:lnTo>
                  <a:lnTo>
                    <a:pt x="1650" y="488"/>
                  </a:lnTo>
                  <a:lnTo>
                    <a:pt x="1662" y="483"/>
                  </a:lnTo>
                  <a:lnTo>
                    <a:pt x="1670" y="476"/>
                  </a:lnTo>
                  <a:lnTo>
                    <a:pt x="1677" y="466"/>
                  </a:lnTo>
                  <a:lnTo>
                    <a:pt x="1684" y="456"/>
                  </a:lnTo>
                  <a:lnTo>
                    <a:pt x="1687" y="445"/>
                  </a:lnTo>
                  <a:lnTo>
                    <a:pt x="1688" y="432"/>
                  </a:lnTo>
                  <a:lnTo>
                    <a:pt x="1688" y="62"/>
                  </a:lnTo>
                  <a:lnTo>
                    <a:pt x="1687" y="49"/>
                  </a:lnTo>
                  <a:lnTo>
                    <a:pt x="1684" y="38"/>
                  </a:lnTo>
                  <a:lnTo>
                    <a:pt x="1677" y="28"/>
                  </a:lnTo>
                  <a:lnTo>
                    <a:pt x="1670" y="19"/>
                  </a:lnTo>
                  <a:lnTo>
                    <a:pt x="1662" y="11"/>
                  </a:lnTo>
                  <a:lnTo>
                    <a:pt x="1650" y="6"/>
                  </a:lnTo>
                  <a:lnTo>
                    <a:pt x="1639" y="2"/>
                  </a:lnTo>
                  <a:lnTo>
                    <a:pt x="1626" y="0"/>
                  </a:lnTo>
                  <a:lnTo>
                    <a:pt x="6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 flipV="1">
              <a:off x="6166800" y="1916280"/>
              <a:ext cx="65160" cy="7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6166800" y="1987920"/>
              <a:ext cx="65160" cy="7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844960" y="2271960"/>
              <a:ext cx="647280" cy="500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 flipV="1">
              <a:off x="6166800" y="2202480"/>
              <a:ext cx="65160" cy="6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166800" y="2271960"/>
              <a:ext cx="65160" cy="7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684120" y="2858760"/>
              <a:ext cx="9936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682680" y="286020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167160" y="2572920"/>
              <a:ext cx="13824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166440" y="25761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327480" y="1509120"/>
              <a:ext cx="8712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326760" y="151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391200" y="1617480"/>
              <a:ext cx="57240" cy="1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390480" y="161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455280" y="1705320"/>
              <a:ext cx="65160" cy="7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54920" y="1776240"/>
              <a:ext cx="65160" cy="6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682160" y="1509120"/>
              <a:ext cx="8856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681440" y="151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747320" y="1617480"/>
              <a:ext cx="87120" cy="1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747680" y="1617480"/>
              <a:ext cx="6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flipV="1">
              <a:off x="4812120" y="1704960"/>
              <a:ext cx="63720" cy="7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4812120" y="1776240"/>
              <a:ext cx="63720" cy="6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78920" y="3195360"/>
              <a:ext cx="645840" cy="141840"/>
            </a:xfrm>
            <a:custGeom>
              <a:avLst/>
              <a:gdLst/>
              <a:ahLst/>
              <a:rect l="l" t="t" r="r" b="b"/>
              <a:pathLst>
                <a:path w="352" h="70">
                  <a:moveTo>
                    <a:pt x="0" y="70"/>
                  </a:moveTo>
                  <a:lnTo>
                    <a:pt x="0" y="0"/>
                  </a:lnTo>
                  <a:lnTo>
                    <a:pt x="70" y="0"/>
                  </a:lnTo>
                  <a:lnTo>
                    <a:pt x="70" y="70"/>
                  </a:lnTo>
                  <a:lnTo>
                    <a:pt x="141" y="70"/>
                  </a:lnTo>
                  <a:lnTo>
                    <a:pt x="141" y="0"/>
                  </a:lnTo>
                  <a:lnTo>
                    <a:pt x="211" y="0"/>
                  </a:lnTo>
                  <a:lnTo>
                    <a:pt x="211" y="70"/>
                  </a:lnTo>
                  <a:lnTo>
                    <a:pt x="281" y="70"/>
                  </a:lnTo>
                  <a:lnTo>
                    <a:pt x="281" y="0"/>
                  </a:lnTo>
                  <a:lnTo>
                    <a:pt x="35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470600" y="3161520"/>
              <a:ext cx="175680" cy="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991240" y="3161520"/>
              <a:ext cx="128880" cy="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46640" y="3200040"/>
              <a:ext cx="1080" cy="753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46640" y="3953520"/>
              <a:ext cx="40568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4757760" y="3902400"/>
              <a:ext cx="45000" cy="50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757760" y="3953520"/>
              <a:ext cx="45000" cy="49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699480" y="3200040"/>
              <a:ext cx="46440" cy="50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46640" y="3200040"/>
              <a:ext cx="46440" cy="50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46640" y="4858560"/>
              <a:ext cx="1080" cy="75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46640" y="5610600"/>
              <a:ext cx="40568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 flipV="1">
              <a:off x="4757760" y="5560920"/>
              <a:ext cx="450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4757760" y="5610600"/>
              <a:ext cx="45000" cy="51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99480" y="4858560"/>
              <a:ext cx="4644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6640" y="4858560"/>
              <a:ext cx="4644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930240" y="3953520"/>
              <a:ext cx="1440" cy="1656720"/>
            </a:xfrm>
            <a:prstGeom prst="line">
              <a:avLst/>
            </a:prstGeom>
            <a:ln w="18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1254240" y="3953520"/>
              <a:ext cx="0" cy="1656720"/>
            </a:xfrm>
            <a:prstGeom prst="line">
              <a:avLst/>
            </a:prstGeom>
            <a:ln w="18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1577880" y="3953520"/>
              <a:ext cx="1080" cy="1656720"/>
            </a:xfrm>
            <a:prstGeom prst="line">
              <a:avLst/>
            </a:prstGeom>
            <a:ln w="18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1898640" y="3953520"/>
              <a:ext cx="1440" cy="1656720"/>
            </a:xfrm>
            <a:prstGeom prst="line">
              <a:avLst/>
            </a:prstGeom>
            <a:ln w="18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2222280" y="3953520"/>
              <a:ext cx="1440" cy="1656720"/>
            </a:xfrm>
            <a:prstGeom prst="line">
              <a:avLst/>
            </a:prstGeom>
            <a:ln w="18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2544480" y="3953520"/>
              <a:ext cx="1440" cy="1656720"/>
            </a:xfrm>
            <a:prstGeom prst="line">
              <a:avLst/>
            </a:prstGeom>
            <a:ln w="18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2868120" y="3953520"/>
              <a:ext cx="1440" cy="1656720"/>
            </a:xfrm>
            <a:prstGeom prst="line">
              <a:avLst/>
            </a:prstGeom>
            <a:ln w="18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3189240" y="3953520"/>
              <a:ext cx="2880" cy="1656720"/>
            </a:xfrm>
            <a:prstGeom prst="line">
              <a:avLst/>
            </a:prstGeom>
            <a:ln w="18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3512880" y="3953520"/>
              <a:ext cx="1440" cy="1656720"/>
            </a:xfrm>
            <a:prstGeom prst="line">
              <a:avLst/>
            </a:prstGeom>
            <a:ln w="18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3836520" y="3953520"/>
              <a:ext cx="1440" cy="1656720"/>
            </a:xfrm>
            <a:prstGeom prst="line">
              <a:avLst/>
            </a:prstGeom>
            <a:ln w="18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46640" y="4959000"/>
              <a:ext cx="1290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46640" y="5108760"/>
              <a:ext cx="17510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46640" y="5258520"/>
              <a:ext cx="1337040" cy="2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43400" y="4949640"/>
              <a:ext cx="1346400" cy="317880"/>
            </a:xfrm>
            <a:custGeom>
              <a:avLst/>
              <a:gdLst/>
              <a:ahLst/>
              <a:rect l="l" t="t" r="r" b="b"/>
              <a:pathLst>
                <a:path w="1027" h="222">
                  <a:moveTo>
                    <a:pt x="7" y="106"/>
                  </a:moveTo>
                  <a:lnTo>
                    <a:pt x="0" y="115"/>
                  </a:lnTo>
                  <a:lnTo>
                    <a:pt x="141" y="220"/>
                  </a:lnTo>
                  <a:lnTo>
                    <a:pt x="143" y="222"/>
                  </a:lnTo>
                  <a:lnTo>
                    <a:pt x="148" y="220"/>
                  </a:lnTo>
                  <a:lnTo>
                    <a:pt x="394" y="9"/>
                  </a:lnTo>
                  <a:lnTo>
                    <a:pt x="389" y="5"/>
                  </a:lnTo>
                  <a:lnTo>
                    <a:pt x="389" y="11"/>
                  </a:lnTo>
                  <a:lnTo>
                    <a:pt x="387" y="9"/>
                  </a:lnTo>
                  <a:lnTo>
                    <a:pt x="633" y="220"/>
                  </a:lnTo>
                  <a:lnTo>
                    <a:pt x="636" y="222"/>
                  </a:lnTo>
                  <a:lnTo>
                    <a:pt x="640" y="220"/>
                  </a:lnTo>
                  <a:lnTo>
                    <a:pt x="886" y="9"/>
                  </a:lnTo>
                  <a:lnTo>
                    <a:pt x="882" y="5"/>
                  </a:lnTo>
                  <a:lnTo>
                    <a:pt x="882" y="11"/>
                  </a:lnTo>
                  <a:lnTo>
                    <a:pt x="879" y="9"/>
                  </a:lnTo>
                  <a:lnTo>
                    <a:pt x="1020" y="115"/>
                  </a:lnTo>
                  <a:lnTo>
                    <a:pt x="1027" y="106"/>
                  </a:lnTo>
                  <a:lnTo>
                    <a:pt x="886" y="1"/>
                  </a:lnTo>
                  <a:lnTo>
                    <a:pt x="882" y="0"/>
                  </a:lnTo>
                  <a:lnTo>
                    <a:pt x="879" y="1"/>
                  </a:lnTo>
                  <a:lnTo>
                    <a:pt x="633" y="212"/>
                  </a:lnTo>
                  <a:lnTo>
                    <a:pt x="636" y="211"/>
                  </a:lnTo>
                  <a:lnTo>
                    <a:pt x="636" y="216"/>
                  </a:lnTo>
                  <a:lnTo>
                    <a:pt x="640" y="212"/>
                  </a:lnTo>
                  <a:lnTo>
                    <a:pt x="394" y="1"/>
                  </a:lnTo>
                  <a:lnTo>
                    <a:pt x="389" y="0"/>
                  </a:lnTo>
                  <a:lnTo>
                    <a:pt x="387" y="1"/>
                  </a:lnTo>
                  <a:lnTo>
                    <a:pt x="141" y="212"/>
                  </a:lnTo>
                  <a:lnTo>
                    <a:pt x="143" y="211"/>
                  </a:lnTo>
                  <a:lnTo>
                    <a:pt x="143" y="216"/>
                  </a:lnTo>
                  <a:lnTo>
                    <a:pt x="148" y="212"/>
                  </a:lnTo>
                  <a:lnTo>
                    <a:pt x="7" y="1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876680" y="5301720"/>
              <a:ext cx="1346400" cy="318240"/>
            </a:xfrm>
            <a:custGeom>
              <a:avLst/>
              <a:gdLst/>
              <a:ahLst/>
              <a:rect l="l" t="t" r="r" b="b"/>
              <a:pathLst>
                <a:path w="1027" h="222">
                  <a:moveTo>
                    <a:pt x="8" y="107"/>
                  </a:moveTo>
                  <a:lnTo>
                    <a:pt x="0" y="115"/>
                  </a:lnTo>
                  <a:lnTo>
                    <a:pt x="141" y="220"/>
                  </a:lnTo>
                  <a:lnTo>
                    <a:pt x="144" y="222"/>
                  </a:lnTo>
                  <a:lnTo>
                    <a:pt x="148" y="220"/>
                  </a:lnTo>
                  <a:lnTo>
                    <a:pt x="394" y="10"/>
                  </a:lnTo>
                  <a:lnTo>
                    <a:pt x="390" y="5"/>
                  </a:lnTo>
                  <a:lnTo>
                    <a:pt x="390" y="11"/>
                  </a:lnTo>
                  <a:lnTo>
                    <a:pt x="387" y="10"/>
                  </a:lnTo>
                  <a:lnTo>
                    <a:pt x="633" y="220"/>
                  </a:lnTo>
                  <a:lnTo>
                    <a:pt x="636" y="222"/>
                  </a:lnTo>
                  <a:lnTo>
                    <a:pt x="641" y="220"/>
                  </a:lnTo>
                  <a:lnTo>
                    <a:pt x="887" y="10"/>
                  </a:lnTo>
                  <a:lnTo>
                    <a:pt x="882" y="5"/>
                  </a:lnTo>
                  <a:lnTo>
                    <a:pt x="882" y="11"/>
                  </a:lnTo>
                  <a:lnTo>
                    <a:pt x="880" y="10"/>
                  </a:lnTo>
                  <a:lnTo>
                    <a:pt x="1020" y="115"/>
                  </a:lnTo>
                  <a:lnTo>
                    <a:pt x="1027" y="107"/>
                  </a:lnTo>
                  <a:lnTo>
                    <a:pt x="887" y="1"/>
                  </a:lnTo>
                  <a:lnTo>
                    <a:pt x="882" y="0"/>
                  </a:lnTo>
                  <a:lnTo>
                    <a:pt x="880" y="1"/>
                  </a:lnTo>
                  <a:lnTo>
                    <a:pt x="633" y="212"/>
                  </a:lnTo>
                  <a:lnTo>
                    <a:pt x="636" y="211"/>
                  </a:lnTo>
                  <a:lnTo>
                    <a:pt x="636" y="216"/>
                  </a:lnTo>
                  <a:lnTo>
                    <a:pt x="641" y="212"/>
                  </a:lnTo>
                  <a:lnTo>
                    <a:pt x="394" y="1"/>
                  </a:lnTo>
                  <a:lnTo>
                    <a:pt x="390" y="0"/>
                  </a:lnTo>
                  <a:lnTo>
                    <a:pt x="387" y="1"/>
                  </a:lnTo>
                  <a:lnTo>
                    <a:pt x="141" y="212"/>
                  </a:lnTo>
                  <a:lnTo>
                    <a:pt x="144" y="211"/>
                  </a:lnTo>
                  <a:lnTo>
                    <a:pt x="144" y="216"/>
                  </a:lnTo>
                  <a:lnTo>
                    <a:pt x="148" y="212"/>
                  </a:lnTo>
                  <a:lnTo>
                    <a:pt x="8" y="10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54840" y="5860440"/>
              <a:ext cx="771840" cy="100440"/>
            </a:xfrm>
            <a:custGeom>
              <a:avLst/>
              <a:gdLst/>
              <a:ahLst/>
              <a:rect l="l" t="t" r="r" b="b"/>
              <a:pathLst>
                <a:path w="590" h="70">
                  <a:moveTo>
                    <a:pt x="0" y="0"/>
                  </a:moveTo>
                  <a:lnTo>
                    <a:pt x="0" y="13"/>
                  </a:lnTo>
                  <a:lnTo>
                    <a:pt x="27" y="27"/>
                  </a:lnTo>
                  <a:lnTo>
                    <a:pt x="81" y="32"/>
                  </a:lnTo>
                  <a:lnTo>
                    <a:pt x="536" y="32"/>
                  </a:lnTo>
                  <a:lnTo>
                    <a:pt x="563" y="70"/>
                  </a:lnTo>
                  <a:lnTo>
                    <a:pt x="590" y="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56840" y="5860440"/>
              <a:ext cx="773280" cy="100440"/>
            </a:xfrm>
            <a:custGeom>
              <a:avLst/>
              <a:gdLst/>
              <a:ahLst/>
              <a:rect l="l" t="t" r="r" b="b"/>
              <a:pathLst>
                <a:path w="590" h="70">
                  <a:moveTo>
                    <a:pt x="590" y="0"/>
                  </a:moveTo>
                  <a:lnTo>
                    <a:pt x="590" y="13"/>
                  </a:lnTo>
                  <a:lnTo>
                    <a:pt x="563" y="27"/>
                  </a:lnTo>
                  <a:lnTo>
                    <a:pt x="509" y="32"/>
                  </a:lnTo>
                  <a:lnTo>
                    <a:pt x="54" y="32"/>
                  </a:lnTo>
                  <a:lnTo>
                    <a:pt x="27" y="70"/>
                  </a:lnTo>
                  <a:lnTo>
                    <a:pt x="0" y="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037240" y="6160320"/>
              <a:ext cx="775080" cy="100440"/>
            </a:xfrm>
            <a:custGeom>
              <a:avLst/>
              <a:gdLst/>
              <a:ahLst/>
              <a:rect l="l" t="t" r="r" b="b"/>
              <a:pathLst>
                <a:path w="590" h="70">
                  <a:moveTo>
                    <a:pt x="0" y="0"/>
                  </a:moveTo>
                  <a:lnTo>
                    <a:pt x="0" y="12"/>
                  </a:lnTo>
                  <a:lnTo>
                    <a:pt x="27" y="26"/>
                  </a:lnTo>
                  <a:lnTo>
                    <a:pt x="80" y="32"/>
                  </a:lnTo>
                  <a:lnTo>
                    <a:pt x="536" y="32"/>
                  </a:lnTo>
                  <a:lnTo>
                    <a:pt x="563" y="70"/>
                  </a:lnTo>
                  <a:lnTo>
                    <a:pt x="590" y="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740680" y="6160320"/>
              <a:ext cx="771840" cy="100440"/>
            </a:xfrm>
            <a:custGeom>
              <a:avLst/>
              <a:gdLst/>
              <a:ahLst/>
              <a:rect l="l" t="t" r="r" b="b"/>
              <a:pathLst>
                <a:path w="590" h="70">
                  <a:moveTo>
                    <a:pt x="590" y="0"/>
                  </a:moveTo>
                  <a:lnTo>
                    <a:pt x="590" y="12"/>
                  </a:lnTo>
                  <a:lnTo>
                    <a:pt x="563" y="26"/>
                  </a:lnTo>
                  <a:lnTo>
                    <a:pt x="509" y="32"/>
                  </a:lnTo>
                  <a:lnTo>
                    <a:pt x="54" y="32"/>
                  </a:lnTo>
                  <a:lnTo>
                    <a:pt x="27" y="70"/>
                  </a:lnTo>
                  <a:lnTo>
                    <a:pt x="0" y="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6" name=""/>
            <p:cNvGrpSpPr/>
            <p:nvPr/>
          </p:nvGrpSpPr>
          <p:grpSpPr>
            <a:xfrm>
              <a:off x="3638880" y="6273000"/>
              <a:ext cx="1025280" cy="110520"/>
              <a:chOff x="3638880" y="6273000"/>
              <a:chExt cx="1025280" cy="110520"/>
            </a:xfrm>
          </p:grpSpPr>
          <p:sp>
            <p:nvSpPr>
              <p:cNvPr id="1177" name=""/>
              <p:cNvSpPr/>
              <p:nvPr/>
            </p:nvSpPr>
            <p:spPr>
              <a:xfrm>
                <a:off x="3638880" y="6282360"/>
                <a:ext cx="511560" cy="101160"/>
              </a:xfrm>
              <a:custGeom>
                <a:avLst/>
                <a:gdLst/>
                <a:ahLst/>
                <a:rect l="l" t="t" r="r" b="b"/>
                <a:pathLst>
                  <a:path w="590" h="71">
                    <a:moveTo>
                      <a:pt x="0" y="0"/>
                    </a:moveTo>
                    <a:lnTo>
                      <a:pt x="0" y="13"/>
                    </a:lnTo>
                    <a:lnTo>
                      <a:pt x="27" y="27"/>
                    </a:lnTo>
                    <a:lnTo>
                      <a:pt x="80" y="33"/>
                    </a:lnTo>
                    <a:lnTo>
                      <a:pt x="536" y="33"/>
                    </a:lnTo>
                    <a:lnTo>
                      <a:pt x="563" y="71"/>
                    </a:lnTo>
                    <a:lnTo>
                      <a:pt x="590" y="3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03280" y="6273000"/>
                <a:ext cx="560880" cy="110520"/>
              </a:xfrm>
              <a:custGeom>
                <a:avLst/>
                <a:gdLst/>
                <a:ahLst/>
                <a:rect l="l" t="t" r="r" b="b"/>
                <a:pathLst>
                  <a:path w="590" h="71">
                    <a:moveTo>
                      <a:pt x="590" y="0"/>
                    </a:moveTo>
                    <a:lnTo>
                      <a:pt x="590" y="13"/>
                    </a:lnTo>
                    <a:lnTo>
                      <a:pt x="563" y="27"/>
                    </a:lnTo>
                    <a:lnTo>
                      <a:pt x="509" y="33"/>
                    </a:lnTo>
                    <a:lnTo>
                      <a:pt x="54" y="33"/>
                    </a:lnTo>
                    <a:lnTo>
                      <a:pt x="27" y="71"/>
                    </a:lnTo>
                    <a:lnTo>
                      <a:pt x="0" y="3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9" name=""/>
            <p:cNvSpPr/>
            <p:nvPr/>
          </p:nvSpPr>
          <p:spPr>
            <a:xfrm>
              <a:off x="930240" y="5724720"/>
              <a:ext cx="3300120" cy="1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930600" y="5724720"/>
              <a:ext cx="327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t0         t1            t2           t3           t4          t5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023840" y="5951880"/>
              <a:ext cx="70344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49280" y="5905440"/>
              <a:ext cx="177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bciążenie nadkrytycz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454120" y="6153840"/>
              <a:ext cx="597960" cy="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944360" y="6289920"/>
              <a:ext cx="151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bciążenie krytycz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467520" y="6356520"/>
              <a:ext cx="702000" cy="8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459960" y="6439680"/>
              <a:ext cx="178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bciążenie podkrytycz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237480" y="5561280"/>
              <a:ext cx="8744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4840" y="4768920"/>
              <a:ext cx="61920" cy="1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6200" y="4761360"/>
              <a:ext cx="1728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83440" y="3440880"/>
              <a:ext cx="440280" cy="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713120" y="4016880"/>
              <a:ext cx="66960" cy="1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712400" y="4016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49920" y="5673960"/>
              <a:ext cx="66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848480" y="5675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93080" y="3161520"/>
              <a:ext cx="109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13200" y="3162960"/>
              <a:ext cx="316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83440" y="3240000"/>
              <a:ext cx="132120" cy="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46640" y="3542760"/>
              <a:ext cx="3966120" cy="418320"/>
            </a:xfrm>
            <a:custGeom>
              <a:avLst/>
              <a:gdLst/>
              <a:ahLst/>
              <a:rect l="l" t="t" r="r" b="b"/>
              <a:pathLst>
                <a:path w="3024" h="293">
                  <a:moveTo>
                    <a:pt x="0" y="281"/>
                  </a:moveTo>
                  <a:lnTo>
                    <a:pt x="0" y="293"/>
                  </a:lnTo>
                  <a:lnTo>
                    <a:pt x="140" y="293"/>
                  </a:lnTo>
                  <a:lnTo>
                    <a:pt x="140" y="293"/>
                  </a:lnTo>
                  <a:lnTo>
                    <a:pt x="145" y="291"/>
                  </a:lnTo>
                  <a:lnTo>
                    <a:pt x="146" y="287"/>
                  </a:lnTo>
                  <a:lnTo>
                    <a:pt x="146" y="287"/>
                  </a:lnTo>
                  <a:lnTo>
                    <a:pt x="146" y="6"/>
                  </a:lnTo>
                  <a:lnTo>
                    <a:pt x="140" y="6"/>
                  </a:lnTo>
                  <a:lnTo>
                    <a:pt x="140" y="11"/>
                  </a:lnTo>
                  <a:lnTo>
                    <a:pt x="145" y="10"/>
                  </a:lnTo>
                  <a:lnTo>
                    <a:pt x="146" y="6"/>
                  </a:lnTo>
                  <a:lnTo>
                    <a:pt x="140" y="11"/>
                  </a:lnTo>
                  <a:lnTo>
                    <a:pt x="386" y="11"/>
                  </a:lnTo>
                  <a:lnTo>
                    <a:pt x="386" y="6"/>
                  </a:lnTo>
                  <a:lnTo>
                    <a:pt x="382" y="10"/>
                  </a:lnTo>
                  <a:lnTo>
                    <a:pt x="381" y="6"/>
                  </a:lnTo>
                  <a:lnTo>
                    <a:pt x="381" y="287"/>
                  </a:lnTo>
                  <a:lnTo>
                    <a:pt x="382" y="291"/>
                  </a:lnTo>
                  <a:lnTo>
                    <a:pt x="386" y="293"/>
                  </a:lnTo>
                  <a:lnTo>
                    <a:pt x="633" y="293"/>
                  </a:lnTo>
                  <a:lnTo>
                    <a:pt x="633" y="293"/>
                  </a:lnTo>
                  <a:lnTo>
                    <a:pt x="637" y="291"/>
                  </a:lnTo>
                  <a:lnTo>
                    <a:pt x="638" y="287"/>
                  </a:lnTo>
                  <a:lnTo>
                    <a:pt x="638" y="287"/>
                  </a:lnTo>
                  <a:lnTo>
                    <a:pt x="638" y="6"/>
                  </a:lnTo>
                  <a:lnTo>
                    <a:pt x="633" y="6"/>
                  </a:lnTo>
                  <a:lnTo>
                    <a:pt x="633" y="11"/>
                  </a:lnTo>
                  <a:lnTo>
                    <a:pt x="637" y="10"/>
                  </a:lnTo>
                  <a:lnTo>
                    <a:pt x="638" y="6"/>
                  </a:lnTo>
                  <a:lnTo>
                    <a:pt x="633" y="11"/>
                  </a:lnTo>
                  <a:lnTo>
                    <a:pt x="879" y="11"/>
                  </a:lnTo>
                  <a:lnTo>
                    <a:pt x="879" y="6"/>
                  </a:lnTo>
                  <a:lnTo>
                    <a:pt x="875" y="10"/>
                  </a:lnTo>
                  <a:lnTo>
                    <a:pt x="873" y="6"/>
                  </a:lnTo>
                  <a:lnTo>
                    <a:pt x="873" y="287"/>
                  </a:lnTo>
                  <a:lnTo>
                    <a:pt x="875" y="291"/>
                  </a:lnTo>
                  <a:lnTo>
                    <a:pt x="879" y="293"/>
                  </a:lnTo>
                  <a:lnTo>
                    <a:pt x="1125" y="293"/>
                  </a:lnTo>
                  <a:lnTo>
                    <a:pt x="1125" y="293"/>
                  </a:lnTo>
                  <a:lnTo>
                    <a:pt x="1129" y="291"/>
                  </a:lnTo>
                  <a:lnTo>
                    <a:pt x="1131" y="287"/>
                  </a:lnTo>
                  <a:lnTo>
                    <a:pt x="1131" y="287"/>
                  </a:lnTo>
                  <a:lnTo>
                    <a:pt x="1131" y="6"/>
                  </a:lnTo>
                  <a:lnTo>
                    <a:pt x="1125" y="6"/>
                  </a:lnTo>
                  <a:lnTo>
                    <a:pt x="1125" y="11"/>
                  </a:lnTo>
                  <a:lnTo>
                    <a:pt x="1129" y="10"/>
                  </a:lnTo>
                  <a:lnTo>
                    <a:pt x="1131" y="6"/>
                  </a:lnTo>
                  <a:lnTo>
                    <a:pt x="1125" y="11"/>
                  </a:lnTo>
                  <a:lnTo>
                    <a:pt x="1371" y="11"/>
                  </a:lnTo>
                  <a:lnTo>
                    <a:pt x="1371" y="6"/>
                  </a:lnTo>
                  <a:lnTo>
                    <a:pt x="1367" y="10"/>
                  </a:lnTo>
                  <a:lnTo>
                    <a:pt x="1366" y="6"/>
                  </a:lnTo>
                  <a:lnTo>
                    <a:pt x="1366" y="287"/>
                  </a:lnTo>
                  <a:lnTo>
                    <a:pt x="1367" y="291"/>
                  </a:lnTo>
                  <a:lnTo>
                    <a:pt x="1371" y="293"/>
                  </a:lnTo>
                  <a:lnTo>
                    <a:pt x="1617" y="293"/>
                  </a:lnTo>
                  <a:lnTo>
                    <a:pt x="1617" y="293"/>
                  </a:lnTo>
                  <a:lnTo>
                    <a:pt x="1622" y="291"/>
                  </a:lnTo>
                  <a:lnTo>
                    <a:pt x="1623" y="287"/>
                  </a:lnTo>
                  <a:lnTo>
                    <a:pt x="1623" y="287"/>
                  </a:lnTo>
                  <a:lnTo>
                    <a:pt x="1623" y="6"/>
                  </a:lnTo>
                  <a:lnTo>
                    <a:pt x="1617" y="6"/>
                  </a:lnTo>
                  <a:lnTo>
                    <a:pt x="1617" y="11"/>
                  </a:lnTo>
                  <a:lnTo>
                    <a:pt x="1622" y="10"/>
                  </a:lnTo>
                  <a:lnTo>
                    <a:pt x="1623" y="6"/>
                  </a:lnTo>
                  <a:lnTo>
                    <a:pt x="1617" y="11"/>
                  </a:lnTo>
                  <a:lnTo>
                    <a:pt x="1863" y="11"/>
                  </a:lnTo>
                  <a:lnTo>
                    <a:pt x="1863" y="6"/>
                  </a:lnTo>
                  <a:lnTo>
                    <a:pt x="1859" y="10"/>
                  </a:lnTo>
                  <a:lnTo>
                    <a:pt x="1858" y="6"/>
                  </a:lnTo>
                  <a:lnTo>
                    <a:pt x="1858" y="287"/>
                  </a:lnTo>
                  <a:lnTo>
                    <a:pt x="1859" y="291"/>
                  </a:lnTo>
                  <a:lnTo>
                    <a:pt x="1863" y="293"/>
                  </a:lnTo>
                  <a:lnTo>
                    <a:pt x="2110" y="293"/>
                  </a:lnTo>
                  <a:lnTo>
                    <a:pt x="2110" y="293"/>
                  </a:lnTo>
                  <a:lnTo>
                    <a:pt x="2114" y="291"/>
                  </a:lnTo>
                  <a:lnTo>
                    <a:pt x="2115" y="287"/>
                  </a:lnTo>
                  <a:lnTo>
                    <a:pt x="2115" y="287"/>
                  </a:lnTo>
                  <a:lnTo>
                    <a:pt x="2115" y="6"/>
                  </a:lnTo>
                  <a:lnTo>
                    <a:pt x="2110" y="6"/>
                  </a:lnTo>
                  <a:lnTo>
                    <a:pt x="2110" y="11"/>
                  </a:lnTo>
                  <a:lnTo>
                    <a:pt x="2114" y="10"/>
                  </a:lnTo>
                  <a:lnTo>
                    <a:pt x="2115" y="6"/>
                  </a:lnTo>
                  <a:lnTo>
                    <a:pt x="2110" y="11"/>
                  </a:lnTo>
                  <a:lnTo>
                    <a:pt x="2356" y="11"/>
                  </a:lnTo>
                  <a:lnTo>
                    <a:pt x="2356" y="6"/>
                  </a:lnTo>
                  <a:lnTo>
                    <a:pt x="2352" y="10"/>
                  </a:lnTo>
                  <a:lnTo>
                    <a:pt x="2350" y="6"/>
                  </a:lnTo>
                  <a:lnTo>
                    <a:pt x="2350" y="287"/>
                  </a:lnTo>
                  <a:lnTo>
                    <a:pt x="2352" y="291"/>
                  </a:lnTo>
                  <a:lnTo>
                    <a:pt x="2356" y="293"/>
                  </a:lnTo>
                  <a:lnTo>
                    <a:pt x="2602" y="293"/>
                  </a:lnTo>
                  <a:lnTo>
                    <a:pt x="2602" y="293"/>
                  </a:lnTo>
                  <a:lnTo>
                    <a:pt x="2606" y="291"/>
                  </a:lnTo>
                  <a:lnTo>
                    <a:pt x="2608" y="287"/>
                  </a:lnTo>
                  <a:lnTo>
                    <a:pt x="2608" y="287"/>
                  </a:lnTo>
                  <a:lnTo>
                    <a:pt x="2608" y="6"/>
                  </a:lnTo>
                  <a:lnTo>
                    <a:pt x="2602" y="6"/>
                  </a:lnTo>
                  <a:lnTo>
                    <a:pt x="2602" y="11"/>
                  </a:lnTo>
                  <a:lnTo>
                    <a:pt x="2606" y="10"/>
                  </a:lnTo>
                  <a:lnTo>
                    <a:pt x="2608" y="6"/>
                  </a:lnTo>
                  <a:lnTo>
                    <a:pt x="2602" y="11"/>
                  </a:lnTo>
                  <a:lnTo>
                    <a:pt x="2813" y="11"/>
                  </a:lnTo>
                  <a:lnTo>
                    <a:pt x="2813" y="6"/>
                  </a:lnTo>
                  <a:lnTo>
                    <a:pt x="2809" y="10"/>
                  </a:lnTo>
                  <a:lnTo>
                    <a:pt x="2807" y="6"/>
                  </a:lnTo>
                  <a:lnTo>
                    <a:pt x="2807" y="287"/>
                  </a:lnTo>
                  <a:lnTo>
                    <a:pt x="2809" y="291"/>
                  </a:lnTo>
                  <a:lnTo>
                    <a:pt x="2813" y="293"/>
                  </a:lnTo>
                  <a:lnTo>
                    <a:pt x="3024" y="293"/>
                  </a:lnTo>
                  <a:lnTo>
                    <a:pt x="3024" y="281"/>
                  </a:lnTo>
                  <a:lnTo>
                    <a:pt x="2813" y="281"/>
                  </a:lnTo>
                  <a:lnTo>
                    <a:pt x="2817" y="283"/>
                  </a:lnTo>
                  <a:lnTo>
                    <a:pt x="2813" y="287"/>
                  </a:lnTo>
                  <a:lnTo>
                    <a:pt x="2819" y="287"/>
                  </a:lnTo>
                  <a:lnTo>
                    <a:pt x="2819" y="6"/>
                  </a:lnTo>
                  <a:lnTo>
                    <a:pt x="2817" y="2"/>
                  </a:lnTo>
                  <a:lnTo>
                    <a:pt x="2813" y="0"/>
                  </a:lnTo>
                  <a:lnTo>
                    <a:pt x="2602" y="0"/>
                  </a:lnTo>
                  <a:lnTo>
                    <a:pt x="2602" y="0"/>
                  </a:lnTo>
                  <a:lnTo>
                    <a:pt x="2598" y="2"/>
                  </a:lnTo>
                  <a:lnTo>
                    <a:pt x="2596" y="6"/>
                  </a:lnTo>
                  <a:lnTo>
                    <a:pt x="2596" y="6"/>
                  </a:lnTo>
                  <a:lnTo>
                    <a:pt x="2596" y="6"/>
                  </a:lnTo>
                  <a:lnTo>
                    <a:pt x="2596" y="287"/>
                  </a:lnTo>
                  <a:lnTo>
                    <a:pt x="2602" y="281"/>
                  </a:lnTo>
                  <a:lnTo>
                    <a:pt x="2598" y="283"/>
                  </a:lnTo>
                  <a:lnTo>
                    <a:pt x="2596" y="287"/>
                  </a:lnTo>
                  <a:lnTo>
                    <a:pt x="2596" y="287"/>
                  </a:lnTo>
                  <a:lnTo>
                    <a:pt x="2602" y="287"/>
                  </a:lnTo>
                  <a:lnTo>
                    <a:pt x="2602" y="281"/>
                  </a:lnTo>
                  <a:lnTo>
                    <a:pt x="2356" y="281"/>
                  </a:lnTo>
                  <a:lnTo>
                    <a:pt x="2360" y="283"/>
                  </a:lnTo>
                  <a:lnTo>
                    <a:pt x="2356" y="287"/>
                  </a:lnTo>
                  <a:lnTo>
                    <a:pt x="2361" y="287"/>
                  </a:lnTo>
                  <a:lnTo>
                    <a:pt x="2361" y="6"/>
                  </a:lnTo>
                  <a:lnTo>
                    <a:pt x="2360" y="2"/>
                  </a:lnTo>
                  <a:lnTo>
                    <a:pt x="2356" y="0"/>
                  </a:lnTo>
                  <a:lnTo>
                    <a:pt x="2110" y="0"/>
                  </a:lnTo>
                  <a:lnTo>
                    <a:pt x="2110" y="0"/>
                  </a:lnTo>
                  <a:lnTo>
                    <a:pt x="2105" y="2"/>
                  </a:lnTo>
                  <a:lnTo>
                    <a:pt x="2104" y="6"/>
                  </a:lnTo>
                  <a:lnTo>
                    <a:pt x="2104" y="6"/>
                  </a:lnTo>
                  <a:lnTo>
                    <a:pt x="2104" y="6"/>
                  </a:lnTo>
                  <a:lnTo>
                    <a:pt x="2104" y="287"/>
                  </a:lnTo>
                  <a:lnTo>
                    <a:pt x="2110" y="281"/>
                  </a:lnTo>
                  <a:lnTo>
                    <a:pt x="2105" y="283"/>
                  </a:lnTo>
                  <a:lnTo>
                    <a:pt x="2104" y="287"/>
                  </a:lnTo>
                  <a:lnTo>
                    <a:pt x="2104" y="287"/>
                  </a:lnTo>
                  <a:lnTo>
                    <a:pt x="2110" y="287"/>
                  </a:lnTo>
                  <a:lnTo>
                    <a:pt x="2110" y="281"/>
                  </a:lnTo>
                  <a:lnTo>
                    <a:pt x="1863" y="281"/>
                  </a:lnTo>
                  <a:lnTo>
                    <a:pt x="1868" y="283"/>
                  </a:lnTo>
                  <a:lnTo>
                    <a:pt x="1863" y="287"/>
                  </a:lnTo>
                  <a:lnTo>
                    <a:pt x="1869" y="287"/>
                  </a:lnTo>
                  <a:lnTo>
                    <a:pt x="1869" y="6"/>
                  </a:lnTo>
                  <a:lnTo>
                    <a:pt x="1868" y="2"/>
                  </a:lnTo>
                  <a:lnTo>
                    <a:pt x="1863" y="0"/>
                  </a:lnTo>
                  <a:lnTo>
                    <a:pt x="1617" y="0"/>
                  </a:lnTo>
                  <a:lnTo>
                    <a:pt x="1617" y="0"/>
                  </a:lnTo>
                  <a:lnTo>
                    <a:pt x="1613" y="2"/>
                  </a:lnTo>
                  <a:lnTo>
                    <a:pt x="1612" y="6"/>
                  </a:lnTo>
                  <a:lnTo>
                    <a:pt x="1612" y="6"/>
                  </a:lnTo>
                  <a:lnTo>
                    <a:pt x="1612" y="6"/>
                  </a:lnTo>
                  <a:lnTo>
                    <a:pt x="1612" y="287"/>
                  </a:lnTo>
                  <a:lnTo>
                    <a:pt x="1617" y="281"/>
                  </a:lnTo>
                  <a:lnTo>
                    <a:pt x="1613" y="283"/>
                  </a:lnTo>
                  <a:lnTo>
                    <a:pt x="1612" y="287"/>
                  </a:lnTo>
                  <a:lnTo>
                    <a:pt x="1612" y="287"/>
                  </a:lnTo>
                  <a:lnTo>
                    <a:pt x="1617" y="287"/>
                  </a:lnTo>
                  <a:lnTo>
                    <a:pt x="1617" y="281"/>
                  </a:lnTo>
                  <a:lnTo>
                    <a:pt x="1371" y="281"/>
                  </a:lnTo>
                  <a:lnTo>
                    <a:pt x="1375" y="283"/>
                  </a:lnTo>
                  <a:lnTo>
                    <a:pt x="1371" y="287"/>
                  </a:lnTo>
                  <a:lnTo>
                    <a:pt x="1377" y="287"/>
                  </a:lnTo>
                  <a:lnTo>
                    <a:pt x="1377" y="6"/>
                  </a:lnTo>
                  <a:lnTo>
                    <a:pt x="1375" y="2"/>
                  </a:lnTo>
                  <a:lnTo>
                    <a:pt x="1371" y="0"/>
                  </a:lnTo>
                  <a:lnTo>
                    <a:pt x="1125" y="0"/>
                  </a:lnTo>
                  <a:lnTo>
                    <a:pt x="1125" y="0"/>
                  </a:lnTo>
                  <a:lnTo>
                    <a:pt x="1121" y="2"/>
                  </a:lnTo>
                  <a:lnTo>
                    <a:pt x="1119" y="6"/>
                  </a:lnTo>
                  <a:lnTo>
                    <a:pt x="1119" y="6"/>
                  </a:lnTo>
                  <a:lnTo>
                    <a:pt x="1119" y="6"/>
                  </a:lnTo>
                  <a:lnTo>
                    <a:pt x="1119" y="287"/>
                  </a:lnTo>
                  <a:lnTo>
                    <a:pt x="1125" y="281"/>
                  </a:lnTo>
                  <a:lnTo>
                    <a:pt x="1121" y="283"/>
                  </a:lnTo>
                  <a:lnTo>
                    <a:pt x="1119" y="287"/>
                  </a:lnTo>
                  <a:lnTo>
                    <a:pt x="1119" y="287"/>
                  </a:lnTo>
                  <a:lnTo>
                    <a:pt x="1125" y="287"/>
                  </a:lnTo>
                  <a:lnTo>
                    <a:pt x="1125" y="281"/>
                  </a:lnTo>
                  <a:lnTo>
                    <a:pt x="879" y="281"/>
                  </a:lnTo>
                  <a:lnTo>
                    <a:pt x="883" y="283"/>
                  </a:lnTo>
                  <a:lnTo>
                    <a:pt x="879" y="287"/>
                  </a:lnTo>
                  <a:lnTo>
                    <a:pt x="884" y="287"/>
                  </a:lnTo>
                  <a:lnTo>
                    <a:pt x="884" y="6"/>
                  </a:lnTo>
                  <a:lnTo>
                    <a:pt x="883" y="2"/>
                  </a:lnTo>
                  <a:lnTo>
                    <a:pt x="879" y="0"/>
                  </a:lnTo>
                  <a:lnTo>
                    <a:pt x="633" y="0"/>
                  </a:lnTo>
                  <a:lnTo>
                    <a:pt x="633" y="0"/>
                  </a:lnTo>
                  <a:lnTo>
                    <a:pt x="628" y="2"/>
                  </a:lnTo>
                  <a:lnTo>
                    <a:pt x="627" y="6"/>
                  </a:lnTo>
                  <a:lnTo>
                    <a:pt x="627" y="6"/>
                  </a:lnTo>
                  <a:lnTo>
                    <a:pt x="627" y="6"/>
                  </a:lnTo>
                  <a:lnTo>
                    <a:pt x="627" y="287"/>
                  </a:lnTo>
                  <a:lnTo>
                    <a:pt x="633" y="281"/>
                  </a:lnTo>
                  <a:lnTo>
                    <a:pt x="628" y="283"/>
                  </a:lnTo>
                  <a:lnTo>
                    <a:pt x="627" y="287"/>
                  </a:lnTo>
                  <a:lnTo>
                    <a:pt x="627" y="287"/>
                  </a:lnTo>
                  <a:lnTo>
                    <a:pt x="633" y="287"/>
                  </a:lnTo>
                  <a:lnTo>
                    <a:pt x="633" y="281"/>
                  </a:lnTo>
                  <a:lnTo>
                    <a:pt x="386" y="281"/>
                  </a:lnTo>
                  <a:lnTo>
                    <a:pt x="391" y="283"/>
                  </a:lnTo>
                  <a:lnTo>
                    <a:pt x="386" y="287"/>
                  </a:lnTo>
                  <a:lnTo>
                    <a:pt x="392" y="287"/>
                  </a:lnTo>
                  <a:lnTo>
                    <a:pt x="392" y="6"/>
                  </a:lnTo>
                  <a:lnTo>
                    <a:pt x="391" y="2"/>
                  </a:lnTo>
                  <a:lnTo>
                    <a:pt x="38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6" y="2"/>
                  </a:lnTo>
                  <a:lnTo>
                    <a:pt x="135" y="6"/>
                  </a:lnTo>
                  <a:lnTo>
                    <a:pt x="135" y="6"/>
                  </a:lnTo>
                  <a:lnTo>
                    <a:pt x="135" y="6"/>
                  </a:lnTo>
                  <a:lnTo>
                    <a:pt x="135" y="287"/>
                  </a:lnTo>
                  <a:lnTo>
                    <a:pt x="140" y="281"/>
                  </a:lnTo>
                  <a:lnTo>
                    <a:pt x="136" y="283"/>
                  </a:lnTo>
                  <a:lnTo>
                    <a:pt x="135" y="287"/>
                  </a:lnTo>
                  <a:lnTo>
                    <a:pt x="135" y="287"/>
                  </a:lnTo>
                  <a:lnTo>
                    <a:pt x="140" y="287"/>
                  </a:lnTo>
                  <a:lnTo>
                    <a:pt x="140" y="281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565800" y="5352840"/>
              <a:ext cx="874440" cy="267120"/>
            </a:xfrm>
            <a:custGeom>
              <a:avLst/>
              <a:gdLst/>
              <a:ahLst/>
              <a:rect l="l" t="t" r="r" b="b"/>
              <a:pathLst>
                <a:path w="710" h="187">
                  <a:moveTo>
                    <a:pt x="0" y="177"/>
                  </a:moveTo>
                  <a:lnTo>
                    <a:pt x="5" y="185"/>
                  </a:lnTo>
                  <a:lnTo>
                    <a:pt x="252" y="10"/>
                  </a:lnTo>
                  <a:lnTo>
                    <a:pt x="249" y="5"/>
                  </a:lnTo>
                  <a:lnTo>
                    <a:pt x="245" y="10"/>
                  </a:lnTo>
                  <a:lnTo>
                    <a:pt x="249" y="11"/>
                  </a:lnTo>
                  <a:lnTo>
                    <a:pt x="245" y="8"/>
                  </a:lnTo>
                  <a:lnTo>
                    <a:pt x="350" y="184"/>
                  </a:lnTo>
                  <a:lnTo>
                    <a:pt x="350" y="185"/>
                  </a:lnTo>
                  <a:lnTo>
                    <a:pt x="354" y="187"/>
                  </a:lnTo>
                  <a:lnTo>
                    <a:pt x="530" y="187"/>
                  </a:lnTo>
                  <a:lnTo>
                    <a:pt x="530" y="187"/>
                  </a:lnTo>
                  <a:lnTo>
                    <a:pt x="534" y="185"/>
                  </a:lnTo>
                  <a:lnTo>
                    <a:pt x="710" y="45"/>
                  </a:lnTo>
                  <a:lnTo>
                    <a:pt x="703" y="36"/>
                  </a:lnTo>
                  <a:lnTo>
                    <a:pt x="527" y="177"/>
                  </a:lnTo>
                  <a:lnTo>
                    <a:pt x="530" y="181"/>
                  </a:lnTo>
                  <a:lnTo>
                    <a:pt x="530" y="176"/>
                  </a:lnTo>
                  <a:lnTo>
                    <a:pt x="354" y="176"/>
                  </a:lnTo>
                  <a:lnTo>
                    <a:pt x="354" y="181"/>
                  </a:lnTo>
                  <a:lnTo>
                    <a:pt x="358" y="178"/>
                  </a:lnTo>
                  <a:lnTo>
                    <a:pt x="253" y="3"/>
                  </a:lnTo>
                  <a:lnTo>
                    <a:pt x="253" y="1"/>
                  </a:lnTo>
                  <a:lnTo>
                    <a:pt x="249" y="0"/>
                  </a:lnTo>
                  <a:lnTo>
                    <a:pt x="246" y="1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4435920" y="3953520"/>
              <a:ext cx="1080" cy="1656720"/>
            </a:xfrm>
            <a:prstGeom prst="line">
              <a:avLst/>
            </a:prstGeom>
            <a:ln w="18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4158720" y="3953520"/>
              <a:ext cx="1440" cy="1656720"/>
            </a:xfrm>
            <a:prstGeom prst="line">
              <a:avLst/>
            </a:prstGeom>
            <a:ln w="18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6640" y="4053960"/>
              <a:ext cx="1080" cy="75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6640" y="4807440"/>
              <a:ext cx="40568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 flipV="1">
              <a:off x="4757760" y="4757760"/>
              <a:ext cx="450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4757760" y="4807440"/>
              <a:ext cx="45000" cy="51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699480" y="4053960"/>
              <a:ext cx="46440" cy="51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46640" y="4053960"/>
              <a:ext cx="46440" cy="51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758120" y="4869000"/>
              <a:ext cx="6840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756680" y="4872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6640" y="4396680"/>
              <a:ext cx="3966120" cy="416880"/>
            </a:xfrm>
            <a:custGeom>
              <a:avLst/>
              <a:gdLst/>
              <a:ahLst/>
              <a:rect l="l" t="t" r="r" b="b"/>
              <a:pathLst>
                <a:path w="3024" h="292">
                  <a:moveTo>
                    <a:pt x="0" y="281"/>
                  </a:moveTo>
                  <a:lnTo>
                    <a:pt x="0" y="292"/>
                  </a:lnTo>
                  <a:lnTo>
                    <a:pt x="140" y="292"/>
                  </a:lnTo>
                  <a:lnTo>
                    <a:pt x="140" y="292"/>
                  </a:lnTo>
                  <a:lnTo>
                    <a:pt x="145" y="291"/>
                  </a:lnTo>
                  <a:lnTo>
                    <a:pt x="146" y="287"/>
                  </a:lnTo>
                  <a:lnTo>
                    <a:pt x="146" y="287"/>
                  </a:lnTo>
                  <a:lnTo>
                    <a:pt x="146" y="6"/>
                  </a:lnTo>
                  <a:lnTo>
                    <a:pt x="140" y="6"/>
                  </a:lnTo>
                  <a:lnTo>
                    <a:pt x="140" y="11"/>
                  </a:lnTo>
                  <a:lnTo>
                    <a:pt x="145" y="10"/>
                  </a:lnTo>
                  <a:lnTo>
                    <a:pt x="146" y="6"/>
                  </a:lnTo>
                  <a:lnTo>
                    <a:pt x="140" y="11"/>
                  </a:lnTo>
                  <a:lnTo>
                    <a:pt x="386" y="11"/>
                  </a:lnTo>
                  <a:lnTo>
                    <a:pt x="386" y="6"/>
                  </a:lnTo>
                  <a:lnTo>
                    <a:pt x="382" y="10"/>
                  </a:lnTo>
                  <a:lnTo>
                    <a:pt x="381" y="6"/>
                  </a:lnTo>
                  <a:lnTo>
                    <a:pt x="381" y="287"/>
                  </a:lnTo>
                  <a:lnTo>
                    <a:pt x="382" y="291"/>
                  </a:lnTo>
                  <a:lnTo>
                    <a:pt x="386" y="292"/>
                  </a:lnTo>
                  <a:lnTo>
                    <a:pt x="633" y="292"/>
                  </a:lnTo>
                  <a:lnTo>
                    <a:pt x="633" y="292"/>
                  </a:lnTo>
                  <a:lnTo>
                    <a:pt x="637" y="291"/>
                  </a:lnTo>
                  <a:lnTo>
                    <a:pt x="638" y="287"/>
                  </a:lnTo>
                  <a:lnTo>
                    <a:pt x="638" y="287"/>
                  </a:lnTo>
                  <a:lnTo>
                    <a:pt x="638" y="6"/>
                  </a:lnTo>
                  <a:lnTo>
                    <a:pt x="633" y="6"/>
                  </a:lnTo>
                  <a:lnTo>
                    <a:pt x="633" y="11"/>
                  </a:lnTo>
                  <a:lnTo>
                    <a:pt x="637" y="10"/>
                  </a:lnTo>
                  <a:lnTo>
                    <a:pt x="638" y="6"/>
                  </a:lnTo>
                  <a:lnTo>
                    <a:pt x="633" y="11"/>
                  </a:lnTo>
                  <a:lnTo>
                    <a:pt x="879" y="11"/>
                  </a:lnTo>
                  <a:lnTo>
                    <a:pt x="879" y="6"/>
                  </a:lnTo>
                  <a:lnTo>
                    <a:pt x="875" y="10"/>
                  </a:lnTo>
                  <a:lnTo>
                    <a:pt x="873" y="6"/>
                  </a:lnTo>
                  <a:lnTo>
                    <a:pt x="873" y="287"/>
                  </a:lnTo>
                  <a:lnTo>
                    <a:pt x="875" y="291"/>
                  </a:lnTo>
                  <a:lnTo>
                    <a:pt x="879" y="292"/>
                  </a:lnTo>
                  <a:lnTo>
                    <a:pt x="1125" y="292"/>
                  </a:lnTo>
                  <a:lnTo>
                    <a:pt x="1125" y="292"/>
                  </a:lnTo>
                  <a:lnTo>
                    <a:pt x="1129" y="291"/>
                  </a:lnTo>
                  <a:lnTo>
                    <a:pt x="1131" y="287"/>
                  </a:lnTo>
                  <a:lnTo>
                    <a:pt x="1131" y="287"/>
                  </a:lnTo>
                  <a:lnTo>
                    <a:pt x="1131" y="6"/>
                  </a:lnTo>
                  <a:lnTo>
                    <a:pt x="1125" y="6"/>
                  </a:lnTo>
                  <a:lnTo>
                    <a:pt x="1125" y="11"/>
                  </a:lnTo>
                  <a:lnTo>
                    <a:pt x="1129" y="10"/>
                  </a:lnTo>
                  <a:lnTo>
                    <a:pt x="1131" y="6"/>
                  </a:lnTo>
                  <a:lnTo>
                    <a:pt x="1125" y="11"/>
                  </a:lnTo>
                  <a:lnTo>
                    <a:pt x="1371" y="11"/>
                  </a:lnTo>
                  <a:lnTo>
                    <a:pt x="1371" y="6"/>
                  </a:lnTo>
                  <a:lnTo>
                    <a:pt x="1367" y="10"/>
                  </a:lnTo>
                  <a:lnTo>
                    <a:pt x="1366" y="6"/>
                  </a:lnTo>
                  <a:lnTo>
                    <a:pt x="1366" y="287"/>
                  </a:lnTo>
                  <a:lnTo>
                    <a:pt x="1367" y="291"/>
                  </a:lnTo>
                  <a:lnTo>
                    <a:pt x="1371" y="292"/>
                  </a:lnTo>
                  <a:lnTo>
                    <a:pt x="1617" y="292"/>
                  </a:lnTo>
                  <a:lnTo>
                    <a:pt x="1617" y="292"/>
                  </a:lnTo>
                  <a:lnTo>
                    <a:pt x="1622" y="291"/>
                  </a:lnTo>
                  <a:lnTo>
                    <a:pt x="1623" y="287"/>
                  </a:lnTo>
                  <a:lnTo>
                    <a:pt x="1623" y="287"/>
                  </a:lnTo>
                  <a:lnTo>
                    <a:pt x="1623" y="6"/>
                  </a:lnTo>
                  <a:lnTo>
                    <a:pt x="1617" y="6"/>
                  </a:lnTo>
                  <a:lnTo>
                    <a:pt x="1617" y="11"/>
                  </a:lnTo>
                  <a:lnTo>
                    <a:pt x="1622" y="10"/>
                  </a:lnTo>
                  <a:lnTo>
                    <a:pt x="1623" y="6"/>
                  </a:lnTo>
                  <a:lnTo>
                    <a:pt x="1617" y="11"/>
                  </a:lnTo>
                  <a:lnTo>
                    <a:pt x="1863" y="11"/>
                  </a:lnTo>
                  <a:lnTo>
                    <a:pt x="1863" y="6"/>
                  </a:lnTo>
                  <a:lnTo>
                    <a:pt x="1859" y="10"/>
                  </a:lnTo>
                  <a:lnTo>
                    <a:pt x="1858" y="6"/>
                  </a:lnTo>
                  <a:lnTo>
                    <a:pt x="1858" y="287"/>
                  </a:lnTo>
                  <a:lnTo>
                    <a:pt x="1859" y="291"/>
                  </a:lnTo>
                  <a:lnTo>
                    <a:pt x="1863" y="292"/>
                  </a:lnTo>
                  <a:lnTo>
                    <a:pt x="2110" y="292"/>
                  </a:lnTo>
                  <a:lnTo>
                    <a:pt x="2110" y="292"/>
                  </a:lnTo>
                  <a:lnTo>
                    <a:pt x="2114" y="291"/>
                  </a:lnTo>
                  <a:lnTo>
                    <a:pt x="2115" y="287"/>
                  </a:lnTo>
                  <a:lnTo>
                    <a:pt x="2115" y="287"/>
                  </a:lnTo>
                  <a:lnTo>
                    <a:pt x="2115" y="6"/>
                  </a:lnTo>
                  <a:lnTo>
                    <a:pt x="2110" y="6"/>
                  </a:lnTo>
                  <a:lnTo>
                    <a:pt x="2110" y="11"/>
                  </a:lnTo>
                  <a:lnTo>
                    <a:pt x="2114" y="10"/>
                  </a:lnTo>
                  <a:lnTo>
                    <a:pt x="2115" y="6"/>
                  </a:lnTo>
                  <a:lnTo>
                    <a:pt x="2110" y="11"/>
                  </a:lnTo>
                  <a:lnTo>
                    <a:pt x="2356" y="11"/>
                  </a:lnTo>
                  <a:lnTo>
                    <a:pt x="2356" y="6"/>
                  </a:lnTo>
                  <a:lnTo>
                    <a:pt x="2352" y="10"/>
                  </a:lnTo>
                  <a:lnTo>
                    <a:pt x="2350" y="6"/>
                  </a:lnTo>
                  <a:lnTo>
                    <a:pt x="2350" y="287"/>
                  </a:lnTo>
                  <a:lnTo>
                    <a:pt x="2352" y="291"/>
                  </a:lnTo>
                  <a:lnTo>
                    <a:pt x="2356" y="292"/>
                  </a:lnTo>
                  <a:lnTo>
                    <a:pt x="2602" y="292"/>
                  </a:lnTo>
                  <a:lnTo>
                    <a:pt x="2602" y="292"/>
                  </a:lnTo>
                  <a:lnTo>
                    <a:pt x="2606" y="291"/>
                  </a:lnTo>
                  <a:lnTo>
                    <a:pt x="2608" y="287"/>
                  </a:lnTo>
                  <a:lnTo>
                    <a:pt x="2608" y="287"/>
                  </a:lnTo>
                  <a:lnTo>
                    <a:pt x="2608" y="6"/>
                  </a:lnTo>
                  <a:lnTo>
                    <a:pt x="2602" y="6"/>
                  </a:lnTo>
                  <a:lnTo>
                    <a:pt x="2602" y="11"/>
                  </a:lnTo>
                  <a:lnTo>
                    <a:pt x="2606" y="10"/>
                  </a:lnTo>
                  <a:lnTo>
                    <a:pt x="2608" y="6"/>
                  </a:lnTo>
                  <a:lnTo>
                    <a:pt x="2602" y="11"/>
                  </a:lnTo>
                  <a:lnTo>
                    <a:pt x="2813" y="11"/>
                  </a:lnTo>
                  <a:lnTo>
                    <a:pt x="2813" y="6"/>
                  </a:lnTo>
                  <a:lnTo>
                    <a:pt x="2809" y="10"/>
                  </a:lnTo>
                  <a:lnTo>
                    <a:pt x="2807" y="6"/>
                  </a:lnTo>
                  <a:lnTo>
                    <a:pt x="2807" y="287"/>
                  </a:lnTo>
                  <a:lnTo>
                    <a:pt x="2809" y="291"/>
                  </a:lnTo>
                  <a:lnTo>
                    <a:pt x="2813" y="292"/>
                  </a:lnTo>
                  <a:lnTo>
                    <a:pt x="3024" y="292"/>
                  </a:lnTo>
                  <a:lnTo>
                    <a:pt x="3024" y="281"/>
                  </a:lnTo>
                  <a:lnTo>
                    <a:pt x="2813" y="281"/>
                  </a:lnTo>
                  <a:lnTo>
                    <a:pt x="2817" y="283"/>
                  </a:lnTo>
                  <a:lnTo>
                    <a:pt x="2813" y="287"/>
                  </a:lnTo>
                  <a:lnTo>
                    <a:pt x="2819" y="287"/>
                  </a:lnTo>
                  <a:lnTo>
                    <a:pt x="2819" y="6"/>
                  </a:lnTo>
                  <a:lnTo>
                    <a:pt x="2817" y="1"/>
                  </a:lnTo>
                  <a:lnTo>
                    <a:pt x="2813" y="0"/>
                  </a:lnTo>
                  <a:lnTo>
                    <a:pt x="2602" y="0"/>
                  </a:lnTo>
                  <a:lnTo>
                    <a:pt x="2602" y="0"/>
                  </a:lnTo>
                  <a:lnTo>
                    <a:pt x="2598" y="1"/>
                  </a:lnTo>
                  <a:lnTo>
                    <a:pt x="2596" y="6"/>
                  </a:lnTo>
                  <a:lnTo>
                    <a:pt x="2596" y="6"/>
                  </a:lnTo>
                  <a:lnTo>
                    <a:pt x="2596" y="6"/>
                  </a:lnTo>
                  <a:lnTo>
                    <a:pt x="2596" y="287"/>
                  </a:lnTo>
                  <a:lnTo>
                    <a:pt x="2602" y="281"/>
                  </a:lnTo>
                  <a:lnTo>
                    <a:pt x="2598" y="283"/>
                  </a:lnTo>
                  <a:lnTo>
                    <a:pt x="2596" y="287"/>
                  </a:lnTo>
                  <a:lnTo>
                    <a:pt x="2596" y="287"/>
                  </a:lnTo>
                  <a:lnTo>
                    <a:pt x="2602" y="287"/>
                  </a:lnTo>
                  <a:lnTo>
                    <a:pt x="2602" y="281"/>
                  </a:lnTo>
                  <a:lnTo>
                    <a:pt x="2356" y="281"/>
                  </a:lnTo>
                  <a:lnTo>
                    <a:pt x="2360" y="283"/>
                  </a:lnTo>
                  <a:lnTo>
                    <a:pt x="2356" y="287"/>
                  </a:lnTo>
                  <a:lnTo>
                    <a:pt x="2361" y="287"/>
                  </a:lnTo>
                  <a:lnTo>
                    <a:pt x="2361" y="6"/>
                  </a:lnTo>
                  <a:lnTo>
                    <a:pt x="2360" y="1"/>
                  </a:lnTo>
                  <a:lnTo>
                    <a:pt x="2356" y="0"/>
                  </a:lnTo>
                  <a:lnTo>
                    <a:pt x="2110" y="0"/>
                  </a:lnTo>
                  <a:lnTo>
                    <a:pt x="2110" y="0"/>
                  </a:lnTo>
                  <a:lnTo>
                    <a:pt x="2105" y="1"/>
                  </a:lnTo>
                  <a:lnTo>
                    <a:pt x="2104" y="6"/>
                  </a:lnTo>
                  <a:lnTo>
                    <a:pt x="2104" y="6"/>
                  </a:lnTo>
                  <a:lnTo>
                    <a:pt x="2104" y="6"/>
                  </a:lnTo>
                  <a:lnTo>
                    <a:pt x="2104" y="287"/>
                  </a:lnTo>
                  <a:lnTo>
                    <a:pt x="2110" y="281"/>
                  </a:lnTo>
                  <a:lnTo>
                    <a:pt x="2105" y="283"/>
                  </a:lnTo>
                  <a:lnTo>
                    <a:pt x="2104" y="287"/>
                  </a:lnTo>
                  <a:lnTo>
                    <a:pt x="2104" y="287"/>
                  </a:lnTo>
                  <a:lnTo>
                    <a:pt x="2110" y="287"/>
                  </a:lnTo>
                  <a:lnTo>
                    <a:pt x="2110" y="281"/>
                  </a:lnTo>
                  <a:lnTo>
                    <a:pt x="1863" y="281"/>
                  </a:lnTo>
                  <a:lnTo>
                    <a:pt x="1868" y="283"/>
                  </a:lnTo>
                  <a:lnTo>
                    <a:pt x="1863" y="287"/>
                  </a:lnTo>
                  <a:lnTo>
                    <a:pt x="1869" y="287"/>
                  </a:lnTo>
                  <a:lnTo>
                    <a:pt x="1869" y="6"/>
                  </a:lnTo>
                  <a:lnTo>
                    <a:pt x="1868" y="1"/>
                  </a:lnTo>
                  <a:lnTo>
                    <a:pt x="1863" y="0"/>
                  </a:lnTo>
                  <a:lnTo>
                    <a:pt x="1617" y="0"/>
                  </a:lnTo>
                  <a:lnTo>
                    <a:pt x="1617" y="0"/>
                  </a:lnTo>
                  <a:lnTo>
                    <a:pt x="1613" y="1"/>
                  </a:lnTo>
                  <a:lnTo>
                    <a:pt x="1612" y="6"/>
                  </a:lnTo>
                  <a:lnTo>
                    <a:pt x="1612" y="6"/>
                  </a:lnTo>
                  <a:lnTo>
                    <a:pt x="1612" y="6"/>
                  </a:lnTo>
                  <a:lnTo>
                    <a:pt x="1612" y="287"/>
                  </a:lnTo>
                  <a:lnTo>
                    <a:pt x="1617" y="281"/>
                  </a:lnTo>
                  <a:lnTo>
                    <a:pt x="1613" y="283"/>
                  </a:lnTo>
                  <a:lnTo>
                    <a:pt x="1612" y="287"/>
                  </a:lnTo>
                  <a:lnTo>
                    <a:pt x="1612" y="287"/>
                  </a:lnTo>
                  <a:lnTo>
                    <a:pt x="1617" y="287"/>
                  </a:lnTo>
                  <a:lnTo>
                    <a:pt x="1617" y="281"/>
                  </a:lnTo>
                  <a:lnTo>
                    <a:pt x="1371" y="281"/>
                  </a:lnTo>
                  <a:lnTo>
                    <a:pt x="1375" y="283"/>
                  </a:lnTo>
                  <a:lnTo>
                    <a:pt x="1371" y="287"/>
                  </a:lnTo>
                  <a:lnTo>
                    <a:pt x="1377" y="287"/>
                  </a:lnTo>
                  <a:lnTo>
                    <a:pt x="1377" y="6"/>
                  </a:lnTo>
                  <a:lnTo>
                    <a:pt x="1375" y="1"/>
                  </a:lnTo>
                  <a:lnTo>
                    <a:pt x="1371" y="0"/>
                  </a:lnTo>
                  <a:lnTo>
                    <a:pt x="1125" y="0"/>
                  </a:lnTo>
                  <a:lnTo>
                    <a:pt x="1125" y="0"/>
                  </a:lnTo>
                  <a:lnTo>
                    <a:pt x="1121" y="1"/>
                  </a:lnTo>
                  <a:lnTo>
                    <a:pt x="1119" y="6"/>
                  </a:lnTo>
                  <a:lnTo>
                    <a:pt x="1119" y="6"/>
                  </a:lnTo>
                  <a:lnTo>
                    <a:pt x="1119" y="6"/>
                  </a:lnTo>
                  <a:lnTo>
                    <a:pt x="1119" y="287"/>
                  </a:lnTo>
                  <a:lnTo>
                    <a:pt x="1125" y="281"/>
                  </a:lnTo>
                  <a:lnTo>
                    <a:pt x="1121" y="283"/>
                  </a:lnTo>
                  <a:lnTo>
                    <a:pt x="1119" y="287"/>
                  </a:lnTo>
                  <a:lnTo>
                    <a:pt x="1119" y="287"/>
                  </a:lnTo>
                  <a:lnTo>
                    <a:pt x="1125" y="287"/>
                  </a:lnTo>
                  <a:lnTo>
                    <a:pt x="1125" y="281"/>
                  </a:lnTo>
                  <a:lnTo>
                    <a:pt x="879" y="281"/>
                  </a:lnTo>
                  <a:lnTo>
                    <a:pt x="883" y="283"/>
                  </a:lnTo>
                  <a:lnTo>
                    <a:pt x="879" y="287"/>
                  </a:lnTo>
                  <a:lnTo>
                    <a:pt x="884" y="287"/>
                  </a:lnTo>
                  <a:lnTo>
                    <a:pt x="884" y="6"/>
                  </a:lnTo>
                  <a:lnTo>
                    <a:pt x="883" y="1"/>
                  </a:lnTo>
                  <a:lnTo>
                    <a:pt x="879" y="0"/>
                  </a:lnTo>
                  <a:lnTo>
                    <a:pt x="633" y="0"/>
                  </a:lnTo>
                  <a:lnTo>
                    <a:pt x="633" y="0"/>
                  </a:lnTo>
                  <a:lnTo>
                    <a:pt x="628" y="1"/>
                  </a:lnTo>
                  <a:lnTo>
                    <a:pt x="627" y="6"/>
                  </a:lnTo>
                  <a:lnTo>
                    <a:pt x="627" y="6"/>
                  </a:lnTo>
                  <a:lnTo>
                    <a:pt x="627" y="6"/>
                  </a:lnTo>
                  <a:lnTo>
                    <a:pt x="627" y="287"/>
                  </a:lnTo>
                  <a:lnTo>
                    <a:pt x="633" y="281"/>
                  </a:lnTo>
                  <a:lnTo>
                    <a:pt x="628" y="283"/>
                  </a:lnTo>
                  <a:lnTo>
                    <a:pt x="627" y="287"/>
                  </a:lnTo>
                  <a:lnTo>
                    <a:pt x="627" y="287"/>
                  </a:lnTo>
                  <a:lnTo>
                    <a:pt x="633" y="287"/>
                  </a:lnTo>
                  <a:lnTo>
                    <a:pt x="633" y="281"/>
                  </a:lnTo>
                  <a:lnTo>
                    <a:pt x="386" y="281"/>
                  </a:lnTo>
                  <a:lnTo>
                    <a:pt x="391" y="283"/>
                  </a:lnTo>
                  <a:lnTo>
                    <a:pt x="386" y="287"/>
                  </a:lnTo>
                  <a:lnTo>
                    <a:pt x="392" y="287"/>
                  </a:lnTo>
                  <a:lnTo>
                    <a:pt x="392" y="6"/>
                  </a:lnTo>
                  <a:lnTo>
                    <a:pt x="391" y="1"/>
                  </a:lnTo>
                  <a:lnTo>
                    <a:pt x="38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6" y="1"/>
                  </a:lnTo>
                  <a:lnTo>
                    <a:pt x="135" y="6"/>
                  </a:lnTo>
                  <a:lnTo>
                    <a:pt x="135" y="6"/>
                  </a:lnTo>
                  <a:lnTo>
                    <a:pt x="135" y="6"/>
                  </a:lnTo>
                  <a:lnTo>
                    <a:pt x="135" y="287"/>
                  </a:lnTo>
                  <a:lnTo>
                    <a:pt x="140" y="281"/>
                  </a:lnTo>
                  <a:lnTo>
                    <a:pt x="136" y="283"/>
                  </a:lnTo>
                  <a:lnTo>
                    <a:pt x="135" y="287"/>
                  </a:lnTo>
                  <a:lnTo>
                    <a:pt x="135" y="287"/>
                  </a:lnTo>
                  <a:lnTo>
                    <a:pt x="140" y="287"/>
                  </a:lnTo>
                  <a:lnTo>
                    <a:pt x="140" y="281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12880" y="5358600"/>
              <a:ext cx="11534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269080" y="5309280"/>
              <a:ext cx="11516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037240" y="4819680"/>
              <a:ext cx="63360" cy="1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960280" y="5119560"/>
              <a:ext cx="6048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960280" y="4968360"/>
              <a:ext cx="496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L ma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73080" y="5170320"/>
              <a:ext cx="6228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73080" y="5219640"/>
              <a:ext cx="29412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806840" y="5460480"/>
              <a:ext cx="1752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08040" y="4016880"/>
              <a:ext cx="108720" cy="1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74480" y="4006080"/>
              <a:ext cx="206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99840" y="4094280"/>
              <a:ext cx="6372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54840" y="4406040"/>
              <a:ext cx="4057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930240" y="4155840"/>
              <a:ext cx="324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 flipV="1">
              <a:off x="1207440" y="4104720"/>
              <a:ext cx="46800" cy="50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1207440" y="4155840"/>
              <a:ext cx="46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930240" y="4104720"/>
              <a:ext cx="46800" cy="50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930240" y="4155840"/>
              <a:ext cx="46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023840" y="4155840"/>
              <a:ext cx="10116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068840" y="4166640"/>
              <a:ext cx="97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930240" y="4304160"/>
              <a:ext cx="647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 flipV="1">
              <a:off x="1529640" y="4254120"/>
              <a:ext cx="4824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1529640" y="4304160"/>
              <a:ext cx="48240" cy="49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930240" y="4254120"/>
              <a:ext cx="46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930240" y="4304160"/>
              <a:ext cx="46800" cy="49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300680" y="4215960"/>
              <a:ext cx="9612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346760" y="41238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 flipV="1">
              <a:off x="2497680" y="4053960"/>
              <a:ext cx="46440" cy="51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2497680" y="4105080"/>
              <a:ext cx="46440" cy="50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2222280" y="4053960"/>
              <a:ext cx="46800" cy="51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222280" y="4105080"/>
              <a:ext cx="46800" cy="50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 flipV="1">
              <a:off x="2821320" y="4204800"/>
              <a:ext cx="4644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2821320" y="4254480"/>
              <a:ext cx="4644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2222280" y="4204800"/>
              <a:ext cx="46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222280" y="4254480"/>
              <a:ext cx="46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591280" y="4166640"/>
              <a:ext cx="97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3789720" y="4053960"/>
              <a:ext cx="46440" cy="51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>
              <a:off x="3789720" y="4105080"/>
              <a:ext cx="46440" cy="50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3512880" y="4053960"/>
              <a:ext cx="46440" cy="51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512880" y="4105080"/>
              <a:ext cx="46440" cy="50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 flipV="1">
              <a:off x="4111920" y="4204800"/>
              <a:ext cx="4644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4111920" y="4254480"/>
              <a:ext cx="4644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3512880" y="4204800"/>
              <a:ext cx="4644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512880" y="4254480"/>
              <a:ext cx="4644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883320" y="4166640"/>
              <a:ext cx="94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63040" y="4215960"/>
              <a:ext cx="10872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723920" y="4277880"/>
              <a:ext cx="1864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54840" y="4293360"/>
              <a:ext cx="4500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069640" y="4870800"/>
              <a:ext cx="49644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L ma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63440" y="5229000"/>
              <a:ext cx="49644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L ma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półbieżny konwerter napięcia stał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kluczami dwukierunkowym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25320" y="2514600"/>
            <a:ext cx="668520" cy="417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405160" y="2154240"/>
            <a:ext cx="112680" cy="12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516040" y="2154240"/>
            <a:ext cx="113040" cy="12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627280" y="2154240"/>
            <a:ext cx="112680" cy="12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738520" y="2154240"/>
            <a:ext cx="112680" cy="12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405160" y="2212920"/>
            <a:ext cx="446040" cy="1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51200" y="2212920"/>
            <a:ext cx="16682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519440" y="2212920"/>
            <a:ext cx="32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462560" y="2573280"/>
            <a:ext cx="112680" cy="30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630600" y="2212920"/>
            <a:ext cx="1440" cy="480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630600" y="2752560"/>
            <a:ext cx="1440" cy="5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519360" y="2752560"/>
            <a:ext cx="2224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19360" y="2693880"/>
            <a:ext cx="222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741840" y="2500200"/>
            <a:ext cx="6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515680" y="18684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629080" y="19605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405160" y="2093760"/>
            <a:ext cx="4460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2405160" y="2033280"/>
            <a:ext cx="55440" cy="6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405160" y="2093760"/>
            <a:ext cx="55440" cy="6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685680" y="24084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238040" y="1628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293840" y="17226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577760" y="2408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629080" y="22287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796560" y="2646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129200" y="2274840"/>
            <a:ext cx="3240" cy="95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073040" y="2274840"/>
            <a:ext cx="55800" cy="119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129200" y="2274840"/>
            <a:ext cx="55440" cy="119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187520" y="27068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295520" y="2800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 flipV="1">
            <a:off x="3406320" y="2153880"/>
            <a:ext cx="5580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3406320" y="2212920"/>
            <a:ext cx="55800" cy="6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3574800" y="2514600"/>
            <a:ext cx="110520" cy="58320"/>
            <a:chOff x="3574800" y="2514600"/>
            <a:chExt cx="110520" cy="58320"/>
          </a:xfrm>
        </p:grpSpPr>
        <p:sp>
          <p:nvSpPr>
            <p:cNvPr id="1294" name=""/>
            <p:cNvSpPr/>
            <p:nvPr/>
          </p:nvSpPr>
          <p:spPr>
            <a:xfrm flipH="1" flipV="1">
              <a:off x="3574800" y="2514600"/>
              <a:ext cx="55080" cy="5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3630240" y="2514600"/>
              <a:ext cx="55080" cy="5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6" name=""/>
          <p:cNvSpPr/>
          <p:nvPr/>
        </p:nvSpPr>
        <p:spPr>
          <a:xfrm>
            <a:off x="3797280" y="19875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852360" y="2081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 flipV="1">
            <a:off x="3908520" y="2153880"/>
            <a:ext cx="5400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3908520" y="2212920"/>
            <a:ext cx="54000" cy="6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610080" y="2193840"/>
            <a:ext cx="38160" cy="41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08320" y="2193840"/>
            <a:ext cx="41400" cy="41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47760" y="3292560"/>
            <a:ext cx="4171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610080" y="3270240"/>
            <a:ext cx="38160" cy="42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108320" y="3270240"/>
            <a:ext cx="41400" cy="42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49240" y="2587680"/>
            <a:ext cx="37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ł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39800" y="27068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ują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293920" y="2212920"/>
            <a:ext cx="14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2238120" y="2693880"/>
            <a:ext cx="110880" cy="118800"/>
            <a:chOff x="2238120" y="2693880"/>
            <a:chExt cx="110880" cy="118800"/>
          </a:xfrm>
        </p:grpSpPr>
        <p:sp>
          <p:nvSpPr>
            <p:cNvPr id="1309" name=""/>
            <p:cNvSpPr/>
            <p:nvPr/>
          </p:nvSpPr>
          <p:spPr>
            <a:xfrm>
              <a:off x="2238480" y="2693880"/>
              <a:ext cx="110520" cy="11880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54" y="0"/>
                  </a:moveTo>
                  <a:lnTo>
                    <a:pt x="0" y="108"/>
                  </a:lnTo>
                  <a:lnTo>
                    <a:pt x="109" y="10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2238120" y="2693880"/>
              <a:ext cx="1105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2238120" y="2394000"/>
            <a:ext cx="110520" cy="59760"/>
            <a:chOff x="2238120" y="2394000"/>
            <a:chExt cx="110520" cy="59760"/>
          </a:xfrm>
        </p:grpSpPr>
        <p:sp>
          <p:nvSpPr>
            <p:cNvPr id="1312" name=""/>
            <p:cNvSpPr/>
            <p:nvPr/>
          </p:nvSpPr>
          <p:spPr>
            <a:xfrm flipH="1">
              <a:off x="2238120" y="2394000"/>
              <a:ext cx="55080" cy="5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293560" y="2394000"/>
              <a:ext cx="55080" cy="5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960480" y="2212920"/>
            <a:ext cx="1444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1960560" y="2212560"/>
            <a:ext cx="324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960560" y="2813040"/>
            <a:ext cx="3240" cy="47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684440" y="2693880"/>
            <a:ext cx="164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84440" y="2693880"/>
            <a:ext cx="144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8640" y="3532320"/>
            <a:ext cx="122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127160" y="2932200"/>
            <a:ext cx="144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738360" y="2931840"/>
            <a:ext cx="1440" cy="60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273400" y="3270240"/>
            <a:ext cx="41040" cy="42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940040" y="3270240"/>
            <a:ext cx="41040" cy="42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106640" y="3270240"/>
            <a:ext cx="41040" cy="42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848880" y="2212920"/>
            <a:ext cx="111240" cy="12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738360" y="2212920"/>
            <a:ext cx="110880" cy="12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47760" y="2212920"/>
            <a:ext cx="3906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38360" y="2335320"/>
            <a:ext cx="222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905040" y="2212920"/>
            <a:ext cx="5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960480" y="2212920"/>
            <a:ext cx="1440" cy="6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1848960" y="2573280"/>
            <a:ext cx="111240" cy="12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849320" y="2693880"/>
            <a:ext cx="111240" cy="119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849320" y="2573280"/>
            <a:ext cx="324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1960560" y="2752560"/>
            <a:ext cx="3240" cy="6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H="1">
            <a:off x="1905120" y="2813040"/>
            <a:ext cx="5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849240" y="2335320"/>
            <a:ext cx="1800" cy="1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182600" y="1795320"/>
            <a:ext cx="180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458280" y="1795320"/>
            <a:ext cx="723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58640" y="1795320"/>
            <a:ext cx="1800" cy="41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625320" y="1735200"/>
            <a:ext cx="112680" cy="118800"/>
            <a:chOff x="625320" y="1735200"/>
            <a:chExt cx="112680" cy="118800"/>
          </a:xfrm>
        </p:grpSpPr>
        <p:sp>
          <p:nvSpPr>
            <p:cNvPr id="1341" name=""/>
            <p:cNvSpPr/>
            <p:nvPr/>
          </p:nvSpPr>
          <p:spPr>
            <a:xfrm>
              <a:off x="625320" y="1735200"/>
              <a:ext cx="112680" cy="11880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0" y="54"/>
                  </a:moveTo>
                  <a:lnTo>
                    <a:pt x="108" y="0"/>
                  </a:lnTo>
                  <a:lnTo>
                    <a:pt x="108" y="10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V="1">
              <a:off x="625320" y="1735200"/>
              <a:ext cx="1800" cy="11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"/>
          <p:cNvSpPr/>
          <p:nvPr/>
        </p:nvSpPr>
        <p:spPr>
          <a:xfrm>
            <a:off x="717480" y="3511440"/>
            <a:ext cx="39600" cy="42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26880" y="3270240"/>
            <a:ext cx="41400" cy="42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38120" y="3511440"/>
            <a:ext cx="41400" cy="42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26880" y="2193840"/>
            <a:ext cx="41400" cy="41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38120" y="2193840"/>
            <a:ext cx="41400" cy="41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162080" y="2193840"/>
            <a:ext cx="41400" cy="41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940040" y="2193840"/>
            <a:ext cx="41040" cy="41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73400" y="2193840"/>
            <a:ext cx="41040" cy="41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625760" y="2873520"/>
            <a:ext cx="114120" cy="239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403280" y="2274840"/>
            <a:ext cx="3240" cy="95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1347840" y="2274840"/>
            <a:ext cx="55440" cy="119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403280" y="2274840"/>
            <a:ext cx="55800" cy="119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58720" y="27068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384200" y="2193840"/>
            <a:ext cx="39960" cy="41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84200" y="3270240"/>
            <a:ext cx="39960" cy="42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514160" y="2800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47400" y="36050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58640" y="3700440"/>
            <a:ext cx="22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071720" y="3413160"/>
            <a:ext cx="222120" cy="237960"/>
          </a:xfrm>
          <a:custGeom>
            <a:avLst/>
            <a:gdLst/>
            <a:ahLst/>
            <a:rect l="l" t="t" r="r" b="b"/>
            <a:pathLst>
              <a:path w="216" h="217">
                <a:moveTo>
                  <a:pt x="216" y="109"/>
                </a:moveTo>
                <a:lnTo>
                  <a:pt x="0" y="0"/>
                </a:lnTo>
                <a:lnTo>
                  <a:pt x="0" y="217"/>
                </a:lnTo>
                <a:lnTo>
                  <a:pt x="216" y="10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73320" y="3511440"/>
            <a:ext cx="39600" cy="42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628280" y="36050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739880" y="3700440"/>
            <a:ext cx="22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569960" y="3591000"/>
            <a:ext cx="335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38360" y="20480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960120" y="19875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016280" y="2081160"/>
            <a:ext cx="6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 flipV="1">
            <a:off x="1071720" y="2153880"/>
            <a:ext cx="554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1071720" y="2212920"/>
            <a:ext cx="55440" cy="6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1015920" y="1735200"/>
            <a:ext cx="55440" cy="118800"/>
            <a:chOff x="1015920" y="1735200"/>
            <a:chExt cx="55440" cy="118800"/>
          </a:xfrm>
        </p:grpSpPr>
        <p:sp>
          <p:nvSpPr>
            <p:cNvPr id="1372" name=""/>
            <p:cNvSpPr/>
            <p:nvPr/>
          </p:nvSpPr>
          <p:spPr>
            <a:xfrm flipV="1">
              <a:off x="1015920" y="1735200"/>
              <a:ext cx="55440" cy="5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015920" y="1794960"/>
              <a:ext cx="55440" cy="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4" name=""/>
          <p:cNvSpPr/>
          <p:nvPr/>
        </p:nvSpPr>
        <p:spPr>
          <a:xfrm>
            <a:off x="3295440" y="19270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351240" y="20210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6" name=""/>
          <p:cNvGrpSpPr/>
          <p:nvPr/>
        </p:nvGrpSpPr>
        <p:grpSpPr>
          <a:xfrm>
            <a:off x="1904760" y="2394000"/>
            <a:ext cx="110520" cy="59760"/>
            <a:chOff x="1904760" y="2394000"/>
            <a:chExt cx="110520" cy="59760"/>
          </a:xfrm>
        </p:grpSpPr>
        <p:sp>
          <p:nvSpPr>
            <p:cNvPr id="1377" name=""/>
            <p:cNvSpPr/>
            <p:nvPr/>
          </p:nvSpPr>
          <p:spPr>
            <a:xfrm flipH="1" flipV="1">
              <a:off x="1904760" y="2394000"/>
              <a:ext cx="55080" cy="5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1960200" y="2394000"/>
              <a:ext cx="55080" cy="5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2404800" y="24084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460240" y="25002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684080" y="22892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740600" y="2381400"/>
            <a:ext cx="13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36520" y="3830760"/>
            <a:ext cx="2223720" cy="118440"/>
            <a:chOff x="236520" y="3830760"/>
            <a:chExt cx="2223720" cy="118440"/>
          </a:xfrm>
        </p:grpSpPr>
        <p:sp>
          <p:nvSpPr>
            <p:cNvPr id="1384" name=""/>
            <p:cNvSpPr/>
            <p:nvPr/>
          </p:nvSpPr>
          <p:spPr>
            <a:xfrm>
              <a:off x="236520" y="3830760"/>
              <a:ext cx="1165320" cy="118440"/>
            </a:xfrm>
            <a:custGeom>
              <a:avLst/>
              <a:gdLst/>
              <a:ahLst/>
              <a:rect l="l" t="t" r="r" b="b"/>
              <a:pathLst>
                <a:path w="1134" h="109">
                  <a:moveTo>
                    <a:pt x="0" y="0"/>
                  </a:moveTo>
                  <a:lnTo>
                    <a:pt x="0" y="19"/>
                  </a:lnTo>
                  <a:lnTo>
                    <a:pt x="51" y="40"/>
                  </a:lnTo>
                  <a:lnTo>
                    <a:pt x="153" y="49"/>
                  </a:lnTo>
                  <a:lnTo>
                    <a:pt x="1031" y="49"/>
                  </a:lnTo>
                  <a:lnTo>
                    <a:pt x="1081" y="109"/>
                  </a:lnTo>
                  <a:lnTo>
                    <a:pt x="1134" y="4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294920" y="3830760"/>
              <a:ext cx="1165320" cy="118440"/>
            </a:xfrm>
            <a:custGeom>
              <a:avLst/>
              <a:gdLst/>
              <a:ahLst/>
              <a:rect l="l" t="t" r="r" b="b"/>
              <a:pathLst>
                <a:path w="1134" h="109">
                  <a:moveTo>
                    <a:pt x="1134" y="0"/>
                  </a:moveTo>
                  <a:lnTo>
                    <a:pt x="1134" y="19"/>
                  </a:lnTo>
                  <a:lnTo>
                    <a:pt x="1083" y="40"/>
                  </a:lnTo>
                  <a:lnTo>
                    <a:pt x="980" y="49"/>
                  </a:lnTo>
                  <a:lnTo>
                    <a:pt x="103" y="49"/>
                  </a:lnTo>
                  <a:lnTo>
                    <a:pt x="50" y="109"/>
                  </a:lnTo>
                  <a:lnTo>
                    <a:pt x="0" y="4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" name=""/>
          <p:cNvSpPr/>
          <p:nvPr/>
        </p:nvSpPr>
        <p:spPr>
          <a:xfrm>
            <a:off x="1239480" y="4000680"/>
            <a:ext cx="43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uc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7" name=""/>
          <p:cNvGrpSpPr/>
          <p:nvPr/>
        </p:nvGrpSpPr>
        <p:grpSpPr>
          <a:xfrm>
            <a:off x="2516040" y="3830760"/>
            <a:ext cx="1166760" cy="118440"/>
            <a:chOff x="2516040" y="3830760"/>
            <a:chExt cx="1166760" cy="118440"/>
          </a:xfrm>
        </p:grpSpPr>
        <p:sp>
          <p:nvSpPr>
            <p:cNvPr id="1388" name=""/>
            <p:cNvSpPr/>
            <p:nvPr/>
          </p:nvSpPr>
          <p:spPr>
            <a:xfrm>
              <a:off x="2516040" y="3830760"/>
              <a:ext cx="612000" cy="118440"/>
            </a:xfrm>
            <a:custGeom>
              <a:avLst/>
              <a:gdLst/>
              <a:ahLst/>
              <a:rect l="l" t="t" r="r" b="b"/>
              <a:pathLst>
                <a:path w="595" h="109">
                  <a:moveTo>
                    <a:pt x="0" y="0"/>
                  </a:moveTo>
                  <a:lnTo>
                    <a:pt x="0" y="19"/>
                  </a:lnTo>
                  <a:lnTo>
                    <a:pt x="26" y="40"/>
                  </a:lnTo>
                  <a:lnTo>
                    <a:pt x="80" y="49"/>
                  </a:lnTo>
                  <a:lnTo>
                    <a:pt x="540" y="49"/>
                  </a:lnTo>
                  <a:lnTo>
                    <a:pt x="567" y="109"/>
                  </a:lnTo>
                  <a:lnTo>
                    <a:pt x="595" y="4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070800" y="3830760"/>
              <a:ext cx="612000" cy="118440"/>
            </a:xfrm>
            <a:custGeom>
              <a:avLst/>
              <a:gdLst/>
              <a:ahLst/>
              <a:rect l="l" t="t" r="r" b="b"/>
              <a:pathLst>
                <a:path w="595" h="109">
                  <a:moveTo>
                    <a:pt x="595" y="0"/>
                  </a:moveTo>
                  <a:lnTo>
                    <a:pt x="595" y="19"/>
                  </a:lnTo>
                  <a:lnTo>
                    <a:pt x="569" y="40"/>
                  </a:lnTo>
                  <a:lnTo>
                    <a:pt x="515" y="49"/>
                  </a:lnTo>
                  <a:lnTo>
                    <a:pt x="55" y="49"/>
                  </a:lnTo>
                  <a:lnTo>
                    <a:pt x="27" y="109"/>
                  </a:lnTo>
                  <a:lnTo>
                    <a:pt x="0" y="4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3072960" y="4000680"/>
            <a:ext cx="26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3797280" y="3840120"/>
            <a:ext cx="660240" cy="109080"/>
            <a:chOff x="3797280" y="3840120"/>
            <a:chExt cx="660240" cy="109080"/>
          </a:xfrm>
        </p:grpSpPr>
        <p:sp>
          <p:nvSpPr>
            <p:cNvPr id="1392" name=""/>
            <p:cNvSpPr/>
            <p:nvPr/>
          </p:nvSpPr>
          <p:spPr>
            <a:xfrm>
              <a:off x="3797280" y="3840120"/>
              <a:ext cx="345960" cy="109080"/>
            </a:xfrm>
            <a:custGeom>
              <a:avLst/>
              <a:gdLst/>
              <a:ahLst/>
              <a:rect l="l" t="t" r="r" b="b"/>
              <a:pathLst>
                <a:path w="595" h="109">
                  <a:moveTo>
                    <a:pt x="0" y="0"/>
                  </a:moveTo>
                  <a:lnTo>
                    <a:pt x="0" y="19"/>
                  </a:lnTo>
                  <a:lnTo>
                    <a:pt x="26" y="40"/>
                  </a:lnTo>
                  <a:lnTo>
                    <a:pt x="80" y="49"/>
                  </a:lnTo>
                  <a:lnTo>
                    <a:pt x="540" y="49"/>
                  </a:lnTo>
                  <a:lnTo>
                    <a:pt x="567" y="109"/>
                  </a:lnTo>
                  <a:lnTo>
                    <a:pt x="595" y="4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111560" y="3840120"/>
              <a:ext cx="345960" cy="109080"/>
            </a:xfrm>
            <a:custGeom>
              <a:avLst/>
              <a:gdLst/>
              <a:ahLst/>
              <a:rect l="l" t="t" r="r" b="b"/>
              <a:pathLst>
                <a:path w="595" h="109">
                  <a:moveTo>
                    <a:pt x="595" y="0"/>
                  </a:moveTo>
                  <a:lnTo>
                    <a:pt x="595" y="19"/>
                  </a:lnTo>
                  <a:lnTo>
                    <a:pt x="569" y="40"/>
                  </a:lnTo>
                  <a:lnTo>
                    <a:pt x="515" y="49"/>
                  </a:lnTo>
                  <a:lnTo>
                    <a:pt x="55" y="49"/>
                  </a:lnTo>
                  <a:lnTo>
                    <a:pt x="27" y="109"/>
                  </a:lnTo>
                  <a:lnTo>
                    <a:pt x="0" y="4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3860280" y="3997440"/>
            <a:ext cx="68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ciąże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301680" y="1611360"/>
            <a:ext cx="1166400" cy="118800"/>
            <a:chOff x="301680" y="1611360"/>
            <a:chExt cx="1166400" cy="118800"/>
          </a:xfrm>
        </p:grpSpPr>
        <p:sp>
          <p:nvSpPr>
            <p:cNvPr id="1396" name=""/>
            <p:cNvSpPr/>
            <p:nvPr/>
          </p:nvSpPr>
          <p:spPr>
            <a:xfrm>
              <a:off x="301680" y="1611360"/>
              <a:ext cx="612000" cy="118800"/>
            </a:xfrm>
            <a:custGeom>
              <a:avLst/>
              <a:gdLst/>
              <a:ahLst/>
              <a:rect l="l" t="t" r="r" b="b"/>
              <a:pathLst>
                <a:path w="596" h="108">
                  <a:moveTo>
                    <a:pt x="0" y="108"/>
                  </a:moveTo>
                  <a:lnTo>
                    <a:pt x="0" y="89"/>
                  </a:lnTo>
                  <a:lnTo>
                    <a:pt x="26" y="68"/>
                  </a:lnTo>
                  <a:lnTo>
                    <a:pt x="80" y="59"/>
                  </a:lnTo>
                  <a:lnTo>
                    <a:pt x="540" y="59"/>
                  </a:lnTo>
                  <a:lnTo>
                    <a:pt x="567" y="0"/>
                  </a:lnTo>
                  <a:lnTo>
                    <a:pt x="596" y="5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56080" y="1611360"/>
              <a:ext cx="612000" cy="118800"/>
            </a:xfrm>
            <a:custGeom>
              <a:avLst/>
              <a:gdLst/>
              <a:ahLst/>
              <a:rect l="l" t="t" r="r" b="b"/>
              <a:pathLst>
                <a:path w="596" h="108">
                  <a:moveTo>
                    <a:pt x="596" y="108"/>
                  </a:moveTo>
                  <a:lnTo>
                    <a:pt x="596" y="89"/>
                  </a:lnTo>
                  <a:lnTo>
                    <a:pt x="570" y="68"/>
                  </a:lnTo>
                  <a:lnTo>
                    <a:pt x="516" y="59"/>
                  </a:lnTo>
                  <a:lnTo>
                    <a:pt x="56" y="59"/>
                  </a:lnTo>
                  <a:lnTo>
                    <a:pt x="27" y="0"/>
                  </a:lnTo>
                  <a:lnTo>
                    <a:pt x="0" y="5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1754280" y="1773360"/>
            <a:ext cx="574200" cy="241920"/>
            <a:chOff x="1754280" y="1773360"/>
            <a:chExt cx="574200" cy="241920"/>
          </a:xfrm>
        </p:grpSpPr>
        <p:sp>
          <p:nvSpPr>
            <p:cNvPr id="1399" name=""/>
            <p:cNvSpPr/>
            <p:nvPr/>
          </p:nvSpPr>
          <p:spPr>
            <a:xfrm>
              <a:off x="1754280" y="1773360"/>
              <a:ext cx="300960" cy="241920"/>
            </a:xfrm>
            <a:custGeom>
              <a:avLst/>
              <a:gdLst/>
              <a:ahLst/>
              <a:rect l="l" t="t" r="r" b="b"/>
              <a:pathLst>
                <a:path w="481" h="108">
                  <a:moveTo>
                    <a:pt x="0" y="108"/>
                  </a:moveTo>
                  <a:lnTo>
                    <a:pt x="0" y="89"/>
                  </a:lnTo>
                  <a:lnTo>
                    <a:pt x="20" y="68"/>
                  </a:lnTo>
                  <a:lnTo>
                    <a:pt x="64" y="59"/>
                  </a:lnTo>
                  <a:lnTo>
                    <a:pt x="437" y="59"/>
                  </a:lnTo>
                  <a:lnTo>
                    <a:pt x="459" y="0"/>
                  </a:lnTo>
                  <a:lnTo>
                    <a:pt x="481" y="5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027520" y="1773360"/>
              <a:ext cx="300960" cy="241920"/>
            </a:xfrm>
            <a:custGeom>
              <a:avLst/>
              <a:gdLst/>
              <a:ahLst/>
              <a:rect l="l" t="t" r="r" b="b"/>
              <a:pathLst>
                <a:path w="482" h="108">
                  <a:moveTo>
                    <a:pt x="482" y="108"/>
                  </a:moveTo>
                  <a:lnTo>
                    <a:pt x="482" y="89"/>
                  </a:lnTo>
                  <a:lnTo>
                    <a:pt x="461" y="68"/>
                  </a:lnTo>
                  <a:lnTo>
                    <a:pt x="417" y="59"/>
                  </a:lnTo>
                  <a:lnTo>
                    <a:pt x="44" y="59"/>
                  </a:lnTo>
                  <a:lnTo>
                    <a:pt x="22" y="0"/>
                  </a:lnTo>
                  <a:lnTo>
                    <a:pt x="0" y="5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1" name=""/>
          <p:cNvSpPr/>
          <p:nvPr/>
        </p:nvSpPr>
        <p:spPr>
          <a:xfrm>
            <a:off x="204480" y="136368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ucz A dwukierunk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915920" y="1525680"/>
            <a:ext cx="15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ucz B dwukierunk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47760" y="2274840"/>
            <a:ext cx="1440" cy="95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H="1">
            <a:off x="291600" y="2274840"/>
            <a:ext cx="55800" cy="119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47760" y="2274840"/>
            <a:ext cx="55440" cy="119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02840" y="27068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14440" y="28004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4863600" y="1170000"/>
            <a:ext cx="3980160" cy="5467680"/>
            <a:chOff x="4863600" y="1170000"/>
            <a:chExt cx="3980160" cy="5467680"/>
          </a:xfrm>
        </p:grpSpPr>
        <p:sp>
          <p:nvSpPr>
            <p:cNvPr id="1409" name=""/>
            <p:cNvSpPr/>
            <p:nvPr/>
          </p:nvSpPr>
          <p:spPr>
            <a:xfrm>
              <a:off x="5106960" y="1170000"/>
              <a:ext cx="1440" cy="68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045040" y="1859040"/>
              <a:ext cx="346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5045040" y="1170000"/>
              <a:ext cx="6192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106960" y="1170000"/>
              <a:ext cx="6048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 flipV="1">
              <a:off x="8442360" y="1800000"/>
              <a:ext cx="6336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8442360" y="1859040"/>
              <a:ext cx="6336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06960" y="1916280"/>
              <a:ext cx="1440" cy="68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045040" y="2603520"/>
              <a:ext cx="346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5045040" y="1916280"/>
              <a:ext cx="6192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106960" y="1916280"/>
              <a:ext cx="6048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 flipV="1">
              <a:off x="8442360" y="2545920"/>
              <a:ext cx="6336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8442360" y="2603520"/>
              <a:ext cx="6336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106960" y="2660760"/>
              <a:ext cx="1440" cy="68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045040" y="3349800"/>
              <a:ext cx="346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5045040" y="2660760"/>
              <a:ext cx="6192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106960" y="2660760"/>
              <a:ext cx="6048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 flipV="1">
              <a:off x="8442360" y="3292200"/>
              <a:ext cx="6336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8442360" y="3349800"/>
              <a:ext cx="6336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106960" y="3406680"/>
              <a:ext cx="1440" cy="68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045040" y="4094280"/>
              <a:ext cx="346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5045040" y="4151160"/>
              <a:ext cx="6192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106960" y="4151160"/>
              <a:ext cx="6048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 flipV="1">
              <a:off x="8442360" y="4035240"/>
              <a:ext cx="6336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8442360" y="4094280"/>
              <a:ext cx="6336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106960" y="4151160"/>
              <a:ext cx="1440" cy="68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045040" y="4836960"/>
              <a:ext cx="3460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5045040" y="3406680"/>
              <a:ext cx="6192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106960" y="3406680"/>
              <a:ext cx="6048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 flipV="1">
              <a:off x="8442360" y="4780080"/>
              <a:ext cx="6336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8442360" y="4836960"/>
              <a:ext cx="6336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106960" y="4894200"/>
              <a:ext cx="1440" cy="68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045040" y="5583240"/>
              <a:ext cx="346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045040" y="4894200"/>
              <a:ext cx="6192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106960" y="4894200"/>
              <a:ext cx="6048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 flipV="1">
              <a:off x="8442360" y="5525640"/>
              <a:ext cx="6336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8442360" y="5583240"/>
              <a:ext cx="6336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106960" y="5697360"/>
              <a:ext cx="1440" cy="68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045040" y="6384960"/>
              <a:ext cx="3460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5045040" y="5697360"/>
              <a:ext cx="6192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106960" y="5697360"/>
              <a:ext cx="6048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 flipV="1">
              <a:off x="8442360" y="6327360"/>
              <a:ext cx="6336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8442360" y="6384960"/>
              <a:ext cx="6336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411880" y="1859040"/>
              <a:ext cx="1440" cy="45259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197760" y="1859040"/>
              <a:ext cx="2880" cy="45259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229520" y="1859040"/>
              <a:ext cx="1440" cy="45259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018640" y="1859040"/>
              <a:ext cx="2880" cy="45259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106960" y="1571760"/>
              <a:ext cx="3335400" cy="287280"/>
            </a:xfrm>
            <a:custGeom>
              <a:avLst/>
              <a:gdLst/>
              <a:ahLst/>
              <a:rect l="l" t="t" r="r" b="b"/>
              <a:pathLst>
                <a:path w="2977" h="270">
                  <a:moveTo>
                    <a:pt x="0" y="270"/>
                  </a:moveTo>
                  <a:lnTo>
                    <a:pt x="271" y="270"/>
                  </a:lnTo>
                  <a:lnTo>
                    <a:pt x="271" y="0"/>
                  </a:lnTo>
                  <a:lnTo>
                    <a:pt x="975" y="0"/>
                  </a:lnTo>
                  <a:lnTo>
                    <a:pt x="975" y="270"/>
                  </a:lnTo>
                  <a:lnTo>
                    <a:pt x="1895" y="270"/>
                  </a:lnTo>
                  <a:lnTo>
                    <a:pt x="1895" y="0"/>
                  </a:lnTo>
                  <a:lnTo>
                    <a:pt x="2598" y="0"/>
                  </a:lnTo>
                  <a:lnTo>
                    <a:pt x="2598" y="270"/>
                  </a:lnTo>
                  <a:lnTo>
                    <a:pt x="2977" y="270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106960" y="2203560"/>
              <a:ext cx="3335400" cy="571320"/>
            </a:xfrm>
            <a:custGeom>
              <a:avLst/>
              <a:gdLst/>
              <a:ahLst/>
              <a:rect l="l" t="t" r="r" b="b"/>
              <a:pathLst>
                <a:path w="2977" h="541">
                  <a:moveTo>
                    <a:pt x="0" y="325"/>
                  </a:moveTo>
                  <a:lnTo>
                    <a:pt x="271" y="541"/>
                  </a:lnTo>
                  <a:lnTo>
                    <a:pt x="975" y="0"/>
                  </a:lnTo>
                  <a:lnTo>
                    <a:pt x="1895" y="541"/>
                  </a:lnTo>
                  <a:lnTo>
                    <a:pt x="2598" y="0"/>
                  </a:lnTo>
                  <a:lnTo>
                    <a:pt x="2977" y="271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106960" y="2432160"/>
              <a:ext cx="339876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653080" y="2603520"/>
              <a:ext cx="3240" cy="14907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7473960" y="2603160"/>
              <a:ext cx="1440" cy="14907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135400" y="3206880"/>
              <a:ext cx="2853000" cy="133200"/>
            </a:xfrm>
            <a:custGeom>
              <a:avLst/>
              <a:gdLst/>
              <a:ahLst/>
              <a:rect l="l" t="t" r="r" b="b"/>
              <a:pathLst>
                <a:path w="2869" h="109">
                  <a:moveTo>
                    <a:pt x="0" y="109"/>
                  </a:moveTo>
                  <a:lnTo>
                    <a:pt x="271" y="109"/>
                  </a:lnTo>
                  <a:lnTo>
                    <a:pt x="271" y="0"/>
                  </a:lnTo>
                  <a:lnTo>
                    <a:pt x="488" y="109"/>
                  </a:lnTo>
                  <a:lnTo>
                    <a:pt x="2111" y="109"/>
                  </a:lnTo>
                  <a:lnTo>
                    <a:pt x="2111" y="0"/>
                  </a:lnTo>
                  <a:lnTo>
                    <a:pt x="2328" y="109"/>
                  </a:lnTo>
                  <a:lnTo>
                    <a:pt x="2869" y="109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926400" y="2603520"/>
              <a:ext cx="2880" cy="2233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106960" y="3749760"/>
              <a:ext cx="3274920" cy="344520"/>
            </a:xfrm>
            <a:custGeom>
              <a:avLst/>
              <a:gdLst/>
              <a:ahLst/>
              <a:rect l="l" t="t" r="r" b="b"/>
              <a:pathLst>
                <a:path w="2923" h="325">
                  <a:moveTo>
                    <a:pt x="0" y="325"/>
                  </a:moveTo>
                  <a:lnTo>
                    <a:pt x="488" y="325"/>
                  </a:lnTo>
                  <a:lnTo>
                    <a:pt x="975" y="0"/>
                  </a:lnTo>
                  <a:lnTo>
                    <a:pt x="975" y="325"/>
                  </a:lnTo>
                  <a:lnTo>
                    <a:pt x="2111" y="325"/>
                  </a:lnTo>
                  <a:lnTo>
                    <a:pt x="2598" y="0"/>
                  </a:lnTo>
                  <a:lnTo>
                    <a:pt x="2598" y="325"/>
                  </a:lnTo>
                  <a:lnTo>
                    <a:pt x="2923" y="325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106960" y="4437000"/>
              <a:ext cx="3335400" cy="399960"/>
            </a:xfrm>
            <a:custGeom>
              <a:avLst/>
              <a:gdLst/>
              <a:ahLst/>
              <a:rect l="l" t="t" r="r" b="b"/>
              <a:pathLst>
                <a:path w="2977" h="379">
                  <a:moveTo>
                    <a:pt x="0" y="325"/>
                  </a:moveTo>
                  <a:lnTo>
                    <a:pt x="109" y="379"/>
                  </a:lnTo>
                  <a:lnTo>
                    <a:pt x="975" y="379"/>
                  </a:lnTo>
                  <a:lnTo>
                    <a:pt x="975" y="0"/>
                  </a:lnTo>
                  <a:lnTo>
                    <a:pt x="1624" y="379"/>
                  </a:lnTo>
                  <a:lnTo>
                    <a:pt x="2598" y="379"/>
                  </a:lnTo>
                  <a:lnTo>
                    <a:pt x="2598" y="0"/>
                  </a:lnTo>
                  <a:lnTo>
                    <a:pt x="2977" y="216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106960" y="5468760"/>
              <a:ext cx="3154320" cy="114480"/>
            </a:xfrm>
            <a:custGeom>
              <a:avLst/>
              <a:gdLst/>
              <a:ahLst/>
              <a:rect l="l" t="t" r="r" b="b"/>
              <a:pathLst>
                <a:path w="2815" h="108">
                  <a:moveTo>
                    <a:pt x="0" y="108"/>
                  </a:moveTo>
                  <a:lnTo>
                    <a:pt x="109" y="108"/>
                  </a:lnTo>
                  <a:lnTo>
                    <a:pt x="271" y="0"/>
                  </a:lnTo>
                  <a:lnTo>
                    <a:pt x="271" y="108"/>
                  </a:lnTo>
                  <a:lnTo>
                    <a:pt x="1732" y="108"/>
                  </a:lnTo>
                  <a:lnTo>
                    <a:pt x="1895" y="0"/>
                  </a:lnTo>
                  <a:lnTo>
                    <a:pt x="1895" y="108"/>
                  </a:lnTo>
                  <a:lnTo>
                    <a:pt x="2815" y="108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106960" y="6041880"/>
              <a:ext cx="3335400" cy="341280"/>
            </a:xfrm>
            <a:custGeom>
              <a:avLst/>
              <a:gdLst/>
              <a:ahLst/>
              <a:rect l="l" t="t" r="r" b="b"/>
              <a:pathLst>
                <a:path w="2977" h="324">
                  <a:moveTo>
                    <a:pt x="0" y="324"/>
                  </a:moveTo>
                  <a:lnTo>
                    <a:pt x="271" y="324"/>
                  </a:lnTo>
                  <a:lnTo>
                    <a:pt x="271" y="0"/>
                  </a:lnTo>
                  <a:lnTo>
                    <a:pt x="975" y="0"/>
                  </a:lnTo>
                  <a:lnTo>
                    <a:pt x="975" y="324"/>
                  </a:lnTo>
                  <a:lnTo>
                    <a:pt x="1895" y="324"/>
                  </a:lnTo>
                  <a:lnTo>
                    <a:pt x="1895" y="0"/>
                  </a:lnTo>
                  <a:lnTo>
                    <a:pt x="2598" y="0"/>
                  </a:lnTo>
                  <a:lnTo>
                    <a:pt x="2598" y="324"/>
                  </a:lnTo>
                  <a:lnTo>
                    <a:pt x="2977" y="324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106960" y="6213600"/>
              <a:ext cx="3335400" cy="288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59320" y="204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358680" y="213372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L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357880" y="298296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L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076800" y="2203560"/>
              <a:ext cx="30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348160" y="3235320"/>
              <a:ext cx="30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325840" y="2913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048440" y="533880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L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048440" y="5468760"/>
              <a:ext cx="30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987960" y="5249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59320" y="35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320520" y="367992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L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076800" y="3749760"/>
              <a:ext cx="30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59320" y="4278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20520" y="436716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L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076800" y="4437000"/>
              <a:ext cx="30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472000" y="1871640"/>
              <a:ext cx="337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0                      t1                               t2                       t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167440" y="2444760"/>
              <a:ext cx="2952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7           t8                                        t9            t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411880" y="6397560"/>
              <a:ext cx="337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0                      t1                               t2                       t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865920" y="49100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410240" y="416412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592600" y="41641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167440" y="11844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U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8440560" y="1928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8440560" y="2673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440560" y="3419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440560" y="4164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440560" y="4910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440560" y="5649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440560" y="6454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106960" y="6041880"/>
              <a:ext cx="3335400" cy="32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863600" y="1928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24440" y="20178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863600" y="273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924440" y="28195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566200" y="2387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625960" y="247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924080" y="3533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984920" y="3622680"/>
              <a:ext cx="6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863600" y="4278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924080" y="4367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863600" y="484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925160" y="4941720"/>
              <a:ext cx="13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c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863600" y="5649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924080" y="573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863600" y="5940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984920" y="6029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167080" y="559260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440200" y="6153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505360" y="6168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626320" y="6257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czenia wartości napięcia wy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415800" y="1235160"/>
                <a:ext cx="8466120" cy="43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a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 = 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ma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δT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δ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            dla I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r>
                                    <m:t xml:space="preserve">≥</m:t>
                                  </m:r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Ok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U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+</m:t>
                                      </m:r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2LI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O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p>
                                            <m:e>
                                              <m:r>
                                                <m:t xml:space="preserve">δ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TU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den>
                                  </m:f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la I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r>
                                    <m:t xml:space="preserve">&lt;</m:t>
                                  </m:r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Okr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δ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                    dla R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r>
                                    <m:t xml:space="preserve">≤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Ok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U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A</m:t>
                                      </m:r>
                                    </m:den>
                                  </m:f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+2A</m:t>
                                          </m:r>
                                        </m:e>
                                      </m:rad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d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  dla R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r>
                                    <m:t xml:space="preserve">&gt;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Okr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; przy czym A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T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>
                              <m:t xml:space="preserve">δ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ykresy unormowanego napięcia wyjściowego współbieżnego konwertera dla różnych wartości współczynnika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 funkcji odwrotności rezystancj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prądu obciąż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2205000" y="4381560"/>
            <a:ext cx="641520" cy="2046240"/>
          </a:xfrm>
          <a:custGeom>
            <a:avLst/>
            <a:gdLst/>
            <a:ahLst/>
            <a:rect l="l" t="t" r="r" b="b"/>
            <a:pathLst>
              <a:path w="443" h="1817">
                <a:moveTo>
                  <a:pt x="0" y="1817"/>
                </a:moveTo>
                <a:lnTo>
                  <a:pt x="0" y="0"/>
                </a:lnTo>
                <a:lnTo>
                  <a:pt x="51" y="23"/>
                </a:lnTo>
                <a:lnTo>
                  <a:pt x="100" y="50"/>
                </a:lnTo>
                <a:lnTo>
                  <a:pt x="145" y="83"/>
                </a:lnTo>
                <a:lnTo>
                  <a:pt x="187" y="120"/>
                </a:lnTo>
                <a:lnTo>
                  <a:pt x="224" y="163"/>
                </a:lnTo>
                <a:lnTo>
                  <a:pt x="259" y="210"/>
                </a:lnTo>
                <a:lnTo>
                  <a:pt x="291" y="264"/>
                </a:lnTo>
                <a:lnTo>
                  <a:pt x="320" y="321"/>
                </a:lnTo>
                <a:lnTo>
                  <a:pt x="346" y="383"/>
                </a:lnTo>
                <a:lnTo>
                  <a:pt x="374" y="454"/>
                </a:lnTo>
                <a:lnTo>
                  <a:pt x="399" y="528"/>
                </a:lnTo>
                <a:lnTo>
                  <a:pt x="420" y="607"/>
                </a:lnTo>
                <a:lnTo>
                  <a:pt x="435" y="691"/>
                </a:lnTo>
                <a:lnTo>
                  <a:pt x="443" y="778"/>
                </a:lnTo>
                <a:lnTo>
                  <a:pt x="440" y="868"/>
                </a:lnTo>
                <a:lnTo>
                  <a:pt x="428" y="962"/>
                </a:lnTo>
                <a:lnTo>
                  <a:pt x="403" y="1057"/>
                </a:lnTo>
                <a:lnTo>
                  <a:pt x="370" y="1156"/>
                </a:lnTo>
                <a:lnTo>
                  <a:pt x="330" y="1257"/>
                </a:lnTo>
                <a:lnTo>
                  <a:pt x="281" y="1363"/>
                </a:lnTo>
                <a:lnTo>
                  <a:pt x="223" y="1471"/>
                </a:lnTo>
                <a:lnTo>
                  <a:pt x="156" y="1583"/>
                </a:lnTo>
                <a:lnTo>
                  <a:pt x="83" y="1698"/>
                </a:lnTo>
                <a:lnTo>
                  <a:pt x="0" y="181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205000" y="1488960"/>
            <a:ext cx="2638440" cy="2048040"/>
          </a:xfrm>
          <a:custGeom>
            <a:avLst/>
            <a:gdLst/>
            <a:ahLst/>
            <a:rect l="l" t="t" r="r" b="b"/>
            <a:pathLst>
              <a:path w="1818" h="1816">
                <a:moveTo>
                  <a:pt x="0" y="0"/>
                </a:moveTo>
                <a:lnTo>
                  <a:pt x="1818" y="1816"/>
                </a:lnTo>
                <a:lnTo>
                  <a:pt x="0" y="181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2205000" y="1247760"/>
            <a:ext cx="3240" cy="228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2205000" y="1851120"/>
            <a:ext cx="3821040" cy="1446120"/>
            <a:chOff x="2205000" y="1851120"/>
            <a:chExt cx="3821040" cy="1446120"/>
          </a:xfrm>
        </p:grpSpPr>
        <p:sp>
          <p:nvSpPr>
            <p:cNvPr id="1524" name=""/>
            <p:cNvSpPr/>
            <p:nvPr/>
          </p:nvSpPr>
          <p:spPr>
            <a:xfrm>
              <a:off x="2205000" y="3295800"/>
              <a:ext cx="3821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205000" y="2814480"/>
              <a:ext cx="381276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205000" y="2332080"/>
              <a:ext cx="381276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205000" y="1851120"/>
              <a:ext cx="3812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2205000" y="1488960"/>
            <a:ext cx="2638440" cy="20480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205000" y="1488960"/>
            <a:ext cx="465120" cy="362160"/>
          </a:xfrm>
          <a:custGeom>
            <a:avLst/>
            <a:gdLst/>
            <a:ahLst/>
            <a:rect l="l" t="t" r="r" b="b"/>
            <a:pathLst>
              <a:path w="322" h="320">
                <a:moveTo>
                  <a:pt x="0" y="0"/>
                </a:moveTo>
                <a:lnTo>
                  <a:pt x="7" y="31"/>
                </a:lnTo>
                <a:lnTo>
                  <a:pt x="16" y="63"/>
                </a:lnTo>
                <a:lnTo>
                  <a:pt x="27" y="92"/>
                </a:lnTo>
                <a:lnTo>
                  <a:pt x="40" y="119"/>
                </a:lnTo>
                <a:lnTo>
                  <a:pt x="54" y="145"/>
                </a:lnTo>
                <a:lnTo>
                  <a:pt x="70" y="169"/>
                </a:lnTo>
                <a:lnTo>
                  <a:pt x="87" y="192"/>
                </a:lnTo>
                <a:lnTo>
                  <a:pt x="108" y="213"/>
                </a:lnTo>
                <a:lnTo>
                  <a:pt x="128" y="231"/>
                </a:lnTo>
                <a:lnTo>
                  <a:pt x="151" y="249"/>
                </a:lnTo>
                <a:lnTo>
                  <a:pt x="174" y="265"/>
                </a:lnTo>
                <a:lnTo>
                  <a:pt x="200" y="279"/>
                </a:lnTo>
                <a:lnTo>
                  <a:pt x="229" y="291"/>
                </a:lnTo>
                <a:lnTo>
                  <a:pt x="257" y="303"/>
                </a:lnTo>
                <a:lnTo>
                  <a:pt x="289" y="312"/>
                </a:lnTo>
                <a:lnTo>
                  <a:pt x="322" y="3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205000" y="1488960"/>
            <a:ext cx="1085760" cy="843120"/>
          </a:xfrm>
          <a:custGeom>
            <a:avLst/>
            <a:gdLst/>
            <a:ahLst/>
            <a:rect l="l" t="t" r="r" b="b"/>
            <a:pathLst>
              <a:path w="749" h="747">
                <a:moveTo>
                  <a:pt x="0" y="0"/>
                </a:moveTo>
                <a:lnTo>
                  <a:pt x="7" y="64"/>
                </a:lnTo>
                <a:lnTo>
                  <a:pt x="16" y="126"/>
                </a:lnTo>
                <a:lnTo>
                  <a:pt x="27" y="184"/>
                </a:lnTo>
                <a:lnTo>
                  <a:pt x="40" y="239"/>
                </a:lnTo>
                <a:lnTo>
                  <a:pt x="54" y="291"/>
                </a:lnTo>
                <a:lnTo>
                  <a:pt x="70" y="340"/>
                </a:lnTo>
                <a:lnTo>
                  <a:pt x="87" y="385"/>
                </a:lnTo>
                <a:lnTo>
                  <a:pt x="108" y="427"/>
                </a:lnTo>
                <a:lnTo>
                  <a:pt x="127" y="463"/>
                </a:lnTo>
                <a:lnTo>
                  <a:pt x="147" y="497"/>
                </a:lnTo>
                <a:lnTo>
                  <a:pt x="169" y="526"/>
                </a:lnTo>
                <a:lnTo>
                  <a:pt x="194" y="554"/>
                </a:lnTo>
                <a:lnTo>
                  <a:pt x="220" y="577"/>
                </a:lnTo>
                <a:lnTo>
                  <a:pt x="250" y="599"/>
                </a:lnTo>
                <a:lnTo>
                  <a:pt x="283" y="619"/>
                </a:lnTo>
                <a:lnTo>
                  <a:pt x="322" y="641"/>
                </a:lnTo>
                <a:lnTo>
                  <a:pt x="362" y="659"/>
                </a:lnTo>
                <a:lnTo>
                  <a:pt x="408" y="677"/>
                </a:lnTo>
                <a:lnTo>
                  <a:pt x="456" y="693"/>
                </a:lnTo>
                <a:lnTo>
                  <a:pt x="508" y="706"/>
                </a:lnTo>
                <a:lnTo>
                  <a:pt x="564" y="719"/>
                </a:lnTo>
                <a:lnTo>
                  <a:pt x="622" y="730"/>
                </a:lnTo>
                <a:lnTo>
                  <a:pt x="684" y="739"/>
                </a:lnTo>
                <a:lnTo>
                  <a:pt x="749" y="74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211480" y="1496880"/>
            <a:ext cx="1689120" cy="1306800"/>
          </a:xfrm>
          <a:custGeom>
            <a:avLst/>
            <a:gdLst/>
            <a:ahLst/>
            <a:rect l="l" t="t" r="r" b="b"/>
            <a:pathLst>
              <a:path w="1164" h="1161">
                <a:moveTo>
                  <a:pt x="0" y="0"/>
                </a:moveTo>
                <a:lnTo>
                  <a:pt x="11" y="101"/>
                </a:lnTo>
                <a:lnTo>
                  <a:pt x="25" y="197"/>
                </a:lnTo>
                <a:lnTo>
                  <a:pt x="42" y="287"/>
                </a:lnTo>
                <a:lnTo>
                  <a:pt x="62" y="373"/>
                </a:lnTo>
                <a:lnTo>
                  <a:pt x="83" y="453"/>
                </a:lnTo>
                <a:lnTo>
                  <a:pt x="108" y="528"/>
                </a:lnTo>
                <a:lnTo>
                  <a:pt x="135" y="598"/>
                </a:lnTo>
                <a:lnTo>
                  <a:pt x="166" y="664"/>
                </a:lnTo>
                <a:lnTo>
                  <a:pt x="197" y="721"/>
                </a:lnTo>
                <a:lnTo>
                  <a:pt x="228" y="772"/>
                </a:lnTo>
                <a:lnTo>
                  <a:pt x="263" y="819"/>
                </a:lnTo>
                <a:lnTo>
                  <a:pt x="301" y="861"/>
                </a:lnTo>
                <a:lnTo>
                  <a:pt x="341" y="898"/>
                </a:lnTo>
                <a:lnTo>
                  <a:pt x="387" y="932"/>
                </a:lnTo>
                <a:lnTo>
                  <a:pt x="440" y="965"/>
                </a:lnTo>
                <a:lnTo>
                  <a:pt x="499" y="996"/>
                </a:lnTo>
                <a:lnTo>
                  <a:pt x="563" y="1026"/>
                </a:lnTo>
                <a:lnTo>
                  <a:pt x="634" y="1053"/>
                </a:lnTo>
                <a:lnTo>
                  <a:pt x="709" y="1078"/>
                </a:lnTo>
                <a:lnTo>
                  <a:pt x="790" y="1099"/>
                </a:lnTo>
                <a:lnTo>
                  <a:pt x="876" y="1118"/>
                </a:lnTo>
                <a:lnTo>
                  <a:pt x="966" y="1135"/>
                </a:lnTo>
                <a:lnTo>
                  <a:pt x="1063" y="1149"/>
                </a:lnTo>
                <a:lnTo>
                  <a:pt x="1164" y="116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211480" y="1494000"/>
            <a:ext cx="2306520" cy="1787400"/>
          </a:xfrm>
          <a:custGeom>
            <a:avLst/>
            <a:gdLst/>
            <a:ahLst/>
            <a:rect l="l" t="t" r="r" b="b"/>
            <a:pathLst>
              <a:path w="1590" h="1585">
                <a:moveTo>
                  <a:pt x="0" y="0"/>
                </a:moveTo>
                <a:lnTo>
                  <a:pt x="15" y="138"/>
                </a:lnTo>
                <a:lnTo>
                  <a:pt x="35" y="269"/>
                </a:lnTo>
                <a:lnTo>
                  <a:pt x="57" y="392"/>
                </a:lnTo>
                <a:lnTo>
                  <a:pt x="85" y="510"/>
                </a:lnTo>
                <a:lnTo>
                  <a:pt x="115" y="620"/>
                </a:lnTo>
                <a:lnTo>
                  <a:pt x="149" y="722"/>
                </a:lnTo>
                <a:lnTo>
                  <a:pt x="185" y="817"/>
                </a:lnTo>
                <a:lnTo>
                  <a:pt x="227" y="907"/>
                </a:lnTo>
                <a:lnTo>
                  <a:pt x="269" y="986"/>
                </a:lnTo>
                <a:lnTo>
                  <a:pt x="313" y="1056"/>
                </a:lnTo>
                <a:lnTo>
                  <a:pt x="360" y="1119"/>
                </a:lnTo>
                <a:lnTo>
                  <a:pt x="411" y="1175"/>
                </a:lnTo>
                <a:lnTo>
                  <a:pt x="467" y="1226"/>
                </a:lnTo>
                <a:lnTo>
                  <a:pt x="529" y="1272"/>
                </a:lnTo>
                <a:lnTo>
                  <a:pt x="600" y="1316"/>
                </a:lnTo>
                <a:lnTo>
                  <a:pt x="681" y="1360"/>
                </a:lnTo>
                <a:lnTo>
                  <a:pt x="769" y="1400"/>
                </a:lnTo>
                <a:lnTo>
                  <a:pt x="866" y="1437"/>
                </a:lnTo>
                <a:lnTo>
                  <a:pt x="969" y="1471"/>
                </a:lnTo>
                <a:lnTo>
                  <a:pt x="1078" y="1500"/>
                </a:lnTo>
                <a:lnTo>
                  <a:pt x="1195" y="1528"/>
                </a:lnTo>
                <a:lnTo>
                  <a:pt x="1320" y="1550"/>
                </a:lnTo>
                <a:lnTo>
                  <a:pt x="1451" y="1569"/>
                </a:lnTo>
                <a:lnTo>
                  <a:pt x="1590" y="158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843440" y="3537000"/>
            <a:ext cx="3240" cy="12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359080" y="3537000"/>
            <a:ext cx="3240" cy="12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822400" y="3537000"/>
            <a:ext cx="3240" cy="119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911760" y="2814480"/>
            <a:ext cx="2880" cy="84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230200" y="3645000"/>
            <a:ext cx="19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750760" y="3645000"/>
            <a:ext cx="19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3836520" y="3645000"/>
            <a:ext cx="19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771800" y="36450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159600" y="3092400"/>
            <a:ext cx="3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0,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159600" y="2128680"/>
            <a:ext cx="3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159600" y="1647720"/>
            <a:ext cx="35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159600" y="2611440"/>
            <a:ext cx="3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0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969000" y="2425680"/>
            <a:ext cx="216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zar obciążenia nadkrytyczne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990440" y="3162240"/>
            <a:ext cx="19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990440" y="2679840"/>
            <a:ext cx="19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983960" y="2200320"/>
            <a:ext cx="19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995120" y="1717560"/>
            <a:ext cx="19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009520" y="13539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2359080" y="1488600"/>
            <a:ext cx="46332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822400" y="1488960"/>
            <a:ext cx="31140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822400" y="1488960"/>
            <a:ext cx="14004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378160" y="1287360"/>
            <a:ext cx="2530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leżność dla kluczy jednokierunkow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2670120" y="2090880"/>
            <a:ext cx="6206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 flipV="1">
            <a:off x="3290760" y="2090880"/>
            <a:ext cx="1540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290760" y="2090880"/>
            <a:ext cx="15526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072600" y="1892160"/>
            <a:ext cx="245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leżność dla kluczy dwukierunkow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209320" y="8794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U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265480" y="11127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205000" y="1128600"/>
            <a:ext cx="3110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407680" y="11905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629040" y="340668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(1/Ro)(2L/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212920" y="4140360"/>
            <a:ext cx="3240" cy="22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212920" y="6427800"/>
            <a:ext cx="43466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2212920" y="6186600"/>
            <a:ext cx="37940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2212920" y="4741920"/>
            <a:ext cx="3803760" cy="965160"/>
            <a:chOff x="2212920" y="4741920"/>
            <a:chExt cx="3803760" cy="965160"/>
          </a:xfrm>
        </p:grpSpPr>
        <p:sp>
          <p:nvSpPr>
            <p:cNvPr id="1568" name=""/>
            <p:cNvSpPr/>
            <p:nvPr/>
          </p:nvSpPr>
          <p:spPr>
            <a:xfrm>
              <a:off x="2212920" y="5703840"/>
              <a:ext cx="380376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212920" y="5222880"/>
              <a:ext cx="3803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212920" y="4741920"/>
              <a:ext cx="380376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2212920" y="4381560"/>
            <a:ext cx="468360" cy="360360"/>
          </a:xfrm>
          <a:custGeom>
            <a:avLst/>
            <a:gdLst/>
            <a:ahLst/>
            <a:rect l="l" t="t" r="r" b="b"/>
            <a:pathLst>
              <a:path w="321" h="320">
                <a:moveTo>
                  <a:pt x="0" y="0"/>
                </a:moveTo>
                <a:lnTo>
                  <a:pt x="7" y="32"/>
                </a:lnTo>
                <a:lnTo>
                  <a:pt x="16" y="63"/>
                </a:lnTo>
                <a:lnTo>
                  <a:pt x="27" y="93"/>
                </a:lnTo>
                <a:lnTo>
                  <a:pt x="40" y="120"/>
                </a:lnTo>
                <a:lnTo>
                  <a:pt x="54" y="146"/>
                </a:lnTo>
                <a:lnTo>
                  <a:pt x="70" y="170"/>
                </a:lnTo>
                <a:lnTo>
                  <a:pt x="87" y="192"/>
                </a:lnTo>
                <a:lnTo>
                  <a:pt x="107" y="214"/>
                </a:lnTo>
                <a:lnTo>
                  <a:pt x="128" y="232"/>
                </a:lnTo>
                <a:lnTo>
                  <a:pt x="150" y="250"/>
                </a:lnTo>
                <a:lnTo>
                  <a:pt x="174" y="266"/>
                </a:lnTo>
                <a:lnTo>
                  <a:pt x="200" y="279"/>
                </a:lnTo>
                <a:lnTo>
                  <a:pt x="229" y="292"/>
                </a:lnTo>
                <a:lnTo>
                  <a:pt x="257" y="303"/>
                </a:lnTo>
                <a:lnTo>
                  <a:pt x="289" y="312"/>
                </a:lnTo>
                <a:lnTo>
                  <a:pt x="321" y="3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853160" y="6427800"/>
            <a:ext cx="2880" cy="12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370240" y="6427800"/>
            <a:ext cx="3240" cy="12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835360" y="6427800"/>
            <a:ext cx="3240" cy="12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239560" y="6534000"/>
            <a:ext cx="19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758680" y="6534000"/>
            <a:ext cx="19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847680" y="6534000"/>
            <a:ext cx="19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779720" y="65340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167520" y="5983200"/>
            <a:ext cx="3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0,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167520" y="5018040"/>
            <a:ext cx="3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167520" y="4538520"/>
            <a:ext cx="3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167520" y="5502240"/>
            <a:ext cx="3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0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970440" y="5835600"/>
            <a:ext cx="212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zar obciążenia nadkrytyczne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998360" y="6051600"/>
            <a:ext cx="19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998360" y="5572080"/>
            <a:ext cx="19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995120" y="5089680"/>
            <a:ext cx="19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007720" y="4606920"/>
            <a:ext cx="19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018880" y="42465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662520" y="6296040"/>
            <a:ext cx="103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(1/Io)(2L/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911760" y="6427800"/>
            <a:ext cx="2880" cy="12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216160" y="4390920"/>
            <a:ext cx="592200" cy="811440"/>
          </a:xfrm>
          <a:custGeom>
            <a:avLst/>
            <a:gdLst/>
            <a:ahLst/>
            <a:rect l="l" t="t" r="r" b="b"/>
            <a:pathLst>
              <a:path w="408" h="719">
                <a:moveTo>
                  <a:pt x="0" y="0"/>
                </a:moveTo>
                <a:lnTo>
                  <a:pt x="9" y="72"/>
                </a:lnTo>
                <a:lnTo>
                  <a:pt x="21" y="143"/>
                </a:lnTo>
                <a:lnTo>
                  <a:pt x="34" y="208"/>
                </a:lnTo>
                <a:lnTo>
                  <a:pt x="51" y="270"/>
                </a:lnTo>
                <a:lnTo>
                  <a:pt x="68" y="328"/>
                </a:lnTo>
                <a:lnTo>
                  <a:pt x="88" y="382"/>
                </a:lnTo>
                <a:lnTo>
                  <a:pt x="111" y="433"/>
                </a:lnTo>
                <a:lnTo>
                  <a:pt x="136" y="481"/>
                </a:lnTo>
                <a:lnTo>
                  <a:pt x="162" y="524"/>
                </a:lnTo>
                <a:lnTo>
                  <a:pt x="190" y="562"/>
                </a:lnTo>
                <a:lnTo>
                  <a:pt x="221" y="598"/>
                </a:lnTo>
                <a:lnTo>
                  <a:pt x="255" y="630"/>
                </a:lnTo>
                <a:lnTo>
                  <a:pt x="289" y="657"/>
                </a:lnTo>
                <a:lnTo>
                  <a:pt x="326" y="682"/>
                </a:lnTo>
                <a:lnTo>
                  <a:pt x="366" y="702"/>
                </a:lnTo>
                <a:lnTo>
                  <a:pt x="408" y="7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216160" y="4390920"/>
            <a:ext cx="438120" cy="1290600"/>
          </a:xfrm>
          <a:custGeom>
            <a:avLst/>
            <a:gdLst/>
            <a:ahLst/>
            <a:rect l="l" t="t" r="r" b="b"/>
            <a:pathLst>
              <a:path w="302" h="1146">
                <a:moveTo>
                  <a:pt x="0" y="0"/>
                </a:moveTo>
                <a:lnTo>
                  <a:pt x="7" y="117"/>
                </a:lnTo>
                <a:lnTo>
                  <a:pt x="15" y="226"/>
                </a:lnTo>
                <a:lnTo>
                  <a:pt x="25" y="331"/>
                </a:lnTo>
                <a:lnTo>
                  <a:pt x="38" y="430"/>
                </a:lnTo>
                <a:lnTo>
                  <a:pt x="51" y="523"/>
                </a:lnTo>
                <a:lnTo>
                  <a:pt x="66" y="608"/>
                </a:lnTo>
                <a:lnTo>
                  <a:pt x="83" y="690"/>
                </a:lnTo>
                <a:lnTo>
                  <a:pt x="101" y="765"/>
                </a:lnTo>
                <a:lnTo>
                  <a:pt x="120" y="832"/>
                </a:lnTo>
                <a:lnTo>
                  <a:pt x="142" y="896"/>
                </a:lnTo>
                <a:lnTo>
                  <a:pt x="164" y="952"/>
                </a:lnTo>
                <a:lnTo>
                  <a:pt x="188" y="1002"/>
                </a:lnTo>
                <a:lnTo>
                  <a:pt x="214" y="1047"/>
                </a:lnTo>
                <a:lnTo>
                  <a:pt x="242" y="1086"/>
                </a:lnTo>
                <a:lnTo>
                  <a:pt x="271" y="1118"/>
                </a:lnTo>
                <a:lnTo>
                  <a:pt x="302" y="114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216160" y="4390920"/>
            <a:ext cx="131760" cy="1766880"/>
          </a:xfrm>
          <a:custGeom>
            <a:avLst/>
            <a:gdLst/>
            <a:ahLst/>
            <a:rect l="l" t="t" r="r" b="b"/>
            <a:pathLst>
              <a:path w="91" h="1567">
                <a:moveTo>
                  <a:pt x="0" y="0"/>
                </a:moveTo>
                <a:lnTo>
                  <a:pt x="1" y="160"/>
                </a:lnTo>
                <a:lnTo>
                  <a:pt x="5" y="310"/>
                </a:lnTo>
                <a:lnTo>
                  <a:pt x="8" y="454"/>
                </a:lnTo>
                <a:lnTo>
                  <a:pt x="11" y="588"/>
                </a:lnTo>
                <a:lnTo>
                  <a:pt x="15" y="715"/>
                </a:lnTo>
                <a:lnTo>
                  <a:pt x="19" y="833"/>
                </a:lnTo>
                <a:lnTo>
                  <a:pt x="25" y="943"/>
                </a:lnTo>
                <a:lnTo>
                  <a:pt x="31" y="1046"/>
                </a:lnTo>
                <a:lnTo>
                  <a:pt x="36" y="1140"/>
                </a:lnTo>
                <a:lnTo>
                  <a:pt x="42" y="1225"/>
                </a:lnTo>
                <a:lnTo>
                  <a:pt x="49" y="1303"/>
                </a:lnTo>
                <a:lnTo>
                  <a:pt x="57" y="1372"/>
                </a:lnTo>
                <a:lnTo>
                  <a:pt x="65" y="1433"/>
                </a:lnTo>
                <a:lnTo>
                  <a:pt x="73" y="1486"/>
                </a:lnTo>
                <a:lnTo>
                  <a:pt x="81" y="1530"/>
                </a:lnTo>
                <a:lnTo>
                  <a:pt x="91" y="156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563920" y="5349960"/>
            <a:ext cx="27180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bszar obciążenia podkrytyczneg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351160" y="3002040"/>
            <a:ext cx="27180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bszar obciążenia podkrytyczneg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285640" y="387972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U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341440" y="4113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281320" y="4129200"/>
            <a:ext cx="3110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483640" y="41911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203560" y="3522600"/>
            <a:ext cx="43466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półbieżny konwerter napięcia stałego z izolacją galwaniczną : schemat ideowy i schemat zastępc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905200" y="4971960"/>
            <a:ext cx="638280" cy="878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155600" y="4892760"/>
            <a:ext cx="2463840" cy="1033200"/>
          </a:xfrm>
          <a:custGeom>
            <a:avLst/>
            <a:gdLst/>
            <a:ahLst/>
            <a:rect l="l" t="t" r="r" b="b"/>
            <a:pathLst>
              <a:path w="1552" h="65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50"/>
                </a:lnTo>
                <a:lnTo>
                  <a:pt x="2" y="66"/>
                </a:lnTo>
                <a:lnTo>
                  <a:pt x="0" y="82"/>
                </a:lnTo>
                <a:lnTo>
                  <a:pt x="0" y="571"/>
                </a:lnTo>
                <a:lnTo>
                  <a:pt x="2" y="587"/>
                </a:lnTo>
                <a:lnTo>
                  <a:pt x="6" y="603"/>
                </a:lnTo>
                <a:lnTo>
                  <a:pt x="14" y="615"/>
                </a:lnTo>
                <a:lnTo>
                  <a:pt x="24" y="627"/>
                </a:lnTo>
                <a:lnTo>
                  <a:pt x="36" y="637"/>
                </a:lnTo>
                <a:lnTo>
                  <a:pt x="50" y="645"/>
                </a:lnTo>
                <a:lnTo>
                  <a:pt x="66" y="649"/>
                </a:lnTo>
                <a:lnTo>
                  <a:pt x="82" y="651"/>
                </a:lnTo>
                <a:lnTo>
                  <a:pt x="1470" y="651"/>
                </a:lnTo>
                <a:lnTo>
                  <a:pt x="1486" y="649"/>
                </a:lnTo>
                <a:lnTo>
                  <a:pt x="1502" y="645"/>
                </a:lnTo>
                <a:lnTo>
                  <a:pt x="1516" y="637"/>
                </a:lnTo>
                <a:lnTo>
                  <a:pt x="1528" y="627"/>
                </a:lnTo>
                <a:lnTo>
                  <a:pt x="1538" y="615"/>
                </a:lnTo>
                <a:lnTo>
                  <a:pt x="1546" y="603"/>
                </a:lnTo>
                <a:lnTo>
                  <a:pt x="1550" y="587"/>
                </a:lnTo>
                <a:lnTo>
                  <a:pt x="1552" y="571"/>
                </a:lnTo>
                <a:lnTo>
                  <a:pt x="1552" y="82"/>
                </a:lnTo>
                <a:lnTo>
                  <a:pt x="1550" y="66"/>
                </a:lnTo>
                <a:lnTo>
                  <a:pt x="1546" y="50"/>
                </a:lnTo>
                <a:lnTo>
                  <a:pt x="1538" y="36"/>
                </a:lnTo>
                <a:lnTo>
                  <a:pt x="1528" y="24"/>
                </a:lnTo>
                <a:lnTo>
                  <a:pt x="1516" y="14"/>
                </a:lnTo>
                <a:lnTo>
                  <a:pt x="1502" y="6"/>
                </a:lnTo>
                <a:lnTo>
                  <a:pt x="1486" y="2"/>
                </a:lnTo>
                <a:lnTo>
                  <a:pt x="1470" y="0"/>
                </a:lnTo>
                <a:lnTo>
                  <a:pt x="82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790640" y="3938760"/>
            <a:ext cx="2946600" cy="2307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155600" y="4892760"/>
            <a:ext cx="6599160" cy="1033200"/>
          </a:xfrm>
          <a:custGeom>
            <a:avLst/>
            <a:gdLst/>
            <a:ahLst/>
            <a:rect l="l" t="t" r="r" b="b"/>
            <a:pathLst>
              <a:path w="4157" h="651">
                <a:moveTo>
                  <a:pt x="76" y="0"/>
                </a:moveTo>
                <a:lnTo>
                  <a:pt x="60" y="2"/>
                </a:lnTo>
                <a:lnTo>
                  <a:pt x="46" y="6"/>
                </a:lnTo>
                <a:lnTo>
                  <a:pt x="34" y="14"/>
                </a:lnTo>
                <a:lnTo>
                  <a:pt x="22" y="22"/>
                </a:lnTo>
                <a:lnTo>
                  <a:pt x="14" y="34"/>
                </a:lnTo>
                <a:lnTo>
                  <a:pt x="6" y="46"/>
                </a:lnTo>
                <a:lnTo>
                  <a:pt x="2" y="60"/>
                </a:lnTo>
                <a:lnTo>
                  <a:pt x="0" y="76"/>
                </a:lnTo>
                <a:lnTo>
                  <a:pt x="0" y="577"/>
                </a:lnTo>
                <a:lnTo>
                  <a:pt x="2" y="591"/>
                </a:lnTo>
                <a:lnTo>
                  <a:pt x="6" y="605"/>
                </a:lnTo>
                <a:lnTo>
                  <a:pt x="14" y="619"/>
                </a:lnTo>
                <a:lnTo>
                  <a:pt x="22" y="629"/>
                </a:lnTo>
                <a:lnTo>
                  <a:pt x="34" y="639"/>
                </a:lnTo>
                <a:lnTo>
                  <a:pt x="46" y="645"/>
                </a:lnTo>
                <a:lnTo>
                  <a:pt x="60" y="649"/>
                </a:lnTo>
                <a:lnTo>
                  <a:pt x="76" y="651"/>
                </a:lnTo>
                <a:lnTo>
                  <a:pt x="4081" y="651"/>
                </a:lnTo>
                <a:lnTo>
                  <a:pt x="4097" y="649"/>
                </a:lnTo>
                <a:lnTo>
                  <a:pt x="4111" y="645"/>
                </a:lnTo>
                <a:lnTo>
                  <a:pt x="4123" y="639"/>
                </a:lnTo>
                <a:lnTo>
                  <a:pt x="4135" y="629"/>
                </a:lnTo>
                <a:lnTo>
                  <a:pt x="4145" y="619"/>
                </a:lnTo>
                <a:lnTo>
                  <a:pt x="4151" y="605"/>
                </a:lnTo>
                <a:lnTo>
                  <a:pt x="4155" y="591"/>
                </a:lnTo>
                <a:lnTo>
                  <a:pt x="4157" y="577"/>
                </a:lnTo>
                <a:lnTo>
                  <a:pt x="4157" y="76"/>
                </a:lnTo>
                <a:lnTo>
                  <a:pt x="4155" y="60"/>
                </a:lnTo>
                <a:lnTo>
                  <a:pt x="4151" y="46"/>
                </a:lnTo>
                <a:lnTo>
                  <a:pt x="4145" y="34"/>
                </a:lnTo>
                <a:lnTo>
                  <a:pt x="4135" y="22"/>
                </a:lnTo>
                <a:lnTo>
                  <a:pt x="4123" y="14"/>
                </a:lnTo>
                <a:lnTo>
                  <a:pt x="4111" y="6"/>
                </a:lnTo>
                <a:lnTo>
                  <a:pt x="4097" y="2"/>
                </a:lnTo>
                <a:lnTo>
                  <a:pt x="4081" y="0"/>
                </a:lnTo>
                <a:lnTo>
                  <a:pt x="76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938760" y="4653000"/>
            <a:ext cx="2880" cy="14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109960" y="3381480"/>
            <a:ext cx="3100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540240" y="1871640"/>
            <a:ext cx="163440" cy="16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700440" y="1871640"/>
            <a:ext cx="162000" cy="16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859200" y="1871640"/>
            <a:ext cx="162000" cy="16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017960" y="1871640"/>
            <a:ext cx="162000" cy="16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540240" y="1951200"/>
            <a:ext cx="639720" cy="16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176720" y="1951200"/>
            <a:ext cx="1033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210280" y="1951200"/>
            <a:ext cx="3240" cy="14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130720" y="2427120"/>
            <a:ext cx="162000" cy="40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369040" y="2446200"/>
            <a:ext cx="188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68680" y="24462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859200" y="1969920"/>
            <a:ext cx="162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859200" y="196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98320" y="3381480"/>
            <a:ext cx="111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381480" y="1951200"/>
            <a:ext cx="3240" cy="14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301920" y="2585880"/>
            <a:ext cx="158760" cy="160560"/>
          </a:xfrm>
          <a:custGeom>
            <a:avLst/>
            <a:gdLst/>
            <a:ahLst/>
            <a:rect l="l" t="t" r="r" b="b"/>
            <a:pathLst>
              <a:path w="100" h="101">
                <a:moveTo>
                  <a:pt x="50" y="0"/>
                </a:moveTo>
                <a:lnTo>
                  <a:pt x="0" y="101"/>
                </a:lnTo>
                <a:lnTo>
                  <a:pt x="100" y="101"/>
                </a:lnTo>
                <a:lnTo>
                  <a:pt x="5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H="1">
            <a:off x="3301560" y="2585880"/>
            <a:ext cx="158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109960" y="1951200"/>
            <a:ext cx="1430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352680" y="3355920"/>
            <a:ext cx="604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98320" y="1951200"/>
            <a:ext cx="557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69880" y="3355920"/>
            <a:ext cx="6048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69880" y="1925640"/>
            <a:ext cx="6048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352680" y="1925640"/>
            <a:ext cx="604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700440" y="3540240"/>
            <a:ext cx="874800" cy="158760"/>
          </a:xfrm>
          <a:custGeom>
            <a:avLst/>
            <a:gdLst/>
            <a:ahLst/>
            <a:rect l="l" t="t" r="r" b="b"/>
            <a:pathLst>
              <a:path w="551" h="100">
                <a:moveTo>
                  <a:pt x="0" y="0"/>
                </a:moveTo>
                <a:lnTo>
                  <a:pt x="0" y="18"/>
                </a:lnTo>
                <a:lnTo>
                  <a:pt x="24" y="36"/>
                </a:lnTo>
                <a:lnTo>
                  <a:pt x="74" y="44"/>
                </a:lnTo>
                <a:lnTo>
                  <a:pt x="500" y="44"/>
                </a:lnTo>
                <a:lnTo>
                  <a:pt x="524" y="100"/>
                </a:lnTo>
                <a:lnTo>
                  <a:pt x="551" y="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494240" y="3540240"/>
            <a:ext cx="874800" cy="158760"/>
          </a:xfrm>
          <a:custGeom>
            <a:avLst/>
            <a:gdLst/>
            <a:ahLst/>
            <a:rect l="l" t="t" r="r" b="b"/>
            <a:pathLst>
              <a:path w="551" h="100">
                <a:moveTo>
                  <a:pt x="551" y="0"/>
                </a:moveTo>
                <a:lnTo>
                  <a:pt x="551" y="18"/>
                </a:lnTo>
                <a:lnTo>
                  <a:pt x="527" y="36"/>
                </a:lnTo>
                <a:lnTo>
                  <a:pt x="477" y="44"/>
                </a:lnTo>
                <a:lnTo>
                  <a:pt x="51" y="44"/>
                </a:lnTo>
                <a:lnTo>
                  <a:pt x="24" y="100"/>
                </a:lnTo>
                <a:lnTo>
                  <a:pt x="0" y="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92760" y="3719520"/>
            <a:ext cx="339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893120" y="3719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lt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19120" y="1393920"/>
            <a:ext cx="1084320" cy="158760"/>
          </a:xfrm>
          <a:custGeom>
            <a:avLst/>
            <a:gdLst/>
            <a:ahLst/>
            <a:rect l="l" t="t" r="r" b="b"/>
            <a:pathLst>
              <a:path w="683" h="100">
                <a:moveTo>
                  <a:pt x="0" y="100"/>
                </a:moveTo>
                <a:lnTo>
                  <a:pt x="0" y="82"/>
                </a:lnTo>
                <a:lnTo>
                  <a:pt x="30" y="64"/>
                </a:lnTo>
                <a:lnTo>
                  <a:pt x="90" y="56"/>
                </a:lnTo>
                <a:lnTo>
                  <a:pt x="619" y="56"/>
                </a:lnTo>
                <a:lnTo>
                  <a:pt x="651" y="0"/>
                </a:lnTo>
                <a:lnTo>
                  <a:pt x="683" y="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501920" y="1393920"/>
            <a:ext cx="1083960" cy="158760"/>
          </a:xfrm>
          <a:custGeom>
            <a:avLst/>
            <a:gdLst/>
            <a:ahLst/>
            <a:rect l="l" t="t" r="r" b="b"/>
            <a:pathLst>
              <a:path w="683" h="100">
                <a:moveTo>
                  <a:pt x="683" y="100"/>
                </a:moveTo>
                <a:lnTo>
                  <a:pt x="683" y="82"/>
                </a:lnTo>
                <a:lnTo>
                  <a:pt x="653" y="64"/>
                </a:lnTo>
                <a:lnTo>
                  <a:pt x="591" y="56"/>
                </a:lnTo>
                <a:lnTo>
                  <a:pt x="64" y="56"/>
                </a:lnTo>
                <a:lnTo>
                  <a:pt x="32" y="0"/>
                </a:lnTo>
                <a:lnTo>
                  <a:pt x="0" y="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665440" y="1393920"/>
            <a:ext cx="417600" cy="158760"/>
          </a:xfrm>
          <a:custGeom>
            <a:avLst/>
            <a:gdLst/>
            <a:ahLst/>
            <a:rect l="l" t="t" r="r" b="b"/>
            <a:pathLst>
              <a:path w="263" h="100">
                <a:moveTo>
                  <a:pt x="0" y="100"/>
                </a:moveTo>
                <a:lnTo>
                  <a:pt x="0" y="82"/>
                </a:lnTo>
                <a:lnTo>
                  <a:pt x="10" y="64"/>
                </a:lnTo>
                <a:lnTo>
                  <a:pt x="34" y="56"/>
                </a:lnTo>
                <a:lnTo>
                  <a:pt x="239" y="56"/>
                </a:lnTo>
                <a:lnTo>
                  <a:pt x="251" y="0"/>
                </a:lnTo>
                <a:lnTo>
                  <a:pt x="263" y="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044880" y="1393920"/>
            <a:ext cx="415800" cy="158760"/>
          </a:xfrm>
          <a:custGeom>
            <a:avLst/>
            <a:gdLst/>
            <a:ahLst/>
            <a:rect l="l" t="t" r="r" b="b"/>
            <a:pathLst>
              <a:path w="262" h="100">
                <a:moveTo>
                  <a:pt x="262" y="100"/>
                </a:moveTo>
                <a:lnTo>
                  <a:pt x="262" y="82"/>
                </a:lnTo>
                <a:lnTo>
                  <a:pt x="250" y="64"/>
                </a:lnTo>
                <a:lnTo>
                  <a:pt x="228" y="56"/>
                </a:lnTo>
                <a:lnTo>
                  <a:pt x="24" y="56"/>
                </a:lnTo>
                <a:lnTo>
                  <a:pt x="12" y="0"/>
                </a:lnTo>
                <a:lnTo>
                  <a:pt x="0" y="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155600" y="1174680"/>
            <a:ext cx="654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155960" y="117468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lucz 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905200" y="1174680"/>
            <a:ext cx="654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905200" y="117468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lucz 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98320" y="2030400"/>
            <a:ext cx="3240" cy="1271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519120" y="2030400"/>
            <a:ext cx="79200" cy="158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98320" y="2030400"/>
            <a:ext cx="79560" cy="158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77880" y="2604960"/>
            <a:ext cx="187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77880" y="2604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836640" y="2684520"/>
            <a:ext cx="11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836640" y="2684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1155600" y="1871280"/>
            <a:ext cx="317520" cy="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825640" y="1871640"/>
            <a:ext cx="158760" cy="158760"/>
          </a:xfrm>
          <a:custGeom>
            <a:avLst/>
            <a:gdLst/>
            <a:ahLst/>
            <a:rect l="l" t="t" r="r" b="b"/>
            <a:pathLst>
              <a:path w="100" h="100">
                <a:moveTo>
                  <a:pt x="100" y="50"/>
                </a:moveTo>
                <a:lnTo>
                  <a:pt x="0" y="100"/>
                </a:lnTo>
                <a:lnTo>
                  <a:pt x="0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984400" y="1871640"/>
            <a:ext cx="180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473120" y="1951200"/>
            <a:ext cx="238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711440" y="1951200"/>
            <a:ext cx="3240" cy="14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2109960" y="1951200"/>
            <a:ext cx="2880" cy="14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039760" y="2863800"/>
            <a:ext cx="162000" cy="16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039760" y="2705040"/>
            <a:ext cx="162000" cy="16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2039760" y="2544840"/>
            <a:ext cx="162000" cy="163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039760" y="2386080"/>
            <a:ext cx="162000" cy="16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119320" y="2386080"/>
            <a:ext cx="162000" cy="63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641600" y="2863800"/>
            <a:ext cx="161640" cy="16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641600" y="2705040"/>
            <a:ext cx="161640" cy="16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641600" y="2544840"/>
            <a:ext cx="161640" cy="163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1641600" y="2386080"/>
            <a:ext cx="161640" cy="16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562040" y="2386080"/>
            <a:ext cx="162000" cy="63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1871640" y="2347560"/>
            <a:ext cx="3240" cy="7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V="1">
            <a:off x="1951200" y="2347560"/>
            <a:ext cx="2880" cy="7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235160" y="1969920"/>
            <a:ext cx="180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234800" y="196992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552680" y="2427120"/>
            <a:ext cx="1440" cy="557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H="1">
            <a:off x="1472760" y="2427120"/>
            <a:ext cx="79560" cy="69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552680" y="2427120"/>
            <a:ext cx="79200" cy="69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268360" y="2427120"/>
            <a:ext cx="1800" cy="557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2189160" y="2427120"/>
            <a:ext cx="79200" cy="69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268360" y="2427120"/>
            <a:ext cx="79560" cy="69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235160" y="1631880"/>
            <a:ext cx="177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235160" y="1628640"/>
            <a:ext cx="81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314360" y="1650960"/>
            <a:ext cx="1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314360" y="165096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790640" y="1650960"/>
            <a:ext cx="227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791000" y="1650960"/>
            <a:ext cx="15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790640" y="1969920"/>
            <a:ext cx="2937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791000" y="196992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: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825640" y="1650960"/>
            <a:ext cx="27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825640" y="165096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540240" y="2684520"/>
            <a:ext cx="277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540240" y="268452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529240" y="2525760"/>
            <a:ext cx="162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529240" y="25257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427120" y="2604960"/>
            <a:ext cx="276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2427120" y="260496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p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665440" y="2684520"/>
            <a:ext cx="173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665440" y="268452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155600" y="2604960"/>
            <a:ext cx="1875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1155600" y="2604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314360" y="2684520"/>
            <a:ext cx="1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314360" y="268452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915840" y="6084720"/>
            <a:ext cx="7156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404040" y="4573440"/>
            <a:ext cx="162000" cy="163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562800" y="4573440"/>
            <a:ext cx="162000" cy="163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721560" y="4573440"/>
            <a:ext cx="162000" cy="163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880320" y="4573440"/>
            <a:ext cx="162000" cy="163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404040" y="4653000"/>
            <a:ext cx="638280" cy="16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7039080" y="4653000"/>
            <a:ext cx="1033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8072280" y="4653000"/>
            <a:ext cx="3240" cy="14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993080" y="5130720"/>
            <a:ext cx="16344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8232840" y="4832280"/>
            <a:ext cx="18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8232840" y="48322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642000" y="4275000"/>
            <a:ext cx="162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642000" y="42750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767560" y="2030400"/>
            <a:ext cx="1440" cy="1271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H="1">
            <a:off x="5687640" y="2030400"/>
            <a:ext cx="79560" cy="158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767560" y="2030400"/>
            <a:ext cx="79200" cy="158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465800" y="1925640"/>
            <a:ext cx="6012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465800" y="3355920"/>
            <a:ext cx="6012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005520" y="4653000"/>
            <a:ext cx="3240" cy="14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925960" y="5289480"/>
            <a:ext cx="158760" cy="158760"/>
          </a:xfrm>
          <a:custGeom>
            <a:avLst/>
            <a:gdLst/>
            <a:ahLst/>
            <a:rect l="l" t="t" r="r" b="b"/>
            <a:pathLst>
              <a:path w="100" h="100">
                <a:moveTo>
                  <a:pt x="50" y="0"/>
                </a:moveTo>
                <a:lnTo>
                  <a:pt x="0" y="100"/>
                </a:lnTo>
                <a:lnTo>
                  <a:pt x="100" y="100"/>
                </a:lnTo>
                <a:lnTo>
                  <a:pt x="5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H="1">
            <a:off x="5925600" y="5289480"/>
            <a:ext cx="158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1711440" y="4653000"/>
            <a:ext cx="4692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5977080" y="6059520"/>
            <a:ext cx="6012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836640" y="4653000"/>
            <a:ext cx="557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808200" y="6059520"/>
            <a:ext cx="6012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808200" y="4627440"/>
            <a:ext cx="6012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977080" y="4627440"/>
            <a:ext cx="6012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836640" y="4734000"/>
            <a:ext cx="3240" cy="1271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H="1">
            <a:off x="756720" y="4734000"/>
            <a:ext cx="79560" cy="158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836640" y="4734000"/>
            <a:ext cx="79200" cy="158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915840" y="5308560"/>
            <a:ext cx="189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915840" y="53085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076400" y="5388120"/>
            <a:ext cx="117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076400" y="53881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1393920" y="4573080"/>
            <a:ext cx="317520" cy="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450040" y="4573440"/>
            <a:ext cx="158760" cy="160560"/>
          </a:xfrm>
          <a:custGeom>
            <a:avLst/>
            <a:gdLst/>
            <a:ahLst/>
            <a:rect l="l" t="t" r="r" b="b"/>
            <a:pathLst>
              <a:path w="100" h="101">
                <a:moveTo>
                  <a:pt x="100" y="50"/>
                </a:moveTo>
                <a:lnTo>
                  <a:pt x="0" y="101"/>
                </a:lnTo>
                <a:lnTo>
                  <a:pt x="0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5608800" y="4573440"/>
            <a:ext cx="1440" cy="16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868560" y="5565600"/>
            <a:ext cx="162000" cy="16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868560" y="5407200"/>
            <a:ext cx="162000" cy="16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68560" y="5248440"/>
            <a:ext cx="162000" cy="16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868560" y="5089680"/>
            <a:ext cx="162000" cy="16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948120" y="5089680"/>
            <a:ext cx="162000" cy="63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473120" y="4672080"/>
            <a:ext cx="181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1472760" y="467208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892760" y="5130720"/>
            <a:ext cx="1440" cy="555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4812840" y="5130720"/>
            <a:ext cx="79560" cy="69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892760" y="5130720"/>
            <a:ext cx="79200" cy="69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473120" y="4335480"/>
            <a:ext cx="1778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473120" y="4332240"/>
            <a:ext cx="81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552680" y="4354560"/>
            <a:ext cx="171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552680" y="435456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450040" y="4354560"/>
            <a:ext cx="276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450040" y="435456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164280" y="5388120"/>
            <a:ext cx="277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64280" y="538812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391600" y="4911840"/>
            <a:ext cx="162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391600" y="49118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051520" y="5308560"/>
            <a:ext cx="276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051520" y="530856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p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688000" y="5388120"/>
            <a:ext cx="171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688000" y="538812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909960" y="6059520"/>
            <a:ext cx="604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909960" y="4627440"/>
            <a:ext cx="604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097160" y="4911840"/>
            <a:ext cx="285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097160" y="4911840"/>
            <a:ext cx="220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017960" y="4832280"/>
            <a:ext cx="108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017600" y="483228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 flipV="1">
            <a:off x="6084360" y="4573080"/>
            <a:ext cx="79560" cy="79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084360" y="4653000"/>
            <a:ext cx="79560" cy="81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 flipV="1">
            <a:off x="3858840" y="4971600"/>
            <a:ext cx="79560" cy="79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3938760" y="4971600"/>
            <a:ext cx="79200" cy="79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925960" y="4275000"/>
            <a:ext cx="108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925600" y="427500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005520" y="4354560"/>
            <a:ext cx="162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005520" y="4354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197840" y="4653000"/>
            <a:ext cx="1440" cy="63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197840" y="5369040"/>
            <a:ext cx="1440" cy="71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039080" y="5369040"/>
            <a:ext cx="318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039080" y="5289480"/>
            <a:ext cx="318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437600" y="5229360"/>
            <a:ext cx="231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437600" y="522936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169040" y="4627440"/>
            <a:ext cx="604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9040" y="6059520"/>
            <a:ext cx="604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846760" y="2525760"/>
            <a:ext cx="1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846760" y="2525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005520" y="2604960"/>
            <a:ext cx="162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05520" y="2604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017960" y="5308560"/>
            <a:ext cx="162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017960" y="5308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097160" y="5388120"/>
            <a:ext cx="196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097160" y="538812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2744640" y="4653000"/>
            <a:ext cx="3240" cy="63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744640" y="5369040"/>
            <a:ext cx="3240" cy="71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585880" y="5369040"/>
            <a:ext cx="319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585880" y="5289480"/>
            <a:ext cx="3193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2716200" y="4627440"/>
            <a:ext cx="6192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2716200" y="6059520"/>
            <a:ext cx="6192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984400" y="5229360"/>
            <a:ext cx="1875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984400" y="52293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143160" y="5308560"/>
            <a:ext cx="171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3143160" y="530856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347920" y="5130720"/>
            <a:ext cx="16200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2427120" y="4971600"/>
            <a:ext cx="324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427120" y="4971960"/>
            <a:ext cx="317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2427120" y="5527800"/>
            <a:ext cx="324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427120" y="5686560"/>
            <a:ext cx="317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2716200" y="4946760"/>
            <a:ext cx="61920" cy="56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716200" y="5661000"/>
            <a:ext cx="6192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2030400" y="5149800"/>
            <a:ext cx="18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030400" y="51498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189160" y="5229360"/>
            <a:ext cx="152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188800" y="52293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 flipH="1" flipV="1">
            <a:off x="1076400" y="4573080"/>
            <a:ext cx="79200" cy="79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 flipH="1">
            <a:off x="1076400" y="4653000"/>
            <a:ext cx="79200" cy="81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915840" y="4275000"/>
            <a:ext cx="109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915480" y="427500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996840" y="4354560"/>
            <a:ext cx="181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996480" y="435456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871640" y="4573440"/>
            <a:ext cx="162000" cy="163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030400" y="4573440"/>
            <a:ext cx="162000" cy="163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189160" y="4573440"/>
            <a:ext cx="162000" cy="163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347920" y="4573440"/>
            <a:ext cx="162000" cy="163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1871640" y="4653000"/>
            <a:ext cx="638280" cy="16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2189160" y="4275000"/>
            <a:ext cx="162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189160" y="42750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268360" y="4354560"/>
            <a:ext cx="152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268360" y="4354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255920" y="4573440"/>
            <a:ext cx="162000" cy="163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414680" y="4573440"/>
            <a:ext cx="163800" cy="163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575240" y="4573440"/>
            <a:ext cx="162000" cy="163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734000" y="4573440"/>
            <a:ext cx="162000" cy="163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255920" y="4653000"/>
            <a:ext cx="640080" cy="16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335480" y="4275000"/>
            <a:ext cx="385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336200" y="427500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  /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414680" y="4354560"/>
            <a:ext cx="154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414680" y="4354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654440" y="4195800"/>
            <a:ext cx="162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654440" y="4195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flipH="1" flipV="1">
            <a:off x="1871280" y="4812840"/>
            <a:ext cx="79560" cy="79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1871280" y="4892760"/>
            <a:ext cx="79560" cy="79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H="1" flipV="1">
            <a:off x="3540240" y="4971600"/>
            <a:ext cx="79200" cy="79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3619440" y="4971600"/>
            <a:ext cx="81000" cy="79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 flipH="1" flipV="1">
            <a:off x="3381480" y="5606640"/>
            <a:ext cx="79200" cy="79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V="1">
            <a:off x="3460680" y="5606640"/>
            <a:ext cx="79560" cy="79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H="1" flipV="1">
            <a:off x="5368680" y="4812840"/>
            <a:ext cx="81000" cy="79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H="1">
            <a:off x="5368680" y="4892760"/>
            <a:ext cx="81000" cy="79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H="1" flipV="1">
            <a:off x="7437600" y="4812840"/>
            <a:ext cx="79200" cy="79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H="1">
            <a:off x="7437600" y="4892760"/>
            <a:ext cx="79200" cy="79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1314360" y="5705640"/>
            <a:ext cx="12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314360" y="57056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7675560" y="4753080"/>
            <a:ext cx="12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675560" y="47530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6404040" y="4971960"/>
            <a:ext cx="1036440" cy="878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404040" y="5289480"/>
            <a:ext cx="79200" cy="79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 flipH="1">
            <a:off x="6322680" y="5289480"/>
            <a:ext cx="81000" cy="79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143160" y="5626080"/>
            <a:ext cx="168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143160" y="56260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562800" y="5546880"/>
            <a:ext cx="16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562800" y="5546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871640" y="3957480"/>
            <a:ext cx="1074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875240" y="3957480"/>
            <a:ext cx="10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forma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494240" y="1951200"/>
            <a:ext cx="1440" cy="63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494240" y="2665440"/>
            <a:ext cx="1440" cy="7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335480" y="2665440"/>
            <a:ext cx="318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335480" y="2585880"/>
            <a:ext cx="318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097160" y="2604960"/>
            <a:ext cx="1875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097160" y="2604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205000" y="2081160"/>
            <a:ext cx="12384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528920" y="2055960"/>
            <a:ext cx="12384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półbieżny konwerter napięcia stałego z izolacją galwaniczną i układem zabezpieczający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t ideowy i przebiegi napięć i prądów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303120" y="4906440"/>
            <a:ext cx="1800" cy="219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1135080" y="2181240"/>
            <a:ext cx="1440" cy="1254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03120" y="1892160"/>
            <a:ext cx="11080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1690560" y="3213000"/>
            <a:ext cx="23846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687760" y="1812960"/>
            <a:ext cx="110880" cy="1490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2798640" y="1812960"/>
            <a:ext cx="112680" cy="1490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908440" y="1812960"/>
            <a:ext cx="112680" cy="1490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021120" y="1812960"/>
            <a:ext cx="110880" cy="1490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2687760" y="1886040"/>
            <a:ext cx="444240" cy="14904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130560" y="1886040"/>
            <a:ext cx="9446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4075200" y="1886040"/>
            <a:ext cx="1440" cy="1326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017960" y="2330280"/>
            <a:ext cx="112680" cy="3668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183200" y="23432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908080" y="19033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2577960" y="1886040"/>
            <a:ext cx="1800" cy="1326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2522160" y="2475000"/>
            <a:ext cx="109440" cy="148680"/>
            <a:chOff x="2522160" y="2475000"/>
            <a:chExt cx="109440" cy="148680"/>
          </a:xfrm>
        </p:grpSpPr>
        <p:sp>
          <p:nvSpPr>
            <p:cNvPr id="1883" name=""/>
            <p:cNvSpPr/>
            <p:nvPr/>
          </p:nvSpPr>
          <p:spPr>
            <a:xfrm>
              <a:off x="2522520" y="2475000"/>
              <a:ext cx="109080" cy="14868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55" y="0"/>
                  </a:moveTo>
                  <a:lnTo>
                    <a:pt x="0" y="109"/>
                  </a:lnTo>
                  <a:lnTo>
                    <a:pt x="109" y="109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2522160" y="2475000"/>
              <a:ext cx="10908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1690560" y="1886040"/>
            <a:ext cx="9972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2557440" y="3189240"/>
            <a:ext cx="3960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82600" y="4879800"/>
            <a:ext cx="39600" cy="540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82600" y="1862280"/>
            <a:ext cx="396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557440" y="1862280"/>
            <a:ext cx="3960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303120" y="1962000"/>
            <a:ext cx="1800" cy="279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H="1">
            <a:off x="247680" y="1962000"/>
            <a:ext cx="5544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03120" y="1962000"/>
            <a:ext cx="55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58920" y="33750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69440" y="34909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5" name=""/>
          <p:cNvGrpSpPr/>
          <p:nvPr/>
        </p:nvGrpSpPr>
        <p:grpSpPr>
          <a:xfrm>
            <a:off x="2189160" y="1812960"/>
            <a:ext cx="114120" cy="148680"/>
            <a:chOff x="2189160" y="1812960"/>
            <a:chExt cx="114120" cy="148680"/>
          </a:xfrm>
        </p:grpSpPr>
        <p:sp>
          <p:nvSpPr>
            <p:cNvPr id="1896" name=""/>
            <p:cNvSpPr/>
            <p:nvPr/>
          </p:nvSpPr>
          <p:spPr>
            <a:xfrm>
              <a:off x="2189160" y="1812960"/>
              <a:ext cx="111960" cy="14868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109" y="55"/>
                  </a:moveTo>
                  <a:lnTo>
                    <a:pt x="0" y="109"/>
                  </a:lnTo>
                  <a:lnTo>
                    <a:pt x="0" y="0"/>
                  </a:lnTo>
                  <a:lnTo>
                    <a:pt x="109" y="55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301120" y="1812960"/>
              <a:ext cx="2160" cy="14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8" name=""/>
          <p:cNvSpPr/>
          <p:nvPr/>
        </p:nvSpPr>
        <p:spPr>
          <a:xfrm flipV="1">
            <a:off x="1411200" y="1886040"/>
            <a:ext cx="1800" cy="2651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690560" y="1886040"/>
            <a:ext cx="1800" cy="1326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1641600" y="2292480"/>
            <a:ext cx="166320" cy="590040"/>
            <a:chOff x="1641600" y="2292480"/>
            <a:chExt cx="166320" cy="590040"/>
          </a:xfrm>
        </p:grpSpPr>
        <p:sp>
          <p:nvSpPr>
            <p:cNvPr id="1901" name=""/>
            <p:cNvSpPr/>
            <p:nvPr/>
          </p:nvSpPr>
          <p:spPr>
            <a:xfrm>
              <a:off x="1641600" y="2731680"/>
              <a:ext cx="111600" cy="150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641600" y="2586240"/>
              <a:ext cx="111600" cy="1476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641600" y="2437560"/>
              <a:ext cx="111600" cy="148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641600" y="2292480"/>
              <a:ext cx="111600" cy="148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696320" y="2292480"/>
              <a:ext cx="111600" cy="590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1308240" y="2292480"/>
            <a:ext cx="166320" cy="590040"/>
            <a:chOff x="1308240" y="2292480"/>
            <a:chExt cx="166320" cy="590040"/>
          </a:xfrm>
        </p:grpSpPr>
        <p:sp>
          <p:nvSpPr>
            <p:cNvPr id="1907" name=""/>
            <p:cNvSpPr/>
            <p:nvPr/>
          </p:nvSpPr>
          <p:spPr>
            <a:xfrm>
              <a:off x="1362960" y="2731680"/>
              <a:ext cx="111600" cy="150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362960" y="2586240"/>
              <a:ext cx="111600" cy="1476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362960" y="2437560"/>
              <a:ext cx="111600" cy="148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362960" y="2292480"/>
              <a:ext cx="111600" cy="148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308240" y="2292480"/>
              <a:ext cx="111600" cy="590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2" name=""/>
          <p:cNvSpPr/>
          <p:nvPr/>
        </p:nvSpPr>
        <p:spPr>
          <a:xfrm flipV="1">
            <a:off x="1523880" y="2257560"/>
            <a:ext cx="1800" cy="66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flipV="1">
            <a:off x="1577880" y="2257560"/>
            <a:ext cx="3240" cy="66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468440" y="1608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2188800" y="160812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687400" y="256536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296600" y="2462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8" name=""/>
          <p:cNvGrpSpPr/>
          <p:nvPr/>
        </p:nvGrpSpPr>
        <p:grpSpPr>
          <a:xfrm>
            <a:off x="3685680" y="1962000"/>
            <a:ext cx="109800" cy="1177560"/>
            <a:chOff x="3685680" y="1962000"/>
            <a:chExt cx="109800" cy="1177560"/>
          </a:xfrm>
        </p:grpSpPr>
        <p:sp>
          <p:nvSpPr>
            <p:cNvPr id="1919" name=""/>
            <p:cNvSpPr/>
            <p:nvPr/>
          </p:nvSpPr>
          <p:spPr>
            <a:xfrm>
              <a:off x="3740400" y="1962000"/>
              <a:ext cx="2160" cy="117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3685680" y="1962000"/>
              <a:ext cx="54360" cy="14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740400" y="1962000"/>
              <a:ext cx="55080" cy="14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2" name=""/>
          <p:cNvSpPr/>
          <p:nvPr/>
        </p:nvSpPr>
        <p:spPr>
          <a:xfrm>
            <a:off x="3720960" y="1862280"/>
            <a:ext cx="414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720960" y="3189240"/>
            <a:ext cx="414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798720" y="24192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3907800" y="25351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6" name=""/>
          <p:cNvGrpSpPr/>
          <p:nvPr/>
        </p:nvGrpSpPr>
        <p:grpSpPr>
          <a:xfrm>
            <a:off x="1030320" y="2292480"/>
            <a:ext cx="167400" cy="590040"/>
            <a:chOff x="1030320" y="2292480"/>
            <a:chExt cx="167400" cy="590040"/>
          </a:xfrm>
        </p:grpSpPr>
        <p:sp>
          <p:nvSpPr>
            <p:cNvPr id="1927" name=""/>
            <p:cNvSpPr/>
            <p:nvPr/>
          </p:nvSpPr>
          <p:spPr>
            <a:xfrm>
              <a:off x="1085400" y="2731680"/>
              <a:ext cx="112320" cy="150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085400" y="2586240"/>
              <a:ext cx="112320" cy="1476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085400" y="2437560"/>
              <a:ext cx="112320" cy="148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085400" y="2292480"/>
              <a:ext cx="112320" cy="148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030320" y="2292480"/>
              <a:ext cx="112320" cy="590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2" name=""/>
          <p:cNvSpPr/>
          <p:nvPr/>
        </p:nvSpPr>
        <p:spPr>
          <a:xfrm>
            <a:off x="746280" y="2181240"/>
            <a:ext cx="3888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746280" y="1886040"/>
            <a:ext cx="1440" cy="295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247680" y="5126040"/>
            <a:ext cx="111240" cy="3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079640" y="3435480"/>
            <a:ext cx="109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1301760" y="4537080"/>
            <a:ext cx="109440" cy="149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1301760" y="4686480"/>
            <a:ext cx="109440" cy="14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V="1">
            <a:off x="1411200" y="4758840"/>
            <a:ext cx="1800" cy="73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H="1">
            <a:off x="1357200" y="4832280"/>
            <a:ext cx="54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301760" y="4537080"/>
            <a:ext cx="1440" cy="295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H="1">
            <a:off x="802800" y="4686480"/>
            <a:ext cx="498600" cy="2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82640" y="4662360"/>
            <a:ext cx="414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523800" y="4552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35760" y="467028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66320" y="36399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1910520" y="35211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flipH="1" flipV="1">
            <a:off x="1857240" y="3728520"/>
            <a:ext cx="540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flipH="1">
            <a:off x="1857240" y="3801960"/>
            <a:ext cx="540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9" name=""/>
          <p:cNvGrpSpPr/>
          <p:nvPr/>
        </p:nvGrpSpPr>
        <p:grpSpPr>
          <a:xfrm>
            <a:off x="690120" y="2035080"/>
            <a:ext cx="112680" cy="72720"/>
            <a:chOff x="690120" y="2035080"/>
            <a:chExt cx="112680" cy="72720"/>
          </a:xfrm>
        </p:grpSpPr>
        <p:sp>
          <p:nvSpPr>
            <p:cNvPr id="1950" name=""/>
            <p:cNvSpPr/>
            <p:nvPr/>
          </p:nvSpPr>
          <p:spPr>
            <a:xfrm flipH="1">
              <a:off x="690120" y="2035080"/>
              <a:ext cx="55080" cy="7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45560" y="2035080"/>
              <a:ext cx="57240" cy="7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2" name=""/>
          <p:cNvSpPr/>
          <p:nvPr/>
        </p:nvSpPr>
        <p:spPr>
          <a:xfrm>
            <a:off x="523080" y="1976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81040" y="20923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463920" y="1886040"/>
            <a:ext cx="3240" cy="588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463920" y="2550960"/>
            <a:ext cx="3240" cy="662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352680" y="2550960"/>
            <a:ext cx="222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352680" y="2475000"/>
            <a:ext cx="222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444840" y="1862280"/>
            <a:ext cx="3960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444840" y="3189240"/>
            <a:ext cx="3960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352680" y="2270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1" name=""/>
          <p:cNvGrpSpPr/>
          <p:nvPr/>
        </p:nvGrpSpPr>
        <p:grpSpPr>
          <a:xfrm>
            <a:off x="912960" y="2108160"/>
            <a:ext cx="113760" cy="149040"/>
            <a:chOff x="912960" y="2108160"/>
            <a:chExt cx="113760" cy="149040"/>
          </a:xfrm>
        </p:grpSpPr>
        <p:sp>
          <p:nvSpPr>
            <p:cNvPr id="1962" name=""/>
            <p:cNvSpPr/>
            <p:nvPr/>
          </p:nvSpPr>
          <p:spPr>
            <a:xfrm>
              <a:off x="912960" y="2108160"/>
              <a:ext cx="111600" cy="14904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109" y="55"/>
                  </a:moveTo>
                  <a:lnTo>
                    <a:pt x="0" y="109"/>
                  </a:lnTo>
                  <a:lnTo>
                    <a:pt x="0" y="0"/>
                  </a:lnTo>
                  <a:lnTo>
                    <a:pt x="109" y="55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024560" y="2108160"/>
              <a:ext cx="2160" cy="149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4" name=""/>
          <p:cNvSpPr/>
          <p:nvPr/>
        </p:nvSpPr>
        <p:spPr>
          <a:xfrm>
            <a:off x="803160" y="2270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858960" y="23860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024920" y="2565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079640" y="26812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690480" y="4390920"/>
            <a:ext cx="555840" cy="146160"/>
          </a:xfrm>
          <a:custGeom>
            <a:avLst/>
            <a:gdLst/>
            <a:ahLst/>
            <a:rect l="l" t="t" r="r" b="b"/>
            <a:pathLst>
              <a:path w="545" h="109">
                <a:moveTo>
                  <a:pt x="0" y="109"/>
                </a:moveTo>
                <a:lnTo>
                  <a:pt x="109" y="109"/>
                </a:lnTo>
                <a:lnTo>
                  <a:pt x="109" y="0"/>
                </a:lnTo>
                <a:lnTo>
                  <a:pt x="218" y="0"/>
                </a:lnTo>
                <a:lnTo>
                  <a:pt x="218" y="109"/>
                </a:lnTo>
                <a:lnTo>
                  <a:pt x="327" y="109"/>
                </a:lnTo>
                <a:lnTo>
                  <a:pt x="327" y="0"/>
                </a:lnTo>
                <a:lnTo>
                  <a:pt x="436" y="0"/>
                </a:lnTo>
                <a:lnTo>
                  <a:pt x="436" y="109"/>
                </a:lnTo>
                <a:lnTo>
                  <a:pt x="545" y="10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725480" y="2230560"/>
            <a:ext cx="39960" cy="5400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336680" y="2230560"/>
            <a:ext cx="39600" cy="5400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171440" y="2894040"/>
            <a:ext cx="38160" cy="5220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744560" y="3801960"/>
            <a:ext cx="9432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687760" y="3801960"/>
            <a:ext cx="1440" cy="1324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631960" y="4243320"/>
            <a:ext cx="112680" cy="3700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801880" y="4259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2907720" y="4375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631960" y="5126040"/>
            <a:ext cx="112680" cy="3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690560" y="3654360"/>
            <a:ext cx="1800" cy="29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744560" y="3654360"/>
            <a:ext cx="3240" cy="29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 flipH="1">
            <a:off x="1411200" y="3801960"/>
            <a:ext cx="2793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189160" y="3801960"/>
            <a:ext cx="1440" cy="1324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2" name=""/>
          <p:cNvGrpSpPr/>
          <p:nvPr/>
        </p:nvGrpSpPr>
        <p:grpSpPr>
          <a:xfrm>
            <a:off x="2133360" y="4390920"/>
            <a:ext cx="109440" cy="148680"/>
            <a:chOff x="2133360" y="4390920"/>
            <a:chExt cx="109440" cy="148680"/>
          </a:xfrm>
        </p:grpSpPr>
        <p:sp>
          <p:nvSpPr>
            <p:cNvPr id="1983" name=""/>
            <p:cNvSpPr/>
            <p:nvPr/>
          </p:nvSpPr>
          <p:spPr>
            <a:xfrm>
              <a:off x="2133720" y="4390920"/>
              <a:ext cx="109080" cy="14652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54" y="109"/>
                  </a:moveTo>
                  <a:lnTo>
                    <a:pt x="0" y="0"/>
                  </a:lnTo>
                  <a:lnTo>
                    <a:pt x="109" y="0"/>
                  </a:lnTo>
                  <a:lnTo>
                    <a:pt x="54" y="109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2133360" y="4537440"/>
              <a:ext cx="10908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5" name=""/>
          <p:cNvSpPr/>
          <p:nvPr/>
        </p:nvSpPr>
        <p:spPr>
          <a:xfrm>
            <a:off x="2168640" y="3778200"/>
            <a:ext cx="4104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133720" y="5126040"/>
            <a:ext cx="109440" cy="3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1411200" y="4832280"/>
            <a:ext cx="1800" cy="29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357200" y="5126040"/>
            <a:ext cx="111240" cy="3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1411200" y="3435480"/>
            <a:ext cx="227484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1188360" y="40370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1246320" y="41544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1356840" y="4097160"/>
            <a:ext cx="111240" cy="72720"/>
            <a:chOff x="1356840" y="4097160"/>
            <a:chExt cx="111240" cy="72720"/>
          </a:xfrm>
        </p:grpSpPr>
        <p:sp>
          <p:nvSpPr>
            <p:cNvPr id="1993" name=""/>
            <p:cNvSpPr/>
            <p:nvPr/>
          </p:nvSpPr>
          <p:spPr>
            <a:xfrm flipH="1" flipV="1">
              <a:off x="1356840" y="4097160"/>
              <a:ext cx="54360" cy="7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1411560" y="4097160"/>
              <a:ext cx="56520" cy="7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5" name=""/>
          <p:cNvGrpSpPr/>
          <p:nvPr/>
        </p:nvGrpSpPr>
        <p:grpSpPr>
          <a:xfrm>
            <a:off x="3630600" y="3581280"/>
            <a:ext cx="110880" cy="1620720"/>
            <a:chOff x="3630600" y="3581280"/>
            <a:chExt cx="110880" cy="1620720"/>
          </a:xfrm>
        </p:grpSpPr>
        <p:sp>
          <p:nvSpPr>
            <p:cNvPr id="1996" name=""/>
            <p:cNvSpPr/>
            <p:nvPr/>
          </p:nvSpPr>
          <p:spPr>
            <a:xfrm>
              <a:off x="3686040" y="3581280"/>
              <a:ext cx="2160" cy="162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3630600" y="3581280"/>
              <a:ext cx="55440" cy="20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686040" y="3581280"/>
              <a:ext cx="55440" cy="20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9" name=""/>
          <p:cNvSpPr/>
          <p:nvPr/>
        </p:nvSpPr>
        <p:spPr>
          <a:xfrm>
            <a:off x="3741840" y="4037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853800" y="4154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93920" y="3778200"/>
            <a:ext cx="3816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468440" y="46260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4518000" y="1444680"/>
            <a:ext cx="4423680" cy="5428440"/>
            <a:chOff x="4518000" y="1444680"/>
            <a:chExt cx="4423680" cy="5428440"/>
          </a:xfrm>
        </p:grpSpPr>
        <p:sp>
          <p:nvSpPr>
            <p:cNvPr id="2004" name=""/>
            <p:cNvSpPr/>
            <p:nvPr/>
          </p:nvSpPr>
          <p:spPr>
            <a:xfrm>
              <a:off x="5208480" y="3193920"/>
              <a:ext cx="1065960" cy="320400"/>
            </a:xfrm>
            <a:custGeom>
              <a:avLst/>
              <a:gdLst/>
              <a:ahLst/>
              <a:rect l="l" t="t" r="r" b="b"/>
              <a:pathLst>
                <a:path w="926" h="218">
                  <a:moveTo>
                    <a:pt x="0" y="218"/>
                  </a:moveTo>
                  <a:lnTo>
                    <a:pt x="926" y="0"/>
                  </a:lnTo>
                  <a:lnTo>
                    <a:pt x="926" y="218"/>
                  </a:lnTo>
                  <a:lnTo>
                    <a:pt x="0" y="21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768920" y="1506600"/>
              <a:ext cx="1800" cy="80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768920" y="2310480"/>
              <a:ext cx="39524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H="1">
              <a:off x="4706640" y="1506600"/>
              <a:ext cx="61920" cy="162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768920" y="1506600"/>
              <a:ext cx="61920" cy="162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 flipV="1">
              <a:off x="8596800" y="2231280"/>
              <a:ext cx="1242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8596800" y="2310480"/>
              <a:ext cx="1242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8727120" y="24073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2" name=""/>
            <p:cNvGrpSpPr/>
            <p:nvPr/>
          </p:nvGrpSpPr>
          <p:grpSpPr>
            <a:xfrm>
              <a:off x="5208480" y="1909440"/>
              <a:ext cx="1067400" cy="400320"/>
              <a:chOff x="5208480" y="1909440"/>
              <a:chExt cx="1067400" cy="400320"/>
            </a:xfrm>
          </p:grpSpPr>
          <p:sp>
            <p:nvSpPr>
              <p:cNvPr id="2013" name=""/>
              <p:cNvSpPr/>
              <p:nvPr/>
            </p:nvSpPr>
            <p:spPr>
              <a:xfrm flipV="1">
                <a:off x="5208480" y="1909440"/>
                <a:ext cx="1800" cy="399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208480" y="1909800"/>
                <a:ext cx="106560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6274080" y="1909800"/>
                <a:ext cx="1800" cy="399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6" name=""/>
            <p:cNvGrpSpPr/>
            <p:nvPr/>
          </p:nvGrpSpPr>
          <p:grpSpPr>
            <a:xfrm>
              <a:off x="7342920" y="1909440"/>
              <a:ext cx="1067760" cy="400320"/>
              <a:chOff x="7342920" y="1909440"/>
              <a:chExt cx="1067760" cy="400320"/>
            </a:xfrm>
          </p:grpSpPr>
          <p:sp>
            <p:nvSpPr>
              <p:cNvPr id="2017" name=""/>
              <p:cNvSpPr/>
              <p:nvPr/>
            </p:nvSpPr>
            <p:spPr>
              <a:xfrm flipV="1">
                <a:off x="7342920" y="1909440"/>
                <a:ext cx="1800" cy="399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342920" y="1909800"/>
                <a:ext cx="106524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8408160" y="1909800"/>
                <a:ext cx="2520" cy="399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0" name=""/>
            <p:cNvSpPr/>
            <p:nvPr/>
          </p:nvSpPr>
          <p:spPr>
            <a:xfrm>
              <a:off x="4768920" y="2711160"/>
              <a:ext cx="1800" cy="80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768920" y="3514680"/>
              <a:ext cx="3952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H="1">
              <a:off x="4706640" y="2711160"/>
              <a:ext cx="61920" cy="16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768920" y="2711160"/>
              <a:ext cx="61920" cy="16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 flipV="1">
              <a:off x="8596800" y="3432240"/>
              <a:ext cx="124200" cy="82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596800" y="3514680"/>
              <a:ext cx="1242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8727120" y="36118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5208480" y="3193920"/>
              <a:ext cx="1065960" cy="32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274440" y="3193920"/>
              <a:ext cx="501480" cy="32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7342920" y="3193920"/>
              <a:ext cx="1065240" cy="32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408160" y="3193920"/>
              <a:ext cx="25092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768920" y="3674160"/>
              <a:ext cx="1800" cy="80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768920" y="4477320"/>
              <a:ext cx="3952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H="1">
              <a:off x="4706640" y="3674160"/>
              <a:ext cx="61920" cy="16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768920" y="3674160"/>
              <a:ext cx="61920" cy="16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H="1" flipV="1">
              <a:off x="8596800" y="4397760"/>
              <a:ext cx="1242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>
              <a:off x="8596800" y="4477320"/>
              <a:ext cx="1242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8727120" y="45748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274440" y="4156920"/>
              <a:ext cx="501480" cy="32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408160" y="4156920"/>
              <a:ext cx="25092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274440" y="4156920"/>
              <a:ext cx="501480" cy="320400"/>
            </a:xfrm>
            <a:custGeom>
              <a:avLst/>
              <a:gdLst/>
              <a:ahLst/>
              <a:rect l="l" t="t" r="r" b="b"/>
              <a:pathLst>
                <a:path w="437" h="218">
                  <a:moveTo>
                    <a:pt x="0" y="0"/>
                  </a:moveTo>
                  <a:lnTo>
                    <a:pt x="0" y="218"/>
                  </a:lnTo>
                  <a:lnTo>
                    <a:pt x="437" y="21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8408160" y="4156920"/>
              <a:ext cx="2520" cy="32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768920" y="4636800"/>
              <a:ext cx="1800" cy="80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768920" y="5440320"/>
              <a:ext cx="3952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4706640" y="4636800"/>
              <a:ext cx="61920" cy="16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768920" y="4636800"/>
              <a:ext cx="61920" cy="16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 flipV="1">
              <a:off x="8596800" y="5360760"/>
              <a:ext cx="1242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>
              <a:off x="8596800" y="5440320"/>
              <a:ext cx="1242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8727120" y="55378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776280" y="3514680"/>
              <a:ext cx="5662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H="1">
              <a:off x="4768560" y="3514680"/>
              <a:ext cx="4395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776280" y="4477320"/>
              <a:ext cx="5662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flipH="1">
              <a:off x="4768560" y="4477320"/>
              <a:ext cx="4395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>
              <a:off x="4768560" y="5440320"/>
              <a:ext cx="4395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208480" y="5519880"/>
              <a:ext cx="10659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208480" y="5440320"/>
              <a:ext cx="1800" cy="79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274440" y="5040360"/>
              <a:ext cx="61920" cy="479160"/>
            </a:xfrm>
            <a:custGeom>
              <a:avLst/>
              <a:gdLst/>
              <a:ahLst/>
              <a:rect l="l" t="t" r="r" b="b"/>
              <a:pathLst>
                <a:path w="54" h="327">
                  <a:moveTo>
                    <a:pt x="0" y="327"/>
                  </a:moveTo>
                  <a:lnTo>
                    <a:pt x="0" y="55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54" y="55"/>
                  </a:lnTo>
                  <a:lnTo>
                    <a:pt x="54" y="2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338880" y="5440320"/>
              <a:ext cx="10036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342920" y="5519880"/>
              <a:ext cx="10652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342920" y="5440320"/>
              <a:ext cx="1800" cy="79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8408160" y="5040360"/>
              <a:ext cx="61920" cy="479160"/>
            </a:xfrm>
            <a:custGeom>
              <a:avLst/>
              <a:gdLst/>
              <a:ahLst/>
              <a:rect l="l" t="t" r="r" b="b"/>
              <a:pathLst>
                <a:path w="53" h="327">
                  <a:moveTo>
                    <a:pt x="0" y="327"/>
                  </a:moveTo>
                  <a:lnTo>
                    <a:pt x="0" y="55"/>
                  </a:lnTo>
                  <a:lnTo>
                    <a:pt x="17" y="0"/>
                  </a:lnTo>
                  <a:lnTo>
                    <a:pt x="35" y="0"/>
                  </a:lnTo>
                  <a:lnTo>
                    <a:pt x="53" y="55"/>
                  </a:lnTo>
                  <a:lnTo>
                    <a:pt x="53" y="2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768920" y="5599800"/>
              <a:ext cx="1800" cy="9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768920" y="6562080"/>
              <a:ext cx="3952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4706640" y="5599800"/>
              <a:ext cx="61920" cy="16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768920" y="5599800"/>
              <a:ext cx="61920" cy="16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H="1" flipV="1">
              <a:off x="8596800" y="6482520"/>
              <a:ext cx="1242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H="1">
              <a:off x="8596800" y="6562080"/>
              <a:ext cx="124200" cy="8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8727120" y="6659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274440" y="5761440"/>
              <a:ext cx="64080" cy="800280"/>
            </a:xfrm>
            <a:custGeom>
              <a:avLst/>
              <a:gdLst/>
              <a:ahLst/>
              <a:rect l="l" t="t" r="r" b="b"/>
              <a:pathLst>
                <a:path w="55" h="545">
                  <a:moveTo>
                    <a:pt x="0" y="545"/>
                  </a:moveTo>
                  <a:lnTo>
                    <a:pt x="0" y="54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54" y="54"/>
                  </a:lnTo>
                  <a:lnTo>
                    <a:pt x="55" y="10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338880" y="5920200"/>
              <a:ext cx="3751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714000" y="5920200"/>
              <a:ext cx="126000" cy="403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840360" y="6323760"/>
              <a:ext cx="5022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342920" y="6323760"/>
              <a:ext cx="1800" cy="238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8408160" y="5761440"/>
              <a:ext cx="61920" cy="800280"/>
            </a:xfrm>
            <a:custGeom>
              <a:avLst/>
              <a:gdLst/>
              <a:ahLst/>
              <a:rect l="l" t="t" r="r" b="b"/>
              <a:pathLst>
                <a:path w="54" h="545">
                  <a:moveTo>
                    <a:pt x="0" y="545"/>
                  </a:moveTo>
                  <a:lnTo>
                    <a:pt x="0" y="54"/>
                  </a:lnTo>
                  <a:lnTo>
                    <a:pt x="17" y="0"/>
                  </a:lnTo>
                  <a:lnTo>
                    <a:pt x="35" y="0"/>
                  </a:lnTo>
                  <a:lnTo>
                    <a:pt x="53" y="54"/>
                  </a:lnTo>
                  <a:lnTo>
                    <a:pt x="54" y="10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8470440" y="5920200"/>
              <a:ext cx="188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342920" y="6562080"/>
              <a:ext cx="10652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768920" y="6323760"/>
              <a:ext cx="3772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146560" y="6323760"/>
              <a:ext cx="1800" cy="238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768920" y="5920200"/>
              <a:ext cx="3828240" cy="32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768920" y="5040360"/>
              <a:ext cx="3828240" cy="25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895280" y="1444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020560" y="1571400"/>
              <a:ext cx="28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895280" y="269316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831560" y="2566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957560" y="3818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893840" y="3691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4894920" y="47016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831560" y="4574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831920" y="5617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957200" y="5744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062760" y="3432240"/>
              <a:ext cx="290160" cy="912600"/>
            </a:xfrm>
            <a:custGeom>
              <a:avLst/>
              <a:gdLst/>
              <a:ahLst/>
              <a:rect l="l" t="t" r="r" b="b"/>
              <a:pathLst>
                <a:path w="252" h="620">
                  <a:moveTo>
                    <a:pt x="20" y="0"/>
                  </a:moveTo>
                  <a:lnTo>
                    <a:pt x="0" y="41"/>
                  </a:lnTo>
                  <a:lnTo>
                    <a:pt x="0" y="54"/>
                  </a:lnTo>
                  <a:lnTo>
                    <a:pt x="0" y="75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43"/>
                  </a:lnTo>
                  <a:lnTo>
                    <a:pt x="0" y="157"/>
                  </a:lnTo>
                  <a:lnTo>
                    <a:pt x="20" y="170"/>
                  </a:lnTo>
                  <a:lnTo>
                    <a:pt x="27" y="184"/>
                  </a:lnTo>
                  <a:lnTo>
                    <a:pt x="34" y="198"/>
                  </a:lnTo>
                  <a:lnTo>
                    <a:pt x="47" y="211"/>
                  </a:lnTo>
                  <a:lnTo>
                    <a:pt x="54" y="225"/>
                  </a:lnTo>
                  <a:lnTo>
                    <a:pt x="74" y="238"/>
                  </a:lnTo>
                  <a:lnTo>
                    <a:pt x="88" y="245"/>
                  </a:lnTo>
                  <a:lnTo>
                    <a:pt x="102" y="252"/>
                  </a:lnTo>
                  <a:lnTo>
                    <a:pt x="115" y="266"/>
                  </a:lnTo>
                  <a:lnTo>
                    <a:pt x="136" y="279"/>
                  </a:lnTo>
                  <a:lnTo>
                    <a:pt x="149" y="293"/>
                  </a:lnTo>
                  <a:lnTo>
                    <a:pt x="163" y="300"/>
                  </a:lnTo>
                  <a:lnTo>
                    <a:pt x="177" y="313"/>
                  </a:lnTo>
                  <a:lnTo>
                    <a:pt x="190" y="320"/>
                  </a:lnTo>
                  <a:lnTo>
                    <a:pt x="197" y="334"/>
                  </a:lnTo>
                  <a:lnTo>
                    <a:pt x="211" y="347"/>
                  </a:lnTo>
                  <a:lnTo>
                    <a:pt x="224" y="354"/>
                  </a:lnTo>
                  <a:lnTo>
                    <a:pt x="231" y="375"/>
                  </a:lnTo>
                  <a:lnTo>
                    <a:pt x="245" y="382"/>
                  </a:lnTo>
                  <a:lnTo>
                    <a:pt x="252" y="402"/>
                  </a:lnTo>
                  <a:lnTo>
                    <a:pt x="252" y="416"/>
                  </a:lnTo>
                  <a:lnTo>
                    <a:pt x="252" y="429"/>
                  </a:lnTo>
                  <a:lnTo>
                    <a:pt x="252" y="443"/>
                  </a:lnTo>
                  <a:lnTo>
                    <a:pt x="252" y="463"/>
                  </a:lnTo>
                  <a:lnTo>
                    <a:pt x="252" y="477"/>
                  </a:lnTo>
                  <a:lnTo>
                    <a:pt x="252" y="491"/>
                  </a:lnTo>
                  <a:lnTo>
                    <a:pt x="252" y="511"/>
                  </a:lnTo>
                  <a:lnTo>
                    <a:pt x="252" y="525"/>
                  </a:lnTo>
                  <a:lnTo>
                    <a:pt x="252" y="545"/>
                  </a:lnTo>
                  <a:lnTo>
                    <a:pt x="252" y="565"/>
                  </a:lnTo>
                  <a:lnTo>
                    <a:pt x="252" y="586"/>
                  </a:lnTo>
                  <a:lnTo>
                    <a:pt x="252" y="600"/>
                  </a:lnTo>
                  <a:lnTo>
                    <a:pt x="252" y="62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1" name=""/>
            <p:cNvGrpSpPr/>
            <p:nvPr/>
          </p:nvGrpSpPr>
          <p:grpSpPr>
            <a:xfrm>
              <a:off x="6289920" y="4077000"/>
              <a:ext cx="126360" cy="78840"/>
              <a:chOff x="6289920" y="4077000"/>
              <a:chExt cx="126360" cy="78840"/>
            </a:xfrm>
          </p:grpSpPr>
          <p:sp>
            <p:nvSpPr>
              <p:cNvPr id="2092" name=""/>
              <p:cNvSpPr/>
              <p:nvPr/>
            </p:nvSpPr>
            <p:spPr>
              <a:xfrm flipH="1" flipV="1">
                <a:off x="6289920" y="4077000"/>
                <a:ext cx="62280" cy="78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V="1">
                <a:off x="6352560" y="4077000"/>
                <a:ext cx="63720" cy="78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4" name=""/>
            <p:cNvSpPr/>
            <p:nvPr/>
          </p:nvSpPr>
          <p:spPr>
            <a:xfrm>
              <a:off x="6463440" y="309636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LG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403320" y="2967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023520" y="3193920"/>
              <a:ext cx="439560" cy="25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5772240" y="2790720"/>
              <a:ext cx="188640" cy="64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961240" y="2790720"/>
              <a:ext cx="7527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958360" y="2613600"/>
              <a:ext cx="21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Ładunek pobrany ze źródł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V="1">
              <a:off x="6525000" y="3756240"/>
              <a:ext cx="188640" cy="64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714000" y="3756240"/>
              <a:ext cx="7527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712920" y="3576600"/>
              <a:ext cx="222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Ładunek zwrócony do źródł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145120" y="50223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C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081400" y="4896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520960" y="405936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LG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460120" y="3933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521320" y="4171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583960" y="4301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397120" y="4156920"/>
              <a:ext cx="43740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333040" y="5938560"/>
              <a:ext cx="68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  + U /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837040" y="6064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398560" y="60645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649480" y="60645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518000" y="61794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644720" y="630648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274440" y="4156920"/>
              <a:ext cx="1800" cy="32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7" name=""/>
          <p:cNvSpPr/>
          <p:nvPr/>
        </p:nvSpPr>
        <p:spPr>
          <a:xfrm>
            <a:off x="711360" y="1865160"/>
            <a:ext cx="39600" cy="511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8" name=""/>
          <p:cNvGrpSpPr/>
          <p:nvPr/>
        </p:nvGrpSpPr>
        <p:grpSpPr>
          <a:xfrm>
            <a:off x="257400" y="1265040"/>
            <a:ext cx="3138840" cy="4415760"/>
            <a:chOff x="257400" y="1265040"/>
            <a:chExt cx="3138840" cy="4415760"/>
          </a:xfrm>
        </p:grpSpPr>
        <p:sp>
          <p:nvSpPr>
            <p:cNvPr id="2119" name=""/>
            <p:cNvSpPr/>
            <p:nvPr/>
          </p:nvSpPr>
          <p:spPr>
            <a:xfrm rot="19728000">
              <a:off x="1519200" y="3373560"/>
              <a:ext cx="1441440" cy="208440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20961600">
              <a:off x="442440" y="1323720"/>
              <a:ext cx="833400" cy="208440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31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iody prostownicze i kondensatory elektrolityczne 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ostownikach sieciowych przy f=(50Hz - 100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e nadają się do zasilaczy (konwerterów) impulsowyc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osuje się diody Schotkiego i kondensatory elektrolityczne, mogące pracować przy dużych wartościach składowych zmiennych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 dużych częstotliwości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luczami (przełącznikami) są tranzystory polowe (najczęściej) - z reguły typu MOSFET, bipolarne oraz di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żna także spotkać szybkie tyrystory (w tzw. falownikac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cze impulsowe wytwarzające sinusoidalne przebiegi przemienne o parametrach sieci energetycznej nazywamy FALOWNIKAM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alowniki służą do zasilania urządzeń przystosowanych nominalnie do zasilania z sieci energetycznej prądu zmienneg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e schematy konwerterów współbieżnych: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półmostkowy, przeciwsobny i mostk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 flipH="1">
            <a:off x="694800" y="1455840"/>
            <a:ext cx="9385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 flipV="1">
            <a:off x="2417760" y="1455480"/>
            <a:ext cx="1440" cy="145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809800" y="1455840"/>
            <a:ext cx="0" cy="145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5" name=""/>
          <p:cNvGrpSpPr/>
          <p:nvPr/>
        </p:nvGrpSpPr>
        <p:grpSpPr>
          <a:xfrm>
            <a:off x="2738520" y="1900080"/>
            <a:ext cx="237600" cy="646200"/>
            <a:chOff x="2738520" y="1900080"/>
            <a:chExt cx="237600" cy="646200"/>
          </a:xfrm>
        </p:grpSpPr>
        <p:sp>
          <p:nvSpPr>
            <p:cNvPr id="2126" name=""/>
            <p:cNvSpPr/>
            <p:nvPr/>
          </p:nvSpPr>
          <p:spPr>
            <a:xfrm>
              <a:off x="2738520" y="2383200"/>
              <a:ext cx="158400" cy="1627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738520" y="2221560"/>
              <a:ext cx="158400" cy="1627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738520" y="2061720"/>
              <a:ext cx="158400" cy="1627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738520" y="1900080"/>
              <a:ext cx="158400" cy="1627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817720" y="1900080"/>
              <a:ext cx="158400" cy="646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2270160" y="1900080"/>
            <a:ext cx="234720" cy="646200"/>
            <a:chOff x="2270160" y="1900080"/>
            <a:chExt cx="234720" cy="646200"/>
          </a:xfrm>
        </p:grpSpPr>
        <p:sp>
          <p:nvSpPr>
            <p:cNvPr id="2132" name=""/>
            <p:cNvSpPr/>
            <p:nvPr/>
          </p:nvSpPr>
          <p:spPr>
            <a:xfrm>
              <a:off x="2347200" y="2383200"/>
              <a:ext cx="157680" cy="1627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347200" y="2221560"/>
              <a:ext cx="157680" cy="1627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347200" y="2061720"/>
              <a:ext cx="157680" cy="1627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347200" y="1900080"/>
              <a:ext cx="157680" cy="1627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270160" y="1900080"/>
              <a:ext cx="157680" cy="646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7" name=""/>
          <p:cNvSpPr/>
          <p:nvPr/>
        </p:nvSpPr>
        <p:spPr>
          <a:xfrm flipV="1">
            <a:off x="2573280" y="1858680"/>
            <a:ext cx="1800" cy="726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 flipV="1">
            <a:off x="2652840" y="1858680"/>
            <a:ext cx="1440" cy="726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494800" y="1554120"/>
            <a:ext cx="16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V="1">
            <a:off x="695160" y="1538280"/>
            <a:ext cx="1800" cy="274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H="1">
            <a:off x="615960" y="1538280"/>
            <a:ext cx="79200" cy="16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695160" y="1538280"/>
            <a:ext cx="78120" cy="16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80520" y="284652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537480" y="29718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20840" y="1455840"/>
            <a:ext cx="1440" cy="645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320840" y="2182680"/>
            <a:ext cx="1440" cy="725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163520" y="2182680"/>
            <a:ext cx="3142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163520" y="2101680"/>
            <a:ext cx="3142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292400" y="1430280"/>
            <a:ext cx="56880" cy="558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163520" y="18781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887200" y="22003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337840" y="22003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320840" y="2908440"/>
            <a:ext cx="10969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20840" y="2908440"/>
            <a:ext cx="1440" cy="644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320840" y="3635280"/>
            <a:ext cx="1440" cy="723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163520" y="3635280"/>
            <a:ext cx="31428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163520" y="3552840"/>
            <a:ext cx="3142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292400" y="2881440"/>
            <a:ext cx="56880" cy="5688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163520" y="33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809800" y="1455840"/>
            <a:ext cx="7826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2809800" y="2908440"/>
            <a:ext cx="7826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95160" y="4359240"/>
            <a:ext cx="93852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 flipV="1">
            <a:off x="2103480" y="1455480"/>
            <a:ext cx="1440" cy="2903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1868400" y="1455840"/>
            <a:ext cx="549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 flipV="1">
            <a:off x="1712880" y="1295280"/>
            <a:ext cx="155520" cy="160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868040" y="4359240"/>
            <a:ext cx="2350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 flipV="1">
            <a:off x="1712880" y="4198680"/>
            <a:ext cx="155520" cy="160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1868400" y="11509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2025000" y="12780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1790640" y="39736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1945800" y="41022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66720" y="1430280"/>
            <a:ext cx="55440" cy="5580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292400" y="4334040"/>
            <a:ext cx="56880" cy="554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075040" y="1430280"/>
            <a:ext cx="56880" cy="558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3564000" y="1430280"/>
            <a:ext cx="55440" cy="5580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3564000" y="2881440"/>
            <a:ext cx="55440" cy="5688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66720" y="4334040"/>
            <a:ext cx="55440" cy="5544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 flipH="1">
            <a:off x="6229080" y="2278080"/>
            <a:ext cx="22669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6796080" y="1890720"/>
            <a:ext cx="1324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7080120" y="2179800"/>
            <a:ext cx="189000" cy="19656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7267680" y="2179800"/>
            <a:ext cx="190440" cy="19656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7456320" y="2179800"/>
            <a:ext cx="190800" cy="19656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7645320" y="2179800"/>
            <a:ext cx="192240" cy="19656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7080120" y="2278080"/>
            <a:ext cx="757440" cy="196920"/>
          </a:xfrm>
          <a:prstGeom prst="rect">
            <a:avLst/>
          </a:prstGeom>
          <a:solidFill>
            <a:srgbClr val="ffffff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5" name=""/>
          <p:cNvGrpSpPr/>
          <p:nvPr/>
        </p:nvGrpSpPr>
        <p:grpSpPr>
          <a:xfrm>
            <a:off x="7080120" y="1693800"/>
            <a:ext cx="757080" cy="294840"/>
            <a:chOff x="7080120" y="1693800"/>
            <a:chExt cx="757080" cy="294840"/>
          </a:xfrm>
        </p:grpSpPr>
        <p:sp>
          <p:nvSpPr>
            <p:cNvPr id="2186" name=""/>
            <p:cNvSpPr/>
            <p:nvPr/>
          </p:nvSpPr>
          <p:spPr>
            <a:xfrm>
              <a:off x="7080120" y="1791720"/>
              <a:ext cx="189360" cy="1969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267320" y="1791720"/>
              <a:ext cx="190800" cy="1969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457040" y="1791720"/>
              <a:ext cx="190800" cy="1969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7646040" y="1791720"/>
              <a:ext cx="191160" cy="1969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080120" y="1693800"/>
              <a:ext cx="757080" cy="196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1" name=""/>
          <p:cNvSpPr/>
          <p:nvPr/>
        </p:nvSpPr>
        <p:spPr>
          <a:xfrm>
            <a:off x="6986520" y="2082960"/>
            <a:ext cx="944640" cy="2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 flipV="1">
            <a:off x="6796080" y="1499760"/>
            <a:ext cx="1440" cy="390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flipV="1">
            <a:off x="8120160" y="1499760"/>
            <a:ext cx="1440" cy="390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7362360" y="161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7458120" y="225576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269120" y="2668680"/>
            <a:ext cx="189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756400" y="2668680"/>
            <a:ext cx="16063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229440" y="2278080"/>
            <a:ext cx="1440" cy="973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229440" y="3543480"/>
            <a:ext cx="1440" cy="585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 flipH="1" flipV="1">
            <a:off x="6041520" y="3349800"/>
            <a:ext cx="187560" cy="193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8496360" y="2278080"/>
            <a:ext cx="1440" cy="973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8496360" y="3543480"/>
            <a:ext cx="1440" cy="585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 flipV="1">
            <a:off x="8307000" y="3349800"/>
            <a:ext cx="189000" cy="193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5756400" y="4129200"/>
            <a:ext cx="27399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22920" y="2635200"/>
            <a:ext cx="68400" cy="6840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6195960" y="4094280"/>
            <a:ext cx="68400" cy="680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5722920" y="4094280"/>
            <a:ext cx="68400" cy="6804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7173360" y="2397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7644960" y="2397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8593200" y="32734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8780040" y="34257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6324480" y="32734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512760" y="34257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756400" y="2765520"/>
            <a:ext cx="1440" cy="126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H="1">
            <a:off x="5662080" y="2765520"/>
            <a:ext cx="93960" cy="195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756400" y="2765520"/>
            <a:ext cx="95040" cy="195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568840" y="32734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62080" y="34257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924640" y="1619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ółmostk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254400" y="5259240"/>
            <a:ext cx="2128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3787920" y="4913280"/>
            <a:ext cx="1063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4014720" y="5172120"/>
            <a:ext cx="154080" cy="17316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4167360" y="5172120"/>
            <a:ext cx="153720" cy="17316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317840" y="5172120"/>
            <a:ext cx="154080" cy="17316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4470480" y="5172120"/>
            <a:ext cx="154080" cy="17316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4014720" y="5257800"/>
            <a:ext cx="609840" cy="174600"/>
          </a:xfrm>
          <a:prstGeom prst="rect">
            <a:avLst/>
          </a:prstGeom>
          <a:solidFill>
            <a:srgbClr val="ffffff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7" name=""/>
          <p:cNvGrpSpPr/>
          <p:nvPr/>
        </p:nvGrpSpPr>
        <p:grpSpPr>
          <a:xfrm>
            <a:off x="4014720" y="4740120"/>
            <a:ext cx="609840" cy="260640"/>
            <a:chOff x="4014720" y="4740120"/>
            <a:chExt cx="609840" cy="260640"/>
          </a:xfrm>
        </p:grpSpPr>
        <p:sp>
          <p:nvSpPr>
            <p:cNvPr id="2228" name=""/>
            <p:cNvSpPr/>
            <p:nvPr/>
          </p:nvSpPr>
          <p:spPr>
            <a:xfrm>
              <a:off x="4014720" y="4826160"/>
              <a:ext cx="153720" cy="1746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167000" y="4826160"/>
              <a:ext cx="153720" cy="1746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318200" y="4826160"/>
              <a:ext cx="153720" cy="1746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470480" y="4826160"/>
              <a:ext cx="153720" cy="1746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014720" y="4740120"/>
              <a:ext cx="609840" cy="1746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3" name=""/>
          <p:cNvSpPr/>
          <p:nvPr/>
        </p:nvSpPr>
        <p:spPr>
          <a:xfrm>
            <a:off x="3938760" y="5086440"/>
            <a:ext cx="7603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 flipV="1">
            <a:off x="3787920" y="4566960"/>
            <a:ext cx="0" cy="345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flipV="1">
            <a:off x="4851360" y="4566960"/>
            <a:ext cx="1800" cy="345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4166640" y="5276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4242960" y="4673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3254400" y="4654440"/>
            <a:ext cx="1440" cy="1122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flipH="1" flipV="1">
            <a:off x="3101760" y="4481640"/>
            <a:ext cx="152280" cy="172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54400" y="6035760"/>
            <a:ext cx="1440" cy="517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V="1">
            <a:off x="3254400" y="3876840"/>
            <a:ext cx="1440" cy="519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722680" y="3876840"/>
            <a:ext cx="26604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 flipH="1" flipV="1">
            <a:off x="3101760" y="5862240"/>
            <a:ext cx="152280" cy="173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5383080" y="4654440"/>
            <a:ext cx="1800" cy="1122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 flipH="1" flipV="1">
            <a:off x="5230440" y="4481640"/>
            <a:ext cx="152280" cy="172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383080" y="6035760"/>
            <a:ext cx="1800" cy="517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flipV="1">
            <a:off x="5383080" y="3876840"/>
            <a:ext cx="1800" cy="519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 flipH="1" flipV="1">
            <a:off x="5230440" y="5862240"/>
            <a:ext cx="152280" cy="173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2722680" y="6553080"/>
            <a:ext cx="26604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2695680" y="3848040"/>
            <a:ext cx="55440" cy="6048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2695680" y="6524640"/>
            <a:ext cx="55440" cy="6048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228840" y="5229360"/>
            <a:ext cx="54000" cy="6012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5356080" y="5229360"/>
            <a:ext cx="54000" cy="6012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2874960" y="59673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026520" y="61038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2950920" y="41544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101040" y="42908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003640" y="41544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5153760" y="42908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5003640" y="60548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5153760" y="61898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flipV="1">
            <a:off x="2722680" y="4049640"/>
            <a:ext cx="1440" cy="2332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2647800" y="4049640"/>
            <a:ext cx="74880" cy="1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722680" y="4049640"/>
            <a:ext cx="75960" cy="1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571840" y="4932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2647440" y="50673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228840" y="3848040"/>
            <a:ext cx="54000" cy="6048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228840" y="6524640"/>
            <a:ext cx="54000" cy="6048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363480" y="56228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k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6401160" y="269244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ciwsob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37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spółbieżny konwerter napięcia stałego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przetwornicą półmostk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2" name=""/>
          <p:cNvGraphicFramePr/>
          <p:nvPr/>
        </p:nvGraphicFramePr>
        <p:xfrm>
          <a:off x="223920" y="1349280"/>
          <a:ext cx="8412120" cy="41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1349280"/>
                    <a:ext cx="841212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74" name=""/>
          <p:cNvGrpSpPr/>
          <p:nvPr/>
        </p:nvGrpSpPr>
        <p:grpSpPr>
          <a:xfrm>
            <a:off x="5776560" y="3441600"/>
            <a:ext cx="2867400" cy="3203280"/>
            <a:chOff x="5776560" y="3441600"/>
            <a:chExt cx="2867400" cy="3203280"/>
          </a:xfrm>
        </p:grpSpPr>
        <p:sp>
          <p:nvSpPr>
            <p:cNvPr id="2275" name=""/>
            <p:cNvSpPr/>
            <p:nvPr/>
          </p:nvSpPr>
          <p:spPr>
            <a:xfrm flipH="1">
              <a:off x="6054480" y="3743640"/>
              <a:ext cx="8305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V="1">
              <a:off x="7579800" y="3743640"/>
              <a:ext cx="1080" cy="143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7926480" y="3743640"/>
              <a:ext cx="1440" cy="143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8" name=""/>
            <p:cNvGrpSpPr/>
            <p:nvPr/>
          </p:nvGrpSpPr>
          <p:grpSpPr>
            <a:xfrm>
              <a:off x="7863840" y="4182120"/>
              <a:ext cx="210240" cy="639360"/>
              <a:chOff x="7863840" y="4182120"/>
              <a:chExt cx="210240" cy="639360"/>
            </a:xfrm>
          </p:grpSpPr>
          <p:sp>
            <p:nvSpPr>
              <p:cNvPr id="2279" name=""/>
              <p:cNvSpPr/>
              <p:nvPr/>
            </p:nvSpPr>
            <p:spPr>
              <a:xfrm>
                <a:off x="7863840" y="4660200"/>
                <a:ext cx="140040" cy="16092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863840" y="4500000"/>
                <a:ext cx="140040" cy="16092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863840" y="4341960"/>
                <a:ext cx="140040" cy="16092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863840" y="4182120"/>
                <a:ext cx="140040" cy="16092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934040" y="4182120"/>
                <a:ext cx="140040" cy="6393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4" name=""/>
            <p:cNvGrpSpPr/>
            <p:nvPr/>
          </p:nvGrpSpPr>
          <p:grpSpPr>
            <a:xfrm>
              <a:off x="7448760" y="4182120"/>
              <a:ext cx="208440" cy="639360"/>
              <a:chOff x="7448760" y="4182120"/>
              <a:chExt cx="208440" cy="639360"/>
            </a:xfrm>
          </p:grpSpPr>
          <p:sp>
            <p:nvSpPr>
              <p:cNvPr id="2285" name=""/>
              <p:cNvSpPr/>
              <p:nvPr/>
            </p:nvSpPr>
            <p:spPr>
              <a:xfrm>
                <a:off x="7517160" y="4660200"/>
                <a:ext cx="140040" cy="16092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517160" y="4500000"/>
                <a:ext cx="140040" cy="16092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517160" y="4341960"/>
                <a:ext cx="140040" cy="16092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517160" y="4182120"/>
                <a:ext cx="140040" cy="16092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448760" y="4182120"/>
                <a:ext cx="140040" cy="6393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0" name=""/>
            <p:cNvSpPr/>
            <p:nvPr/>
          </p:nvSpPr>
          <p:spPr>
            <a:xfrm flipV="1">
              <a:off x="7717320" y="4142520"/>
              <a:ext cx="1440" cy="718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V="1">
              <a:off x="7787520" y="4142520"/>
              <a:ext cx="1080" cy="718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647840" y="384048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V="1">
              <a:off x="6054840" y="3824280"/>
              <a:ext cx="1080" cy="271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>
              <a:off x="5984280" y="3824280"/>
              <a:ext cx="70200" cy="15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54840" y="3824280"/>
              <a:ext cx="68760" cy="15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776560" y="5117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914080" y="5242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6608880" y="3743640"/>
              <a:ext cx="1080" cy="63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608880" y="4462200"/>
              <a:ext cx="1080" cy="717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469920" y="4462200"/>
              <a:ext cx="277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469920" y="4381920"/>
              <a:ext cx="2775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583680" y="3717000"/>
              <a:ext cx="50760" cy="558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469920" y="4160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993800" y="4479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509600" y="4479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608880" y="5179680"/>
              <a:ext cx="9709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608880" y="5179680"/>
              <a:ext cx="1080" cy="63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608880" y="5898240"/>
              <a:ext cx="1080" cy="717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469920" y="5898240"/>
              <a:ext cx="277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469920" y="5817960"/>
              <a:ext cx="2775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583680" y="5153040"/>
              <a:ext cx="50760" cy="558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469920" y="5596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7926480" y="3743640"/>
              <a:ext cx="69300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926480" y="5179680"/>
              <a:ext cx="69300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054840" y="6615720"/>
              <a:ext cx="8305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V="1">
              <a:off x="7302240" y="3743280"/>
              <a:ext cx="1080" cy="2871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H="1">
              <a:off x="7094520" y="3743640"/>
              <a:ext cx="4852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 flipV="1">
              <a:off x="6955560" y="3583800"/>
              <a:ext cx="138960" cy="159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H="1">
              <a:off x="7094160" y="6615720"/>
              <a:ext cx="2077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 flipV="1">
              <a:off x="6955560" y="6456960"/>
              <a:ext cx="138960" cy="158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094160" y="3441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231680" y="3566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024320" y="623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162200" y="6360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028920" y="3717000"/>
              <a:ext cx="49680" cy="558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583680" y="6589080"/>
              <a:ext cx="50760" cy="558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276320" y="3717000"/>
              <a:ext cx="51120" cy="558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8594280" y="3717000"/>
              <a:ext cx="49680" cy="558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8594280" y="5153040"/>
              <a:ext cx="49680" cy="558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028920" y="6589080"/>
              <a:ext cx="49680" cy="558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0" y="-230040"/>
            <a:ext cx="914400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ciwsobny układ współbieżnego konwertera napięcia stałego: uproszczony schemat układu i przebie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5330880" y="1327320"/>
            <a:ext cx="1440" cy="13176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355920" y="1327320"/>
            <a:ext cx="387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355920" y="2644920"/>
            <a:ext cx="1265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5568840" y="1254240"/>
            <a:ext cx="157320" cy="14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5726160" y="1254240"/>
            <a:ext cx="158760" cy="14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5884920" y="1254240"/>
            <a:ext cx="156960" cy="14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041880" y="1254240"/>
            <a:ext cx="158760" cy="14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568840" y="1327320"/>
            <a:ext cx="631800" cy="14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7227720" y="1327320"/>
            <a:ext cx="180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7148520" y="1766880"/>
            <a:ext cx="1587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7425000" y="1781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924160" y="1341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4621320" y="1327320"/>
            <a:ext cx="144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5" name=""/>
          <p:cNvGrpSpPr/>
          <p:nvPr/>
        </p:nvGrpSpPr>
        <p:grpSpPr>
          <a:xfrm>
            <a:off x="4067280" y="2571840"/>
            <a:ext cx="160200" cy="145800"/>
            <a:chOff x="4067280" y="2571840"/>
            <a:chExt cx="160200" cy="145800"/>
          </a:xfrm>
        </p:grpSpPr>
        <p:sp>
          <p:nvSpPr>
            <p:cNvPr id="2346" name=""/>
            <p:cNvSpPr/>
            <p:nvPr/>
          </p:nvSpPr>
          <p:spPr>
            <a:xfrm>
              <a:off x="4067280" y="2571840"/>
              <a:ext cx="158760" cy="145800"/>
            </a:xfrm>
            <a:custGeom>
              <a:avLst/>
              <a:gdLst/>
              <a:ahLst/>
              <a:rect l="l" t="t" r="r" b="b"/>
              <a:pathLst>
                <a:path w="100" h="185">
                  <a:moveTo>
                    <a:pt x="100" y="93"/>
                  </a:moveTo>
                  <a:lnTo>
                    <a:pt x="0" y="185"/>
                  </a:lnTo>
                  <a:lnTo>
                    <a:pt x="0" y="0"/>
                  </a:lnTo>
                  <a:lnTo>
                    <a:pt x="100" y="9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226040" y="2571840"/>
              <a:ext cx="144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5303880" y="1303200"/>
            <a:ext cx="5544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592520" y="1303200"/>
            <a:ext cx="5580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0" name=""/>
          <p:cNvGrpSpPr/>
          <p:nvPr/>
        </p:nvGrpSpPr>
        <p:grpSpPr>
          <a:xfrm>
            <a:off x="4067280" y="1254240"/>
            <a:ext cx="160200" cy="145800"/>
            <a:chOff x="4067280" y="1254240"/>
            <a:chExt cx="160200" cy="145800"/>
          </a:xfrm>
        </p:grpSpPr>
        <p:sp>
          <p:nvSpPr>
            <p:cNvPr id="2351" name=""/>
            <p:cNvSpPr/>
            <p:nvPr/>
          </p:nvSpPr>
          <p:spPr>
            <a:xfrm>
              <a:off x="4067280" y="1254240"/>
              <a:ext cx="158760" cy="145800"/>
            </a:xfrm>
            <a:custGeom>
              <a:avLst/>
              <a:gdLst/>
              <a:ahLst/>
              <a:rect l="l" t="t" r="r" b="b"/>
              <a:pathLst>
                <a:path w="100" h="184">
                  <a:moveTo>
                    <a:pt x="100" y="92"/>
                  </a:moveTo>
                  <a:lnTo>
                    <a:pt x="0" y="184"/>
                  </a:lnTo>
                  <a:lnTo>
                    <a:pt x="0" y="0"/>
                  </a:lnTo>
                  <a:lnTo>
                    <a:pt x="100" y="9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226040" y="1254240"/>
              <a:ext cx="144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3" name=""/>
          <p:cNvSpPr/>
          <p:nvPr/>
        </p:nvSpPr>
        <p:spPr>
          <a:xfrm flipV="1">
            <a:off x="2962440" y="1326960"/>
            <a:ext cx="1440" cy="175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355920" y="1327320"/>
            <a:ext cx="180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5" name=""/>
          <p:cNvGrpSpPr/>
          <p:nvPr/>
        </p:nvGrpSpPr>
        <p:grpSpPr>
          <a:xfrm>
            <a:off x="3287880" y="1730520"/>
            <a:ext cx="236520" cy="583920"/>
            <a:chOff x="3287880" y="1730520"/>
            <a:chExt cx="236520" cy="583920"/>
          </a:xfrm>
        </p:grpSpPr>
        <p:sp>
          <p:nvSpPr>
            <p:cNvPr id="2356" name=""/>
            <p:cNvSpPr/>
            <p:nvPr/>
          </p:nvSpPr>
          <p:spPr>
            <a:xfrm>
              <a:off x="3287880" y="2168640"/>
              <a:ext cx="15876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287880" y="2022480"/>
              <a:ext cx="158760" cy="146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3287880" y="1876320"/>
              <a:ext cx="158760" cy="146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3287880" y="1730520"/>
              <a:ext cx="15876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3367080" y="1730520"/>
              <a:ext cx="157320" cy="583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1" name=""/>
          <p:cNvGrpSpPr/>
          <p:nvPr/>
        </p:nvGrpSpPr>
        <p:grpSpPr>
          <a:xfrm>
            <a:off x="2813040" y="1730520"/>
            <a:ext cx="237960" cy="583920"/>
            <a:chOff x="2813040" y="1730520"/>
            <a:chExt cx="237960" cy="583920"/>
          </a:xfrm>
        </p:grpSpPr>
        <p:sp>
          <p:nvSpPr>
            <p:cNvPr id="2362" name=""/>
            <p:cNvSpPr/>
            <p:nvPr/>
          </p:nvSpPr>
          <p:spPr>
            <a:xfrm>
              <a:off x="2892600" y="2168640"/>
              <a:ext cx="1584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892600" y="2022480"/>
              <a:ext cx="158400" cy="146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92600" y="1876320"/>
              <a:ext cx="158400" cy="146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892600" y="1730520"/>
              <a:ext cx="15840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813040" y="1730520"/>
              <a:ext cx="158760" cy="583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7" name=""/>
          <p:cNvSpPr/>
          <p:nvPr/>
        </p:nvSpPr>
        <p:spPr>
          <a:xfrm flipV="1">
            <a:off x="3119400" y="1692360"/>
            <a:ext cx="1800" cy="65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 flipV="1">
            <a:off x="3198960" y="1692360"/>
            <a:ext cx="1440" cy="65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3040200" y="10494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4113720" y="104940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5532840" y="19270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7569720" y="1897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3" name=""/>
          <p:cNvGrpSpPr/>
          <p:nvPr/>
        </p:nvGrpSpPr>
        <p:grpSpPr>
          <a:xfrm>
            <a:off x="6673320" y="1400040"/>
            <a:ext cx="159120" cy="1171800"/>
            <a:chOff x="6673320" y="1400040"/>
            <a:chExt cx="159120" cy="1171800"/>
          </a:xfrm>
        </p:grpSpPr>
        <p:sp>
          <p:nvSpPr>
            <p:cNvPr id="2374" name=""/>
            <p:cNvSpPr/>
            <p:nvPr/>
          </p:nvSpPr>
          <p:spPr>
            <a:xfrm>
              <a:off x="6753240" y="1400040"/>
              <a:ext cx="1440" cy="117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>
              <a:off x="6673320" y="1400040"/>
              <a:ext cx="79560" cy="146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753240" y="1400040"/>
              <a:ext cx="79200" cy="146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7" name=""/>
          <p:cNvSpPr/>
          <p:nvPr/>
        </p:nvSpPr>
        <p:spPr>
          <a:xfrm>
            <a:off x="6724800" y="1303200"/>
            <a:ext cx="5688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872400" y="1854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7015680" y="1969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357960" y="1327320"/>
            <a:ext cx="1440" cy="58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6357960" y="1986120"/>
            <a:ext cx="1440" cy="65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6200640" y="1986120"/>
            <a:ext cx="316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200640" y="1913040"/>
            <a:ext cx="316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329520" y="1303200"/>
            <a:ext cx="5688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240600" y="17082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06680" y="1668600"/>
            <a:ext cx="5724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2854440" y="1668600"/>
            <a:ext cx="56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8" name=""/>
          <p:cNvGrpSpPr/>
          <p:nvPr/>
        </p:nvGrpSpPr>
        <p:grpSpPr>
          <a:xfrm>
            <a:off x="2567160" y="1400040"/>
            <a:ext cx="156960" cy="1609920"/>
            <a:chOff x="2567160" y="1400040"/>
            <a:chExt cx="156960" cy="1609920"/>
          </a:xfrm>
        </p:grpSpPr>
        <p:sp>
          <p:nvSpPr>
            <p:cNvPr id="2389" name=""/>
            <p:cNvSpPr/>
            <p:nvPr/>
          </p:nvSpPr>
          <p:spPr>
            <a:xfrm>
              <a:off x="2646360" y="1400040"/>
              <a:ext cx="1440" cy="160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H="1">
              <a:off x="2567160" y="1400040"/>
              <a:ext cx="7920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646360" y="1400040"/>
              <a:ext cx="7776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2" name=""/>
          <p:cNvSpPr/>
          <p:nvPr/>
        </p:nvSpPr>
        <p:spPr>
          <a:xfrm>
            <a:off x="2764080" y="2146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2829240" y="22622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539720" y="3303720"/>
            <a:ext cx="1800" cy="73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539720" y="4035600"/>
            <a:ext cx="497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 flipH="1">
            <a:off x="1460520" y="3303720"/>
            <a:ext cx="79200" cy="14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539720" y="3303720"/>
            <a:ext cx="79560" cy="14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554520" y="4122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355920" y="2022480"/>
            <a:ext cx="474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 flipV="1">
            <a:off x="3830760" y="2022120"/>
            <a:ext cx="144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751200" y="2351160"/>
            <a:ext cx="15876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5253120" y="2644920"/>
            <a:ext cx="15696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280200" y="2644920"/>
            <a:ext cx="15696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7148520" y="2644920"/>
            <a:ext cx="15732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5253120" y="1913040"/>
            <a:ext cx="156960" cy="145800"/>
            <a:chOff x="5253120" y="1913040"/>
            <a:chExt cx="156960" cy="145800"/>
          </a:xfrm>
        </p:grpSpPr>
        <p:sp>
          <p:nvSpPr>
            <p:cNvPr id="2406" name=""/>
            <p:cNvSpPr/>
            <p:nvPr/>
          </p:nvSpPr>
          <p:spPr>
            <a:xfrm>
              <a:off x="5253120" y="1913040"/>
              <a:ext cx="156960" cy="145800"/>
            </a:xfrm>
            <a:custGeom>
              <a:avLst/>
              <a:gdLst/>
              <a:ahLst/>
              <a:rect l="l" t="t" r="r" b="b"/>
              <a:pathLst>
                <a:path w="99" h="185">
                  <a:moveTo>
                    <a:pt x="49" y="0"/>
                  </a:moveTo>
                  <a:lnTo>
                    <a:pt x="99" y="185"/>
                  </a:lnTo>
                  <a:lnTo>
                    <a:pt x="0" y="185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253120" y="1913040"/>
              <a:ext cx="15696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8" name=""/>
          <p:cNvSpPr/>
          <p:nvPr/>
        </p:nvSpPr>
        <p:spPr>
          <a:xfrm>
            <a:off x="4035960" y="280512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3474720" y="1781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3474720" y="21463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922480" y="2000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2251080" y="1546200"/>
            <a:ext cx="1440" cy="153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 flipH="1">
            <a:off x="2408040" y="1327320"/>
            <a:ext cx="554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 flipH="1" flipV="1">
            <a:off x="2171520" y="1253880"/>
            <a:ext cx="23652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 flipV="1">
            <a:off x="2251080" y="1108080"/>
            <a:ext cx="144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 flipH="1">
            <a:off x="1539720" y="1108080"/>
            <a:ext cx="711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1539720" y="1108080"/>
            <a:ext cx="1800" cy="197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539720" y="3083040"/>
            <a:ext cx="1422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2092320" y="2717640"/>
            <a:ext cx="317520" cy="29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380960" y="2717640"/>
            <a:ext cx="317520" cy="29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 flipH="1">
            <a:off x="1855800" y="1400040"/>
            <a:ext cx="316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1855800" y="1400040"/>
            <a:ext cx="1440" cy="168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827360" y="3059280"/>
            <a:ext cx="56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222640" y="3059280"/>
            <a:ext cx="56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539720" y="2790720"/>
            <a:ext cx="180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 flipH="1">
            <a:off x="1460520" y="2790720"/>
            <a:ext cx="7920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539720" y="2790720"/>
            <a:ext cx="7956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2171880" y="2790720"/>
            <a:ext cx="158400" cy="146160"/>
            <a:chOff x="2171880" y="2790720"/>
            <a:chExt cx="158400" cy="146160"/>
          </a:xfrm>
        </p:grpSpPr>
        <p:sp>
          <p:nvSpPr>
            <p:cNvPr id="2429" name=""/>
            <p:cNvSpPr/>
            <p:nvPr/>
          </p:nvSpPr>
          <p:spPr>
            <a:xfrm flipV="1">
              <a:off x="2251080" y="2790720"/>
              <a:ext cx="144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H="1" flipV="1">
              <a:off x="2171880" y="2863440"/>
              <a:ext cx="792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V="1">
              <a:off x="2251080" y="2863440"/>
              <a:ext cx="792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2" name=""/>
          <p:cNvSpPr/>
          <p:nvPr/>
        </p:nvSpPr>
        <p:spPr>
          <a:xfrm>
            <a:off x="1343160" y="2440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1486080" y="25560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2054520" y="2440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2197440" y="25560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2369880" y="9763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2369880" y="1560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2434320" y="10922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2434320" y="1677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2131920" y="1268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1" name=""/>
          <p:cNvGrpSpPr/>
          <p:nvPr/>
        </p:nvGrpSpPr>
        <p:grpSpPr>
          <a:xfrm>
            <a:off x="4699080" y="1400040"/>
            <a:ext cx="158760" cy="1171800"/>
            <a:chOff x="4699080" y="1400040"/>
            <a:chExt cx="158760" cy="1171800"/>
          </a:xfrm>
        </p:grpSpPr>
        <p:sp>
          <p:nvSpPr>
            <p:cNvPr id="2442" name=""/>
            <p:cNvSpPr/>
            <p:nvPr/>
          </p:nvSpPr>
          <p:spPr>
            <a:xfrm>
              <a:off x="4778280" y="1400040"/>
              <a:ext cx="1800" cy="117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>
              <a:off x="4699080" y="1400040"/>
              <a:ext cx="79200" cy="146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778280" y="1400040"/>
              <a:ext cx="79560" cy="146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5" name=""/>
          <p:cNvSpPr/>
          <p:nvPr/>
        </p:nvSpPr>
        <p:spPr>
          <a:xfrm>
            <a:off x="4897800" y="1854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4963320" y="1969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1539720" y="4035600"/>
            <a:ext cx="3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 flipV="1">
            <a:off x="1935000" y="3741840"/>
            <a:ext cx="180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1935000" y="3741840"/>
            <a:ext cx="3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2330280" y="3741840"/>
            <a:ext cx="180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330280" y="4035600"/>
            <a:ext cx="393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 flipV="1">
            <a:off x="2724120" y="3741840"/>
            <a:ext cx="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2724120" y="3741840"/>
            <a:ext cx="3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119400" y="3741840"/>
            <a:ext cx="180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5" name=""/>
          <p:cNvGrpSpPr/>
          <p:nvPr/>
        </p:nvGrpSpPr>
        <p:grpSpPr>
          <a:xfrm>
            <a:off x="3119400" y="3741840"/>
            <a:ext cx="1581120" cy="295200"/>
            <a:chOff x="3119400" y="3741840"/>
            <a:chExt cx="1581120" cy="295200"/>
          </a:xfrm>
        </p:grpSpPr>
        <p:sp>
          <p:nvSpPr>
            <p:cNvPr id="2456" name=""/>
            <p:cNvSpPr/>
            <p:nvPr/>
          </p:nvSpPr>
          <p:spPr>
            <a:xfrm>
              <a:off x="3119400" y="4035600"/>
              <a:ext cx="395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3514680" y="3741840"/>
              <a:ext cx="180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514680" y="3741840"/>
              <a:ext cx="395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909960" y="3741840"/>
              <a:ext cx="180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909960" y="4035600"/>
              <a:ext cx="395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4305240" y="3741840"/>
              <a:ext cx="180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4305240" y="3741840"/>
              <a:ext cx="393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4699080" y="3741840"/>
              <a:ext cx="144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4699080" y="4035600"/>
            <a:ext cx="3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V="1">
            <a:off x="5094360" y="3741840"/>
            <a:ext cx="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5094360" y="3741840"/>
            <a:ext cx="3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489640" y="3741840"/>
            <a:ext cx="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V="1">
            <a:off x="1539720" y="4400280"/>
            <a:ext cx="1800" cy="879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1539720" y="4913280"/>
            <a:ext cx="497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H="1">
            <a:off x="1460520" y="4400640"/>
            <a:ext cx="7920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539720" y="4400640"/>
            <a:ext cx="795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 flipH="1" flipV="1">
            <a:off x="6357600" y="4839840"/>
            <a:ext cx="15876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357600" y="4913280"/>
            <a:ext cx="15876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554520" y="50007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539720" y="4913280"/>
            <a:ext cx="395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 flipV="1">
            <a:off x="1935000" y="4620960"/>
            <a:ext cx="18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1935000" y="4621320"/>
            <a:ext cx="3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330280" y="4621320"/>
            <a:ext cx="18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2330280" y="4913280"/>
            <a:ext cx="393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 flipV="1">
            <a:off x="2724120" y="4912920"/>
            <a:ext cx="144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724120" y="5205240"/>
            <a:ext cx="395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3119400" y="4913280"/>
            <a:ext cx="18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119400" y="4913280"/>
            <a:ext cx="395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 flipV="1">
            <a:off x="3514680" y="4620960"/>
            <a:ext cx="18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3514680" y="4621320"/>
            <a:ext cx="3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909960" y="4621320"/>
            <a:ext cx="18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3909960" y="4913280"/>
            <a:ext cx="395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 flipV="1">
            <a:off x="4305240" y="4912920"/>
            <a:ext cx="18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4305240" y="5205240"/>
            <a:ext cx="393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4699080" y="4913280"/>
            <a:ext cx="144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699080" y="4913280"/>
            <a:ext cx="395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 flipV="1">
            <a:off x="5094360" y="4620960"/>
            <a:ext cx="144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5094360" y="4621320"/>
            <a:ext cx="3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5489640" y="4621320"/>
            <a:ext cx="144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539720" y="5718240"/>
            <a:ext cx="1800" cy="73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1539720" y="6450120"/>
            <a:ext cx="497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 flipH="1">
            <a:off x="1460520" y="5718240"/>
            <a:ext cx="792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1539720" y="5718240"/>
            <a:ext cx="7956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 flipH="1" flipV="1">
            <a:off x="6357600" y="6376680"/>
            <a:ext cx="15876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 flipH="1">
            <a:off x="6357600" y="6450120"/>
            <a:ext cx="15876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6554520" y="62452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539720" y="6450120"/>
            <a:ext cx="3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935000" y="6012000"/>
            <a:ext cx="180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935000" y="6012000"/>
            <a:ext cx="3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330280" y="6012000"/>
            <a:ext cx="180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2330280" y="6450120"/>
            <a:ext cx="393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2724120" y="6012000"/>
            <a:ext cx="144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2724120" y="6012000"/>
            <a:ext cx="3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3119400" y="6012000"/>
            <a:ext cx="180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0" name=""/>
          <p:cNvGrpSpPr/>
          <p:nvPr/>
        </p:nvGrpSpPr>
        <p:grpSpPr>
          <a:xfrm>
            <a:off x="3119400" y="6011640"/>
            <a:ext cx="1581120" cy="439920"/>
            <a:chOff x="3119400" y="6011640"/>
            <a:chExt cx="1581120" cy="439920"/>
          </a:xfrm>
        </p:grpSpPr>
        <p:sp>
          <p:nvSpPr>
            <p:cNvPr id="2511" name=""/>
            <p:cNvSpPr/>
            <p:nvPr/>
          </p:nvSpPr>
          <p:spPr>
            <a:xfrm>
              <a:off x="3119400" y="6450120"/>
              <a:ext cx="395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V="1">
              <a:off x="3514680" y="6011640"/>
              <a:ext cx="180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514680" y="6012000"/>
              <a:ext cx="395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909960" y="6012000"/>
              <a:ext cx="180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909960" y="6450120"/>
              <a:ext cx="395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 flipV="1">
              <a:off x="4305240" y="6011640"/>
              <a:ext cx="180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4305240" y="6012000"/>
              <a:ext cx="393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699080" y="6012000"/>
              <a:ext cx="144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9" name=""/>
          <p:cNvSpPr/>
          <p:nvPr/>
        </p:nvSpPr>
        <p:spPr>
          <a:xfrm>
            <a:off x="4699080" y="6450120"/>
            <a:ext cx="3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5094360" y="6012000"/>
            <a:ext cx="144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5094360" y="6012000"/>
            <a:ext cx="3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5489640" y="6012000"/>
            <a:ext cx="144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1539720" y="6230880"/>
            <a:ext cx="4818240" cy="18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539720" y="5205240"/>
            <a:ext cx="4818240" cy="18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1539720" y="4621320"/>
            <a:ext cx="481824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1766520" y="3360600"/>
            <a:ext cx="1154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gnał sterowania klucz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1659240" y="4268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1724040" y="43848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659240" y="5659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724760" y="5775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 flipV="1">
            <a:off x="1935000" y="4035600"/>
            <a:ext cx="1800" cy="19764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 flipV="1">
            <a:off x="2330280" y="4035600"/>
            <a:ext cx="1800" cy="19764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3" name=""/>
          <p:cNvGrpSpPr/>
          <p:nvPr/>
        </p:nvGrpSpPr>
        <p:grpSpPr>
          <a:xfrm>
            <a:off x="2724120" y="4035600"/>
            <a:ext cx="2766960" cy="1974600"/>
            <a:chOff x="2724120" y="4035600"/>
            <a:chExt cx="2766960" cy="1974600"/>
          </a:xfrm>
        </p:grpSpPr>
        <p:sp>
          <p:nvSpPr>
            <p:cNvPr id="2534" name=""/>
            <p:cNvSpPr/>
            <p:nvPr/>
          </p:nvSpPr>
          <p:spPr>
            <a:xfrm>
              <a:off x="2724120" y="4035600"/>
              <a:ext cx="1440" cy="19746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3119400" y="4035600"/>
              <a:ext cx="1800" cy="19746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3514680" y="4035600"/>
              <a:ext cx="1800" cy="19746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3909960" y="4035600"/>
              <a:ext cx="1800" cy="19746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4305240" y="4035600"/>
              <a:ext cx="1800" cy="19746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4699080" y="4035600"/>
              <a:ext cx="1440" cy="19746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094360" y="4035600"/>
              <a:ext cx="1440" cy="19746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489640" y="4035600"/>
              <a:ext cx="1440" cy="19746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2" name=""/>
          <p:cNvSpPr/>
          <p:nvPr/>
        </p:nvSpPr>
        <p:spPr>
          <a:xfrm>
            <a:off x="1539720" y="6012000"/>
            <a:ext cx="39528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222920" y="595296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486080" y="60688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121080" y="5952960"/>
            <a:ext cx="64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   = pU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306120" y="6068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6724800" y="5937120"/>
            <a:ext cx="7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6699240" y="60688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2065680" y="5716440"/>
            <a:ext cx="7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0" name=""/>
          <p:cNvGrpSpPr/>
          <p:nvPr/>
        </p:nvGrpSpPr>
        <p:grpSpPr>
          <a:xfrm>
            <a:off x="1935000" y="5353200"/>
            <a:ext cx="789120" cy="145800"/>
            <a:chOff x="1935000" y="5353200"/>
            <a:chExt cx="789120" cy="145800"/>
          </a:xfrm>
        </p:grpSpPr>
        <p:sp>
          <p:nvSpPr>
            <p:cNvPr id="2551" name=""/>
            <p:cNvSpPr/>
            <p:nvPr/>
          </p:nvSpPr>
          <p:spPr>
            <a:xfrm>
              <a:off x="1935000" y="5425920"/>
              <a:ext cx="789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H="1" flipV="1">
              <a:off x="2646360" y="5353200"/>
              <a:ext cx="77760" cy="7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H="1">
              <a:off x="2646360" y="5425920"/>
              <a:ext cx="7776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V="1">
              <a:off x="1935000" y="5353200"/>
              <a:ext cx="79560" cy="7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935000" y="5425920"/>
              <a:ext cx="7956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6" name=""/>
          <p:cNvGrpSpPr/>
          <p:nvPr/>
        </p:nvGrpSpPr>
        <p:grpSpPr>
          <a:xfrm>
            <a:off x="1935000" y="5571720"/>
            <a:ext cx="395280" cy="146520"/>
            <a:chOff x="1935000" y="5571720"/>
            <a:chExt cx="395280" cy="146520"/>
          </a:xfrm>
        </p:grpSpPr>
        <p:sp>
          <p:nvSpPr>
            <p:cNvPr id="2557" name=""/>
            <p:cNvSpPr/>
            <p:nvPr/>
          </p:nvSpPr>
          <p:spPr>
            <a:xfrm>
              <a:off x="1935000" y="5645160"/>
              <a:ext cx="395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H="1" flipV="1">
              <a:off x="2290680" y="5571720"/>
              <a:ext cx="3960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>
              <a:off x="2290680" y="5645160"/>
              <a:ext cx="3960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V="1">
              <a:off x="1935000" y="5571720"/>
              <a:ext cx="3996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935000" y="5645160"/>
              <a:ext cx="3996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2" name=""/>
          <p:cNvSpPr/>
          <p:nvPr/>
        </p:nvSpPr>
        <p:spPr>
          <a:xfrm>
            <a:off x="2448720" y="52214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2132640" y="57326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1738080" y="3903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2527200" y="3903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317760" y="3903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4106520" y="3903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4897080" y="3903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5686200" y="3903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5489640" y="4035600"/>
            <a:ext cx="3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5489640" y="4913280"/>
            <a:ext cx="395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5489640" y="6450120"/>
            <a:ext cx="3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054160" y="3537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118240" y="3639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3711240" y="3537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3777120" y="3639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5292360" y="3537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5356800" y="3639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2922480" y="3537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2988360" y="3639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501800" y="3537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567680" y="3639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1344600" y="4489560"/>
            <a:ext cx="15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486080" y="46054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1344960" y="5073480"/>
            <a:ext cx="160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1486080" y="51912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 flipH="1" flipV="1">
            <a:off x="6357600" y="3962160"/>
            <a:ext cx="15876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 flipH="1">
            <a:off x="6357600" y="4035600"/>
            <a:ext cx="158760" cy="72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0" y="264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nwertery przeciwbieżne  (dwutaktow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ciwbieżny konwerter napięcia stałego (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flyback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644400" y="6572160"/>
            <a:ext cx="83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1482840" y="3828600"/>
            <a:ext cx="144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1863720" y="5505480"/>
            <a:ext cx="3276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863720" y="4133880"/>
            <a:ext cx="3276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5140440" y="4133880"/>
            <a:ext cx="14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5064120" y="4591080"/>
            <a:ext cx="152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25480" y="4606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8" name=""/>
          <p:cNvGrpSpPr/>
          <p:nvPr/>
        </p:nvGrpSpPr>
        <p:grpSpPr>
          <a:xfrm>
            <a:off x="3006720" y="4057560"/>
            <a:ext cx="154080" cy="152640"/>
            <a:chOff x="3006720" y="4057560"/>
            <a:chExt cx="154080" cy="152640"/>
          </a:xfrm>
        </p:grpSpPr>
        <p:sp>
          <p:nvSpPr>
            <p:cNvPr id="2599" name=""/>
            <p:cNvSpPr/>
            <p:nvPr/>
          </p:nvSpPr>
          <p:spPr>
            <a:xfrm>
              <a:off x="3006720" y="4057560"/>
              <a:ext cx="15228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159000" y="4057560"/>
              <a:ext cx="18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1" name=""/>
          <p:cNvSpPr/>
          <p:nvPr/>
        </p:nvSpPr>
        <p:spPr>
          <a:xfrm>
            <a:off x="1863720" y="4133880"/>
            <a:ext cx="14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2" name=""/>
          <p:cNvGrpSpPr/>
          <p:nvPr/>
        </p:nvGrpSpPr>
        <p:grpSpPr>
          <a:xfrm>
            <a:off x="1797120" y="4552920"/>
            <a:ext cx="228600" cy="609480"/>
            <a:chOff x="1797120" y="4552920"/>
            <a:chExt cx="228600" cy="609480"/>
          </a:xfrm>
        </p:grpSpPr>
        <p:sp>
          <p:nvSpPr>
            <p:cNvPr id="2603" name=""/>
            <p:cNvSpPr/>
            <p:nvPr/>
          </p:nvSpPr>
          <p:spPr>
            <a:xfrm>
              <a:off x="1797120" y="5010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797120" y="4857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797120" y="4705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1797120" y="4552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873080" y="4552920"/>
              <a:ext cx="15264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8" name=""/>
          <p:cNvGrpSpPr/>
          <p:nvPr/>
        </p:nvGrpSpPr>
        <p:grpSpPr>
          <a:xfrm>
            <a:off x="1339920" y="4552920"/>
            <a:ext cx="228600" cy="609480"/>
            <a:chOff x="1339920" y="4552920"/>
            <a:chExt cx="228600" cy="609480"/>
          </a:xfrm>
        </p:grpSpPr>
        <p:sp>
          <p:nvSpPr>
            <p:cNvPr id="2609" name=""/>
            <p:cNvSpPr/>
            <p:nvPr/>
          </p:nvSpPr>
          <p:spPr>
            <a:xfrm>
              <a:off x="1415880" y="5010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415880" y="48578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415880" y="4705200"/>
              <a:ext cx="15264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415880" y="4552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1339920" y="4552920"/>
              <a:ext cx="15228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4" name=""/>
          <p:cNvSpPr/>
          <p:nvPr/>
        </p:nvSpPr>
        <p:spPr>
          <a:xfrm flipV="1">
            <a:off x="1635120" y="4514400"/>
            <a:ext cx="14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 flipV="1">
            <a:off x="1711440" y="4514400"/>
            <a:ext cx="14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5467320" y="4727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4606920" y="4210200"/>
            <a:ext cx="152280" cy="1218960"/>
            <a:chOff x="4606920" y="4210200"/>
            <a:chExt cx="152280" cy="1218960"/>
          </a:xfrm>
        </p:grpSpPr>
        <p:sp>
          <p:nvSpPr>
            <p:cNvPr id="2618" name=""/>
            <p:cNvSpPr/>
            <p:nvPr/>
          </p:nvSpPr>
          <p:spPr>
            <a:xfrm>
              <a:off x="4683240" y="4210200"/>
              <a:ext cx="1440" cy="121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H="1">
              <a:off x="4606920" y="4210200"/>
              <a:ext cx="76320" cy="152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683240" y="4210200"/>
              <a:ext cx="75960" cy="152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1" name=""/>
          <p:cNvSpPr/>
          <p:nvPr/>
        </p:nvSpPr>
        <p:spPr>
          <a:xfrm>
            <a:off x="4656240" y="4108320"/>
            <a:ext cx="5400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4656240" y="5479920"/>
            <a:ext cx="5400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4791960" y="46832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4933800" y="48038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4302000" y="413388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4302000" y="4819680"/>
            <a:ext cx="1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4149720" y="481968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4149720" y="4743360"/>
            <a:ext cx="304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4275000" y="4108320"/>
            <a:ext cx="5400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4275000" y="5479920"/>
            <a:ext cx="5400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4182480" y="45306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1913040" y="4489560"/>
            <a:ext cx="54000" cy="52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1379520" y="5175360"/>
            <a:ext cx="54000" cy="52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1286640" y="4759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1972440" y="4835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 flipH="1">
            <a:off x="644040" y="3828960"/>
            <a:ext cx="83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617400" y="3803760"/>
            <a:ext cx="54000" cy="52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617400" y="6546960"/>
            <a:ext cx="54000" cy="52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 flipH="1">
            <a:off x="1482480" y="596268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1482840" y="6114960"/>
            <a:ext cx="14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1" name=""/>
          <p:cNvGrpSpPr/>
          <p:nvPr/>
        </p:nvGrpSpPr>
        <p:grpSpPr>
          <a:xfrm>
            <a:off x="568080" y="3981600"/>
            <a:ext cx="152640" cy="2438280"/>
            <a:chOff x="568080" y="3981600"/>
            <a:chExt cx="152640" cy="2438280"/>
          </a:xfrm>
        </p:grpSpPr>
        <p:sp>
          <p:nvSpPr>
            <p:cNvPr id="2642" name=""/>
            <p:cNvSpPr/>
            <p:nvPr/>
          </p:nvSpPr>
          <p:spPr>
            <a:xfrm>
              <a:off x="644400" y="3981600"/>
              <a:ext cx="1800" cy="243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H="1">
              <a:off x="568080" y="3981600"/>
              <a:ext cx="75960" cy="304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44400" y="3981600"/>
              <a:ext cx="76320" cy="304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5" name=""/>
          <p:cNvSpPr/>
          <p:nvPr/>
        </p:nvSpPr>
        <p:spPr>
          <a:xfrm>
            <a:off x="1286640" y="5902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6" name=""/>
          <p:cNvGrpSpPr/>
          <p:nvPr/>
        </p:nvGrpSpPr>
        <p:grpSpPr>
          <a:xfrm>
            <a:off x="1406520" y="5505480"/>
            <a:ext cx="152280" cy="76320"/>
            <a:chOff x="1406520" y="5505480"/>
            <a:chExt cx="152280" cy="76320"/>
          </a:xfrm>
        </p:grpSpPr>
        <p:sp>
          <p:nvSpPr>
            <p:cNvPr id="2647" name=""/>
            <p:cNvSpPr/>
            <p:nvPr/>
          </p:nvSpPr>
          <p:spPr>
            <a:xfrm flipH="1" flipV="1">
              <a:off x="1406520" y="550548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 flipV="1">
              <a:off x="1482840" y="550548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9" name=""/>
          <p:cNvSpPr/>
          <p:nvPr/>
        </p:nvSpPr>
        <p:spPr>
          <a:xfrm>
            <a:off x="1667880" y="552132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1733400" y="56419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 flipH="1">
            <a:off x="873000" y="5657760"/>
            <a:ext cx="609840" cy="18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2" name=""/>
          <p:cNvGrpSpPr/>
          <p:nvPr/>
        </p:nvGrpSpPr>
        <p:grpSpPr>
          <a:xfrm>
            <a:off x="873000" y="5734080"/>
            <a:ext cx="152640" cy="762120"/>
            <a:chOff x="873000" y="5734080"/>
            <a:chExt cx="152640" cy="762120"/>
          </a:xfrm>
        </p:grpSpPr>
        <p:sp>
          <p:nvSpPr>
            <p:cNvPr id="2653" name=""/>
            <p:cNvSpPr/>
            <p:nvPr/>
          </p:nvSpPr>
          <p:spPr>
            <a:xfrm>
              <a:off x="949320" y="5734080"/>
              <a:ext cx="1440" cy="76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flipH="1">
              <a:off x="873000" y="5734080"/>
              <a:ext cx="7632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949320" y="5734080"/>
              <a:ext cx="7632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6" name=""/>
          <p:cNvGrpSpPr/>
          <p:nvPr/>
        </p:nvGrpSpPr>
        <p:grpSpPr>
          <a:xfrm>
            <a:off x="873000" y="3905280"/>
            <a:ext cx="152640" cy="1674720"/>
            <a:chOff x="873000" y="3905280"/>
            <a:chExt cx="152640" cy="1674720"/>
          </a:xfrm>
        </p:grpSpPr>
        <p:sp>
          <p:nvSpPr>
            <p:cNvPr id="2657" name=""/>
            <p:cNvSpPr/>
            <p:nvPr/>
          </p:nvSpPr>
          <p:spPr>
            <a:xfrm>
              <a:off x="949320" y="3905280"/>
              <a:ext cx="1440" cy="167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flipH="1">
              <a:off x="873000" y="3905280"/>
              <a:ext cx="76320" cy="20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949320" y="3905280"/>
              <a:ext cx="76320" cy="20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0" name=""/>
          <p:cNvSpPr/>
          <p:nvPr/>
        </p:nvSpPr>
        <p:spPr>
          <a:xfrm>
            <a:off x="1058400" y="42260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1199520" y="43466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1058400" y="6207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1199520" y="632772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372600" y="51404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513720" y="52610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 flipH="1" flipV="1">
            <a:off x="3463920" y="4057560"/>
            <a:ext cx="7632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 flipH="1">
            <a:off x="3463920" y="4133880"/>
            <a:ext cx="7632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3496680" y="353844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3485880" y="3813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4225680" y="4286160"/>
            <a:ext cx="152640" cy="76320"/>
            <a:chOff x="4225680" y="4286160"/>
            <a:chExt cx="152640" cy="76320"/>
          </a:xfrm>
        </p:grpSpPr>
        <p:sp>
          <p:nvSpPr>
            <p:cNvPr id="2671" name=""/>
            <p:cNvSpPr/>
            <p:nvPr/>
          </p:nvSpPr>
          <p:spPr>
            <a:xfrm flipH="1" flipV="1">
              <a:off x="4225680" y="428616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4302000" y="428616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3" name=""/>
          <p:cNvSpPr/>
          <p:nvPr/>
        </p:nvSpPr>
        <p:spPr>
          <a:xfrm>
            <a:off x="4487400" y="430200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4551840" y="4422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5" name=""/>
          <p:cNvGrpSpPr/>
          <p:nvPr/>
        </p:nvGrpSpPr>
        <p:grpSpPr>
          <a:xfrm>
            <a:off x="4911480" y="4057560"/>
            <a:ext cx="75960" cy="152640"/>
            <a:chOff x="4911480" y="4057560"/>
            <a:chExt cx="75960" cy="152640"/>
          </a:xfrm>
        </p:grpSpPr>
        <p:sp>
          <p:nvSpPr>
            <p:cNvPr id="2676" name=""/>
            <p:cNvSpPr/>
            <p:nvPr/>
          </p:nvSpPr>
          <p:spPr>
            <a:xfrm flipH="1" flipV="1">
              <a:off x="4911480" y="405756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H="1">
              <a:off x="4911480" y="413388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8" name=""/>
          <p:cNvSpPr/>
          <p:nvPr/>
        </p:nvSpPr>
        <p:spPr>
          <a:xfrm>
            <a:off x="4868280" y="37688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4933800" y="3889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644400" y="3522600"/>
            <a:ext cx="83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 flipV="1">
            <a:off x="1482840" y="779040"/>
            <a:ext cx="144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1482840" y="2455920"/>
            <a:ext cx="3657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1482840" y="1084320"/>
            <a:ext cx="3657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5140440" y="1084320"/>
            <a:ext cx="14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5064120" y="1541520"/>
            <a:ext cx="152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5325480" y="1557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7" name=""/>
          <p:cNvGrpSpPr/>
          <p:nvPr/>
        </p:nvGrpSpPr>
        <p:grpSpPr>
          <a:xfrm>
            <a:off x="2473200" y="2379600"/>
            <a:ext cx="154080" cy="152640"/>
            <a:chOff x="2473200" y="2379600"/>
            <a:chExt cx="154080" cy="152640"/>
          </a:xfrm>
        </p:grpSpPr>
        <p:sp>
          <p:nvSpPr>
            <p:cNvPr id="2688" name=""/>
            <p:cNvSpPr/>
            <p:nvPr/>
          </p:nvSpPr>
          <p:spPr>
            <a:xfrm>
              <a:off x="2473200" y="2379600"/>
              <a:ext cx="15264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625840" y="2379600"/>
              <a:ext cx="14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1339920" y="1503360"/>
            <a:ext cx="228600" cy="609480"/>
            <a:chOff x="1339920" y="1503360"/>
            <a:chExt cx="228600" cy="609480"/>
          </a:xfrm>
        </p:grpSpPr>
        <p:sp>
          <p:nvSpPr>
            <p:cNvPr id="2691" name=""/>
            <p:cNvSpPr/>
            <p:nvPr/>
          </p:nvSpPr>
          <p:spPr>
            <a:xfrm>
              <a:off x="1415880" y="19605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415880" y="1808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415880" y="1655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1415880" y="1503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339920" y="1503360"/>
              <a:ext cx="15228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6" name=""/>
          <p:cNvSpPr/>
          <p:nvPr/>
        </p:nvSpPr>
        <p:spPr>
          <a:xfrm>
            <a:off x="5467320" y="1677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7" name=""/>
          <p:cNvGrpSpPr/>
          <p:nvPr/>
        </p:nvGrpSpPr>
        <p:grpSpPr>
          <a:xfrm>
            <a:off x="4606920" y="1160640"/>
            <a:ext cx="152280" cy="1218960"/>
            <a:chOff x="4606920" y="1160640"/>
            <a:chExt cx="152280" cy="1218960"/>
          </a:xfrm>
        </p:grpSpPr>
        <p:sp>
          <p:nvSpPr>
            <p:cNvPr id="2698" name=""/>
            <p:cNvSpPr/>
            <p:nvPr/>
          </p:nvSpPr>
          <p:spPr>
            <a:xfrm flipV="1">
              <a:off x="4683240" y="1160640"/>
              <a:ext cx="1440" cy="121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H="1" flipV="1">
              <a:off x="4606920" y="2226960"/>
              <a:ext cx="76320" cy="152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flipV="1">
              <a:off x="4683240" y="2226960"/>
              <a:ext cx="75960" cy="152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1" name=""/>
          <p:cNvSpPr/>
          <p:nvPr/>
        </p:nvSpPr>
        <p:spPr>
          <a:xfrm>
            <a:off x="4656240" y="1058760"/>
            <a:ext cx="5400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4656240" y="2430360"/>
            <a:ext cx="54000" cy="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4791960" y="1633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4933800" y="1754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4302000" y="108432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4302000" y="1770120"/>
            <a:ext cx="1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4149720" y="177012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4149720" y="1693800"/>
            <a:ext cx="304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4275000" y="1058760"/>
            <a:ext cx="54000" cy="52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4275000" y="2430360"/>
            <a:ext cx="54000" cy="52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4182480" y="14810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1379520" y="2125800"/>
            <a:ext cx="54000" cy="52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1286640" y="1709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 flipH="1">
            <a:off x="644040" y="779400"/>
            <a:ext cx="83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617400" y="754200"/>
            <a:ext cx="54000" cy="52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617400" y="3497400"/>
            <a:ext cx="54000" cy="52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 flipH="1">
            <a:off x="1482480" y="291312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1482840" y="3065400"/>
            <a:ext cx="14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9" name=""/>
          <p:cNvGrpSpPr/>
          <p:nvPr/>
        </p:nvGrpSpPr>
        <p:grpSpPr>
          <a:xfrm>
            <a:off x="568080" y="932040"/>
            <a:ext cx="152640" cy="2438280"/>
            <a:chOff x="568080" y="932040"/>
            <a:chExt cx="152640" cy="2438280"/>
          </a:xfrm>
        </p:grpSpPr>
        <p:sp>
          <p:nvSpPr>
            <p:cNvPr id="2720" name=""/>
            <p:cNvSpPr/>
            <p:nvPr/>
          </p:nvSpPr>
          <p:spPr>
            <a:xfrm>
              <a:off x="644400" y="932040"/>
              <a:ext cx="1800" cy="243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 flipH="1">
              <a:off x="568080" y="932040"/>
              <a:ext cx="75960" cy="304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44400" y="932040"/>
              <a:ext cx="76320" cy="304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3" name=""/>
          <p:cNvSpPr/>
          <p:nvPr/>
        </p:nvSpPr>
        <p:spPr>
          <a:xfrm>
            <a:off x="1286640" y="2852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4" name=""/>
          <p:cNvGrpSpPr/>
          <p:nvPr/>
        </p:nvGrpSpPr>
        <p:grpSpPr>
          <a:xfrm>
            <a:off x="1406520" y="2531880"/>
            <a:ext cx="152280" cy="75960"/>
            <a:chOff x="1406520" y="2531880"/>
            <a:chExt cx="152280" cy="75960"/>
          </a:xfrm>
        </p:grpSpPr>
        <p:sp>
          <p:nvSpPr>
            <p:cNvPr id="2725" name=""/>
            <p:cNvSpPr/>
            <p:nvPr/>
          </p:nvSpPr>
          <p:spPr>
            <a:xfrm flipH="1" flipV="1">
              <a:off x="1406520" y="2531880"/>
              <a:ext cx="76320" cy="7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 flipV="1">
              <a:off x="1482840" y="2531880"/>
              <a:ext cx="75960" cy="7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7" name=""/>
          <p:cNvSpPr/>
          <p:nvPr/>
        </p:nvSpPr>
        <p:spPr>
          <a:xfrm flipH="1">
            <a:off x="873000" y="2608200"/>
            <a:ext cx="609840" cy="18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8" name=""/>
          <p:cNvGrpSpPr/>
          <p:nvPr/>
        </p:nvGrpSpPr>
        <p:grpSpPr>
          <a:xfrm>
            <a:off x="873000" y="2684520"/>
            <a:ext cx="152640" cy="762120"/>
            <a:chOff x="873000" y="2684520"/>
            <a:chExt cx="152640" cy="762120"/>
          </a:xfrm>
        </p:grpSpPr>
        <p:sp>
          <p:nvSpPr>
            <p:cNvPr id="2729" name=""/>
            <p:cNvSpPr/>
            <p:nvPr/>
          </p:nvSpPr>
          <p:spPr>
            <a:xfrm>
              <a:off x="949320" y="2684520"/>
              <a:ext cx="1440" cy="76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 flipH="1">
              <a:off x="873000" y="2684520"/>
              <a:ext cx="76320" cy="9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949320" y="2684520"/>
              <a:ext cx="76320" cy="9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2" name=""/>
          <p:cNvGrpSpPr/>
          <p:nvPr/>
        </p:nvGrpSpPr>
        <p:grpSpPr>
          <a:xfrm>
            <a:off x="873000" y="855720"/>
            <a:ext cx="152640" cy="1674720"/>
            <a:chOff x="873000" y="855720"/>
            <a:chExt cx="152640" cy="1674720"/>
          </a:xfrm>
        </p:grpSpPr>
        <p:sp>
          <p:nvSpPr>
            <p:cNvPr id="2733" name=""/>
            <p:cNvSpPr/>
            <p:nvPr/>
          </p:nvSpPr>
          <p:spPr>
            <a:xfrm>
              <a:off x="949320" y="855720"/>
              <a:ext cx="1440" cy="167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 flipH="1">
              <a:off x="873000" y="855720"/>
              <a:ext cx="76320" cy="20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949320" y="855720"/>
              <a:ext cx="76320" cy="20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6" name=""/>
          <p:cNvSpPr/>
          <p:nvPr/>
        </p:nvSpPr>
        <p:spPr>
          <a:xfrm>
            <a:off x="1058400" y="1176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1199520" y="12970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1058400" y="3157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1199520" y="327816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372600" y="2090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513720" y="22114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H="1" flipV="1">
            <a:off x="2930400" y="2379600"/>
            <a:ext cx="7632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 flipH="1">
            <a:off x="2930400" y="2455920"/>
            <a:ext cx="7632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2887200" y="201456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2952720" y="2135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6" name=""/>
          <p:cNvGrpSpPr/>
          <p:nvPr/>
        </p:nvGrpSpPr>
        <p:grpSpPr>
          <a:xfrm>
            <a:off x="4225680" y="1236600"/>
            <a:ext cx="152640" cy="76320"/>
            <a:chOff x="4225680" y="1236600"/>
            <a:chExt cx="152640" cy="76320"/>
          </a:xfrm>
        </p:grpSpPr>
        <p:sp>
          <p:nvSpPr>
            <p:cNvPr id="2747" name=""/>
            <p:cNvSpPr/>
            <p:nvPr/>
          </p:nvSpPr>
          <p:spPr>
            <a:xfrm flipH="1">
              <a:off x="4225680" y="12366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302000" y="12366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9" name=""/>
          <p:cNvSpPr/>
          <p:nvPr/>
        </p:nvSpPr>
        <p:spPr>
          <a:xfrm>
            <a:off x="4487400" y="125244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4551840" y="13730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1" name=""/>
          <p:cNvGrpSpPr/>
          <p:nvPr/>
        </p:nvGrpSpPr>
        <p:grpSpPr>
          <a:xfrm>
            <a:off x="4911480" y="2379600"/>
            <a:ext cx="75960" cy="152640"/>
            <a:chOff x="4911480" y="2379600"/>
            <a:chExt cx="75960" cy="152640"/>
          </a:xfrm>
        </p:grpSpPr>
        <p:sp>
          <p:nvSpPr>
            <p:cNvPr id="2752" name=""/>
            <p:cNvSpPr/>
            <p:nvPr/>
          </p:nvSpPr>
          <p:spPr>
            <a:xfrm flipH="1" flipV="1">
              <a:off x="4911480" y="23796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H="1">
              <a:off x="4911480" y="245592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4" name=""/>
          <p:cNvSpPr/>
          <p:nvPr/>
        </p:nvSpPr>
        <p:spPr>
          <a:xfrm>
            <a:off x="4868280" y="20908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4933800" y="2211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6" name=""/>
          <p:cNvGrpSpPr/>
          <p:nvPr/>
        </p:nvGrpSpPr>
        <p:grpSpPr>
          <a:xfrm>
            <a:off x="1406520" y="1312920"/>
            <a:ext cx="152280" cy="76320"/>
            <a:chOff x="1406520" y="1312920"/>
            <a:chExt cx="152280" cy="76320"/>
          </a:xfrm>
        </p:grpSpPr>
        <p:sp>
          <p:nvSpPr>
            <p:cNvPr id="2757" name=""/>
            <p:cNvSpPr/>
            <p:nvPr/>
          </p:nvSpPr>
          <p:spPr>
            <a:xfrm flipH="1" flipV="1">
              <a:off x="1406520" y="1312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 flipV="1">
              <a:off x="1482840" y="131292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9" name=""/>
          <p:cNvSpPr/>
          <p:nvPr/>
        </p:nvSpPr>
        <p:spPr>
          <a:xfrm>
            <a:off x="1667880" y="254808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1733400" y="26686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1667880" y="125244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1733400" y="13730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1455840" y="2430360"/>
            <a:ext cx="54000" cy="52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1455840" y="1058760"/>
            <a:ext cx="54000" cy="52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5745600" y="130032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indukcyjnoś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5779080" y="43876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transformat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7" name=""/>
              <p:cNvSpPr txBox="1"/>
              <p:nvPr/>
            </p:nvSpPr>
            <p:spPr>
              <a:xfrm>
                <a:off x="5664240" y="2104920"/>
                <a:ext cx="28144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55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oszczone przebiegi w konwerterze przeciwbież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9" name=""/>
          <p:cNvGraphicFramePr/>
          <p:nvPr/>
        </p:nvGraphicFramePr>
        <p:xfrm>
          <a:off x="1081080" y="1095480"/>
          <a:ext cx="6977160" cy="52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095480"/>
                    <a:ext cx="6977160" cy="52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chy konwerterów przeciwbież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-11520" y="1811160"/>
            <a:ext cx="906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wertery przeciwbieżne „nie lubią” pracy bez obciążen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suje się tzw. wstępne obciążenie, co pogarsza sprawnoś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braku obciążenia napięcia na kluczu osiągają bardzo duże wartośc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zepięcia) dlatego w konwerterach przeciwbieżnych stosuje si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zw. układy tłumiące, zmniejszające wartości napięć na kluc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58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a przeciw przepięciow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werterów przeciwbież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4" name=""/>
          <p:cNvGrpSpPr/>
          <p:nvPr/>
        </p:nvGrpSpPr>
        <p:grpSpPr>
          <a:xfrm>
            <a:off x="1630080" y="974880"/>
            <a:ext cx="5545440" cy="5298840"/>
            <a:chOff x="1630080" y="974880"/>
            <a:chExt cx="5545440" cy="5298840"/>
          </a:xfrm>
        </p:grpSpPr>
        <p:sp>
          <p:nvSpPr>
            <p:cNvPr id="2775" name=""/>
            <p:cNvSpPr/>
            <p:nvPr/>
          </p:nvSpPr>
          <p:spPr>
            <a:xfrm flipV="1">
              <a:off x="6737400" y="1244160"/>
              <a:ext cx="144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145040" y="1244520"/>
              <a:ext cx="2592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145040" y="2527200"/>
              <a:ext cx="2592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661080" y="1743120"/>
              <a:ext cx="152640" cy="357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965640" y="182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0" name=""/>
            <p:cNvGrpSpPr/>
            <p:nvPr/>
          </p:nvGrpSpPr>
          <p:grpSpPr>
            <a:xfrm>
              <a:off x="4527720" y="1173240"/>
              <a:ext cx="153720" cy="142920"/>
              <a:chOff x="4527720" y="1173240"/>
              <a:chExt cx="153720" cy="142920"/>
            </a:xfrm>
          </p:grpSpPr>
          <p:sp>
            <p:nvSpPr>
              <p:cNvPr id="2781" name=""/>
              <p:cNvSpPr/>
              <p:nvPr/>
            </p:nvSpPr>
            <p:spPr>
              <a:xfrm>
                <a:off x="4527720" y="1173240"/>
                <a:ext cx="152280" cy="142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48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9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4680000" y="1173240"/>
                <a:ext cx="144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3" name=""/>
            <p:cNvSpPr/>
            <p:nvPr/>
          </p:nvSpPr>
          <p:spPr>
            <a:xfrm flipV="1">
              <a:off x="3763800" y="1244160"/>
              <a:ext cx="180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145040" y="1244520"/>
              <a:ext cx="144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5" name=""/>
            <p:cNvGrpSpPr/>
            <p:nvPr/>
          </p:nvGrpSpPr>
          <p:grpSpPr>
            <a:xfrm>
              <a:off x="4078440" y="1779480"/>
              <a:ext cx="228600" cy="569880"/>
              <a:chOff x="4078440" y="1779480"/>
              <a:chExt cx="228600" cy="569880"/>
            </a:xfrm>
          </p:grpSpPr>
          <p:sp>
            <p:nvSpPr>
              <p:cNvPr id="2786" name=""/>
              <p:cNvSpPr/>
              <p:nvPr/>
            </p:nvSpPr>
            <p:spPr>
              <a:xfrm>
                <a:off x="4078440" y="2206800"/>
                <a:ext cx="152280" cy="142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4078440" y="2064600"/>
                <a:ext cx="152280" cy="142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4078440" y="1921680"/>
                <a:ext cx="152280" cy="142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4078440" y="1779480"/>
                <a:ext cx="152280" cy="142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4154400" y="1779480"/>
                <a:ext cx="152640" cy="569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1" name=""/>
            <p:cNvSpPr/>
            <p:nvPr/>
          </p:nvSpPr>
          <p:spPr>
            <a:xfrm flipV="1">
              <a:off x="3992400" y="1742760"/>
              <a:ext cx="1800" cy="64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3878280" y="13572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527360" y="974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118280" y="1943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253200" y="1220760"/>
              <a:ext cx="54000" cy="4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356160" y="1971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508800" y="208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5518080" y="1244160"/>
              <a:ext cx="1800" cy="56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5365800" y="1886040"/>
              <a:ext cx="30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365800" y="1814400"/>
              <a:ext cx="30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491080" y="1220760"/>
              <a:ext cx="5400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213160" y="1758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220280" y="1971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1859040" y="2954160"/>
              <a:ext cx="1904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1859040" y="1244520"/>
              <a:ext cx="1904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1832040" y="2930400"/>
              <a:ext cx="54000" cy="4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1832040" y="1220760"/>
              <a:ext cx="54000" cy="4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V="1">
              <a:off x="1859040" y="1316160"/>
              <a:ext cx="1440" cy="156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H="1">
              <a:off x="1782720" y="1316160"/>
              <a:ext cx="7632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1859040" y="1316160"/>
              <a:ext cx="7596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1630080" y="2043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1782360" y="2155680"/>
              <a:ext cx="5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518080" y="1886040"/>
              <a:ext cx="1800" cy="64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6253200" y="2503440"/>
              <a:ext cx="54000" cy="4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194000" y="1719360"/>
              <a:ext cx="5400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5491080" y="2503440"/>
              <a:ext cx="5400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7" name=""/>
            <p:cNvGrpSpPr/>
            <p:nvPr/>
          </p:nvGrpSpPr>
          <p:grpSpPr>
            <a:xfrm>
              <a:off x="3697200" y="1779480"/>
              <a:ext cx="228600" cy="569880"/>
              <a:chOff x="3697200" y="1779480"/>
              <a:chExt cx="228600" cy="569880"/>
            </a:xfrm>
          </p:grpSpPr>
          <p:sp>
            <p:nvSpPr>
              <p:cNvPr id="2818" name=""/>
              <p:cNvSpPr/>
              <p:nvPr/>
            </p:nvSpPr>
            <p:spPr>
              <a:xfrm>
                <a:off x="3697200" y="2206800"/>
                <a:ext cx="152640" cy="142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3697200" y="2064600"/>
                <a:ext cx="152640" cy="142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3697200" y="1921680"/>
                <a:ext cx="152640" cy="142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3697200" y="1779480"/>
                <a:ext cx="152640" cy="142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773520" y="1779480"/>
                <a:ext cx="152280" cy="569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3" name=""/>
            <p:cNvSpPr/>
            <p:nvPr/>
          </p:nvSpPr>
          <p:spPr>
            <a:xfrm>
              <a:off x="3306600" y="1244520"/>
              <a:ext cx="1800" cy="17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4" name=""/>
            <p:cNvGrpSpPr/>
            <p:nvPr/>
          </p:nvGrpSpPr>
          <p:grpSpPr>
            <a:xfrm>
              <a:off x="3164040" y="1779480"/>
              <a:ext cx="228600" cy="569880"/>
              <a:chOff x="3164040" y="1779480"/>
              <a:chExt cx="228600" cy="569880"/>
            </a:xfrm>
          </p:grpSpPr>
          <p:sp>
            <p:nvSpPr>
              <p:cNvPr id="2825" name=""/>
              <p:cNvSpPr/>
              <p:nvPr/>
            </p:nvSpPr>
            <p:spPr>
              <a:xfrm>
                <a:off x="3240000" y="2206800"/>
                <a:ext cx="152640" cy="142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3240000" y="2064600"/>
                <a:ext cx="152640" cy="142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3240000" y="1921680"/>
                <a:ext cx="152640" cy="142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3240000" y="1779480"/>
                <a:ext cx="152640" cy="142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3164040" y="1779480"/>
                <a:ext cx="152280" cy="569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0" name=""/>
            <p:cNvSpPr/>
            <p:nvPr/>
          </p:nvSpPr>
          <p:spPr>
            <a:xfrm flipV="1">
              <a:off x="3763800" y="2739600"/>
              <a:ext cx="180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 flipV="1">
              <a:off x="3763800" y="2598840"/>
              <a:ext cx="7632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2" name=""/>
            <p:cNvGrpSpPr/>
            <p:nvPr/>
          </p:nvGrpSpPr>
          <p:grpSpPr>
            <a:xfrm>
              <a:off x="3230640" y="1459080"/>
              <a:ext cx="152280" cy="142560"/>
              <a:chOff x="3230640" y="1459080"/>
              <a:chExt cx="152280" cy="142560"/>
            </a:xfrm>
          </p:grpSpPr>
          <p:sp>
            <p:nvSpPr>
              <p:cNvPr id="2833" name=""/>
              <p:cNvSpPr/>
              <p:nvPr/>
            </p:nvSpPr>
            <p:spPr>
              <a:xfrm>
                <a:off x="3230640" y="1459080"/>
                <a:ext cx="152280" cy="14256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48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3230640" y="1459080"/>
                <a:ext cx="152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5" name=""/>
            <p:cNvSpPr/>
            <p:nvPr/>
          </p:nvSpPr>
          <p:spPr>
            <a:xfrm flipV="1">
              <a:off x="3535200" y="1742760"/>
              <a:ext cx="1800" cy="64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813120" y="2360520"/>
              <a:ext cx="5400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203640" y="1719360"/>
              <a:ext cx="5400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610800" y="2612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916080" y="2668680"/>
              <a:ext cx="7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992400" y="2684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 flipV="1">
              <a:off x="6280200" y="1316160"/>
              <a:ext cx="1440" cy="1139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 flipH="1">
              <a:off x="6203880" y="1316160"/>
              <a:ext cx="7632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280200" y="1316160"/>
              <a:ext cx="7632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279600" y="2930400"/>
              <a:ext cx="5400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279600" y="1220760"/>
              <a:ext cx="5400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001320" y="204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077640" y="2155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001680" y="1401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077640" y="15145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1881360" y="3483000"/>
              <a:ext cx="198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 flipV="1">
              <a:off x="1881360" y="6081480"/>
              <a:ext cx="144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6454800" y="3483000"/>
              <a:ext cx="1440" cy="11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378480" y="3865680"/>
              <a:ext cx="152640" cy="31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649200" y="3876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5" name=""/>
            <p:cNvGrpSpPr/>
            <p:nvPr/>
          </p:nvGrpSpPr>
          <p:grpSpPr>
            <a:xfrm>
              <a:off x="4243320" y="3483000"/>
              <a:ext cx="2210040" cy="1143000"/>
              <a:chOff x="4243320" y="3483000"/>
              <a:chExt cx="2210040" cy="1143000"/>
            </a:xfrm>
          </p:grpSpPr>
          <p:sp>
            <p:nvSpPr>
              <p:cNvPr id="2856" name=""/>
              <p:cNvSpPr/>
              <p:nvPr/>
            </p:nvSpPr>
            <p:spPr>
              <a:xfrm>
                <a:off x="4243320" y="4624560"/>
                <a:ext cx="2210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4243320" y="3483000"/>
                <a:ext cx="2210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8" name=""/>
            <p:cNvSpPr/>
            <p:nvPr/>
          </p:nvSpPr>
          <p:spPr>
            <a:xfrm>
              <a:off x="1854360" y="6060960"/>
              <a:ext cx="53640" cy="41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1854360" y="3463920"/>
              <a:ext cx="53640" cy="41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1881360" y="3546360"/>
              <a:ext cx="1440" cy="240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H="1">
              <a:off x="1805040" y="3546360"/>
              <a:ext cx="76320" cy="12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1881360" y="3546360"/>
              <a:ext cx="75960" cy="12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2040840" y="3749760"/>
              <a:ext cx="49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 =300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4" name=""/>
            <p:cNvGrpSpPr/>
            <p:nvPr/>
          </p:nvGrpSpPr>
          <p:grpSpPr>
            <a:xfrm>
              <a:off x="4930920" y="4560840"/>
              <a:ext cx="153720" cy="127080"/>
              <a:chOff x="4930920" y="4560840"/>
              <a:chExt cx="153720" cy="127080"/>
            </a:xfrm>
          </p:grpSpPr>
          <p:sp>
            <p:nvSpPr>
              <p:cNvPr id="2865" name=""/>
              <p:cNvSpPr/>
              <p:nvPr/>
            </p:nvSpPr>
            <p:spPr>
              <a:xfrm>
                <a:off x="4930920" y="4560840"/>
                <a:ext cx="152280" cy="12708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6" y="80"/>
                    </a:moveTo>
                    <a:lnTo>
                      <a:pt x="0" y="160"/>
                    </a:lnTo>
                    <a:lnTo>
                      <a:pt x="0" y="0"/>
                    </a:lnTo>
                    <a:lnTo>
                      <a:pt x="96" y="8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083200" y="4560840"/>
                <a:ext cx="14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7" name=""/>
            <p:cNvSpPr/>
            <p:nvPr/>
          </p:nvSpPr>
          <p:spPr>
            <a:xfrm flipV="1">
              <a:off x="3862440" y="3482640"/>
              <a:ext cx="1440" cy="228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243320" y="3483000"/>
              <a:ext cx="1800" cy="11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9" name=""/>
            <p:cNvGrpSpPr/>
            <p:nvPr/>
          </p:nvGrpSpPr>
          <p:grpSpPr>
            <a:xfrm>
              <a:off x="4176720" y="3833640"/>
              <a:ext cx="230040" cy="505080"/>
              <a:chOff x="4176720" y="3833640"/>
              <a:chExt cx="230040" cy="505080"/>
            </a:xfrm>
          </p:grpSpPr>
          <p:sp>
            <p:nvSpPr>
              <p:cNvPr id="2870" name=""/>
              <p:cNvSpPr/>
              <p:nvPr/>
            </p:nvSpPr>
            <p:spPr>
              <a:xfrm>
                <a:off x="4176720" y="4213080"/>
                <a:ext cx="152280" cy="125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176720" y="4086360"/>
                <a:ext cx="152280" cy="125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4176720" y="3959280"/>
                <a:ext cx="152280" cy="125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4176720" y="3833640"/>
                <a:ext cx="152280" cy="123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4253040" y="3833640"/>
                <a:ext cx="153720" cy="505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5" name=""/>
            <p:cNvGrpSpPr/>
            <p:nvPr/>
          </p:nvGrpSpPr>
          <p:grpSpPr>
            <a:xfrm>
              <a:off x="3719520" y="3833640"/>
              <a:ext cx="228600" cy="505080"/>
              <a:chOff x="3719520" y="3833640"/>
              <a:chExt cx="228600" cy="505080"/>
            </a:xfrm>
          </p:grpSpPr>
          <p:sp>
            <p:nvSpPr>
              <p:cNvPr id="2876" name=""/>
              <p:cNvSpPr/>
              <p:nvPr/>
            </p:nvSpPr>
            <p:spPr>
              <a:xfrm>
                <a:off x="3795840" y="4213080"/>
                <a:ext cx="152280" cy="125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3795840" y="4086360"/>
                <a:ext cx="152280" cy="125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3795840" y="3959280"/>
                <a:ext cx="152280" cy="125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795840" y="3833640"/>
                <a:ext cx="152280" cy="123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3719520" y="3833640"/>
                <a:ext cx="152280" cy="505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1" name=""/>
            <p:cNvSpPr/>
            <p:nvPr/>
          </p:nvSpPr>
          <p:spPr>
            <a:xfrm flipV="1">
              <a:off x="4014720" y="3800160"/>
              <a:ext cx="1800" cy="56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 flipV="1">
              <a:off x="4091040" y="3800160"/>
              <a:ext cx="1440" cy="56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938760" y="3243240"/>
              <a:ext cx="12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T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4972680" y="43196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788160" y="3978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6" name=""/>
            <p:cNvGrpSpPr/>
            <p:nvPr/>
          </p:nvGrpSpPr>
          <p:grpSpPr>
            <a:xfrm>
              <a:off x="5921280" y="3546360"/>
              <a:ext cx="152640" cy="1014480"/>
              <a:chOff x="5921280" y="3546360"/>
              <a:chExt cx="152640" cy="1014480"/>
            </a:xfrm>
          </p:grpSpPr>
          <p:sp>
            <p:nvSpPr>
              <p:cNvPr id="2887" name=""/>
              <p:cNvSpPr/>
              <p:nvPr/>
            </p:nvSpPr>
            <p:spPr>
              <a:xfrm>
                <a:off x="5997600" y="3546360"/>
                <a:ext cx="1440" cy="1014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H="1">
                <a:off x="5921280" y="3546360"/>
                <a:ext cx="76320" cy="12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997600" y="3546360"/>
                <a:ext cx="76320" cy="12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0" name=""/>
            <p:cNvSpPr/>
            <p:nvPr/>
          </p:nvSpPr>
          <p:spPr>
            <a:xfrm>
              <a:off x="5970600" y="3463920"/>
              <a:ext cx="54000" cy="41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5970600" y="4603680"/>
              <a:ext cx="54000" cy="41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115680" y="3940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6254640" y="40417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1805040" y="6272280"/>
              <a:ext cx="152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>
              <a:off x="3709800" y="5764320"/>
              <a:ext cx="15228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710160" y="5891040"/>
              <a:ext cx="1522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V="1">
              <a:off x="3862440" y="595476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>
              <a:off x="3786120" y="601812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710160" y="5764320"/>
              <a:ext cx="144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H="1">
              <a:off x="3024000" y="5891040"/>
              <a:ext cx="685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2997360" y="5872320"/>
              <a:ext cx="53640" cy="41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2685240" y="5776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2835000" y="58784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616720" y="3483000"/>
              <a:ext cx="144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5616720" y="4054320"/>
              <a:ext cx="1440" cy="57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5464080" y="4054320"/>
              <a:ext cx="30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5464080" y="3990960"/>
              <a:ext cx="30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5589720" y="3463920"/>
              <a:ext cx="54000" cy="41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5589720" y="4603680"/>
              <a:ext cx="54000" cy="41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5506200" y="38131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2948040" y="5575320"/>
              <a:ext cx="762120" cy="125280"/>
            </a:xfrm>
            <a:custGeom>
              <a:avLst/>
              <a:gdLst/>
              <a:ahLst/>
              <a:rect l="l" t="t" r="r" b="b"/>
              <a:pathLst>
                <a:path w="480" h="160">
                  <a:moveTo>
                    <a:pt x="0" y="160"/>
                  </a:moveTo>
                  <a:lnTo>
                    <a:pt x="96" y="160"/>
                  </a:lnTo>
                  <a:lnTo>
                    <a:pt x="96" y="0"/>
                  </a:lnTo>
                  <a:lnTo>
                    <a:pt x="192" y="0"/>
                  </a:lnTo>
                  <a:lnTo>
                    <a:pt x="192" y="160"/>
                  </a:lnTo>
                  <a:lnTo>
                    <a:pt x="288" y="160"/>
                  </a:lnTo>
                  <a:lnTo>
                    <a:pt x="288" y="0"/>
                  </a:lnTo>
                  <a:lnTo>
                    <a:pt x="384" y="0"/>
                  </a:lnTo>
                  <a:lnTo>
                    <a:pt x="384" y="160"/>
                  </a:lnTo>
                  <a:lnTo>
                    <a:pt x="480" y="1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4273560" y="3741840"/>
              <a:ext cx="55440" cy="41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3759120" y="4351320"/>
              <a:ext cx="54000" cy="41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862440" y="6018120"/>
              <a:ext cx="144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786120" y="6272280"/>
              <a:ext cx="152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490840" y="4815000"/>
              <a:ext cx="31258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517200" y="4510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586680" y="461160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9" name=""/>
            <p:cNvGrpSpPr/>
            <p:nvPr/>
          </p:nvGrpSpPr>
          <p:grpSpPr>
            <a:xfrm>
              <a:off x="5540400" y="4940280"/>
              <a:ext cx="152280" cy="1266840"/>
              <a:chOff x="5540400" y="4940280"/>
              <a:chExt cx="152280" cy="1266840"/>
            </a:xfrm>
          </p:grpSpPr>
          <p:sp>
            <p:nvSpPr>
              <p:cNvPr id="2920" name=""/>
              <p:cNvSpPr/>
              <p:nvPr/>
            </p:nvSpPr>
            <p:spPr>
              <a:xfrm>
                <a:off x="5616720" y="4940280"/>
                <a:ext cx="1440" cy="126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H="1">
                <a:off x="5540400" y="4940280"/>
                <a:ext cx="76320" cy="157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616720" y="4940280"/>
                <a:ext cx="75960" cy="157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3" name=""/>
            <p:cNvSpPr/>
            <p:nvPr/>
          </p:nvSpPr>
          <p:spPr>
            <a:xfrm>
              <a:off x="5734800" y="53341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5873400" y="54356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979440" y="58402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749760" y="4065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359600" y="4065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 flipH="1">
              <a:off x="2795400" y="4815000"/>
              <a:ext cx="1066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 flipV="1">
              <a:off x="2795760" y="3482640"/>
              <a:ext cx="1440" cy="15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2719440" y="3801960"/>
              <a:ext cx="152280" cy="31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2989800" y="38131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2643120" y="5130720"/>
              <a:ext cx="30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2643120" y="5067360"/>
              <a:ext cx="30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2989800" y="4889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2795760" y="5130720"/>
              <a:ext cx="144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2719440" y="5384880"/>
              <a:ext cx="152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7" name=""/>
            <p:cNvGrpSpPr/>
            <p:nvPr/>
          </p:nvGrpSpPr>
          <p:grpSpPr>
            <a:xfrm>
              <a:off x="2414520" y="4878360"/>
              <a:ext cx="152640" cy="631800"/>
              <a:chOff x="2414520" y="4878360"/>
              <a:chExt cx="152640" cy="631800"/>
            </a:xfrm>
          </p:grpSpPr>
          <p:sp>
            <p:nvSpPr>
              <p:cNvPr id="2938" name=""/>
              <p:cNvSpPr/>
              <p:nvPr/>
            </p:nvSpPr>
            <p:spPr>
              <a:xfrm>
                <a:off x="2490840" y="4878360"/>
                <a:ext cx="1440" cy="63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H="1">
                <a:off x="2414520" y="4878360"/>
                <a:ext cx="76320" cy="77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490840" y="4878360"/>
                <a:ext cx="76320" cy="77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1" name=""/>
            <p:cNvSpPr/>
            <p:nvPr/>
          </p:nvSpPr>
          <p:spPr>
            <a:xfrm>
              <a:off x="2151720" y="51436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2291400" y="524520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129480" y="499104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4" name=""/>
            <p:cNvGrpSpPr/>
            <p:nvPr/>
          </p:nvGrpSpPr>
          <p:grpSpPr>
            <a:xfrm>
              <a:off x="3481560" y="4750920"/>
              <a:ext cx="75960" cy="127440"/>
              <a:chOff x="3481560" y="4750920"/>
              <a:chExt cx="75960" cy="127440"/>
            </a:xfrm>
          </p:grpSpPr>
          <p:sp>
            <p:nvSpPr>
              <p:cNvPr id="2945" name=""/>
              <p:cNvSpPr/>
              <p:nvPr/>
            </p:nvSpPr>
            <p:spPr>
              <a:xfrm flipV="1">
                <a:off x="3481560" y="4750920"/>
                <a:ext cx="75960" cy="63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3481560" y="4815000"/>
                <a:ext cx="7596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7" name=""/>
            <p:cNvGrpSpPr/>
            <p:nvPr/>
          </p:nvGrpSpPr>
          <p:grpSpPr>
            <a:xfrm>
              <a:off x="3100320" y="4751280"/>
              <a:ext cx="152640" cy="127080"/>
              <a:chOff x="3100320" y="4751280"/>
              <a:chExt cx="152640" cy="127080"/>
            </a:xfrm>
          </p:grpSpPr>
          <p:sp>
            <p:nvSpPr>
              <p:cNvPr id="2948" name=""/>
              <p:cNvSpPr/>
              <p:nvPr/>
            </p:nvSpPr>
            <p:spPr>
              <a:xfrm>
                <a:off x="3100320" y="4751280"/>
                <a:ext cx="152640" cy="12708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0" y="80"/>
                    </a:moveTo>
                    <a:lnTo>
                      <a:pt x="96" y="160"/>
                    </a:lnTo>
                    <a:lnTo>
                      <a:pt x="96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3100320" y="4751280"/>
                <a:ext cx="180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0" name=""/>
            <p:cNvSpPr/>
            <p:nvPr/>
          </p:nvSpPr>
          <p:spPr>
            <a:xfrm>
              <a:off x="3142440" y="4510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205800" y="461160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129480" y="391464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2451240" y="46371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2491560" y="4738680"/>
              <a:ext cx="12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Tś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2098080" y="3851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768040" y="556272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kHz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3218040" y="57434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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2768760" y="4794120"/>
              <a:ext cx="53640" cy="41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2768760" y="3463920"/>
              <a:ext cx="53640" cy="41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3827520" y="4788000"/>
              <a:ext cx="54000" cy="41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1" name=""/>
          <p:cNvSpPr/>
          <p:nvPr/>
        </p:nvSpPr>
        <p:spPr>
          <a:xfrm rot="18606000">
            <a:off x="2084760" y="3606120"/>
            <a:ext cx="1441440" cy="20844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 rot="21259200">
            <a:off x="2874960" y="1058760"/>
            <a:ext cx="762120" cy="20844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kresy unormowanego napięcia wyjściowego przeciwbieżnego konwertera przy różnych wartościach współczynnik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 funkcji odwrotności rezystancji obcią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1649520" y="2739960"/>
            <a:ext cx="5851440" cy="3184560"/>
          </a:xfrm>
          <a:custGeom>
            <a:avLst/>
            <a:gdLst/>
            <a:ahLst/>
            <a:rect l="l" t="t" r="r" b="b"/>
            <a:pathLst>
              <a:path w="5936" h="3736">
                <a:moveTo>
                  <a:pt x="5936" y="3736"/>
                </a:moveTo>
                <a:lnTo>
                  <a:pt x="0" y="3736"/>
                </a:lnTo>
                <a:lnTo>
                  <a:pt x="0" y="0"/>
                </a:lnTo>
                <a:lnTo>
                  <a:pt x="438" y="0"/>
                </a:lnTo>
                <a:lnTo>
                  <a:pt x="454" y="0"/>
                </a:lnTo>
                <a:lnTo>
                  <a:pt x="538" y="228"/>
                </a:lnTo>
                <a:lnTo>
                  <a:pt x="636" y="451"/>
                </a:lnTo>
                <a:lnTo>
                  <a:pt x="745" y="667"/>
                </a:lnTo>
                <a:lnTo>
                  <a:pt x="866" y="879"/>
                </a:lnTo>
                <a:lnTo>
                  <a:pt x="1001" y="1084"/>
                </a:lnTo>
                <a:lnTo>
                  <a:pt x="1148" y="1282"/>
                </a:lnTo>
                <a:lnTo>
                  <a:pt x="1306" y="1472"/>
                </a:lnTo>
                <a:lnTo>
                  <a:pt x="1479" y="1659"/>
                </a:lnTo>
                <a:lnTo>
                  <a:pt x="1660" y="1835"/>
                </a:lnTo>
                <a:lnTo>
                  <a:pt x="1858" y="2008"/>
                </a:lnTo>
                <a:lnTo>
                  <a:pt x="2066" y="2175"/>
                </a:lnTo>
                <a:lnTo>
                  <a:pt x="2287" y="2336"/>
                </a:lnTo>
                <a:lnTo>
                  <a:pt x="2520" y="2489"/>
                </a:lnTo>
                <a:lnTo>
                  <a:pt x="2767" y="2636"/>
                </a:lnTo>
                <a:lnTo>
                  <a:pt x="3023" y="2775"/>
                </a:lnTo>
                <a:lnTo>
                  <a:pt x="3295" y="2910"/>
                </a:lnTo>
                <a:lnTo>
                  <a:pt x="3577" y="3036"/>
                </a:lnTo>
                <a:lnTo>
                  <a:pt x="3870" y="3155"/>
                </a:lnTo>
                <a:lnTo>
                  <a:pt x="4178" y="3266"/>
                </a:lnTo>
                <a:lnTo>
                  <a:pt x="4499" y="3371"/>
                </a:lnTo>
                <a:lnTo>
                  <a:pt x="4830" y="3469"/>
                </a:lnTo>
                <a:lnTo>
                  <a:pt x="5174" y="3562"/>
                </a:lnTo>
                <a:lnTo>
                  <a:pt x="5531" y="3645"/>
                </a:lnTo>
                <a:lnTo>
                  <a:pt x="5901" y="3725"/>
                </a:lnTo>
                <a:lnTo>
                  <a:pt x="5936" y="373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1649520" y="2365200"/>
            <a:ext cx="3240" cy="355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1649520" y="5924520"/>
            <a:ext cx="60703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1649520" y="5548320"/>
            <a:ext cx="60703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1649520" y="4799160"/>
            <a:ext cx="6070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1649520" y="4051440"/>
            <a:ext cx="60703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1649520" y="3300480"/>
            <a:ext cx="60703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1884240" y="2755800"/>
            <a:ext cx="420840" cy="544680"/>
          </a:xfrm>
          <a:custGeom>
            <a:avLst/>
            <a:gdLst/>
            <a:ahLst/>
            <a:rect l="l" t="t" r="r" b="b"/>
            <a:pathLst>
              <a:path w="426" h="640">
                <a:moveTo>
                  <a:pt x="0" y="0"/>
                </a:moveTo>
                <a:lnTo>
                  <a:pt x="9" y="63"/>
                </a:lnTo>
                <a:lnTo>
                  <a:pt x="21" y="126"/>
                </a:lnTo>
                <a:lnTo>
                  <a:pt x="35" y="184"/>
                </a:lnTo>
                <a:lnTo>
                  <a:pt x="51" y="238"/>
                </a:lnTo>
                <a:lnTo>
                  <a:pt x="69" y="291"/>
                </a:lnTo>
                <a:lnTo>
                  <a:pt x="93" y="338"/>
                </a:lnTo>
                <a:lnTo>
                  <a:pt x="116" y="384"/>
                </a:lnTo>
                <a:lnTo>
                  <a:pt x="142" y="426"/>
                </a:lnTo>
                <a:lnTo>
                  <a:pt x="167" y="463"/>
                </a:lnTo>
                <a:lnTo>
                  <a:pt x="198" y="498"/>
                </a:lnTo>
                <a:lnTo>
                  <a:pt x="230" y="531"/>
                </a:lnTo>
                <a:lnTo>
                  <a:pt x="265" y="559"/>
                </a:lnTo>
                <a:lnTo>
                  <a:pt x="302" y="584"/>
                </a:lnTo>
                <a:lnTo>
                  <a:pt x="340" y="605"/>
                </a:lnTo>
                <a:lnTo>
                  <a:pt x="382" y="624"/>
                </a:lnTo>
                <a:lnTo>
                  <a:pt x="426" y="640"/>
                </a:lnTo>
              </a:path>
            </a:pathLst>
          </a:custGeom>
          <a:noFill/>
          <a:ln w="12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1809720" y="2739960"/>
            <a:ext cx="1360440" cy="1308240"/>
          </a:xfrm>
          <a:custGeom>
            <a:avLst/>
            <a:gdLst/>
            <a:ahLst/>
            <a:rect l="l" t="t" r="r" b="b"/>
            <a:pathLst>
              <a:path w="1381" h="1535">
                <a:moveTo>
                  <a:pt x="0" y="0"/>
                </a:moveTo>
                <a:lnTo>
                  <a:pt x="14" y="132"/>
                </a:lnTo>
                <a:lnTo>
                  <a:pt x="30" y="258"/>
                </a:lnTo>
                <a:lnTo>
                  <a:pt x="51" y="379"/>
                </a:lnTo>
                <a:lnTo>
                  <a:pt x="74" y="493"/>
                </a:lnTo>
                <a:lnTo>
                  <a:pt x="100" y="598"/>
                </a:lnTo>
                <a:lnTo>
                  <a:pt x="128" y="698"/>
                </a:lnTo>
                <a:lnTo>
                  <a:pt x="160" y="791"/>
                </a:lnTo>
                <a:lnTo>
                  <a:pt x="198" y="877"/>
                </a:lnTo>
                <a:lnTo>
                  <a:pt x="233" y="951"/>
                </a:lnTo>
                <a:lnTo>
                  <a:pt x="272" y="1021"/>
                </a:lnTo>
                <a:lnTo>
                  <a:pt x="312" y="1082"/>
                </a:lnTo>
                <a:lnTo>
                  <a:pt x="356" y="1137"/>
                </a:lnTo>
                <a:lnTo>
                  <a:pt x="403" y="1186"/>
                </a:lnTo>
                <a:lnTo>
                  <a:pt x="459" y="1230"/>
                </a:lnTo>
                <a:lnTo>
                  <a:pt x="519" y="1272"/>
                </a:lnTo>
                <a:lnTo>
                  <a:pt x="591" y="1317"/>
                </a:lnTo>
                <a:lnTo>
                  <a:pt x="668" y="1354"/>
                </a:lnTo>
                <a:lnTo>
                  <a:pt x="750" y="1391"/>
                </a:lnTo>
                <a:lnTo>
                  <a:pt x="840" y="1424"/>
                </a:lnTo>
                <a:lnTo>
                  <a:pt x="936" y="1451"/>
                </a:lnTo>
                <a:lnTo>
                  <a:pt x="1036" y="1477"/>
                </a:lnTo>
                <a:lnTo>
                  <a:pt x="1145" y="1500"/>
                </a:lnTo>
                <a:lnTo>
                  <a:pt x="1260" y="1519"/>
                </a:lnTo>
                <a:lnTo>
                  <a:pt x="1381" y="1535"/>
                </a:lnTo>
              </a:path>
            </a:pathLst>
          </a:custGeom>
          <a:noFill/>
          <a:ln w="16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1741320" y="2746440"/>
            <a:ext cx="2281320" cy="2036520"/>
          </a:xfrm>
          <a:custGeom>
            <a:avLst/>
            <a:gdLst/>
            <a:ahLst/>
            <a:rect l="l" t="t" r="r" b="b"/>
            <a:pathLst>
              <a:path w="2315" h="2389">
                <a:moveTo>
                  <a:pt x="0" y="0"/>
                </a:moveTo>
                <a:lnTo>
                  <a:pt x="21" y="207"/>
                </a:lnTo>
                <a:lnTo>
                  <a:pt x="51" y="405"/>
                </a:lnTo>
                <a:lnTo>
                  <a:pt x="84" y="591"/>
                </a:lnTo>
                <a:lnTo>
                  <a:pt x="123" y="768"/>
                </a:lnTo>
                <a:lnTo>
                  <a:pt x="168" y="933"/>
                </a:lnTo>
                <a:lnTo>
                  <a:pt x="216" y="1086"/>
                </a:lnTo>
                <a:lnTo>
                  <a:pt x="270" y="1231"/>
                </a:lnTo>
                <a:lnTo>
                  <a:pt x="331" y="1366"/>
                </a:lnTo>
                <a:lnTo>
                  <a:pt x="391" y="1484"/>
                </a:lnTo>
                <a:lnTo>
                  <a:pt x="454" y="1589"/>
                </a:lnTo>
                <a:lnTo>
                  <a:pt x="524" y="1684"/>
                </a:lnTo>
                <a:lnTo>
                  <a:pt x="598" y="1771"/>
                </a:lnTo>
                <a:lnTo>
                  <a:pt x="680" y="1847"/>
                </a:lnTo>
                <a:lnTo>
                  <a:pt x="771" y="1917"/>
                </a:lnTo>
                <a:lnTo>
                  <a:pt x="873" y="1985"/>
                </a:lnTo>
                <a:lnTo>
                  <a:pt x="992" y="2050"/>
                </a:lnTo>
                <a:lnTo>
                  <a:pt x="1120" y="2110"/>
                </a:lnTo>
                <a:lnTo>
                  <a:pt x="1260" y="2166"/>
                </a:lnTo>
                <a:lnTo>
                  <a:pt x="1409" y="2217"/>
                </a:lnTo>
                <a:lnTo>
                  <a:pt x="1569" y="2261"/>
                </a:lnTo>
                <a:lnTo>
                  <a:pt x="1739" y="2301"/>
                </a:lnTo>
                <a:lnTo>
                  <a:pt x="1921" y="2336"/>
                </a:lnTo>
                <a:lnTo>
                  <a:pt x="2112" y="2364"/>
                </a:lnTo>
                <a:lnTo>
                  <a:pt x="2315" y="2389"/>
                </a:lnTo>
              </a:path>
            </a:pathLst>
          </a:custGeom>
          <a:noFill/>
          <a:ln w="28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660680" y="2744640"/>
            <a:ext cx="3233520" cy="2791080"/>
          </a:xfrm>
          <a:custGeom>
            <a:avLst/>
            <a:gdLst/>
            <a:ahLst/>
            <a:rect l="l" t="t" r="r" b="b"/>
            <a:pathLst>
              <a:path w="3284" h="3273">
                <a:moveTo>
                  <a:pt x="0" y="0"/>
                </a:moveTo>
                <a:lnTo>
                  <a:pt x="33" y="337"/>
                </a:lnTo>
                <a:lnTo>
                  <a:pt x="70" y="656"/>
                </a:lnTo>
                <a:lnTo>
                  <a:pt x="110" y="954"/>
                </a:lnTo>
                <a:lnTo>
                  <a:pt x="156" y="1230"/>
                </a:lnTo>
                <a:lnTo>
                  <a:pt x="205" y="1489"/>
                </a:lnTo>
                <a:lnTo>
                  <a:pt x="259" y="1726"/>
                </a:lnTo>
                <a:lnTo>
                  <a:pt x="315" y="1942"/>
                </a:lnTo>
                <a:lnTo>
                  <a:pt x="378" y="2140"/>
                </a:lnTo>
                <a:lnTo>
                  <a:pt x="431" y="2308"/>
                </a:lnTo>
                <a:lnTo>
                  <a:pt x="478" y="2452"/>
                </a:lnTo>
                <a:lnTo>
                  <a:pt x="524" y="2573"/>
                </a:lnTo>
                <a:lnTo>
                  <a:pt x="576" y="2675"/>
                </a:lnTo>
                <a:lnTo>
                  <a:pt x="641" y="2761"/>
                </a:lnTo>
                <a:lnTo>
                  <a:pt x="732" y="2838"/>
                </a:lnTo>
                <a:lnTo>
                  <a:pt x="853" y="2910"/>
                </a:lnTo>
                <a:lnTo>
                  <a:pt x="1013" y="2982"/>
                </a:lnTo>
                <a:lnTo>
                  <a:pt x="1207" y="3047"/>
                </a:lnTo>
                <a:lnTo>
                  <a:pt x="1426" y="3106"/>
                </a:lnTo>
                <a:lnTo>
                  <a:pt x="1672" y="3155"/>
                </a:lnTo>
                <a:lnTo>
                  <a:pt x="1942" y="3196"/>
                </a:lnTo>
                <a:lnTo>
                  <a:pt x="2241" y="3227"/>
                </a:lnTo>
                <a:lnTo>
                  <a:pt x="2562" y="3250"/>
                </a:lnTo>
                <a:lnTo>
                  <a:pt x="2909" y="3266"/>
                </a:lnTo>
                <a:lnTo>
                  <a:pt x="3284" y="327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2303640" y="3300480"/>
            <a:ext cx="541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3170160" y="4051440"/>
            <a:ext cx="4549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4037040" y="4799160"/>
            <a:ext cx="3682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4903920" y="5548320"/>
            <a:ext cx="281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7288200" y="5924520"/>
            <a:ext cx="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2085840" y="5924520"/>
            <a:ext cx="324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3600360" y="5924520"/>
            <a:ext cx="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1901880" y="6093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3490920" y="6093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6094440" y="6093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7185960" y="6093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7160760" y="5337000"/>
            <a:ext cx="48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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7160760" y="3835440"/>
            <a:ext cx="48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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7160760" y="4587840"/>
            <a:ext cx="48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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5304600" y="4971960"/>
            <a:ext cx="242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zar obciążenia nadkrytyczne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1870920" y="5156280"/>
            <a:ext cx="24238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zar obciążenia  podkrytyczne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1677960" y="1967040"/>
            <a:ext cx="24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1738440" y="215280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1652760" y="2178000"/>
            <a:ext cx="433080" cy="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1933200" y="22716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7575840" y="5716440"/>
            <a:ext cx="83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/Ro)(2L/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1346400" y="53434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1343160" y="459432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1339920" y="38448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1357560" y="30942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1293840" y="25322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6199200" y="5925960"/>
            <a:ext cx="3240" cy="18576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7101720" y="3087720"/>
            <a:ext cx="58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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"/>
          <p:cNvSpPr/>
          <p:nvPr/>
        </p:nvSpPr>
        <p:spPr>
          <a:xfrm>
            <a:off x="795960" y="29894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ONWERTERY   WEDŁUG  ICH   PRODUC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( wg NATIONAL SEMICONDUCT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lety konwerterów impulsow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257480"/>
            <a:ext cx="9144000" cy="484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łe wymi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 stosunku do przetwarzanych mo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uża gęstość mo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ża sprawność, zwykle tym większa im większą moc przetwarzaj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Łatwość transformacji napięć zasilającego (obniżanie, podwyższanie, zmiana znak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olacja galwaniczna między źródłem zasilającym (np. sieć 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obwodem wyjściowym i obciążeni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liwa praca przy małych napięciach zasilając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"/>
          <p:cNvSpPr/>
          <p:nvPr/>
        </p:nvSpPr>
        <p:spPr>
          <a:xfrm>
            <a:off x="1907640" y="2630520"/>
            <a:ext cx="47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wertery niesymetr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"/>
          <p:cNvSpPr/>
          <p:nvPr/>
        </p:nvSpPr>
        <p:spPr>
          <a:xfrm>
            <a:off x="0" y="2446200"/>
            <a:ext cx="9144000" cy="1519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uck regulator (=step down regulator -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obniżający napięc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oost regulator (=step up regulator -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odwyższający napięc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verting regulator (=buck-boos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odwracający polaryzacj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0" y="225360"/>
            <a:ext cx="8962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wertery niesymetrycz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bez izolacj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galwanicznej obwodów wejści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 wyjściow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"/>
          <p:cNvSpPr/>
          <p:nvPr/>
        </p:nvSpPr>
        <p:spPr>
          <a:xfrm>
            <a:off x="1208880" y="217440"/>
            <a:ext cx="75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uck regulator (=step down regulator -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obniżający napięc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8" name="" descr=""/>
          <p:cNvPicPr/>
          <p:nvPr/>
        </p:nvPicPr>
        <p:blipFill>
          <a:blip r:embed="rId1"/>
          <a:stretch/>
        </p:blipFill>
        <p:spPr>
          <a:xfrm>
            <a:off x="6705720" y="1650960"/>
            <a:ext cx="2239920" cy="352440"/>
          </a:xfrm>
          <a:prstGeom prst="rect">
            <a:avLst/>
          </a:prstGeom>
          <a:ln w="0">
            <a:noFill/>
          </a:ln>
        </p:spPr>
      </p:pic>
      <p:pic>
        <p:nvPicPr>
          <p:cNvPr id="3009" name="" descr=""/>
          <p:cNvPicPr/>
          <p:nvPr/>
        </p:nvPicPr>
        <p:blipFill>
          <a:blip r:embed="rId2"/>
          <a:stretch/>
        </p:blipFill>
        <p:spPr>
          <a:xfrm>
            <a:off x="284040" y="6070680"/>
            <a:ext cx="4562640" cy="609480"/>
          </a:xfrm>
          <a:prstGeom prst="rect">
            <a:avLst/>
          </a:prstGeom>
          <a:ln w="0">
            <a:noFill/>
          </a:ln>
        </p:spPr>
      </p:pic>
      <p:pic>
        <p:nvPicPr>
          <p:cNvPr id="3010" name="" descr=""/>
          <p:cNvPicPr/>
          <p:nvPr/>
        </p:nvPicPr>
        <p:blipFill>
          <a:blip r:embed="rId3"/>
          <a:stretch/>
        </p:blipFill>
        <p:spPr>
          <a:xfrm>
            <a:off x="7424640" y="6049800"/>
            <a:ext cx="1508400" cy="592200"/>
          </a:xfrm>
          <a:prstGeom prst="rect">
            <a:avLst/>
          </a:prstGeom>
          <a:ln w="0">
            <a:noFill/>
          </a:ln>
        </p:spPr>
      </p:pic>
      <p:pic>
        <p:nvPicPr>
          <p:cNvPr id="3011" name="" descr=""/>
          <p:cNvPicPr/>
          <p:nvPr/>
        </p:nvPicPr>
        <p:blipFill>
          <a:blip r:embed="rId4"/>
          <a:stretch/>
        </p:blipFill>
        <p:spPr>
          <a:xfrm>
            <a:off x="1103400" y="797040"/>
            <a:ext cx="5707080" cy="2117520"/>
          </a:xfrm>
          <a:prstGeom prst="rect">
            <a:avLst/>
          </a:prstGeom>
          <a:ln w="0">
            <a:noFill/>
          </a:ln>
        </p:spPr>
      </p:pic>
      <p:pic>
        <p:nvPicPr>
          <p:cNvPr id="3012" name="" descr=""/>
          <p:cNvPicPr/>
          <p:nvPr/>
        </p:nvPicPr>
        <p:blipFill>
          <a:blip r:embed="rId5"/>
          <a:stretch/>
        </p:blipFill>
        <p:spPr>
          <a:xfrm>
            <a:off x="801720" y="3070080"/>
            <a:ext cx="61689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"/>
          <p:cNvSpPr/>
          <p:nvPr/>
        </p:nvSpPr>
        <p:spPr>
          <a:xfrm>
            <a:off x="1236960" y="231840"/>
            <a:ext cx="64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oost regulator (step up -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odwyższający napięc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4" name="" descr=""/>
          <p:cNvPicPr/>
          <p:nvPr/>
        </p:nvPicPr>
        <p:blipFill>
          <a:blip r:embed="rId1"/>
          <a:stretch/>
        </p:blipFill>
        <p:spPr>
          <a:xfrm>
            <a:off x="1035000" y="4322880"/>
            <a:ext cx="2954520" cy="517320"/>
          </a:xfrm>
          <a:prstGeom prst="rect">
            <a:avLst/>
          </a:prstGeom>
          <a:ln w="0">
            <a:noFill/>
          </a:ln>
        </p:spPr>
      </p:pic>
      <p:pic>
        <p:nvPicPr>
          <p:cNvPr id="3015" name="" descr=""/>
          <p:cNvPicPr/>
          <p:nvPr/>
        </p:nvPicPr>
        <p:blipFill>
          <a:blip r:embed="rId2"/>
          <a:stretch/>
        </p:blipFill>
        <p:spPr>
          <a:xfrm>
            <a:off x="272880" y="5764320"/>
            <a:ext cx="4299120" cy="834840"/>
          </a:xfrm>
          <a:prstGeom prst="rect">
            <a:avLst/>
          </a:prstGeom>
          <a:ln w="0">
            <a:noFill/>
          </a:ln>
        </p:spPr>
      </p:pic>
      <p:pic>
        <p:nvPicPr>
          <p:cNvPr id="3016" name="" descr=""/>
          <p:cNvPicPr/>
          <p:nvPr/>
        </p:nvPicPr>
        <p:blipFill>
          <a:blip r:embed="rId3"/>
          <a:stretch/>
        </p:blipFill>
        <p:spPr>
          <a:xfrm>
            <a:off x="7558200" y="6108840"/>
            <a:ext cx="1434960" cy="563400"/>
          </a:xfrm>
          <a:prstGeom prst="rect">
            <a:avLst/>
          </a:prstGeom>
          <a:ln w="0">
            <a:noFill/>
          </a:ln>
        </p:spPr>
      </p:pic>
      <p:pic>
        <p:nvPicPr>
          <p:cNvPr id="3017" name="" descr=""/>
          <p:cNvPicPr/>
          <p:nvPr/>
        </p:nvPicPr>
        <p:blipFill>
          <a:blip r:embed="rId4"/>
          <a:stretch/>
        </p:blipFill>
        <p:spPr>
          <a:xfrm>
            <a:off x="865080" y="865080"/>
            <a:ext cx="716940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"/>
          <p:cNvSpPr/>
          <p:nvPr/>
        </p:nvSpPr>
        <p:spPr>
          <a:xfrm>
            <a:off x="642960" y="169920"/>
            <a:ext cx="75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verting regulator, (buck-boost -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odwracający polaryzacj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9" name="" descr=""/>
          <p:cNvPicPr/>
          <p:nvPr/>
        </p:nvPicPr>
        <p:blipFill>
          <a:blip r:embed="rId1"/>
          <a:stretch/>
        </p:blipFill>
        <p:spPr>
          <a:xfrm>
            <a:off x="2728800" y="4197240"/>
            <a:ext cx="2954520" cy="517680"/>
          </a:xfrm>
          <a:prstGeom prst="rect">
            <a:avLst/>
          </a:prstGeom>
          <a:ln w="0">
            <a:noFill/>
          </a:ln>
        </p:spPr>
      </p:pic>
      <p:pic>
        <p:nvPicPr>
          <p:cNvPr id="3020" name="" descr=""/>
          <p:cNvPicPr/>
          <p:nvPr/>
        </p:nvPicPr>
        <p:blipFill>
          <a:blip r:embed="rId2"/>
          <a:stretch/>
        </p:blipFill>
        <p:spPr>
          <a:xfrm>
            <a:off x="7534440" y="6043680"/>
            <a:ext cx="1434960" cy="563400"/>
          </a:xfrm>
          <a:prstGeom prst="rect">
            <a:avLst/>
          </a:prstGeom>
          <a:ln w="0">
            <a:noFill/>
          </a:ln>
        </p:spPr>
      </p:pic>
      <p:pic>
        <p:nvPicPr>
          <p:cNvPr id="3021" name="" descr=""/>
          <p:cNvPicPr/>
          <p:nvPr/>
        </p:nvPicPr>
        <p:blipFill>
          <a:blip r:embed="rId3"/>
          <a:stretch/>
        </p:blipFill>
        <p:spPr>
          <a:xfrm>
            <a:off x="2130480" y="1212840"/>
            <a:ext cx="45594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"/>
          <p:cNvSpPr/>
          <p:nvPr/>
        </p:nvSpPr>
        <p:spPr>
          <a:xfrm>
            <a:off x="200160" y="2700360"/>
            <a:ext cx="86929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lyback converter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dwutaktowy konwerter = przeciwbieżn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0" y="26208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wertery niesymetrycz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z izolacją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galwaniczną obwodów wejściowych i wyjściow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4" name="" descr=""/>
          <p:cNvPicPr/>
          <p:nvPr/>
        </p:nvPicPr>
        <p:blipFill>
          <a:blip r:embed="rId1"/>
          <a:stretch/>
        </p:blipFill>
        <p:spPr>
          <a:xfrm>
            <a:off x="4976640" y="2219400"/>
            <a:ext cx="3846600" cy="377640"/>
          </a:xfrm>
          <a:prstGeom prst="rect">
            <a:avLst/>
          </a:prstGeom>
          <a:ln w="0">
            <a:noFill/>
          </a:ln>
        </p:spPr>
      </p:pic>
      <p:pic>
        <p:nvPicPr>
          <p:cNvPr id="3025" name="" descr=""/>
          <p:cNvPicPr/>
          <p:nvPr/>
        </p:nvPicPr>
        <p:blipFill>
          <a:blip r:embed="rId2"/>
          <a:stretch/>
        </p:blipFill>
        <p:spPr>
          <a:xfrm>
            <a:off x="0" y="880920"/>
            <a:ext cx="4991040" cy="3038760"/>
          </a:xfrm>
          <a:prstGeom prst="rect">
            <a:avLst/>
          </a:prstGeom>
          <a:ln w="0">
            <a:noFill/>
          </a:ln>
        </p:spPr>
      </p:pic>
      <p:pic>
        <p:nvPicPr>
          <p:cNvPr id="3026" name="" descr=""/>
          <p:cNvPicPr/>
          <p:nvPr/>
        </p:nvPicPr>
        <p:blipFill>
          <a:blip r:embed="rId3"/>
          <a:stretch/>
        </p:blipFill>
        <p:spPr>
          <a:xfrm>
            <a:off x="123840" y="4238640"/>
            <a:ext cx="4448160" cy="2390760"/>
          </a:xfrm>
          <a:prstGeom prst="rect">
            <a:avLst/>
          </a:prstGeom>
          <a:ln w="0">
            <a:noFill/>
          </a:ln>
        </p:spPr>
      </p:pic>
      <p:pic>
        <p:nvPicPr>
          <p:cNvPr id="3027" name="" descr=""/>
          <p:cNvPicPr/>
          <p:nvPr/>
        </p:nvPicPr>
        <p:blipFill>
          <a:blip r:embed="rId4"/>
          <a:stretch/>
        </p:blipFill>
        <p:spPr>
          <a:xfrm>
            <a:off x="7361280" y="6068880"/>
            <a:ext cx="1434960" cy="563760"/>
          </a:xfrm>
          <a:prstGeom prst="rect">
            <a:avLst/>
          </a:prstGeom>
          <a:ln w="0">
            <a:noFill/>
          </a:ln>
        </p:spPr>
      </p:pic>
      <p:sp>
        <p:nvSpPr>
          <p:cNvPr id="3028" name=""/>
          <p:cNvSpPr/>
          <p:nvPr/>
        </p:nvSpPr>
        <p:spPr>
          <a:xfrm>
            <a:off x="1024200" y="192240"/>
            <a:ext cx="74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lyback converter -dwutaktowy konwerter (przeciwbież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9" name="" descr=""/>
          <p:cNvPicPr/>
          <p:nvPr/>
        </p:nvPicPr>
        <p:blipFill>
          <a:blip r:embed="rId1"/>
          <a:stretch/>
        </p:blipFill>
        <p:spPr>
          <a:xfrm>
            <a:off x="0" y="5948280"/>
            <a:ext cx="1434960" cy="563760"/>
          </a:xfrm>
          <a:prstGeom prst="rect">
            <a:avLst/>
          </a:prstGeom>
          <a:ln w="0">
            <a:noFill/>
          </a:ln>
        </p:spPr>
      </p:pic>
      <p:sp>
        <p:nvSpPr>
          <p:cNvPr id="3030" name=""/>
          <p:cNvSpPr/>
          <p:nvPr/>
        </p:nvSpPr>
        <p:spPr>
          <a:xfrm>
            <a:off x="991800" y="177840"/>
            <a:ext cx="70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owy schemat blokowy zasilacza dwutakt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zeciwbieżne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1" name="" descr=""/>
          <p:cNvPicPr/>
          <p:nvPr/>
        </p:nvPicPr>
        <p:blipFill>
          <a:blip r:embed="rId2"/>
          <a:stretch/>
        </p:blipFill>
        <p:spPr>
          <a:xfrm>
            <a:off x="611280" y="1670040"/>
            <a:ext cx="80150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chy konwerterów przeciwbież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-11520" y="1811160"/>
            <a:ext cx="906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wertery przeciwbieżne „nie lubią” pracy bez obciążen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suje się tzw. wstępne obciążenie, co pogarsza sprawnoś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braku obciążenia napięcia na kluczu osiągają bardzo duże wartośc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zepięcia) dlatego w konwerterach przeciwbieżnych stosuje si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zw. układy tłumiące, zmniejszające wartości napięć na kluc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4" name="" descr=""/>
          <p:cNvPicPr/>
          <p:nvPr/>
        </p:nvPicPr>
        <p:blipFill>
          <a:blip r:embed="rId1"/>
          <a:stretch/>
        </p:blipFill>
        <p:spPr>
          <a:xfrm>
            <a:off x="0" y="3728880"/>
            <a:ext cx="4352760" cy="2857680"/>
          </a:xfrm>
          <a:prstGeom prst="rect">
            <a:avLst/>
          </a:prstGeom>
          <a:ln w="0">
            <a:noFill/>
          </a:ln>
        </p:spPr>
      </p:pic>
      <p:pic>
        <p:nvPicPr>
          <p:cNvPr id="3035" name="" descr=""/>
          <p:cNvPicPr/>
          <p:nvPr/>
        </p:nvPicPr>
        <p:blipFill>
          <a:blip r:embed="rId2"/>
          <a:stretch/>
        </p:blipFill>
        <p:spPr>
          <a:xfrm>
            <a:off x="1631880" y="593640"/>
            <a:ext cx="6039000" cy="3419640"/>
          </a:xfrm>
          <a:prstGeom prst="rect">
            <a:avLst/>
          </a:prstGeom>
          <a:ln w="0">
            <a:noFill/>
          </a:ln>
        </p:spPr>
      </p:pic>
      <p:sp>
        <p:nvSpPr>
          <p:cNvPr id="3036" name=""/>
          <p:cNvSpPr/>
          <p:nvPr/>
        </p:nvSpPr>
        <p:spPr>
          <a:xfrm>
            <a:off x="801720" y="181080"/>
            <a:ext cx="75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orward conwerter - współbieżny (jednotaktowy) konw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7" name="" descr=""/>
          <p:cNvPicPr/>
          <p:nvPr/>
        </p:nvPicPr>
        <p:blipFill>
          <a:blip r:embed="rId3"/>
          <a:stretch/>
        </p:blipFill>
        <p:spPr>
          <a:xfrm>
            <a:off x="4459320" y="4284720"/>
            <a:ext cx="4381560" cy="2009880"/>
          </a:xfrm>
          <a:prstGeom prst="rect">
            <a:avLst/>
          </a:prstGeom>
          <a:ln w="0">
            <a:noFill/>
          </a:ln>
        </p:spPr>
      </p:pic>
      <p:pic>
        <p:nvPicPr>
          <p:cNvPr id="3038" name="" descr=""/>
          <p:cNvPicPr/>
          <p:nvPr/>
        </p:nvPicPr>
        <p:blipFill>
          <a:blip r:embed="rId4"/>
          <a:stretch/>
        </p:blipFill>
        <p:spPr>
          <a:xfrm>
            <a:off x="7521480" y="6129360"/>
            <a:ext cx="1435320" cy="563400"/>
          </a:xfrm>
          <a:prstGeom prst="rect">
            <a:avLst/>
          </a:prstGeom>
          <a:ln w="0">
            <a:noFill/>
          </a:ln>
        </p:spPr>
      </p:pic>
      <p:pic>
        <p:nvPicPr>
          <p:cNvPr id="3039" name="" descr=""/>
          <p:cNvPicPr/>
          <p:nvPr/>
        </p:nvPicPr>
        <p:blipFill>
          <a:blip r:embed="rId5"/>
          <a:stretch/>
        </p:blipFill>
        <p:spPr>
          <a:xfrm>
            <a:off x="5280120" y="1162080"/>
            <a:ext cx="2152440" cy="247680"/>
          </a:xfrm>
          <a:prstGeom prst="rect">
            <a:avLst/>
          </a:prstGeom>
          <a:ln w="0">
            <a:noFill/>
          </a:ln>
        </p:spPr>
      </p:pic>
      <p:pic>
        <p:nvPicPr>
          <p:cNvPr id="3040" name="" descr=""/>
          <p:cNvPicPr/>
          <p:nvPr/>
        </p:nvPicPr>
        <p:blipFill>
          <a:blip r:embed="rId6"/>
          <a:stretch/>
        </p:blipFill>
        <p:spPr>
          <a:xfrm>
            <a:off x="1305000" y="6373800"/>
            <a:ext cx="215244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dy konwerterów impulsow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28800"/>
            <a:ext cx="9144000" cy="4167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ą źródłem zakłóceń impulsowych, utrudniających ich wykorzystanie (np. w aparaturze zawierającej czułe wzmacniacz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ą znacznie bardziej skomplikowane i rozbudowane niż stabiliz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 działaniu ciągłym, co powoduje zmniejszenie ich trwał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 niezawodnośc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orównaniu do stabilizatorów kompensacyjnych charakteryzują si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orszą stabilizacją napięcia wyjściowego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oraz mniejszą szybkość reakcji na zmiany obciążenia i napięć zasilających -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line respons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load respons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"/>
          <p:cNvSpPr/>
          <p:nvPr/>
        </p:nvSpPr>
        <p:spPr>
          <a:xfrm>
            <a:off x="2021040" y="601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wertery symetr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1687680" y="2795760"/>
            <a:ext cx="5664240" cy="162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ciwsobny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ush-p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ółmostkowy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half bridge conv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stkowy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 bridge conv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3" name="" descr=""/>
          <p:cNvPicPr/>
          <p:nvPr/>
        </p:nvPicPr>
        <p:blipFill>
          <a:blip r:embed="rId1"/>
          <a:stretch/>
        </p:blipFill>
        <p:spPr>
          <a:xfrm>
            <a:off x="1136520" y="1239840"/>
            <a:ext cx="6427800" cy="3219480"/>
          </a:xfrm>
          <a:prstGeom prst="rect">
            <a:avLst/>
          </a:prstGeom>
          <a:ln w="0">
            <a:noFill/>
          </a:ln>
        </p:spPr>
      </p:pic>
      <p:sp>
        <p:nvSpPr>
          <p:cNvPr id="3044" name=""/>
          <p:cNvSpPr/>
          <p:nvPr/>
        </p:nvSpPr>
        <p:spPr>
          <a:xfrm>
            <a:off x="1387080" y="290520"/>
            <a:ext cx="62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ciwsobny konwerter - (=push-pull conver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5" name="" descr=""/>
          <p:cNvPicPr/>
          <p:nvPr/>
        </p:nvPicPr>
        <p:blipFill>
          <a:blip r:embed="rId2"/>
          <a:stretch/>
        </p:blipFill>
        <p:spPr>
          <a:xfrm>
            <a:off x="5216400" y="1181160"/>
            <a:ext cx="2922840" cy="328680"/>
          </a:xfrm>
          <a:prstGeom prst="rect">
            <a:avLst/>
          </a:prstGeom>
          <a:ln w="0">
            <a:noFill/>
          </a:ln>
        </p:spPr>
      </p:pic>
      <p:pic>
        <p:nvPicPr>
          <p:cNvPr id="3046" name="" descr=""/>
          <p:cNvPicPr/>
          <p:nvPr/>
        </p:nvPicPr>
        <p:blipFill>
          <a:blip r:embed="rId3"/>
          <a:stretch/>
        </p:blipFill>
        <p:spPr>
          <a:xfrm>
            <a:off x="7485120" y="6080040"/>
            <a:ext cx="1434960" cy="563760"/>
          </a:xfrm>
          <a:prstGeom prst="rect">
            <a:avLst/>
          </a:prstGeom>
          <a:ln w="0">
            <a:noFill/>
          </a:ln>
        </p:spPr>
      </p:pic>
      <p:pic>
        <p:nvPicPr>
          <p:cNvPr id="3047" name="" descr=""/>
          <p:cNvPicPr/>
          <p:nvPr/>
        </p:nvPicPr>
        <p:blipFill>
          <a:blip r:embed="rId4"/>
          <a:stretch/>
        </p:blipFill>
        <p:spPr>
          <a:xfrm>
            <a:off x="345960" y="4702320"/>
            <a:ext cx="4324320" cy="1933560"/>
          </a:xfrm>
          <a:prstGeom prst="rect">
            <a:avLst/>
          </a:prstGeom>
          <a:ln w="0">
            <a:noFill/>
          </a:ln>
        </p:spPr>
      </p:pic>
      <p:sp>
        <p:nvSpPr>
          <p:cNvPr id="3048" name=""/>
          <p:cNvSpPr/>
          <p:nvPr/>
        </p:nvSpPr>
        <p:spPr>
          <a:xfrm>
            <a:off x="1824120" y="3637080"/>
            <a:ext cx="4373640" cy="1101600"/>
          </a:xfrm>
          <a:custGeom>
            <a:avLst/>
            <a:gdLst/>
            <a:ahLst/>
            <a:rect l="l" t="t" r="r" b="b"/>
            <a:pathLst>
              <a:path w="2755" h="694">
                <a:moveTo>
                  <a:pt x="2755" y="0"/>
                </a:moveTo>
                <a:cubicBezTo>
                  <a:pt x="2720" y="50"/>
                  <a:pt x="2698" y="237"/>
                  <a:pt x="2543" y="308"/>
                </a:cubicBezTo>
                <a:cubicBezTo>
                  <a:pt x="2388" y="379"/>
                  <a:pt x="2204" y="380"/>
                  <a:pt x="1827" y="429"/>
                </a:cubicBezTo>
                <a:cubicBezTo>
                  <a:pt x="1451" y="479"/>
                  <a:pt x="575" y="561"/>
                  <a:pt x="287" y="605"/>
                </a:cubicBezTo>
                <a:cubicBezTo>
                  <a:pt x="0" y="650"/>
                  <a:pt x="49" y="671"/>
                  <a:pt x="99" y="694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1508040" y="4687920"/>
            <a:ext cx="1744920" cy="2728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"/>
          <p:cNvSpPr/>
          <p:nvPr/>
        </p:nvSpPr>
        <p:spPr>
          <a:xfrm>
            <a:off x="2229840" y="228600"/>
            <a:ext cx="46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ółmostkowy - half bridge conv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1" name="" descr=""/>
          <p:cNvPicPr/>
          <p:nvPr/>
        </p:nvPicPr>
        <p:blipFill>
          <a:blip r:embed="rId1"/>
          <a:stretch/>
        </p:blipFill>
        <p:spPr>
          <a:xfrm>
            <a:off x="4809960" y="1401840"/>
            <a:ext cx="3159360" cy="425520"/>
          </a:xfrm>
          <a:prstGeom prst="rect">
            <a:avLst/>
          </a:prstGeom>
          <a:ln w="0">
            <a:noFill/>
          </a:ln>
        </p:spPr>
      </p:pic>
      <p:pic>
        <p:nvPicPr>
          <p:cNvPr id="3052" name="" descr=""/>
          <p:cNvPicPr/>
          <p:nvPr/>
        </p:nvPicPr>
        <p:blipFill>
          <a:blip r:embed="rId2"/>
          <a:stretch/>
        </p:blipFill>
        <p:spPr>
          <a:xfrm>
            <a:off x="961920" y="1041480"/>
            <a:ext cx="3905280" cy="2990880"/>
          </a:xfrm>
          <a:prstGeom prst="rect">
            <a:avLst/>
          </a:prstGeom>
          <a:ln w="0">
            <a:noFill/>
          </a:ln>
        </p:spPr>
      </p:pic>
      <p:pic>
        <p:nvPicPr>
          <p:cNvPr id="3053" name="" descr=""/>
          <p:cNvPicPr/>
          <p:nvPr/>
        </p:nvPicPr>
        <p:blipFill>
          <a:blip r:embed="rId3"/>
          <a:stretch/>
        </p:blipFill>
        <p:spPr>
          <a:xfrm>
            <a:off x="4422600" y="4270320"/>
            <a:ext cx="4343400" cy="2200320"/>
          </a:xfrm>
          <a:prstGeom prst="rect">
            <a:avLst/>
          </a:prstGeom>
          <a:ln w="0">
            <a:noFill/>
          </a:ln>
        </p:spPr>
      </p:pic>
      <p:pic>
        <p:nvPicPr>
          <p:cNvPr id="3054" name="" descr=""/>
          <p:cNvPicPr/>
          <p:nvPr/>
        </p:nvPicPr>
        <p:blipFill>
          <a:blip r:embed="rId4"/>
          <a:stretch/>
        </p:blipFill>
        <p:spPr>
          <a:xfrm>
            <a:off x="7311960" y="290520"/>
            <a:ext cx="143532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"/>
          <p:cNvSpPr/>
          <p:nvPr/>
        </p:nvSpPr>
        <p:spPr>
          <a:xfrm>
            <a:off x="1932120" y="24120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stkowy - full bridge conv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6" name="" descr=""/>
          <p:cNvPicPr/>
          <p:nvPr/>
        </p:nvPicPr>
        <p:blipFill>
          <a:blip r:embed="rId1"/>
          <a:stretch/>
        </p:blipFill>
        <p:spPr>
          <a:xfrm>
            <a:off x="1930320" y="1093680"/>
            <a:ext cx="5000760" cy="3857760"/>
          </a:xfrm>
          <a:prstGeom prst="rect">
            <a:avLst/>
          </a:prstGeom>
          <a:ln w="0">
            <a:noFill/>
          </a:ln>
        </p:spPr>
      </p:pic>
      <p:pic>
        <p:nvPicPr>
          <p:cNvPr id="3057" name="" descr=""/>
          <p:cNvPicPr/>
          <p:nvPr/>
        </p:nvPicPr>
        <p:blipFill>
          <a:blip r:embed="rId2"/>
          <a:stretch/>
        </p:blipFill>
        <p:spPr>
          <a:xfrm>
            <a:off x="4633920" y="5603760"/>
            <a:ext cx="4334040" cy="1019160"/>
          </a:xfrm>
          <a:prstGeom prst="rect">
            <a:avLst/>
          </a:prstGeom>
          <a:ln w="0">
            <a:noFill/>
          </a:ln>
        </p:spPr>
      </p:pic>
      <p:pic>
        <p:nvPicPr>
          <p:cNvPr id="3058" name="" descr=""/>
          <p:cNvPicPr/>
          <p:nvPr/>
        </p:nvPicPr>
        <p:blipFill>
          <a:blip r:embed="rId3"/>
          <a:stretch/>
        </p:blipFill>
        <p:spPr>
          <a:xfrm>
            <a:off x="7311960" y="290520"/>
            <a:ext cx="143532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werter dwutaktowy - przykład symulacji w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0" name="" descr=""/>
          <p:cNvPicPr/>
          <p:nvPr/>
        </p:nvPicPr>
        <p:blipFill>
          <a:blip r:embed="rId1"/>
          <a:stretch/>
        </p:blipFill>
        <p:spPr>
          <a:xfrm>
            <a:off x="223920" y="979560"/>
            <a:ext cx="868212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werter dwutaktowy - przykład symulacji w PSpi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ezstratny transform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2" name="" descr=""/>
          <p:cNvPicPr/>
          <p:nvPr/>
        </p:nvPicPr>
        <p:blipFill>
          <a:blip r:embed="rId1"/>
          <a:stretch/>
        </p:blipFill>
        <p:spPr>
          <a:xfrm>
            <a:off x="290520" y="1162080"/>
            <a:ext cx="8504280" cy="50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werter dwutaktowy - straty w transformatorze TX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4" name="" descr=""/>
          <p:cNvPicPr/>
          <p:nvPr/>
        </p:nvPicPr>
        <p:blipFill>
          <a:blip r:embed="rId1"/>
          <a:stretch/>
        </p:blipFill>
        <p:spPr>
          <a:xfrm>
            <a:off x="263520" y="1219320"/>
            <a:ext cx="8648640" cy="51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0" y="2269800"/>
            <a:ext cx="92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stabilizacji napięcia wy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stabilizacji napięcia wy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6467400" y="2944800"/>
            <a:ext cx="5572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7024680" y="1703520"/>
            <a:ext cx="1440" cy="24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1627200" y="1454040"/>
            <a:ext cx="1116000" cy="111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1718280" y="1603440"/>
            <a:ext cx="83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onwe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1716480" y="1851120"/>
            <a:ext cx="63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pię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1716480" y="2101680"/>
            <a:ext cx="52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ł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 flipH="1">
            <a:off x="1162080" y="1703520"/>
            <a:ext cx="465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 flipH="1">
            <a:off x="1162080" y="2324160"/>
            <a:ext cx="4651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1128600" y="1662120"/>
            <a:ext cx="6696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6993000" y="2903400"/>
            <a:ext cx="6516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1128600" y="2282760"/>
            <a:ext cx="6696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 flipV="1">
            <a:off x="1162080" y="1825560"/>
            <a:ext cx="1440" cy="37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 flipH="1">
            <a:off x="1068480" y="1825560"/>
            <a:ext cx="93600" cy="247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1162080" y="1825560"/>
            <a:ext cx="92160" cy="247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789120" y="18511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882360" y="204948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2743200" y="2324160"/>
            <a:ext cx="2793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3022560" y="2324160"/>
            <a:ext cx="1800" cy="36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2928960" y="2693880"/>
            <a:ext cx="187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2743200" y="170352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8234280" y="1703520"/>
            <a:ext cx="1800" cy="12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8142120" y="2944800"/>
            <a:ext cx="1857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8142120" y="2076480"/>
            <a:ext cx="185760" cy="49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8418600" y="24732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8511480" y="2670120"/>
            <a:ext cx="13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6932520" y="2076480"/>
            <a:ext cx="185760" cy="49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7207200" y="22240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7299720" y="242244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6932520" y="4187880"/>
            <a:ext cx="1857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6932520" y="3317760"/>
            <a:ext cx="185760" cy="49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7207200" y="3467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7299720" y="366552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6993000" y="1662120"/>
            <a:ext cx="6516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5349960" y="4062240"/>
            <a:ext cx="744480" cy="746280"/>
          </a:xfrm>
          <a:custGeom>
            <a:avLst/>
            <a:gdLst/>
            <a:ahLst/>
            <a:rect l="l" t="t" r="r" b="b"/>
            <a:pathLst>
              <a:path w="384" h="512">
                <a:moveTo>
                  <a:pt x="384" y="0"/>
                </a:moveTo>
                <a:lnTo>
                  <a:pt x="0" y="256"/>
                </a:lnTo>
                <a:lnTo>
                  <a:pt x="384" y="512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6094440" y="4187880"/>
            <a:ext cx="3729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 flipV="1">
            <a:off x="6467400" y="2944440"/>
            <a:ext cx="1800" cy="12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6094440" y="4683240"/>
            <a:ext cx="2793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6373800" y="4683240"/>
            <a:ext cx="1440" cy="49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6373800" y="5181480"/>
            <a:ext cx="7444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7085160" y="5140440"/>
            <a:ext cx="6660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7207200" y="50832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7321320" y="519444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5963760" y="44607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6001560" y="40878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3952800" y="3940200"/>
            <a:ext cx="8398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 flipH="1">
            <a:off x="4792680" y="4435560"/>
            <a:ext cx="5572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2371680" y="4435560"/>
            <a:ext cx="15811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906560" y="2944800"/>
            <a:ext cx="557280" cy="995400"/>
          </a:xfrm>
          <a:custGeom>
            <a:avLst/>
            <a:gdLst/>
            <a:ahLst/>
            <a:rect l="l" t="t" r="r" b="b"/>
            <a:pathLst>
              <a:path w="288" h="682">
                <a:moveTo>
                  <a:pt x="288" y="682"/>
                </a:moveTo>
                <a:lnTo>
                  <a:pt x="144" y="0"/>
                </a:lnTo>
                <a:lnTo>
                  <a:pt x="0" y="682"/>
                </a:lnTo>
                <a:lnTo>
                  <a:pt x="288" y="68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2371680" y="3940200"/>
            <a:ext cx="180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1998720" y="3940200"/>
            <a:ext cx="324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 flipH="1">
            <a:off x="1533600" y="4435560"/>
            <a:ext cx="4651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511200" y="3691080"/>
            <a:ext cx="1022400" cy="148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601200" y="408780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600480" y="4338720"/>
            <a:ext cx="63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pię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599400" y="4586400"/>
            <a:ext cx="89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ójkątn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 flipV="1">
            <a:off x="2185920" y="2571840"/>
            <a:ext cx="1800" cy="37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417600" y="2819520"/>
            <a:ext cx="3255840" cy="2735280"/>
          </a:xfrm>
          <a:prstGeom prst="rect">
            <a:avLst/>
          </a:pr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2152800" y="2778120"/>
            <a:ext cx="6480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3639960" y="4394160"/>
            <a:ext cx="6696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2334600" y="37180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1996560" y="37180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918720" y="5299200"/>
            <a:ext cx="24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ulator szerokości impulsó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928800" y="3079800"/>
            <a:ext cx="96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om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5346360" y="5400720"/>
            <a:ext cx="144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zmacniacz błę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4225680" y="43387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l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6370560" y="12304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6462000" y="1428840"/>
            <a:ext cx="13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7458120" y="5637240"/>
            <a:ext cx="6516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865080" y="3386160"/>
            <a:ext cx="1287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2580840" y="39988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3939120" y="3135240"/>
            <a:ext cx="232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 flipH="1">
            <a:off x="2998800" y="3510000"/>
            <a:ext cx="882720" cy="600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 flipH="1">
            <a:off x="5397120" y="1498680"/>
            <a:ext cx="1041480" cy="167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5595840" y="420696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eliniowy modulator szerokości impuls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2370240" y="1452600"/>
            <a:ext cx="725400" cy="542880"/>
          </a:xfrm>
          <a:custGeom>
            <a:avLst/>
            <a:gdLst/>
            <a:ahLst/>
            <a:rect l="l" t="t" r="r" b="b"/>
            <a:pathLst>
              <a:path w="457" h="342">
                <a:moveTo>
                  <a:pt x="0" y="0"/>
                </a:moveTo>
                <a:lnTo>
                  <a:pt x="457" y="171"/>
                </a:lnTo>
                <a:lnTo>
                  <a:pt x="0" y="34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1374840" y="1905120"/>
            <a:ext cx="9954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2409840" y="1741320"/>
            <a:ext cx="19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2459880" y="174456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2424240" y="1469880"/>
            <a:ext cx="14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2468520" y="14731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 flipH="1">
            <a:off x="2098800" y="1633680"/>
            <a:ext cx="271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 flipV="1">
            <a:off x="2098800" y="1271520"/>
            <a:ext cx="1440" cy="362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2065320" y="1238400"/>
            <a:ext cx="69840" cy="6804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558720" y="1542960"/>
            <a:ext cx="819360" cy="6368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649440" y="1633680"/>
            <a:ext cx="180720" cy="361800"/>
          </a:xfrm>
          <a:custGeom>
            <a:avLst/>
            <a:gdLst/>
            <a:ahLst/>
            <a:rect l="l" t="t" r="r" b="b"/>
            <a:pathLst>
              <a:path w="114" h="228">
                <a:moveTo>
                  <a:pt x="0" y="228"/>
                </a:moveTo>
                <a:lnTo>
                  <a:pt x="0" y="171"/>
                </a:lnTo>
                <a:lnTo>
                  <a:pt x="57" y="57"/>
                </a:lnTo>
                <a:lnTo>
                  <a:pt x="114" y="0"/>
                </a:lnTo>
                <a:lnTo>
                  <a:pt x="114" y="228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830160" y="1633680"/>
            <a:ext cx="181080" cy="361800"/>
          </a:xfrm>
          <a:custGeom>
            <a:avLst/>
            <a:gdLst/>
            <a:ahLst/>
            <a:rect l="l" t="t" r="r" b="b"/>
            <a:pathLst>
              <a:path w="114" h="228">
                <a:moveTo>
                  <a:pt x="0" y="228"/>
                </a:moveTo>
                <a:lnTo>
                  <a:pt x="0" y="171"/>
                </a:lnTo>
                <a:lnTo>
                  <a:pt x="57" y="57"/>
                </a:lnTo>
                <a:lnTo>
                  <a:pt x="114" y="0"/>
                </a:lnTo>
                <a:lnTo>
                  <a:pt x="114" y="228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1011240" y="1633680"/>
            <a:ext cx="181080" cy="361800"/>
          </a:xfrm>
          <a:custGeom>
            <a:avLst/>
            <a:gdLst/>
            <a:ahLst/>
            <a:rect l="l" t="t" r="r" b="b"/>
            <a:pathLst>
              <a:path w="114" h="228">
                <a:moveTo>
                  <a:pt x="0" y="228"/>
                </a:moveTo>
                <a:lnTo>
                  <a:pt x="0" y="171"/>
                </a:lnTo>
                <a:lnTo>
                  <a:pt x="57" y="57"/>
                </a:lnTo>
                <a:lnTo>
                  <a:pt x="114" y="0"/>
                </a:lnTo>
                <a:lnTo>
                  <a:pt x="114" y="228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739800" y="2340000"/>
            <a:ext cx="6048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783360" y="234000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2641680" y="1976400"/>
            <a:ext cx="62712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2640600" y="1976400"/>
            <a:ext cx="53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ma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 flipH="1">
            <a:off x="3095640" y="1724040"/>
            <a:ext cx="271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3333600" y="1690560"/>
            <a:ext cx="69840" cy="6984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 flipH="1" flipV="1">
            <a:off x="2188800" y="1814400"/>
            <a:ext cx="181080" cy="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 flipH="1">
            <a:off x="2188800" y="1905120"/>
            <a:ext cx="181080" cy="90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1465200" y="165096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1510920" y="16542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1555920" y="1795320"/>
            <a:ext cx="12204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1585080" y="17953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2189160" y="1017720"/>
            <a:ext cx="2142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2234880" y="10206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2279520" y="1162080"/>
            <a:ext cx="11592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2309760" y="11620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3457440" y="1560600"/>
            <a:ext cx="2127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3503160" y="1563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3548160" y="1704960"/>
            <a:ext cx="20304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3580920" y="17049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4635360" y="1181160"/>
            <a:ext cx="1800" cy="117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4635360" y="2357280"/>
            <a:ext cx="344196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 flipH="1" flipV="1">
            <a:off x="7986600" y="2266560"/>
            <a:ext cx="90720" cy="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 flipH="1">
            <a:off x="7986600" y="2357280"/>
            <a:ext cx="90720" cy="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 flipH="1">
            <a:off x="4543200" y="1181160"/>
            <a:ext cx="91800" cy="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4635360" y="1181160"/>
            <a:ext cx="90720" cy="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4635360" y="1362240"/>
            <a:ext cx="633600" cy="995040"/>
          </a:xfrm>
          <a:custGeom>
            <a:avLst/>
            <a:gdLst/>
            <a:ahLst/>
            <a:rect l="l" t="t" r="r" b="b"/>
            <a:pathLst>
              <a:path w="399" h="627">
                <a:moveTo>
                  <a:pt x="0" y="627"/>
                </a:moveTo>
                <a:lnTo>
                  <a:pt x="57" y="456"/>
                </a:lnTo>
                <a:lnTo>
                  <a:pt x="171" y="171"/>
                </a:lnTo>
                <a:lnTo>
                  <a:pt x="285" y="57"/>
                </a:lnTo>
                <a:lnTo>
                  <a:pt x="399" y="0"/>
                </a:lnTo>
                <a:lnTo>
                  <a:pt x="399" y="627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4635360" y="1905120"/>
            <a:ext cx="2535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4635360" y="2538360"/>
            <a:ext cx="1800" cy="117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4635360" y="3714840"/>
            <a:ext cx="344196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 flipH="1" flipV="1">
            <a:off x="7986600" y="3624120"/>
            <a:ext cx="90720" cy="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 flipH="1">
            <a:off x="7986600" y="3714840"/>
            <a:ext cx="90720" cy="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 flipH="1">
            <a:off x="4543200" y="2538360"/>
            <a:ext cx="91800" cy="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4635360" y="2538360"/>
            <a:ext cx="90720" cy="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V="1">
            <a:off x="4816440" y="1904760"/>
            <a:ext cx="1800" cy="180972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5268960" y="1362240"/>
            <a:ext cx="633240" cy="995040"/>
          </a:xfrm>
          <a:custGeom>
            <a:avLst/>
            <a:gdLst/>
            <a:ahLst/>
            <a:rect l="l" t="t" r="r" b="b"/>
            <a:pathLst>
              <a:path w="399" h="627">
                <a:moveTo>
                  <a:pt x="0" y="627"/>
                </a:moveTo>
                <a:lnTo>
                  <a:pt x="57" y="456"/>
                </a:lnTo>
                <a:lnTo>
                  <a:pt x="171" y="171"/>
                </a:lnTo>
                <a:lnTo>
                  <a:pt x="285" y="57"/>
                </a:lnTo>
                <a:lnTo>
                  <a:pt x="399" y="0"/>
                </a:lnTo>
                <a:lnTo>
                  <a:pt x="399" y="627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5902200" y="1362240"/>
            <a:ext cx="635040" cy="995040"/>
          </a:xfrm>
          <a:custGeom>
            <a:avLst/>
            <a:gdLst/>
            <a:ahLst/>
            <a:rect l="l" t="t" r="r" b="b"/>
            <a:pathLst>
              <a:path w="400" h="627">
                <a:moveTo>
                  <a:pt x="0" y="627"/>
                </a:moveTo>
                <a:lnTo>
                  <a:pt x="57" y="456"/>
                </a:lnTo>
                <a:lnTo>
                  <a:pt x="171" y="171"/>
                </a:lnTo>
                <a:lnTo>
                  <a:pt x="286" y="57"/>
                </a:lnTo>
                <a:lnTo>
                  <a:pt x="400" y="0"/>
                </a:lnTo>
                <a:lnTo>
                  <a:pt x="400" y="627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4635360" y="3714840"/>
            <a:ext cx="1800" cy="544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5268960" y="3714840"/>
            <a:ext cx="1440" cy="544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4816440" y="3714840"/>
            <a:ext cx="1800" cy="27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4452840" y="3986280"/>
            <a:ext cx="5446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 flipV="1">
            <a:off x="4816440" y="3895560"/>
            <a:ext cx="90360" cy="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4816440" y="3986280"/>
            <a:ext cx="90360" cy="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 flipH="1" flipV="1">
            <a:off x="4543200" y="3895560"/>
            <a:ext cx="91800" cy="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 flipH="1">
            <a:off x="4543200" y="3986280"/>
            <a:ext cx="91800" cy="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4635360" y="4259160"/>
            <a:ext cx="6336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 flipH="1" flipV="1">
            <a:off x="5178240" y="4167000"/>
            <a:ext cx="90360" cy="9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 flipH="1">
            <a:off x="5178240" y="4259160"/>
            <a:ext cx="90360" cy="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 flipV="1">
            <a:off x="4635360" y="4167000"/>
            <a:ext cx="90720" cy="9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4635360" y="4259160"/>
            <a:ext cx="90720" cy="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4635360" y="3773520"/>
            <a:ext cx="1335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4675680" y="3770280"/>
            <a:ext cx="5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4726080" y="3787920"/>
            <a:ext cx="129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4755600" y="378792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4906800" y="4149720"/>
            <a:ext cx="13032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4936320" y="414972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4362480" y="1017720"/>
            <a:ext cx="2142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4408200" y="10206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4452840" y="1162080"/>
            <a:ext cx="12384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4482360" y="11620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4362480" y="2465280"/>
            <a:ext cx="214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4408200" y="24703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4452840" y="2611440"/>
            <a:ext cx="2034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4485600" y="26114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4362480" y="1741320"/>
            <a:ext cx="2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4452840" y="1886040"/>
            <a:ext cx="11592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1" name=""/>
          <p:cNvGrpSpPr/>
          <p:nvPr/>
        </p:nvGrpSpPr>
        <p:grpSpPr>
          <a:xfrm>
            <a:off x="4408200" y="1744560"/>
            <a:ext cx="133560" cy="279000"/>
            <a:chOff x="4408200" y="1744560"/>
            <a:chExt cx="133560" cy="279000"/>
          </a:xfrm>
        </p:grpSpPr>
        <p:sp>
          <p:nvSpPr>
            <p:cNvPr id="3222" name=""/>
            <p:cNvSpPr/>
            <p:nvPr/>
          </p:nvSpPr>
          <p:spPr>
            <a:xfrm>
              <a:off x="4408200" y="1744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4483080" y="1886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4" name=""/>
          <p:cNvSpPr/>
          <p:nvPr/>
        </p:nvSpPr>
        <p:spPr>
          <a:xfrm>
            <a:off x="8077320" y="2374920"/>
            <a:ext cx="1332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8120520" y="23796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8077320" y="3824280"/>
            <a:ext cx="1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8120520" y="3827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739800" y="3533760"/>
            <a:ext cx="1440" cy="2173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739800" y="5707080"/>
            <a:ext cx="34416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 flipH="1" flipV="1">
            <a:off x="4090680" y="5616360"/>
            <a:ext cx="90360" cy="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 flipH="1">
            <a:off x="4090680" y="5707080"/>
            <a:ext cx="90360" cy="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 flipH="1">
            <a:off x="649080" y="3533760"/>
            <a:ext cx="90360" cy="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739800" y="3533760"/>
            <a:ext cx="90360" cy="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739800" y="3624120"/>
            <a:ext cx="2989080" cy="1268640"/>
          </a:xfrm>
          <a:custGeom>
            <a:avLst/>
            <a:gdLst/>
            <a:ahLst/>
            <a:rect l="l" t="t" r="r" b="b"/>
            <a:pathLst>
              <a:path w="1883" h="799">
                <a:moveTo>
                  <a:pt x="0" y="799"/>
                </a:moveTo>
                <a:lnTo>
                  <a:pt x="342" y="514"/>
                </a:lnTo>
                <a:lnTo>
                  <a:pt x="970" y="228"/>
                </a:lnTo>
                <a:lnTo>
                  <a:pt x="188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1101600" y="3733920"/>
            <a:ext cx="4320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1154880" y="3736800"/>
            <a:ext cx="29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1646280" y="3621240"/>
            <a:ext cx="2030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1706400" y="3618000"/>
            <a:ext cx="8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1555920" y="364320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1600200" y="3646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1555920" y="3805200"/>
            <a:ext cx="18072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1555920" y="382428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1600200" y="3827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1646280" y="38242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1692000" y="3827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1736640" y="3968640"/>
            <a:ext cx="11592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1766880" y="39686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4181400" y="5815080"/>
            <a:ext cx="214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4227120" y="58197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4272120" y="5961240"/>
            <a:ext cx="1155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4302000" y="59612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1192320" y="3878280"/>
            <a:ext cx="160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1224000" y="3878280"/>
            <a:ext cx="9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468360" y="3191040"/>
            <a:ext cx="2746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513360" y="31939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558720" y="3335400"/>
            <a:ext cx="158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590400" y="3335400"/>
            <a:ext cx="9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4638600" y="3029040"/>
            <a:ext cx="2076480" cy="685800"/>
          </a:xfrm>
          <a:custGeom>
            <a:avLst/>
            <a:gdLst/>
            <a:ahLst/>
            <a:rect l="l" t="t" r="r" b="b"/>
            <a:pathLst>
              <a:path w="1308" h="432">
                <a:moveTo>
                  <a:pt x="0" y="432"/>
                </a:moveTo>
                <a:lnTo>
                  <a:pt x="114" y="432"/>
                </a:lnTo>
                <a:lnTo>
                  <a:pt x="114" y="0"/>
                </a:lnTo>
                <a:lnTo>
                  <a:pt x="384" y="0"/>
                </a:lnTo>
                <a:lnTo>
                  <a:pt x="384" y="432"/>
                </a:lnTo>
                <a:lnTo>
                  <a:pt x="522" y="432"/>
                </a:lnTo>
                <a:lnTo>
                  <a:pt x="522" y="6"/>
                </a:lnTo>
                <a:lnTo>
                  <a:pt x="792" y="6"/>
                </a:lnTo>
                <a:lnTo>
                  <a:pt x="792" y="432"/>
                </a:lnTo>
                <a:lnTo>
                  <a:pt x="912" y="432"/>
                </a:lnTo>
                <a:lnTo>
                  <a:pt x="912" y="12"/>
                </a:lnTo>
                <a:lnTo>
                  <a:pt x="1194" y="12"/>
                </a:lnTo>
                <a:lnTo>
                  <a:pt x="1194" y="432"/>
                </a:lnTo>
                <a:lnTo>
                  <a:pt x="1308" y="432"/>
                </a:lnTo>
                <a:lnTo>
                  <a:pt x="1308" y="25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4635360" y="1552680"/>
            <a:ext cx="253548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5257800" y="1533600"/>
            <a:ext cx="0" cy="2295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5905440" y="1542960"/>
            <a:ext cx="0" cy="2295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6524640" y="1552680"/>
            <a:ext cx="0" cy="2295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4629240" y="3009960"/>
            <a:ext cx="2181240" cy="714240"/>
          </a:xfrm>
          <a:custGeom>
            <a:avLst/>
            <a:gdLst/>
            <a:ahLst/>
            <a:rect l="l" t="t" r="r" b="b"/>
            <a:pathLst>
              <a:path w="1374" h="486">
                <a:moveTo>
                  <a:pt x="0" y="474"/>
                </a:moveTo>
                <a:lnTo>
                  <a:pt x="108" y="474"/>
                </a:lnTo>
                <a:lnTo>
                  <a:pt x="216" y="474"/>
                </a:lnTo>
                <a:lnTo>
                  <a:pt x="216" y="0"/>
                </a:lnTo>
                <a:lnTo>
                  <a:pt x="390" y="0"/>
                </a:lnTo>
                <a:lnTo>
                  <a:pt x="390" y="480"/>
                </a:lnTo>
                <a:lnTo>
                  <a:pt x="612" y="480"/>
                </a:lnTo>
                <a:lnTo>
                  <a:pt x="612" y="6"/>
                </a:lnTo>
                <a:lnTo>
                  <a:pt x="798" y="12"/>
                </a:lnTo>
                <a:lnTo>
                  <a:pt x="798" y="486"/>
                </a:lnTo>
                <a:lnTo>
                  <a:pt x="1014" y="486"/>
                </a:lnTo>
                <a:lnTo>
                  <a:pt x="1014" y="12"/>
                </a:lnTo>
                <a:lnTo>
                  <a:pt x="1188" y="12"/>
                </a:lnTo>
                <a:lnTo>
                  <a:pt x="1194" y="486"/>
                </a:lnTo>
                <a:lnTo>
                  <a:pt x="1374" y="48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 flipV="1">
            <a:off x="5454720" y="1904760"/>
            <a:ext cx="1440" cy="180972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 flipV="1">
            <a:off x="6073920" y="1885680"/>
            <a:ext cx="1440" cy="180972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4991040" y="1552680"/>
            <a:ext cx="0" cy="1352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5619600" y="1590840"/>
            <a:ext cx="0" cy="1352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6257880" y="1590840"/>
            <a:ext cx="0" cy="1352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9" name=""/>
          <p:cNvGrpSpPr/>
          <p:nvPr/>
        </p:nvGrpSpPr>
        <p:grpSpPr>
          <a:xfrm>
            <a:off x="4371840" y="1411200"/>
            <a:ext cx="151560" cy="279000"/>
            <a:chOff x="4371840" y="1411200"/>
            <a:chExt cx="151560" cy="279000"/>
          </a:xfrm>
        </p:grpSpPr>
        <p:sp>
          <p:nvSpPr>
            <p:cNvPr id="3270" name=""/>
            <p:cNvSpPr/>
            <p:nvPr/>
          </p:nvSpPr>
          <p:spPr>
            <a:xfrm>
              <a:off x="4371840" y="1411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458600" y="1552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 względu na sposób przekazywania energii ze źródła do obciążenia konwertery dzielim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2800" y="2000160"/>
            <a:ext cx="8620200" cy="33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bieżne   (tzw. jednotaktowe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średnie, duże i bardzo duże mo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ciwbieżne (tzw. dwutaktowe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małe i średnie mo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orsze parametry energetyczne, większ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ętnienia oraz zwykle wyższe napięcia na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zystorach kluczujący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230040" y="2244240"/>
            <a:ext cx="865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rawność a prąd obciążen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napięcie wejści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3" name="" descr=""/>
          <p:cNvPicPr/>
          <p:nvPr/>
        </p:nvPicPr>
        <p:blipFill>
          <a:blip r:embed="rId1"/>
          <a:stretch/>
        </p:blipFill>
        <p:spPr>
          <a:xfrm>
            <a:off x="4579920" y="2662200"/>
            <a:ext cx="4014720" cy="4014720"/>
          </a:xfrm>
          <a:prstGeom prst="rect">
            <a:avLst/>
          </a:prstGeom>
          <a:ln w="0">
            <a:noFill/>
          </a:ln>
        </p:spPr>
      </p:pic>
      <p:pic>
        <p:nvPicPr>
          <p:cNvPr id="3274" name="" descr=""/>
          <p:cNvPicPr/>
          <p:nvPr/>
        </p:nvPicPr>
        <p:blipFill>
          <a:blip r:embed="rId2"/>
          <a:stretch/>
        </p:blipFill>
        <p:spPr>
          <a:xfrm>
            <a:off x="235080" y="1120680"/>
            <a:ext cx="4736880" cy="2368800"/>
          </a:xfrm>
          <a:prstGeom prst="rect">
            <a:avLst/>
          </a:prstGeom>
          <a:ln w="0">
            <a:noFill/>
          </a:ln>
        </p:spPr>
      </p:pic>
      <p:sp>
        <p:nvSpPr>
          <p:cNvPr id="3275" name=""/>
          <p:cNvSpPr/>
          <p:nvPr/>
        </p:nvSpPr>
        <p:spPr>
          <a:xfrm>
            <a:off x="649800" y="4156200"/>
            <a:ext cx="367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utput Current 20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utput Min 0.8 V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utput Max 32 V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requency Min 100000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requency Max 1000000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1432440" y="316080"/>
            <a:ext cx="65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prawność vs. prąd obciążenia i napięcie wej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442800" y="23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onwertery samowzbud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onwertery samowzbudne - 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3432240" y="3189240"/>
            <a:ext cx="11048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4538520" y="1809720"/>
            <a:ext cx="19080" cy="26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4505400" y="3151080"/>
            <a:ext cx="6516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5746680" y="1798560"/>
            <a:ext cx="1800" cy="124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5654520" y="3040200"/>
            <a:ext cx="1857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5654520" y="2171880"/>
            <a:ext cx="185760" cy="49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5935320" y="2568600"/>
            <a:ext cx="195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4444920" y="2324160"/>
            <a:ext cx="185760" cy="49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4444920" y="4435560"/>
            <a:ext cx="1857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4444920" y="3565440"/>
            <a:ext cx="185760" cy="49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4495680" y="1751040"/>
            <a:ext cx="6516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2736720" y="3040200"/>
            <a:ext cx="744840" cy="745920"/>
          </a:xfrm>
          <a:custGeom>
            <a:avLst/>
            <a:gdLst/>
            <a:ahLst/>
            <a:rect l="l" t="t" r="r" b="b"/>
            <a:pathLst>
              <a:path w="384" h="512">
                <a:moveTo>
                  <a:pt x="384" y="0"/>
                </a:moveTo>
                <a:lnTo>
                  <a:pt x="0" y="256"/>
                </a:lnTo>
                <a:lnTo>
                  <a:pt x="384" y="512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3465360" y="3625920"/>
            <a:ext cx="2224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 flipH="1">
            <a:off x="3674880" y="3622680"/>
            <a:ext cx="4680" cy="131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4670280" y="4903920"/>
            <a:ext cx="6696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4840200" y="4836960"/>
            <a:ext cx="3733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3327120" y="34974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3372120" y="30416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2984400" y="322092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 flipH="1">
            <a:off x="2060280" y="1808280"/>
            <a:ext cx="253800" cy="28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 flipH="1" flipV="1">
            <a:off x="1806120" y="2087280"/>
            <a:ext cx="5079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2311560" y="1789200"/>
            <a:ext cx="34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2063880" y="2075040"/>
            <a:ext cx="0" cy="13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 flipH="1">
            <a:off x="2063520" y="3421080"/>
            <a:ext cx="66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741240" y="3174840"/>
            <a:ext cx="617760" cy="66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 flipV="1">
            <a:off x="1058760" y="333324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 flipV="1">
            <a:off x="1058760" y="1780920"/>
            <a:ext cx="0" cy="13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 flipH="1">
            <a:off x="1058400" y="179856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1058760" y="3862440"/>
            <a:ext cx="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946080" y="4375080"/>
            <a:ext cx="1857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 rot="5400000">
            <a:off x="2644560" y="4670280"/>
            <a:ext cx="185400" cy="49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 rot="5400000">
            <a:off x="4226040" y="4680000"/>
            <a:ext cx="185760" cy="49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2066760" y="3419640"/>
            <a:ext cx="0" cy="14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2066760" y="4905360"/>
            <a:ext cx="41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2981160" y="4924440"/>
            <a:ext cx="69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3686040" y="4933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4572000" y="4943520"/>
            <a:ext cx="8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3629160" y="4875120"/>
            <a:ext cx="6480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2028960" y="3370320"/>
            <a:ext cx="6480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1800360" y="1790640"/>
            <a:ext cx="24768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1066680" y="2514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3200400" y="251460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3171960" y="363852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3070080" y="4413240"/>
            <a:ext cx="1857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1028880" y="2455920"/>
            <a:ext cx="6480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2382480" y="4414680"/>
            <a:ext cx="6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3906360" y="4433760"/>
            <a:ext cx="6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5754960" y="4670280"/>
            <a:ext cx="156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D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1978200" y="2695680"/>
            <a:ext cx="185400" cy="49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4668480" y="3711600"/>
            <a:ext cx="195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4687560" y="2444760"/>
            <a:ext cx="195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1190880" y="2679840"/>
            <a:ext cx="45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1" name=""/>
          <p:cNvGrpSpPr/>
          <p:nvPr/>
        </p:nvGrpSpPr>
        <p:grpSpPr>
          <a:xfrm>
            <a:off x="3435480" y="1720800"/>
            <a:ext cx="631800" cy="218880"/>
            <a:chOff x="3435480" y="1720800"/>
            <a:chExt cx="631800" cy="218880"/>
          </a:xfrm>
        </p:grpSpPr>
        <p:sp>
          <p:nvSpPr>
            <p:cNvPr id="3332" name=""/>
            <p:cNvSpPr/>
            <p:nvPr/>
          </p:nvSpPr>
          <p:spPr>
            <a:xfrm>
              <a:off x="3435480" y="1720800"/>
              <a:ext cx="15732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3592800" y="1720800"/>
              <a:ext cx="15876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751560" y="1720800"/>
              <a:ext cx="15696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908520" y="1720800"/>
              <a:ext cx="15876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3435480" y="1793880"/>
              <a:ext cx="631800" cy="14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7" name=""/>
          <p:cNvSpPr/>
          <p:nvPr/>
        </p:nvSpPr>
        <p:spPr>
          <a:xfrm>
            <a:off x="3490920" y="122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8" name=""/>
          <p:cNvGrpSpPr/>
          <p:nvPr/>
        </p:nvGrpSpPr>
        <p:grpSpPr>
          <a:xfrm>
            <a:off x="5045040" y="2486160"/>
            <a:ext cx="304920" cy="64440"/>
            <a:chOff x="5045040" y="2486160"/>
            <a:chExt cx="304920" cy="64440"/>
          </a:xfrm>
        </p:grpSpPr>
        <p:sp>
          <p:nvSpPr>
            <p:cNvPr id="3339" name=""/>
            <p:cNvSpPr/>
            <p:nvPr/>
          </p:nvSpPr>
          <p:spPr>
            <a:xfrm>
              <a:off x="5045040" y="2549160"/>
              <a:ext cx="30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5045040" y="2486160"/>
              <a:ext cx="304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1" name=""/>
          <p:cNvSpPr/>
          <p:nvPr/>
        </p:nvSpPr>
        <p:spPr>
          <a:xfrm>
            <a:off x="5200560" y="1800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5210280" y="25621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5111640" y="3059280"/>
            <a:ext cx="1857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4862520" y="207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442440" y="19998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onwertery o wielu napięciach wyjściow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wertery o wielu napięciach wyj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0" y="1689120"/>
            <a:ext cx="914400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owane jest tylk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jbardziej krytycz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yjście 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regulacja współczynnik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ostałe wyjścia są niestabilizowane - komentar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trzeba, dołącza się stabilizatory kompensac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PlaceHolder 1"/>
          <p:cNvSpPr>
            <a:spLocks noGrp="1"/>
          </p:cNvSpPr>
          <p:nvPr>
            <p:ph type="title"/>
          </p:nvPr>
        </p:nvSpPr>
        <p:spPr>
          <a:xfrm>
            <a:off x="442800" y="21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łady zabezpieczające konwerterów DC/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zabezpieczające konwerterów DC/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0" y="1468440"/>
            <a:ext cx="9144000" cy="411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Układy tzw. miękkiego start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 wypełnienia rośnie stopniowo, aż do osiągnięcia wartości nominalnej. Ochrona kluczy tranzystorowych i diod prostowniczych, do chwili naładowania się kondensatorów filtrując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Zabezpieczenia przeciążeniowe (prądow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Zabezpieczenia termicz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442800" y="260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wertery DC/DC bezindukcyj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wertery DC/DC bezindu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0" y="770040"/>
            <a:ext cx="9144000" cy="6677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bez indukcyjności 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ziałanie polega na wytworzeniu w układzie generatora RC (przerzutnik astabilny), prostokątnego przebiegu zmiennego, który jest następnie prostowany w detektorze diodowym, uzyskując dowolną polaryzację napięcia wyjściow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ą to układy MAŁYCH mocy - na ogół miliwa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a: wolty, prądy - kilka-kilkanaście miliamper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awności DUŻO mniejsze od konwerterów z indukcyjności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ty: miniaturyzacja (układ scalony) plus kondensator filtrujący prostow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zy dużych częstotliwościach i MAŁYM poborze prądu o niewielkiej pojemnośc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1960" y="290520"/>
            <a:ext cx="1435320" cy="56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404640" y="1519200"/>
          <a:ext cx="8369640" cy="34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4640" y="1519200"/>
                    <a:ext cx="836964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06960" y="960480"/>
            <a:ext cx="75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ównanie parametrów zasilaczy liniowych i impuls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354400" y="1940040"/>
                <a:ext cx="5508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376360" y="2324160"/>
                <a:ext cx="5511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owe” przykłady zastosowania konwerterów DC/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17640" y="1652760"/>
            <a:ext cx="91263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mputery - przeciwbieżne (flyback), czasami półmostk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elewizory, magnetowidy, kamery, itp. - j.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wietlówki energooszczedne – typowo półmostk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zw. elektroniczne transformatory do żarówek halogenowych 12V - półmostk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błyskowe - dwutaktowe, wytwarzają charakterystyczny „gwizd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 zmieniającej się (rosnącej)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ce przetwarzane przez konwertery impulso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44600" y="884160"/>
            <a:ext cx="7632720" cy="5663520"/>
            <a:chOff x="444600" y="884160"/>
            <a:chExt cx="7632720" cy="5663520"/>
          </a:xfrm>
        </p:grpSpPr>
        <p:grpSp>
          <p:nvGrpSpPr>
            <p:cNvPr id="60" name=""/>
            <p:cNvGrpSpPr/>
            <p:nvPr/>
          </p:nvGrpSpPr>
          <p:grpSpPr>
            <a:xfrm>
              <a:off x="890640" y="966960"/>
              <a:ext cx="6869160" cy="4379760"/>
              <a:chOff x="890640" y="966960"/>
              <a:chExt cx="6869160" cy="437976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890640" y="3886200"/>
                <a:ext cx="1719360" cy="1460520"/>
                <a:chOff x="890640" y="3886200"/>
                <a:chExt cx="1719360" cy="1460520"/>
              </a:xfrm>
            </p:grpSpPr>
            <p:grpSp>
              <p:nvGrpSpPr>
                <p:cNvPr id="62" name=""/>
                <p:cNvGrpSpPr/>
                <p:nvPr/>
              </p:nvGrpSpPr>
              <p:grpSpPr>
                <a:xfrm>
                  <a:off x="890640" y="3886200"/>
                  <a:ext cx="1719360" cy="1459080"/>
                  <a:chOff x="890640" y="3886200"/>
                  <a:chExt cx="1719360" cy="145908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>
                    <a:off x="2608200" y="3886200"/>
                    <a:ext cx="1800" cy="1459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570040" y="3886200"/>
                    <a:ext cx="1800" cy="1459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494080" y="3886200"/>
                    <a:ext cx="1440" cy="1459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2379600" y="3886200"/>
                    <a:ext cx="1800" cy="1459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2225520" y="3886200"/>
                    <a:ext cx="1800" cy="1459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2035080" y="3886200"/>
                    <a:ext cx="1800" cy="1459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806480" y="3886200"/>
                    <a:ext cx="1800" cy="1459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539720" y="3886200"/>
                    <a:ext cx="1800" cy="1459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233360" y="3886200"/>
                    <a:ext cx="1800" cy="1459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90640" y="3886200"/>
                    <a:ext cx="1440" cy="1459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" name=""/>
                <p:cNvGrpSpPr/>
                <p:nvPr/>
              </p:nvGrpSpPr>
              <p:grpSpPr>
                <a:xfrm>
                  <a:off x="890640" y="3886200"/>
                  <a:ext cx="1717560" cy="1460520"/>
                  <a:chOff x="890640" y="3886200"/>
                  <a:chExt cx="1717560" cy="146052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890640" y="388620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890640" y="391788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90640" y="398304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90640" y="408132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90640" y="420840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90640" y="437184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0640" y="456732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890640" y="479268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890640" y="505476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90640" y="534528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4" name=""/>
              <p:cNvGrpSpPr/>
              <p:nvPr/>
            </p:nvGrpSpPr>
            <p:grpSpPr>
              <a:xfrm>
                <a:off x="2608200" y="3886200"/>
                <a:ext cx="1717560" cy="1459080"/>
                <a:chOff x="2608200" y="3886200"/>
                <a:chExt cx="1717560" cy="1459080"/>
              </a:xfrm>
            </p:grpSpPr>
            <p:grpSp>
              <p:nvGrpSpPr>
                <p:cNvPr id="85" name=""/>
                <p:cNvGrpSpPr/>
                <p:nvPr/>
              </p:nvGrpSpPr>
              <p:grpSpPr>
                <a:xfrm>
                  <a:off x="2608200" y="3886200"/>
                  <a:ext cx="1717560" cy="1457280"/>
                  <a:chOff x="2608200" y="3886200"/>
                  <a:chExt cx="1717560" cy="145728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4324320" y="388620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4286160" y="388620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4208400" y="388620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4095720" y="388620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943440" y="388620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3751200" y="388620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3522600" y="388620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3255840" y="388620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2949480" y="388620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2608200" y="388620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" name=""/>
                <p:cNvGrpSpPr/>
                <p:nvPr/>
              </p:nvGrpSpPr>
              <p:grpSpPr>
                <a:xfrm>
                  <a:off x="2608200" y="3886200"/>
                  <a:ext cx="1716120" cy="1459080"/>
                  <a:chOff x="2608200" y="3886200"/>
                  <a:chExt cx="1716120" cy="145908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>
                    <a:off x="2608200" y="388620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2608200" y="391788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2608200" y="398304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608200" y="407844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2608200" y="420840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2608200" y="437040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608200" y="456552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608200" y="479268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2608200" y="505152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2608200" y="534348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" name=""/>
              <p:cNvGrpSpPr/>
              <p:nvPr/>
            </p:nvGrpSpPr>
            <p:grpSpPr>
              <a:xfrm>
                <a:off x="4324320" y="3886200"/>
                <a:ext cx="1717560" cy="1459080"/>
                <a:chOff x="4324320" y="3886200"/>
                <a:chExt cx="1717560" cy="1459080"/>
              </a:xfrm>
            </p:grpSpPr>
            <p:grpSp>
              <p:nvGrpSpPr>
                <p:cNvPr id="108" name=""/>
                <p:cNvGrpSpPr/>
                <p:nvPr/>
              </p:nvGrpSpPr>
              <p:grpSpPr>
                <a:xfrm>
                  <a:off x="4324320" y="3886200"/>
                  <a:ext cx="1717560" cy="1457280"/>
                  <a:chOff x="4324320" y="3886200"/>
                  <a:chExt cx="1717560" cy="145728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6040440" y="388620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6004080" y="388620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5927760" y="388620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5811840" y="388620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5659560" y="388620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5468760" y="388620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5238720" y="388620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4973760" y="388620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4667400" y="388620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324320" y="388620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4324320" y="3886200"/>
                  <a:ext cx="1716120" cy="1459080"/>
                  <a:chOff x="4324320" y="3886200"/>
                  <a:chExt cx="1716120" cy="145908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4324320" y="388620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4324320" y="391788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4324320" y="398304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4324320" y="407844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4324320" y="420840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4324320" y="437040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4324320" y="456552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324320" y="479268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4324320" y="505152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4324320" y="534348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0" name=""/>
              <p:cNvGrpSpPr/>
              <p:nvPr/>
            </p:nvGrpSpPr>
            <p:grpSpPr>
              <a:xfrm>
                <a:off x="890640" y="2425680"/>
                <a:ext cx="1719360" cy="1459080"/>
                <a:chOff x="890640" y="2425680"/>
                <a:chExt cx="1719360" cy="145908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890640" y="2425680"/>
                  <a:ext cx="1719360" cy="1457280"/>
                  <a:chOff x="890640" y="2425680"/>
                  <a:chExt cx="1719360" cy="145728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2608200" y="242568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256860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2492280" y="242568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2376360" y="242568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2225520" y="242568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2035080" y="242568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1806480" y="242568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53828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233360" y="242568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89064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890640" y="2425680"/>
                  <a:ext cx="1717560" cy="1459080"/>
                  <a:chOff x="890640" y="2425680"/>
                  <a:chExt cx="1717560" cy="145908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890640" y="242568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890640" y="245592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890640" y="252108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890640" y="261936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890640" y="274788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890640" y="290988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890640" y="310680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890640" y="333360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890640" y="359244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890640" y="388296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3" name=""/>
              <p:cNvGrpSpPr/>
              <p:nvPr/>
            </p:nvGrpSpPr>
            <p:grpSpPr>
              <a:xfrm>
                <a:off x="2608200" y="2425680"/>
                <a:ext cx="1717560" cy="1459080"/>
                <a:chOff x="2608200" y="2425680"/>
                <a:chExt cx="1717560" cy="1459080"/>
              </a:xfrm>
            </p:grpSpPr>
            <p:grpSp>
              <p:nvGrpSpPr>
                <p:cNvPr id="154" name=""/>
                <p:cNvGrpSpPr/>
                <p:nvPr/>
              </p:nvGrpSpPr>
              <p:grpSpPr>
                <a:xfrm>
                  <a:off x="2608200" y="2425680"/>
                  <a:ext cx="1717560" cy="1457280"/>
                  <a:chOff x="2608200" y="2425680"/>
                  <a:chExt cx="1717560" cy="14572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432432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4286160" y="242568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4208400" y="242568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09572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94344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3751200" y="242568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3522600" y="242568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3255840" y="242568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2949480" y="242568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2608200" y="242568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2608200" y="2425680"/>
                  <a:ext cx="1716120" cy="1459080"/>
                  <a:chOff x="2608200" y="2425680"/>
                  <a:chExt cx="1716120" cy="145908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2608200" y="242568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2608200" y="245592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2608200" y="252108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2608200" y="261936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2608200" y="274788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2608200" y="290988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08200" y="310680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2608200" y="333360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2608200" y="359244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2608200" y="388296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6" name=""/>
              <p:cNvGrpSpPr/>
              <p:nvPr/>
            </p:nvGrpSpPr>
            <p:grpSpPr>
              <a:xfrm>
                <a:off x="4324320" y="2425680"/>
                <a:ext cx="1717560" cy="1459080"/>
                <a:chOff x="4324320" y="2425680"/>
                <a:chExt cx="1717560" cy="145908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4324320" y="2425680"/>
                  <a:ext cx="1717560" cy="1457280"/>
                  <a:chOff x="4324320" y="2425680"/>
                  <a:chExt cx="1717560" cy="14572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604044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600408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92776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81184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565956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468760" y="242568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23872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497376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66740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32432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4324320" y="2425680"/>
                  <a:ext cx="1716120" cy="1459080"/>
                  <a:chOff x="4324320" y="2425680"/>
                  <a:chExt cx="1716120" cy="145908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4324320" y="242568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324320" y="245592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4324320" y="252108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4324320" y="261936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4324320" y="274788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4324320" y="290988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4324320" y="310680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4324320" y="333360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4324320" y="359244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324320" y="388296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890640" y="966960"/>
                <a:ext cx="1719360" cy="1458720"/>
                <a:chOff x="890640" y="966960"/>
                <a:chExt cx="1719360" cy="145872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890640" y="966960"/>
                  <a:ext cx="1719360" cy="1457280"/>
                  <a:chOff x="890640" y="966960"/>
                  <a:chExt cx="1719360" cy="14572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2608200" y="96696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256860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492280" y="96696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376360" y="96696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225520" y="96696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035080" y="96696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1806480" y="96696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153828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1233360" y="96696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89064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890640" y="966960"/>
                  <a:ext cx="1717560" cy="1458720"/>
                  <a:chOff x="890640" y="966960"/>
                  <a:chExt cx="1717560" cy="145872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890640" y="96696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890640" y="99684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890640" y="106200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890640" y="116064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890640" y="128736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890640" y="145080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890640" y="164628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890640" y="187488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890640" y="213372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890640" y="242424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2608200" y="966960"/>
                <a:ext cx="1717560" cy="1458720"/>
                <a:chOff x="2608200" y="966960"/>
                <a:chExt cx="1717560" cy="145872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2608200" y="966960"/>
                  <a:ext cx="1717560" cy="1457280"/>
                  <a:chOff x="2608200" y="966960"/>
                  <a:chExt cx="1717560" cy="14572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432432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286160" y="96696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4208400" y="96696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409572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394344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3751200" y="96696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3522600" y="96696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3255840" y="96696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2949480" y="96696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2608200" y="96696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2608200" y="966960"/>
                  <a:ext cx="1716120" cy="1458720"/>
                  <a:chOff x="2608200" y="966960"/>
                  <a:chExt cx="1716120" cy="145872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2608200" y="96696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2608200" y="99684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2608200" y="106200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2608200" y="116064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608200" y="128736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608200" y="145080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608200" y="164628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608200" y="187488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608200" y="213372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608200" y="242424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4324320" y="966960"/>
                <a:ext cx="1717560" cy="1458720"/>
                <a:chOff x="4324320" y="966960"/>
                <a:chExt cx="1717560" cy="145872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4324320" y="966960"/>
                  <a:ext cx="1717560" cy="1457280"/>
                  <a:chOff x="4324320" y="966960"/>
                  <a:chExt cx="1717560" cy="14572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604044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600408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592776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81184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565956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5468760" y="96696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23872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97376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466740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32432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4324320" y="966960"/>
                  <a:ext cx="1716120" cy="1458720"/>
                  <a:chOff x="4324320" y="966960"/>
                  <a:chExt cx="1716120" cy="14587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4324320" y="96696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4324320" y="99684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4324320" y="106200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4324320" y="116064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4324320" y="128736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324320" y="1450800"/>
                    <a:ext cx="171612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324320" y="164628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4324320" y="187488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4324320" y="213372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4324320" y="2424240"/>
                    <a:ext cx="17161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8" name=""/>
              <p:cNvGrpSpPr/>
              <p:nvPr/>
            </p:nvGrpSpPr>
            <p:grpSpPr>
              <a:xfrm>
                <a:off x="6040440" y="3886200"/>
                <a:ext cx="1719360" cy="1459080"/>
                <a:chOff x="6040440" y="3886200"/>
                <a:chExt cx="1719360" cy="1459080"/>
              </a:xfrm>
            </p:grpSpPr>
            <p:grpSp>
              <p:nvGrpSpPr>
                <p:cNvPr id="269" name=""/>
                <p:cNvGrpSpPr/>
                <p:nvPr/>
              </p:nvGrpSpPr>
              <p:grpSpPr>
                <a:xfrm>
                  <a:off x="6040440" y="3886200"/>
                  <a:ext cx="1719360" cy="1457280"/>
                  <a:chOff x="6040440" y="3886200"/>
                  <a:chExt cx="1719360" cy="14572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7758000" y="388620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719840" y="388620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643880" y="388620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529400" y="388620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377120" y="388620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186680" y="388620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956280" y="388620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689880" y="388620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384960" y="388620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040440" y="388620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6040440" y="3886200"/>
                  <a:ext cx="1717560" cy="1459080"/>
                  <a:chOff x="6040440" y="3886200"/>
                  <a:chExt cx="1717560" cy="14590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6040440" y="388620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6040440" y="391788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040440" y="398304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6040440" y="407844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6040440" y="420840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6040440" y="437040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6040440" y="456552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6040440" y="479268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040440" y="505152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040440" y="534348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1" name=""/>
              <p:cNvGrpSpPr/>
              <p:nvPr/>
            </p:nvGrpSpPr>
            <p:grpSpPr>
              <a:xfrm>
                <a:off x="6040440" y="2425680"/>
                <a:ext cx="1719360" cy="1459080"/>
                <a:chOff x="6040440" y="2425680"/>
                <a:chExt cx="1719360" cy="1459080"/>
              </a:xfrm>
            </p:grpSpPr>
            <p:grpSp>
              <p:nvGrpSpPr>
                <p:cNvPr id="292" name=""/>
                <p:cNvGrpSpPr/>
                <p:nvPr/>
              </p:nvGrpSpPr>
              <p:grpSpPr>
                <a:xfrm>
                  <a:off x="6040440" y="2425680"/>
                  <a:ext cx="1719360" cy="1457280"/>
                  <a:chOff x="6040440" y="2425680"/>
                  <a:chExt cx="1719360" cy="145728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7758000" y="242568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7719840" y="242568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764388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7529400" y="242568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37712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718668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956280" y="242568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668988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638496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6040440" y="242568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6040440" y="2425680"/>
                  <a:ext cx="1717560" cy="1459080"/>
                  <a:chOff x="6040440" y="2425680"/>
                  <a:chExt cx="1717560" cy="145908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6040440" y="242568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6040440" y="245592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6040440" y="252108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6040440" y="261936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6040440" y="274788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6040440" y="290988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6040440" y="310680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40440" y="333360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40440" y="359244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6040440" y="388296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4" name=""/>
              <p:cNvGrpSpPr/>
              <p:nvPr/>
            </p:nvGrpSpPr>
            <p:grpSpPr>
              <a:xfrm>
                <a:off x="6040440" y="966960"/>
                <a:ext cx="1719360" cy="1458720"/>
                <a:chOff x="6040440" y="966960"/>
                <a:chExt cx="1719360" cy="145872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6040440" y="966960"/>
                  <a:ext cx="1719360" cy="1457280"/>
                  <a:chOff x="6040440" y="966960"/>
                  <a:chExt cx="1719360" cy="14572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7758000" y="96696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7719840" y="96696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764388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7529400" y="96696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737712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718668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956280" y="966960"/>
                    <a:ext cx="180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668988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638496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6040440" y="966960"/>
                    <a:ext cx="1440" cy="1457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6040440" y="966960"/>
                  <a:ext cx="1717560" cy="1458720"/>
                  <a:chOff x="6040440" y="966960"/>
                  <a:chExt cx="1717560" cy="145872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6040440" y="96696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6040440" y="99684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6040440" y="106200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6040440" y="116064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6040440" y="128736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040440" y="1450800"/>
                    <a:ext cx="17175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6040440" y="164628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040440" y="187488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040440" y="213372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040440" y="2424240"/>
                    <a:ext cx="17175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37" name=""/>
            <p:cNvSpPr/>
            <p:nvPr/>
          </p:nvSpPr>
          <p:spPr>
            <a:xfrm>
              <a:off x="2603520" y="966960"/>
              <a:ext cx="2100240" cy="4378320"/>
            </a:xfrm>
            <a:custGeom>
              <a:avLst/>
              <a:gdLst/>
              <a:ahLst/>
              <a:rect l="l" t="t" r="r" b="b"/>
              <a:pathLst>
                <a:path w="1323" h="2758">
                  <a:moveTo>
                    <a:pt x="0" y="2758"/>
                  </a:moveTo>
                  <a:lnTo>
                    <a:pt x="0" y="2233"/>
                  </a:lnTo>
                  <a:lnTo>
                    <a:pt x="1323" y="919"/>
                  </a:lnTo>
                  <a:lnTo>
                    <a:pt x="1323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86200" y="2425680"/>
              <a:ext cx="1717560" cy="2919600"/>
            </a:xfrm>
            <a:custGeom>
              <a:avLst/>
              <a:gdLst/>
              <a:ahLst/>
              <a:rect l="l" t="t" r="r" b="b"/>
              <a:pathLst>
                <a:path w="1082" h="1839">
                  <a:moveTo>
                    <a:pt x="0" y="1839"/>
                  </a:moveTo>
                  <a:lnTo>
                    <a:pt x="0" y="1708"/>
                  </a:lnTo>
                  <a:lnTo>
                    <a:pt x="1082" y="788"/>
                  </a:lnTo>
                  <a:lnTo>
                    <a:pt x="10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468760" y="966960"/>
              <a:ext cx="1800" cy="4378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232680" y="966960"/>
              <a:ext cx="1440" cy="4378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36720" y="2664000"/>
              <a:ext cx="180648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onwert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zeciwbież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83160" y="6095880"/>
              <a:ext cx="347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onwertery współbieżne i współbież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92520" y="6303960"/>
              <a:ext cx="302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 przetwornicami przeciwsobnym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27360" y="5470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548080" y="5470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65640" y="5470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91320" y="54705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09240" y="54705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8280" y="3801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440" y="23432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4600" y="8841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3960" y="3176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5480" y="3281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9000" y="130032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[V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4703760" y="5137200"/>
              <a:ext cx="955800" cy="9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5563800" y="5137200"/>
              <a:ext cx="95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4160" y="5137200"/>
              <a:ext cx="95400" cy="102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659560" y="5137200"/>
              <a:ext cx="1440" cy="102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54880" y="1682640"/>
              <a:ext cx="242244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onwertery współbież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zeciwsob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76640" y="57834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69240" y="5888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753600" y="5470560"/>
              <a:ext cx="30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[W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11280" y="3203640"/>
              <a:ext cx="1913040" cy="82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onwert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zeciwbież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 współbież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76720" y="3786120"/>
              <a:ext cx="149868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onwert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spółbież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63160" y="1641600"/>
            <a:ext cx="7470000" cy="265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cowzbudne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gnał sterujący wytwarza układ generatora wewnętrzn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zewnętrznego - powszechnie 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amowzbud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cz jest generatorem (np. w lampach błyskowy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 względu na doprowadzenie impulsowego sygnału sterującego  (kluczującego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wertery dzielim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5:28:37Z</dcterms:created>
  <dc:creator>Agnieszka Kukawczynska</dc:creator>
  <dc:description/>
  <dc:language>en-US</dc:language>
  <cp:lastModifiedBy>MK</cp:lastModifiedBy>
  <dcterms:modified xsi:type="dcterms:W3CDTF">1997-02-16T18:23:59Z</dcterms:modified>
  <cp:revision>175</cp:revision>
  <dc:subject/>
  <dc:title>ZASILACZE IMPULSOWE</dc:title>
</cp:coreProperties>
</file>