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A0-ECAB-44EE-A559-244D5315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30D-6F53-4AA5-AE67-2D000396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599-C222-484F-AD8B-8F07C6EC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EEC-8785-476B-96BB-488BDB7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2D6-7284-4EB2-B4B7-62FA1B2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2F1-A71E-4B81-9F30-68F3F88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F02-E9CA-4EA2-BBDC-56791152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C74-4140-4048-9F2D-A2A241C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8A-E713-470B-B839-EA1C412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292-DE7B-4E41-9068-6F1EAFA8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136-617D-4445-AAAA-BE24551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940-2DDA-41C2-BA24-F12FC28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C0B-CE3F-4E1A-B2AA-812DE66C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47760" y="1630440"/>
            <a:ext cx="8002440" cy="36352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741040" y="10476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75560" y="561348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1=27C, T2=2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66840" y="947880"/>
            <a:ext cx="8088120" cy="50860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855400" y="33116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2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86840" y="32716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2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41040" y="10476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746280"/>
            <a:ext cx="8845560" cy="5562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092960" y="196524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=2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2=2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014560" y="1509840"/>
            <a:ext cx="1033560" cy="65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46160" y="2422440"/>
            <a:ext cx="165888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1040" y="10476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2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29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36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43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55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67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702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17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26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45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49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68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69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77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95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15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33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62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63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71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89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90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98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24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26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41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82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93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100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100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1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2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2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4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4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5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6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6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8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8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10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1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30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34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38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47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67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98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206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12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15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20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26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8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9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0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5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6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7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79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8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33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36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49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6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7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95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502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506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45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49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57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60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65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69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75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1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98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26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40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0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72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73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87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88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51960" y="1380960"/>
            <a:ext cx="44874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8-04-16T11:12:38Z</dcterms:modified>
  <cp:revision>78</cp:revision>
  <dc:subject/>
  <dc:title>Wzmacniacze prądu stałego</dc:title>
</cp:coreProperties>
</file>