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BCA-732A-4A2E-BE4F-8AD43C0E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95B-012C-498A-A9E2-B0040A74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D0E-F724-4AA1-9601-CFDAD91D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96A-C879-4C26-94BA-6BB58DB9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EBD-3E43-4540-9907-8149F801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ABF-B4E0-4ADA-B26D-C04ED6FA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D5B-E838-4C7B-B573-AF012F6E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F269-7B51-4D00-A677-C4B7BB93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E20-C2B9-4605-AA53-06C62944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7FD-B119-4483-9824-9FE1C993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3B3-32A9-4092-B952-96F743AD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3DC-6110-4ED5-9F58-7C025E3F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444E-15CA-4878-A2C0-2004A0CD5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ucze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zełączniki półprzewodnikowe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048760" y="154080"/>
            <a:ext cx="56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cz diodowy szeregowy - przykład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047960" y="793800"/>
            <a:ext cx="7679880" cy="5943240"/>
            <a:chOff x="1047960" y="793800"/>
            <a:chExt cx="7679880" cy="5943240"/>
          </a:xfrm>
        </p:grpSpPr>
        <p:sp>
          <p:nvSpPr>
            <p:cNvPr id="231" name=""/>
            <p:cNvSpPr/>
            <p:nvPr/>
          </p:nvSpPr>
          <p:spPr>
            <a:xfrm>
              <a:off x="2278080" y="1792440"/>
              <a:ext cx="428760" cy="433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13160" y="2216160"/>
              <a:ext cx="0" cy="5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25680" y="2746440"/>
              <a:ext cx="17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484360" y="1255320"/>
              <a:ext cx="0" cy="53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71760" y="1255680"/>
              <a:ext cx="1400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5400000">
              <a:off x="4223160" y="1173960"/>
              <a:ext cx="152280" cy="150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02080" y="1166760"/>
              <a:ext cx="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2080" y="1255680"/>
              <a:ext cx="82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227560" y="12556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26040" y="274644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36760" y="2090880"/>
              <a:ext cx="5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395440" y="1910880"/>
              <a:ext cx="0" cy="1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95440" y="1911240"/>
              <a:ext cx="17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73280" y="1911240"/>
              <a:ext cx="0" cy="1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73280" y="2090880"/>
              <a:ext cx="5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70360" y="1225440"/>
              <a:ext cx="55440" cy="55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29040" y="1251000"/>
              <a:ext cx="295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11680" y="2746440"/>
              <a:ext cx="17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70360" y="2448000"/>
              <a:ext cx="55440" cy="57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97360" y="1351080"/>
              <a:ext cx="0" cy="9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97360" y="2508120"/>
              <a:ext cx="0" cy="238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91200" y="1230480"/>
              <a:ext cx="55440" cy="568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27560" y="1255680"/>
              <a:ext cx="88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14960" y="1225440"/>
              <a:ext cx="55800" cy="55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53040" y="2746440"/>
              <a:ext cx="17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13520" y="2448000"/>
              <a:ext cx="54000" cy="57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805440" y="1295280"/>
              <a:ext cx="0" cy="119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140520" y="2508120"/>
              <a:ext cx="0" cy="238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47800" y="7938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04440" y="185256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96240" y="1566720"/>
              <a:ext cx="711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14040" y="1720800"/>
              <a:ext cx="65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38000" y="1612800"/>
              <a:ext cx="73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5018040" y="1719360"/>
              <a:ext cx="430200" cy="712800"/>
              <a:chOff x="5018040" y="1719360"/>
              <a:chExt cx="430200" cy="712800"/>
            </a:xfrm>
          </p:grpSpPr>
          <p:sp>
            <p:nvSpPr>
              <p:cNvPr id="265" name=""/>
              <p:cNvSpPr/>
              <p:nvPr/>
            </p:nvSpPr>
            <p:spPr>
              <a:xfrm>
                <a:off x="5018040" y="1719360"/>
                <a:ext cx="429120" cy="4334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019120" y="1998720"/>
                <a:ext cx="429120" cy="4334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212080" y="1868040"/>
                <a:ext cx="0" cy="44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 flipV="1">
              <a:off x="5211720" y="2409840"/>
              <a:ext cx="0" cy="33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140520" y="1258920"/>
              <a:ext cx="0" cy="118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6083280" y="1547280"/>
              <a:ext cx="122400" cy="349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37360" y="15382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5400000">
              <a:off x="2782440" y="1092240"/>
              <a:ext cx="123840" cy="345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4092120" y="1490760"/>
              <a:ext cx="5288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05880" y="1555920"/>
              <a:ext cx="425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047960" y="4187880"/>
              <a:ext cx="2180880" cy="1765440"/>
              <a:chOff x="1047960" y="4187880"/>
              <a:chExt cx="2180880" cy="1765440"/>
            </a:xfrm>
          </p:grpSpPr>
          <p:sp>
            <p:nvSpPr>
              <p:cNvPr id="276" name=""/>
              <p:cNvSpPr/>
              <p:nvPr/>
            </p:nvSpPr>
            <p:spPr>
              <a:xfrm flipV="1">
                <a:off x="1336680" y="4554360"/>
                <a:ext cx="0" cy="13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76120" y="5246640"/>
                <a:ext cx="20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496880" y="4751280"/>
                <a:ext cx="1360440" cy="903240"/>
              </a:xfrm>
              <a:custGeom>
                <a:avLst/>
                <a:gdLst/>
                <a:ahLst/>
                <a:rect l="l" t="t" r="r" b="b"/>
                <a:pathLst>
                  <a:path w="857" h="569">
                    <a:moveTo>
                      <a:pt x="0" y="0"/>
                    </a:moveTo>
                    <a:lnTo>
                      <a:pt x="164" y="0"/>
                    </a:lnTo>
                    <a:lnTo>
                      <a:pt x="164" y="569"/>
                    </a:lnTo>
                    <a:lnTo>
                      <a:pt x="421" y="569"/>
                    </a:lnTo>
                    <a:lnTo>
                      <a:pt x="421" y="0"/>
                    </a:lnTo>
                    <a:lnTo>
                      <a:pt x="678" y="0"/>
                    </a:lnTo>
                    <a:lnTo>
                      <a:pt x="678" y="561"/>
                    </a:lnTo>
                    <a:lnTo>
                      <a:pt x="857" y="5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94040" y="4187880"/>
                <a:ext cx="493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(t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456560" y="448632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Times New Roman"/>
                  </a:rPr>
                  <a:t>OF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695240" y="5676840"/>
                <a:ext cx="40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Times New Roman"/>
                  </a:rPr>
                  <a:t>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93320" y="4626000"/>
                <a:ext cx="279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047960" y="5457960"/>
                <a:ext cx="3405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I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273560" y="3419640"/>
              <a:ext cx="4149000" cy="3317400"/>
              <a:chOff x="4273560" y="3419640"/>
              <a:chExt cx="4149000" cy="331740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4273560" y="3419640"/>
                <a:ext cx="4149000" cy="3317400"/>
                <a:chOff x="4273560" y="3419640"/>
                <a:chExt cx="4149000" cy="33174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354560" y="4861080"/>
                  <a:ext cx="346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5815080" y="3487680"/>
                  <a:ext cx="0" cy="233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978880" y="3419640"/>
                  <a:ext cx="4258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871400" y="4611600"/>
                  <a:ext cx="5511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W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873680" y="3808440"/>
                  <a:ext cx="2039760" cy="557280"/>
                </a:xfrm>
                <a:custGeom>
                  <a:avLst/>
                  <a:gdLst/>
                  <a:ahLst/>
                  <a:rect l="l" t="t" r="r" b="b"/>
                  <a:pathLst>
                    <a:path w="1285" h="351">
                      <a:moveTo>
                        <a:pt x="0" y="351"/>
                      </a:moveTo>
                      <a:lnTo>
                        <a:pt x="974" y="351"/>
                      </a:lnTo>
                      <a:lnTo>
                        <a:pt x="1285" y="0"/>
                      </a:lnTo>
                    </a:path>
                  </a:pathLst>
                </a:custGeom>
                <a:noFill/>
                <a:ln w="190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638600" y="3884760"/>
                  <a:ext cx="2239920" cy="1744560"/>
                </a:xfrm>
                <a:custGeom>
                  <a:avLst/>
                  <a:gdLst/>
                  <a:ahLst/>
                  <a:rect l="l" t="t" r="r" b="b"/>
                  <a:pathLst>
                    <a:path w="1411" h="1099">
                      <a:moveTo>
                        <a:pt x="0" y="1099"/>
                      </a:moveTo>
                      <a:lnTo>
                        <a:pt x="468" y="1091"/>
                      </a:lnTo>
                      <a:lnTo>
                        <a:pt x="1411" y="0"/>
                      </a:lnTo>
                    </a:path>
                  </a:pathLst>
                </a:custGeom>
                <a:noFill/>
                <a:ln w="190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379040" y="4167360"/>
                  <a:ext cx="485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F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273560" y="5481720"/>
                  <a:ext cx="409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</a:rPr>
                    <a:t>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505920" y="4492800"/>
                  <a:ext cx="4258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970520" y="3927600"/>
                  <a:ext cx="6440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c0000"/>
                      </a:solidFill>
                      <a:latin typeface="Times New Roman"/>
                    </a:rPr>
                    <a:t>I</a:t>
                  </a:r>
                  <a:r>
                    <a:rPr b="0" lang="en-US" sz="20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F </a:t>
                  </a:r>
                  <a:r>
                    <a:rPr b="0" lang="en-US" sz="2000" spc="-1" strike="noStrike">
                      <a:solidFill>
                        <a:srgbClr val="cc0000"/>
                      </a:solidFill>
                      <a:latin typeface="Times New Roman"/>
                    </a:rPr>
                    <a:t>R</a:t>
                  </a:r>
                  <a:r>
                    <a:rPr b="0" lang="en-US" sz="20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932800" y="5576760"/>
                  <a:ext cx="10710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8000"/>
                      </a:solidFill>
                      <a:latin typeface="Times New Roman"/>
                    </a:rPr>
                    <a:t>I</a:t>
                  </a:r>
                  <a:r>
                    <a:rPr b="0" lang="en-US" sz="2000" spc="-1" strike="noStrike" baseline="-25000">
                      <a:solidFill>
                        <a:srgbClr val="008000"/>
                      </a:solidFill>
                      <a:latin typeface="Times New Roman"/>
                    </a:rPr>
                    <a:t>R </a:t>
                  </a:r>
                  <a:r>
                    <a:rPr b="0" lang="en-US" sz="20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r>
                    <a:rPr b="0" lang="en-US" sz="2000" spc="-1" strike="noStrike" baseline="-25000">
                      <a:solidFill>
                        <a:srgbClr val="008000"/>
                      </a:solidFill>
                      <a:latin typeface="Times New Roman"/>
                    </a:rPr>
                    <a:t>L</a:t>
                  </a:r>
                  <a:r>
                    <a:rPr b="0" lang="en-US" sz="2000" spc="-1" strike="noStrike">
                      <a:solidFill>
                        <a:srgbClr val="008000"/>
                      </a:solidFill>
                      <a:latin typeface="Times New Roman"/>
                    </a:rPr>
                    <a:t>+U</a:t>
                  </a:r>
                  <a:r>
                    <a:rPr b="0" lang="en-US" sz="2000" spc="-1" strike="noStrike" baseline="-25000">
                      <a:solidFill>
                        <a:srgbClr val="008000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419800" y="6246720"/>
                  <a:ext cx="97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356080" y="4861080"/>
                  <a:ext cx="0" cy="149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448320" y="4419720"/>
                  <a:ext cx="0" cy="195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447880" y="6400800"/>
                  <a:ext cx="10008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akres U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W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6567480" y="4145040"/>
                <a:ext cx="866880" cy="395280"/>
              </a:xfrm>
              <a:custGeom>
                <a:avLst/>
                <a:gdLst/>
                <a:ahLst/>
                <a:rect l="l" t="t" r="r" b="b"/>
                <a:pathLst>
                  <a:path w="546" h="249">
                    <a:moveTo>
                      <a:pt x="546" y="148"/>
                    </a:moveTo>
                    <a:lnTo>
                      <a:pt x="0" y="148"/>
                    </a:lnTo>
                    <a:lnTo>
                      <a:pt x="164" y="0"/>
                    </a:lnTo>
                    <a:lnTo>
                      <a:pt x="164" y="24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861600" y="405144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achylenie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8242200" y="60976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67240" y="820800"/>
              <a:ext cx="41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 flipH="1">
            <a:off x="2522160" y="2381400"/>
            <a:ext cx="2421000" cy="21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099520" y="216000"/>
            <a:ext cx="491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cja dwukierunkowego źródła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89320" y="2932200"/>
            <a:ext cx="1434960" cy="3378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75240" y="4465800"/>
            <a:ext cx="642600" cy="1447560"/>
          </a:xfrm>
          <a:prstGeom prst="ellipse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78080" y="1792440"/>
            <a:ext cx="428760" cy="433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13160" y="2216160"/>
            <a:ext cx="0" cy="53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25680" y="2746440"/>
            <a:ext cx="17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484360" y="1255320"/>
            <a:ext cx="0" cy="53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71760" y="1255680"/>
            <a:ext cx="1400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4223160" y="1173960"/>
            <a:ext cx="152280" cy="150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02080" y="1166760"/>
            <a:ext cx="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02080" y="1255680"/>
            <a:ext cx="82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5227560" y="1255680"/>
            <a:ext cx="0" cy="48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26040" y="2746440"/>
            <a:ext cx="17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36760" y="2090880"/>
            <a:ext cx="5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395440" y="191088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95440" y="1911240"/>
            <a:ext cx="177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73280" y="191124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3280" y="2090880"/>
            <a:ext cx="5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70360" y="1225440"/>
            <a:ext cx="55440" cy="5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29040" y="1251000"/>
            <a:ext cx="295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1680" y="2746440"/>
            <a:ext cx="17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70360" y="2448000"/>
            <a:ext cx="55440" cy="57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897360" y="1351080"/>
            <a:ext cx="0" cy="960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897360" y="2508120"/>
            <a:ext cx="0" cy="238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91200" y="1230480"/>
            <a:ext cx="55440" cy="5688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27560" y="1255680"/>
            <a:ext cx="147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47800" y="7938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29920" y="184140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429680" y="1541520"/>
            <a:ext cx="55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24920" y="1671480"/>
            <a:ext cx="65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67240" y="82080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38000" y="161280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18040" y="1719360"/>
            <a:ext cx="428760" cy="433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19840" y="1998720"/>
            <a:ext cx="428400" cy="433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211720" y="186804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211720" y="2409840"/>
            <a:ext cx="0" cy="33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83400" y="1238400"/>
            <a:ext cx="55440" cy="554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21480" y="2759040"/>
            <a:ext cx="17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681960" y="2460600"/>
            <a:ext cx="53640" cy="57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335720" y="1347840"/>
            <a:ext cx="0" cy="119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708600" y="2520720"/>
            <a:ext cx="0" cy="237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708600" y="1271520"/>
            <a:ext cx="0" cy="118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0800000">
            <a:off x="6651360" y="1560600"/>
            <a:ext cx="122040" cy="34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05800" y="151452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5400000">
            <a:off x="2782440" y="1092240"/>
            <a:ext cx="123840" cy="34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092120" y="1490760"/>
            <a:ext cx="52884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05880" y="155592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30480" y="3718080"/>
            <a:ext cx="2180880" cy="1765440"/>
            <a:chOff x="330480" y="3718080"/>
            <a:chExt cx="2180880" cy="1765440"/>
          </a:xfrm>
        </p:grpSpPr>
        <p:sp>
          <p:nvSpPr>
            <p:cNvPr id="354" name=""/>
            <p:cNvSpPr/>
            <p:nvPr/>
          </p:nvSpPr>
          <p:spPr>
            <a:xfrm flipV="1">
              <a:off x="619200" y="4084560"/>
              <a:ext cx="0" cy="13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8640" y="4776840"/>
              <a:ext cx="20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9400" y="4281480"/>
              <a:ext cx="1360440" cy="903240"/>
            </a:xfrm>
            <a:custGeom>
              <a:avLst/>
              <a:gdLst/>
              <a:ahLst/>
              <a:rect l="l" t="t" r="r" b="b"/>
              <a:pathLst>
                <a:path w="857" h="569">
                  <a:moveTo>
                    <a:pt x="0" y="0"/>
                  </a:moveTo>
                  <a:lnTo>
                    <a:pt x="164" y="0"/>
                  </a:lnTo>
                  <a:lnTo>
                    <a:pt x="164" y="569"/>
                  </a:lnTo>
                  <a:lnTo>
                    <a:pt x="421" y="569"/>
                  </a:lnTo>
                  <a:lnTo>
                    <a:pt x="421" y="0"/>
                  </a:lnTo>
                  <a:lnTo>
                    <a:pt x="678" y="0"/>
                  </a:lnTo>
                  <a:lnTo>
                    <a:pt x="678" y="561"/>
                  </a:lnTo>
                  <a:lnTo>
                    <a:pt x="857" y="56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560" y="3718080"/>
              <a:ext cx="49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6920" y="401652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77760" y="5207040"/>
              <a:ext cx="40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5840" y="4156200"/>
              <a:ext cx="279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0480" y="4988160"/>
              <a:ext cx="340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254400" y="3236760"/>
            <a:ext cx="2260800" cy="2404440"/>
            <a:chOff x="3254400" y="3236760"/>
            <a:chExt cx="2260800" cy="2404440"/>
          </a:xfrm>
        </p:grpSpPr>
        <p:grpSp>
          <p:nvGrpSpPr>
            <p:cNvPr id="363" name=""/>
            <p:cNvGrpSpPr/>
            <p:nvPr/>
          </p:nvGrpSpPr>
          <p:grpSpPr>
            <a:xfrm>
              <a:off x="3807720" y="3236760"/>
              <a:ext cx="332280" cy="1211040"/>
              <a:chOff x="3807720" y="3236760"/>
              <a:chExt cx="332280" cy="1211040"/>
            </a:xfrm>
          </p:grpSpPr>
          <p:sp>
            <p:nvSpPr>
              <p:cNvPr id="364" name=""/>
              <p:cNvSpPr/>
              <p:nvPr/>
            </p:nvSpPr>
            <p:spPr>
              <a:xfrm>
                <a:off x="3969360" y="4037400"/>
                <a:ext cx="0" cy="39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3940920" y="4402440"/>
                <a:ext cx="42840" cy="453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7720" y="3708360"/>
                <a:ext cx="330840" cy="347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3808800" y="3484440"/>
                <a:ext cx="331200" cy="347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957120" y="3578760"/>
                <a:ext cx="0" cy="3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957120" y="3236760"/>
                <a:ext cx="0" cy="26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3809880" y="4430160"/>
              <a:ext cx="332280" cy="1211040"/>
              <a:chOff x="3809880" y="4430160"/>
              <a:chExt cx="332280" cy="1211040"/>
            </a:xfrm>
          </p:grpSpPr>
          <p:sp>
            <p:nvSpPr>
              <p:cNvPr id="371" name=""/>
              <p:cNvSpPr/>
              <p:nvPr/>
            </p:nvSpPr>
            <p:spPr>
              <a:xfrm>
                <a:off x="3971520" y="5230800"/>
                <a:ext cx="0" cy="39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3943080" y="5595840"/>
                <a:ext cx="42840" cy="453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3809880" y="4901760"/>
                <a:ext cx="330840" cy="347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3810960" y="4677840"/>
                <a:ext cx="331200" cy="347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959280" y="4772160"/>
                <a:ext cx="0" cy="3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59280" y="4430160"/>
                <a:ext cx="0" cy="26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3254400" y="4430160"/>
              <a:ext cx="13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40080" y="3463200"/>
              <a:ext cx="127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on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91200" y="4768920"/>
              <a:ext cx="77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H="1">
            <a:off x="4490640" y="2523960"/>
            <a:ext cx="482760" cy="519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080760" y="3392640"/>
            <a:ext cx="2386440" cy="1814400"/>
            <a:chOff x="6080760" y="3392640"/>
            <a:chExt cx="2386440" cy="1814400"/>
          </a:xfrm>
        </p:grpSpPr>
        <p:sp>
          <p:nvSpPr>
            <p:cNvPr id="382" name=""/>
            <p:cNvSpPr/>
            <p:nvPr/>
          </p:nvSpPr>
          <p:spPr>
            <a:xfrm flipV="1">
              <a:off x="6575040" y="3573000"/>
              <a:ext cx="0" cy="13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14840" y="4894200"/>
              <a:ext cx="20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35600" y="3992400"/>
              <a:ext cx="1360080" cy="902880"/>
            </a:xfrm>
            <a:custGeom>
              <a:avLst/>
              <a:gdLst/>
              <a:ahLst/>
              <a:rect l="l" t="t" r="r" b="b"/>
              <a:pathLst>
                <a:path w="857" h="569">
                  <a:moveTo>
                    <a:pt x="0" y="0"/>
                  </a:moveTo>
                  <a:lnTo>
                    <a:pt x="164" y="0"/>
                  </a:lnTo>
                  <a:lnTo>
                    <a:pt x="164" y="569"/>
                  </a:lnTo>
                  <a:lnTo>
                    <a:pt x="421" y="569"/>
                  </a:lnTo>
                  <a:lnTo>
                    <a:pt x="421" y="0"/>
                  </a:lnTo>
                  <a:lnTo>
                    <a:pt x="678" y="0"/>
                  </a:lnTo>
                  <a:lnTo>
                    <a:pt x="678" y="561"/>
                  </a:lnTo>
                  <a:lnTo>
                    <a:pt x="857" y="5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37320" y="3392640"/>
              <a:ext cx="494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46920" y="493056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43000" y="3716280"/>
              <a:ext cx="40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80760" y="3821040"/>
              <a:ext cx="52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V="1">
            <a:off x="4282920" y="4354200"/>
            <a:ext cx="2036880" cy="484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49880" y="5416560"/>
            <a:ext cx="3366000" cy="7030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Prądowy klu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(rys. na nast. strona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60880" y="5197320"/>
            <a:ext cx="1049400" cy="4096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097720" y="339840"/>
            <a:ext cx="610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cz diodowy szeregowy         kompensacj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95400" y="2125800"/>
            <a:ext cx="428760" cy="433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30480" y="2549520"/>
            <a:ext cx="0" cy="53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43000" y="3079800"/>
            <a:ext cx="17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101680" y="1588680"/>
            <a:ext cx="0" cy="53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89080" y="1589040"/>
            <a:ext cx="14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5400000">
            <a:off x="3840840" y="1507320"/>
            <a:ext cx="152280" cy="150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500120"/>
            <a:ext cx="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19400" y="1589040"/>
            <a:ext cx="82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844880" y="1589040"/>
            <a:ext cx="0" cy="48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43360" y="3079800"/>
            <a:ext cx="176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54080" y="2424240"/>
            <a:ext cx="5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013120" y="224424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13120" y="2244600"/>
            <a:ext cx="177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90600" y="224460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90600" y="2424240"/>
            <a:ext cx="5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87680" y="1558800"/>
            <a:ext cx="55800" cy="5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46360" y="1584360"/>
            <a:ext cx="29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29000" y="3079800"/>
            <a:ext cx="17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87680" y="2781360"/>
            <a:ext cx="55800" cy="57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514680" y="1684440"/>
            <a:ext cx="0" cy="960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514680" y="2841480"/>
            <a:ext cx="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08520" y="1563840"/>
            <a:ext cx="55440" cy="5688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1589040"/>
            <a:ext cx="147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65120" y="11271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47240" y="21747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47000" y="1874880"/>
            <a:ext cx="55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42240" y="2004840"/>
            <a:ext cx="65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84920" y="11541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55320" y="194616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35360" y="2052720"/>
            <a:ext cx="428760" cy="433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37160" y="2332080"/>
            <a:ext cx="428400" cy="433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29040" y="220176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4829040" y="2743200"/>
            <a:ext cx="0" cy="33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00720" y="1571760"/>
            <a:ext cx="55800" cy="554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26200" y="3228840"/>
            <a:ext cx="17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6953400" y="1681200"/>
            <a:ext cx="0" cy="119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315120" y="2990520"/>
            <a:ext cx="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326280" y="1604520"/>
            <a:ext cx="0" cy="98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0800000">
            <a:off x="6269040" y="1893960"/>
            <a:ext cx="122400" cy="34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23120" y="1847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5400000">
            <a:off x="2399760" y="1425600"/>
            <a:ext cx="123840" cy="34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3710160" y="1824120"/>
            <a:ext cx="5284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23200" y="188928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02360" y="112068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343840" y="1517760"/>
            <a:ext cx="177840" cy="201600"/>
            <a:chOff x="5343840" y="1517760"/>
            <a:chExt cx="177840" cy="201600"/>
          </a:xfrm>
        </p:grpSpPr>
        <p:sp>
          <p:nvSpPr>
            <p:cNvPr id="438" name=""/>
            <p:cNvSpPr/>
            <p:nvPr/>
          </p:nvSpPr>
          <p:spPr>
            <a:xfrm flipH="1" rot="16200000">
              <a:off x="5369760" y="1524240"/>
              <a:ext cx="151920" cy="150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3840" y="1517760"/>
              <a:ext cx="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093000" y="2587680"/>
            <a:ext cx="428400" cy="433440"/>
            <a:chOff x="6093000" y="2587680"/>
            <a:chExt cx="428400" cy="433440"/>
          </a:xfrm>
        </p:grpSpPr>
        <p:sp>
          <p:nvSpPr>
            <p:cNvPr id="441" name=""/>
            <p:cNvSpPr/>
            <p:nvPr/>
          </p:nvSpPr>
          <p:spPr>
            <a:xfrm>
              <a:off x="6093000" y="2587680"/>
              <a:ext cx="428400" cy="43344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297480" y="2671560"/>
              <a:ext cx="0" cy="198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472800" y="2824200"/>
            <a:ext cx="398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09880" y="499752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5840280" y="3624120"/>
            <a:ext cx="0" cy="233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04440" y="355608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896600" y="4748040"/>
            <a:ext cx="55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80600" y="46753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72120" y="54324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Times New Roman"/>
              </a:rPr>
              <a:t>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32480" y="4548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394400" y="5170320"/>
            <a:ext cx="100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F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54520" y="5221440"/>
            <a:ext cx="866880" cy="395280"/>
          </a:xfrm>
          <a:custGeom>
            <a:avLst/>
            <a:gdLst/>
            <a:ahLst/>
            <a:rect l="l" t="t" r="r" b="b"/>
            <a:pathLst>
              <a:path w="546" h="249">
                <a:moveTo>
                  <a:pt x="546" y="148"/>
                </a:moveTo>
                <a:lnTo>
                  <a:pt x="0" y="148"/>
                </a:lnTo>
                <a:lnTo>
                  <a:pt x="164" y="0"/>
                </a:lnTo>
                <a:lnTo>
                  <a:pt x="164" y="24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949000" y="5127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chylenie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70520" y="5000760"/>
            <a:ext cx="3004920" cy="730080"/>
          </a:xfrm>
          <a:custGeom>
            <a:avLst/>
            <a:gdLst/>
            <a:ahLst/>
            <a:rect l="l" t="t" r="r" b="b"/>
            <a:pathLst>
              <a:path w="1893" h="460">
                <a:moveTo>
                  <a:pt x="0" y="460"/>
                </a:moveTo>
                <a:lnTo>
                  <a:pt x="600" y="460"/>
                </a:lnTo>
                <a:lnTo>
                  <a:pt x="1122" y="0"/>
                </a:lnTo>
                <a:lnTo>
                  <a:pt x="1893" y="8"/>
                </a:ln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3800" y="4987800"/>
            <a:ext cx="30052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997520" y="4986000"/>
            <a:ext cx="0" cy="70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072040" y="5742000"/>
            <a:ext cx="268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38840" y="4033800"/>
            <a:ext cx="1608120" cy="965160"/>
          </a:xfrm>
          <a:custGeom>
            <a:avLst/>
            <a:gdLst/>
            <a:ahLst/>
            <a:rect l="l" t="t" r="r" b="b"/>
            <a:pathLst>
              <a:path w="1013" h="608">
                <a:moveTo>
                  <a:pt x="0" y="608"/>
                </a:moveTo>
                <a:lnTo>
                  <a:pt x="686" y="0"/>
                </a:lnTo>
                <a:lnTo>
                  <a:pt x="1013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4057200" y="4029120"/>
            <a:ext cx="332748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70920" y="361152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248600" y="4038480"/>
            <a:ext cx="0" cy="170496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95080" y="3870360"/>
            <a:ext cx="2294280" cy="1713960"/>
            <a:chOff x="595080" y="3870360"/>
            <a:chExt cx="2294280" cy="1713960"/>
          </a:xfrm>
        </p:grpSpPr>
        <p:sp>
          <p:nvSpPr>
            <p:cNvPr id="463" name=""/>
            <p:cNvSpPr/>
            <p:nvPr/>
          </p:nvSpPr>
          <p:spPr>
            <a:xfrm flipV="1">
              <a:off x="996840" y="4236840"/>
              <a:ext cx="0" cy="13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6640" y="4929120"/>
              <a:ext cx="20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70000" y="4395960"/>
              <a:ext cx="1360440" cy="533160"/>
            </a:xfrm>
            <a:custGeom>
              <a:avLst/>
              <a:gdLst/>
              <a:ahLst/>
              <a:rect l="l" t="t" r="r" b="b"/>
              <a:pathLst>
                <a:path w="857" h="569">
                  <a:moveTo>
                    <a:pt x="0" y="0"/>
                  </a:moveTo>
                  <a:lnTo>
                    <a:pt x="164" y="0"/>
                  </a:lnTo>
                  <a:lnTo>
                    <a:pt x="164" y="569"/>
                  </a:lnTo>
                  <a:lnTo>
                    <a:pt x="421" y="569"/>
                  </a:lnTo>
                  <a:lnTo>
                    <a:pt x="421" y="0"/>
                  </a:lnTo>
                  <a:lnTo>
                    <a:pt x="678" y="0"/>
                  </a:lnTo>
                  <a:lnTo>
                    <a:pt x="678" y="561"/>
                  </a:lnTo>
                  <a:lnTo>
                    <a:pt x="857" y="5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4200" y="3870360"/>
              <a:ext cx="49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13720" y="47116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63720" y="41590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cc33"/>
                  </a:solidFill>
                  <a:latin typeface="Times New Roman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4760" y="4213080"/>
              <a:ext cx="279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5080" y="47577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5519880" y="519120"/>
            <a:ext cx="495000" cy="169920"/>
          </a:xfrm>
          <a:prstGeom prst="rightArrow">
            <a:avLst>
              <a:gd name="adj1" fmla="val 50000"/>
              <a:gd name="adj2" fmla="val 72828"/>
            </a:avLst>
          </a:prstGeom>
          <a:solidFill>
            <a:srgbClr val="ff7c8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41120" y="3367080"/>
            <a:ext cx="3366000" cy="459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rądowy klu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19526400">
            <a:off x="3726000" y="2952360"/>
            <a:ext cx="915840" cy="193680"/>
          </a:xfrm>
          <a:prstGeom prst="rightArrow">
            <a:avLst>
              <a:gd name="adj1" fmla="val 50000"/>
              <a:gd name="adj2" fmla="val 11821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846440" y="1515960"/>
            <a:ext cx="5310000" cy="401328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75" name=""/>
          <p:cNvSpPr/>
          <p:nvPr/>
        </p:nvSpPr>
        <p:spPr>
          <a:xfrm>
            <a:off x="2668320" y="474840"/>
            <a:ext cx="3366000" cy="459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rądowy klu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960640" y="2214720"/>
            <a:ext cx="0" cy="51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29160" y="2276640"/>
            <a:ext cx="0" cy="51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0120" y="2178000"/>
                <a:ext cx="765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2111400" y="2174760"/>
                <a:ext cx="7650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"/>
          <p:cNvGrpSpPr/>
          <p:nvPr/>
        </p:nvGrpSpPr>
        <p:grpSpPr>
          <a:xfrm>
            <a:off x="1543680" y="1011240"/>
            <a:ext cx="6087960" cy="4977720"/>
            <a:chOff x="1543680" y="1011240"/>
            <a:chExt cx="6087960" cy="4977720"/>
          </a:xfrm>
        </p:grpSpPr>
        <p:sp>
          <p:nvSpPr>
            <p:cNvPr id="481" name=""/>
            <p:cNvSpPr/>
            <p:nvPr/>
          </p:nvSpPr>
          <p:spPr>
            <a:xfrm>
              <a:off x="1622520" y="5367240"/>
              <a:ext cx="55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4498920" y="1173240"/>
              <a:ext cx="0" cy="441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635120" y="1992240"/>
              <a:ext cx="5238720" cy="3375000"/>
            </a:xfrm>
            <a:custGeom>
              <a:avLst/>
              <a:gdLst/>
              <a:ahLst/>
              <a:rect l="l" t="t" r="r" b="b"/>
              <a:pathLst>
                <a:path w="3300" h="2126">
                  <a:moveTo>
                    <a:pt x="0" y="2"/>
                  </a:moveTo>
                  <a:cubicBezTo>
                    <a:pt x="333" y="0"/>
                    <a:pt x="672" y="1"/>
                    <a:pt x="900" y="18"/>
                  </a:cubicBezTo>
                  <a:cubicBezTo>
                    <a:pt x="1128" y="35"/>
                    <a:pt x="1251" y="52"/>
                    <a:pt x="1370" y="107"/>
                  </a:cubicBezTo>
                  <a:cubicBezTo>
                    <a:pt x="1489" y="162"/>
                    <a:pt x="1543" y="208"/>
                    <a:pt x="1613" y="350"/>
                  </a:cubicBezTo>
                  <a:cubicBezTo>
                    <a:pt x="1683" y="492"/>
                    <a:pt x="1715" y="713"/>
                    <a:pt x="1792" y="958"/>
                  </a:cubicBezTo>
                  <a:cubicBezTo>
                    <a:pt x="1869" y="1203"/>
                    <a:pt x="1968" y="1633"/>
                    <a:pt x="2076" y="1818"/>
                  </a:cubicBezTo>
                  <a:cubicBezTo>
                    <a:pt x="2184" y="2003"/>
                    <a:pt x="2237" y="2018"/>
                    <a:pt x="2441" y="2069"/>
                  </a:cubicBezTo>
                  <a:cubicBezTo>
                    <a:pt x="2645" y="2120"/>
                    <a:pt x="2972" y="2123"/>
                    <a:pt x="3300" y="212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rot="10800000">
              <a:off x="1581480" y="1977840"/>
              <a:ext cx="5239080" cy="3375000"/>
            </a:xfrm>
            <a:custGeom>
              <a:avLst/>
              <a:gdLst/>
              <a:ahLst/>
              <a:rect l="l" t="t" r="r" b="b"/>
              <a:pathLst>
                <a:path w="3300" h="2126">
                  <a:moveTo>
                    <a:pt x="0" y="2"/>
                  </a:moveTo>
                  <a:cubicBezTo>
                    <a:pt x="333" y="0"/>
                    <a:pt x="672" y="1"/>
                    <a:pt x="900" y="18"/>
                  </a:cubicBezTo>
                  <a:cubicBezTo>
                    <a:pt x="1128" y="35"/>
                    <a:pt x="1251" y="52"/>
                    <a:pt x="1370" y="107"/>
                  </a:cubicBezTo>
                  <a:cubicBezTo>
                    <a:pt x="1489" y="162"/>
                    <a:pt x="1543" y="208"/>
                    <a:pt x="1613" y="350"/>
                  </a:cubicBezTo>
                  <a:cubicBezTo>
                    <a:pt x="1683" y="492"/>
                    <a:pt x="1715" y="713"/>
                    <a:pt x="1792" y="958"/>
                  </a:cubicBezTo>
                  <a:cubicBezTo>
                    <a:pt x="1869" y="1203"/>
                    <a:pt x="1968" y="1633"/>
                    <a:pt x="2076" y="1818"/>
                  </a:cubicBezTo>
                  <a:cubicBezTo>
                    <a:pt x="2184" y="2003"/>
                    <a:pt x="2237" y="2018"/>
                    <a:pt x="2441" y="2069"/>
                  </a:cubicBezTo>
                  <a:cubicBezTo>
                    <a:pt x="2645" y="2120"/>
                    <a:pt x="2972" y="2123"/>
                    <a:pt x="3300" y="2126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06920" y="1011240"/>
              <a:ext cx="93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6" name=""/>
                <p:cNvSpPr txBox="1"/>
                <p:nvPr/>
              </p:nvSpPr>
              <p:spPr>
                <a:xfrm>
                  <a:off x="4676760" y="3233880"/>
                  <a:ext cx="765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I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87" name=""/>
            <p:cNvSpPr/>
            <p:nvPr/>
          </p:nvSpPr>
          <p:spPr>
            <a:xfrm>
              <a:off x="4337280" y="5529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04920" y="540072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2-V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14160" y="1706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43680" y="15368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668320" y="474840"/>
            <a:ext cx="3366000" cy="459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rądowy klu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033560" y="228600"/>
            <a:ext cx="74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cz pierścieniowy - modulator diodowy (zrównoważ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346680" y="901800"/>
            <a:ext cx="8424360" cy="5433840"/>
            <a:chOff x="346680" y="901800"/>
            <a:chExt cx="8424360" cy="5433840"/>
          </a:xfrm>
        </p:grpSpPr>
        <p:sp>
          <p:nvSpPr>
            <p:cNvPr id="494" name=""/>
            <p:cNvSpPr/>
            <p:nvPr/>
          </p:nvSpPr>
          <p:spPr>
            <a:xfrm>
              <a:off x="346680" y="308772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544680" y="1139760"/>
              <a:ext cx="3425040" cy="4344840"/>
              <a:chOff x="544680" y="1139760"/>
              <a:chExt cx="3425040" cy="4344840"/>
            </a:xfrm>
          </p:grpSpPr>
          <p:sp>
            <p:nvSpPr>
              <p:cNvPr id="496" name=""/>
              <p:cNvSpPr/>
              <p:nvPr/>
            </p:nvSpPr>
            <p:spPr>
              <a:xfrm>
                <a:off x="3543840" y="3425760"/>
                <a:ext cx="425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954440" y="1139760"/>
                <a:ext cx="0" cy="434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253880" y="2575800"/>
                <a:ext cx="1416600" cy="1418040"/>
                <a:chOff x="1253880" y="2575800"/>
                <a:chExt cx="1416600" cy="1418040"/>
              </a:xfrm>
            </p:grpSpPr>
            <p:sp>
              <p:nvSpPr>
                <p:cNvPr id="499" name=""/>
                <p:cNvSpPr/>
                <p:nvPr/>
              </p:nvSpPr>
              <p:spPr>
                <a:xfrm rot="18819600">
                  <a:off x="1448280" y="2795760"/>
                  <a:ext cx="1027080" cy="977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0" name=""/>
                <p:cNvGrpSpPr/>
                <p:nvPr/>
              </p:nvGrpSpPr>
              <p:grpSpPr>
                <a:xfrm>
                  <a:off x="2156400" y="2745360"/>
                  <a:ext cx="237240" cy="263160"/>
                  <a:chOff x="2156400" y="2745360"/>
                  <a:chExt cx="237240" cy="26316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rot="7652400">
                    <a:off x="2185920" y="2776320"/>
                    <a:ext cx="152280" cy="1504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flipH="1">
                    <a:off x="2270880" y="2848320"/>
                    <a:ext cx="122760" cy="160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2166480" y="3515400"/>
                  <a:ext cx="263160" cy="237240"/>
                  <a:chOff x="2166480" y="3515400"/>
                  <a:chExt cx="263160" cy="23724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 rot="13052400">
                    <a:off x="2247120" y="3546000"/>
                    <a:ext cx="152280" cy="1504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flipH="1" flipV="1">
                    <a:off x="2166480" y="3629880"/>
                    <a:ext cx="160200" cy="122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1446120" y="3469680"/>
                  <a:ext cx="263160" cy="237240"/>
                  <a:chOff x="1446120" y="3469680"/>
                  <a:chExt cx="263160" cy="23724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flipH="1" rot="8547600">
                    <a:off x="1476000" y="3500280"/>
                    <a:ext cx="152280" cy="15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V="1">
                    <a:off x="1549440" y="3583800"/>
                    <a:ext cx="159840" cy="1231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1504800" y="2828880"/>
                  <a:ext cx="237240" cy="263160"/>
                  <a:chOff x="1504800" y="2828880"/>
                  <a:chExt cx="237240" cy="26316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flipH="1" rot="13947600">
                    <a:off x="1559880" y="2859840"/>
                    <a:ext cx="152280" cy="15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1504800" y="2932200"/>
                    <a:ext cx="123120" cy="15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2" name=""/>
              <p:cNvGrpSpPr/>
              <p:nvPr/>
            </p:nvGrpSpPr>
            <p:grpSpPr>
              <a:xfrm>
                <a:off x="1731960" y="1611000"/>
                <a:ext cx="430200" cy="712800"/>
                <a:chOff x="1731960" y="1611000"/>
                <a:chExt cx="430200" cy="71280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1731960" y="1611000"/>
                  <a:ext cx="428760" cy="433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733760" y="1890360"/>
                  <a:ext cx="428400" cy="433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925640" y="1760040"/>
                  <a:ext cx="0" cy="44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 flipH="1">
                <a:off x="655560" y="3315960"/>
                <a:ext cx="61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2674800" y="3269880"/>
                <a:ext cx="61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19200" y="33904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470400" y="335700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1755720" y="4209840"/>
                <a:ext cx="430200" cy="712800"/>
                <a:chOff x="1755720" y="4209840"/>
                <a:chExt cx="430200" cy="7128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1755720" y="4209840"/>
                  <a:ext cx="428760" cy="433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757520" y="4489200"/>
                  <a:ext cx="428400" cy="433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949400" y="4358880"/>
                  <a:ext cx="0" cy="44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4" name=""/>
              <p:cNvSpPr/>
              <p:nvPr/>
            </p:nvSpPr>
            <p:spPr>
              <a:xfrm>
                <a:off x="544680" y="3997080"/>
                <a:ext cx="210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70160" y="3963600"/>
                <a:ext cx="211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340000" y="1479240"/>
                <a:ext cx="365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06520" y="4340160"/>
                <a:ext cx="365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278160" y="3265200"/>
                <a:ext cx="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0800000">
                <a:off x="3213000" y="3416040"/>
                <a:ext cx="122400" cy="349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42200" y="3379680"/>
                <a:ext cx="413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4157640" y="2982960"/>
              <a:ext cx="4613400" cy="3352680"/>
              <a:chOff x="4157640" y="2982960"/>
              <a:chExt cx="4613400" cy="335268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6310080" y="3219480"/>
                <a:ext cx="0" cy="311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157640" y="4889520"/>
                <a:ext cx="461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91000" y="3689280"/>
                <a:ext cx="3735360" cy="2338560"/>
              </a:xfrm>
              <a:custGeom>
                <a:avLst/>
                <a:gdLst/>
                <a:ahLst/>
                <a:rect l="l" t="t" r="r" b="b"/>
                <a:pathLst>
                  <a:path w="2353" h="1504">
                    <a:moveTo>
                      <a:pt x="0" y="1504"/>
                    </a:moveTo>
                    <a:lnTo>
                      <a:pt x="600" y="1504"/>
                    </a:lnTo>
                    <a:lnTo>
                      <a:pt x="1722" y="0"/>
                    </a:lnTo>
                    <a:lnTo>
                      <a:pt x="2353" y="0"/>
                    </a:ln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1600" y="3619440"/>
                <a:ext cx="563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382800" y="5837040"/>
                <a:ext cx="639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I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249160" y="4492440"/>
                <a:ext cx="639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I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001640" y="4983120"/>
                <a:ext cx="563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5443560" y="482760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265880" y="366876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73800" y="603072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294240" y="3682800"/>
                <a:ext cx="90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07280" y="2982960"/>
                <a:ext cx="508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578120" y="4876560"/>
                <a:ext cx="366264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568640" y="4014720"/>
                <a:ext cx="48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671960" y="5081400"/>
                <a:ext cx="584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O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3094200" y="2532240"/>
              <a:ext cx="178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130560" y="999720"/>
              <a:ext cx="0" cy="16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79600" y="1566720"/>
              <a:ext cx="1409760" cy="965520"/>
            </a:xfrm>
            <a:custGeom>
              <a:avLst/>
              <a:gdLst/>
              <a:ahLst/>
              <a:rect l="l" t="t" r="r" b="b"/>
              <a:pathLst>
                <a:path w="888" h="608">
                  <a:moveTo>
                    <a:pt x="0" y="608"/>
                  </a:moveTo>
                  <a:lnTo>
                    <a:pt x="210" y="608"/>
                  </a:lnTo>
                  <a:lnTo>
                    <a:pt x="210" y="8"/>
                  </a:lnTo>
                  <a:lnTo>
                    <a:pt x="452" y="0"/>
                  </a:lnTo>
                  <a:lnTo>
                    <a:pt x="452" y="608"/>
                  </a:lnTo>
                  <a:lnTo>
                    <a:pt x="693" y="608"/>
                  </a:lnTo>
                  <a:lnTo>
                    <a:pt x="693" y="0"/>
                  </a:lnTo>
                  <a:lnTo>
                    <a:pt x="88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84560" y="9018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62640" y="1292400"/>
              <a:ext cx="31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3056040" y="1460520"/>
              <a:ext cx="568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68240" y="112248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50560" y="243036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689560" y="214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42800" y="20289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033560" y="228600"/>
            <a:ext cx="74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cz pierścieniowy - modulator diodowy (zrównoważ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135880" y="1293840"/>
            <a:ext cx="5304600" cy="4344840"/>
            <a:chOff x="2135880" y="1293840"/>
            <a:chExt cx="5304600" cy="4344840"/>
          </a:xfrm>
        </p:grpSpPr>
        <p:grpSp>
          <p:nvGrpSpPr>
            <p:cNvPr id="559" name=""/>
            <p:cNvGrpSpPr/>
            <p:nvPr/>
          </p:nvGrpSpPr>
          <p:grpSpPr>
            <a:xfrm>
              <a:off x="2720880" y="1293840"/>
              <a:ext cx="3425040" cy="4344840"/>
              <a:chOff x="2720880" y="1293840"/>
              <a:chExt cx="3425040" cy="4344840"/>
            </a:xfrm>
          </p:grpSpPr>
          <p:sp>
            <p:nvSpPr>
              <p:cNvPr id="560" name=""/>
              <p:cNvSpPr/>
              <p:nvPr/>
            </p:nvSpPr>
            <p:spPr>
              <a:xfrm>
                <a:off x="5720040" y="3579840"/>
                <a:ext cx="425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130640" y="1293840"/>
                <a:ext cx="0" cy="434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"/>
              <p:cNvGrpSpPr/>
              <p:nvPr/>
            </p:nvGrpSpPr>
            <p:grpSpPr>
              <a:xfrm>
                <a:off x="3430080" y="2729880"/>
                <a:ext cx="1416600" cy="1418040"/>
                <a:chOff x="3430080" y="2729880"/>
                <a:chExt cx="1416600" cy="1418040"/>
              </a:xfrm>
            </p:grpSpPr>
            <p:sp>
              <p:nvSpPr>
                <p:cNvPr id="563" name=""/>
                <p:cNvSpPr/>
                <p:nvPr/>
              </p:nvSpPr>
              <p:spPr>
                <a:xfrm rot="18819600">
                  <a:off x="3624480" y="2949840"/>
                  <a:ext cx="1027080" cy="977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4" name=""/>
                <p:cNvGrpSpPr/>
                <p:nvPr/>
              </p:nvGrpSpPr>
              <p:grpSpPr>
                <a:xfrm>
                  <a:off x="4332600" y="2899440"/>
                  <a:ext cx="237240" cy="263160"/>
                  <a:chOff x="4332600" y="2899440"/>
                  <a:chExt cx="237240" cy="26316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rot="7652400">
                    <a:off x="4362120" y="2930400"/>
                    <a:ext cx="152280" cy="1504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>
                    <a:off x="4447080" y="3002400"/>
                    <a:ext cx="122760" cy="160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4342680" y="3669480"/>
                  <a:ext cx="263160" cy="237240"/>
                  <a:chOff x="4342680" y="3669480"/>
                  <a:chExt cx="263160" cy="23724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13052400">
                    <a:off x="4423320" y="3700080"/>
                    <a:ext cx="152280" cy="1504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flipV="1">
                    <a:off x="4342680" y="3783960"/>
                    <a:ext cx="160200" cy="122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3622320" y="3623760"/>
                  <a:ext cx="263160" cy="237240"/>
                  <a:chOff x="3622320" y="3623760"/>
                  <a:chExt cx="263160" cy="23724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flipH="1" rot="8547600">
                    <a:off x="3652200" y="3654360"/>
                    <a:ext cx="152280" cy="15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V="1">
                    <a:off x="3725640" y="3737880"/>
                    <a:ext cx="159840" cy="1231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3681000" y="2982960"/>
                  <a:ext cx="237240" cy="263160"/>
                  <a:chOff x="3681000" y="2982960"/>
                  <a:chExt cx="237240" cy="2631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flipH="1" rot="13947600">
                    <a:off x="3736080" y="3013920"/>
                    <a:ext cx="152280" cy="15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3681000" y="3086280"/>
                    <a:ext cx="123120" cy="15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6" name=""/>
              <p:cNvGrpSpPr/>
              <p:nvPr/>
            </p:nvGrpSpPr>
            <p:grpSpPr>
              <a:xfrm>
                <a:off x="3908160" y="1765080"/>
                <a:ext cx="430200" cy="712800"/>
                <a:chOff x="3908160" y="1765080"/>
                <a:chExt cx="430200" cy="7128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908160" y="1765080"/>
                  <a:ext cx="428760" cy="433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909960" y="2044440"/>
                  <a:ext cx="428400" cy="433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101840" y="1914120"/>
                  <a:ext cx="0" cy="44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 flipH="1">
                <a:off x="2831760" y="3470040"/>
                <a:ext cx="61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4851000" y="3423960"/>
                <a:ext cx="61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2795400" y="354456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646600" y="35110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3931920" y="4363920"/>
                <a:ext cx="430200" cy="712800"/>
                <a:chOff x="3931920" y="4363920"/>
                <a:chExt cx="430200" cy="71280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931920" y="4363920"/>
                  <a:ext cx="428760" cy="433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933720" y="4643280"/>
                  <a:ext cx="428400" cy="433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125600" y="4512960"/>
                  <a:ext cx="0" cy="44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2720880" y="4151160"/>
                <a:ext cx="210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346360" y="4117680"/>
                <a:ext cx="211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516200" y="1633320"/>
                <a:ext cx="365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482720" y="4494240"/>
                <a:ext cx="365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454360" y="3419280"/>
                <a:ext cx="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0800000">
                <a:off x="5389200" y="3570120"/>
                <a:ext cx="122400" cy="349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018400" y="3533760"/>
                <a:ext cx="413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 flipV="1">
              <a:off x="3359160" y="2741760"/>
              <a:ext cx="38736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4478400" y="2637000"/>
              <a:ext cx="38736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3381480" y="3728520"/>
              <a:ext cx="38736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516560" y="3703680"/>
              <a:ext cx="38736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57680" y="3392640"/>
              <a:ext cx="836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49480" y="3351240"/>
              <a:ext cx="58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Times New Roman"/>
                </a:rPr>
                <a:t>U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35880" y="358920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11440" y="3521160"/>
              <a:ext cx="1229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6699ff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6699ff"/>
                  </a:solidFill>
                  <a:latin typeface="Times New Roman"/>
                </a:rPr>
                <a:t>lmax</a:t>
              </a:r>
              <a:r>
                <a:rPr b="0" lang="pl-PL" sz="2400" spc="-1" strike="noStrike">
                  <a:solidFill>
                    <a:srgbClr val="6699ff"/>
                  </a:solidFill>
                  <a:latin typeface="Times New Roman"/>
                </a:rPr>
                <a:t>=i</a:t>
              </a:r>
              <a:r>
                <a:rPr b="0" lang="pl-PL" sz="2400" spc="-1" strike="noStrike" baseline="-25000">
                  <a:solidFill>
                    <a:srgbClr val="6699ff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6699ff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06880" y="3419640"/>
              <a:ext cx="374760" cy="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204280" y="1093680"/>
            <a:ext cx="4289400" cy="3733920"/>
            <a:chOff x="2204280" y="1093680"/>
            <a:chExt cx="4289400" cy="3733920"/>
          </a:xfrm>
        </p:grpSpPr>
        <p:sp>
          <p:nvSpPr>
            <p:cNvPr id="605" name=""/>
            <p:cNvSpPr/>
            <p:nvPr/>
          </p:nvSpPr>
          <p:spPr>
            <a:xfrm>
              <a:off x="5470560" y="2913120"/>
              <a:ext cx="0" cy="63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46520" y="2922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46520" y="31510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46520" y="33796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5317920" y="3531960"/>
              <a:ext cx="15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5546160" y="3227400"/>
              <a:ext cx="304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51440" y="322740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546520" y="3456000"/>
              <a:ext cx="15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46520" y="2998800"/>
              <a:ext cx="15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99160" y="34560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5698800" y="37605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699160" y="2276280"/>
              <a:ext cx="0" cy="71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676840" y="3719520"/>
              <a:ext cx="71280" cy="712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68920" y="140976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0800000">
              <a:off x="5622480" y="183312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0800000">
              <a:off x="4631760" y="376020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5400000">
              <a:off x="3632400" y="33123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79640" y="48276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70000" y="4535280"/>
              <a:ext cx="0" cy="28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97280" y="47512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99160" y="4497120"/>
              <a:ext cx="0" cy="28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618080" y="47386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08440" y="4446360"/>
              <a:ext cx="0" cy="28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4708440" y="42174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946320" y="353196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4708440" y="35316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82880" y="3485880"/>
              <a:ext cx="71640" cy="71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955600" y="353196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955960" y="353196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62280" y="4141800"/>
              <a:ext cx="360360" cy="36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5699160" y="4293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2941560" y="41418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04280" y="406548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76240" y="27702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88000" y="3836880"/>
              <a:ext cx="61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5699160" y="1474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871240" y="1093680"/>
              <a:ext cx="6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37480" y="193176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419200" y="20952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cz równoległy (z tranzystorem 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278000" y="5667480"/>
            <a:ext cx="5425920" cy="927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133720" y="3733920"/>
            <a:ext cx="554040" cy="554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38280" y="42750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25600" y="4952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2400480" y="30477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397240" y="3048120"/>
            <a:ext cx="102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rot="5400000">
            <a:off x="3591360" y="282492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rot="10800000">
            <a:off x="5028840" y="167616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5105520" y="1066680"/>
            <a:ext cx="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105520" y="213372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09680" y="41148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2286000" y="3885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0" y="38862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514600" y="38862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514600" y="41148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91120" y="3008160"/>
            <a:ext cx="71280" cy="71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6200" y="304812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267080" y="3041640"/>
            <a:ext cx="3812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952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91120" y="4572000"/>
            <a:ext cx="71280" cy="71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4226040" y="304776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4226040" y="4648320"/>
            <a:ext cx="0" cy="304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070600" y="990720"/>
            <a:ext cx="71280" cy="71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05520" y="259092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232680" y="2550960"/>
            <a:ext cx="71280" cy="71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137280" y="4952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13600" y="4572000"/>
            <a:ext cx="71280" cy="71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6248520" y="2666880"/>
            <a:ext cx="0" cy="188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248520" y="4648320"/>
            <a:ext cx="0" cy="304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276720" y="3200400"/>
            <a:ext cx="52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29000" y="38098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53080" y="34290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334120" y="1676520"/>
            <a:ext cx="52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304640" y="350532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76920" y="28526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876920" y="274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876920" y="3124080"/>
            <a:ext cx="22860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05520" y="3276720"/>
            <a:ext cx="0" cy="167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987800" y="4952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648320" y="3048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53920" y="91440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073480" y="2543040"/>
            <a:ext cx="71640" cy="71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56520" y="357120"/>
            <a:ext cx="72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cz równoległy z tranzystorem bipolarnym nasyco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022480" y="5881680"/>
                <a:ext cx="3711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⋯</m:t>
                    </m:r>
                    <m:r>
                      <m:t xml:space="preserve">0,2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2013840" y="5199120"/>
            <a:ext cx="45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nasycenia się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 flipV="1">
            <a:off x="2833560" y="1704960"/>
            <a:ext cx="0" cy="22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22400" y="3962520"/>
            <a:ext cx="365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824440" y="390672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674680" y="33177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846520" y="1828440"/>
            <a:ext cx="2016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3059280" y="2006280"/>
            <a:ext cx="303516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3011400" y="2271240"/>
            <a:ext cx="303552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2971800" y="2576160"/>
            <a:ext cx="312120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933640" y="2946240"/>
            <a:ext cx="312732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2911320" y="3246120"/>
            <a:ext cx="315468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2871720" y="3428640"/>
            <a:ext cx="328932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2878920" y="3813120"/>
            <a:ext cx="3459240" cy="7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22560" y="22096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95480" y="2057400"/>
            <a:ext cx="2989440" cy="1917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965320" y="2104920"/>
            <a:ext cx="108000" cy="108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551280" y="372600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76960" y="12952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44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48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382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30481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28680" y="439272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CE sat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641760" y="12603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asyc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3072960" y="1523880"/>
            <a:ext cx="660600" cy="571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3048120" y="1763280"/>
            <a:ext cx="302076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525640" y="410688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685800" y="2438280"/>
                <a:ext cx="1371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6177600" y="144792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685800" y="1676520"/>
                <a:ext cx="1558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8" name=""/>
          <p:cNvSpPr/>
          <p:nvPr/>
        </p:nvSpPr>
        <p:spPr>
          <a:xfrm>
            <a:off x="228600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2209680" y="220968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2795760" y="1905120"/>
            <a:ext cx="23472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21440" y="5338800"/>
            <a:ext cx="4013640" cy="459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nasycenia tranzys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236600" y="3079440"/>
            <a:ext cx="74520" cy="20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956520" y="357120"/>
            <a:ext cx="72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cz równoległy z tranzystorem bipolarnym nasyco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96560" y="30492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492200"/>
            <a:ext cx="1529280" cy="1936800"/>
            <a:chOff x="990720" y="1492200"/>
            <a:chExt cx="1529280" cy="1936800"/>
          </a:xfrm>
        </p:grpSpPr>
        <p:sp>
          <p:nvSpPr>
            <p:cNvPr id="44" name=""/>
            <p:cNvSpPr/>
            <p:nvPr/>
          </p:nvSpPr>
          <p:spPr>
            <a:xfrm>
              <a:off x="1447560" y="1492200"/>
              <a:ext cx="10764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7560" y="2178000"/>
              <a:ext cx="10764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47560" y="2635200"/>
              <a:ext cx="10764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7560" y="3321000"/>
              <a:ext cx="10764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06240" y="1604880"/>
              <a:ext cx="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295280" y="2254320"/>
              <a:ext cx="151920" cy="380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06240" y="277020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3880" y="179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90720" y="24829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67760" y="1568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981080" y="164412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19680" y="1914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01480" y="4235400"/>
            <a:ext cx="2547360" cy="2200320"/>
            <a:chOff x="501480" y="4235400"/>
            <a:chExt cx="2547360" cy="2200320"/>
          </a:xfrm>
        </p:grpSpPr>
        <p:sp>
          <p:nvSpPr>
            <p:cNvPr id="57" name=""/>
            <p:cNvSpPr/>
            <p:nvPr/>
          </p:nvSpPr>
          <p:spPr>
            <a:xfrm>
              <a:off x="1503360" y="4311720"/>
              <a:ext cx="10800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19200" y="5184720"/>
              <a:ext cx="10800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19200" y="5641920"/>
              <a:ext cx="10800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19200" y="6327720"/>
              <a:ext cx="10800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1366560" y="5261040"/>
              <a:ext cx="152280" cy="380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62000" y="54896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23560" y="4387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494080" y="461592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48520" y="4921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409760" y="5987880"/>
              <a:ext cx="380880" cy="76320"/>
              <a:chOff x="1409760" y="5987880"/>
              <a:chExt cx="380880" cy="76320"/>
            </a:xfrm>
          </p:grpSpPr>
          <p:sp>
            <p:nvSpPr>
              <p:cNvPr id="67" name=""/>
              <p:cNvSpPr/>
              <p:nvPr/>
            </p:nvSpPr>
            <p:spPr>
              <a:xfrm>
                <a:off x="1503360" y="6064200"/>
                <a:ext cx="152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09760" y="5987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1579680" y="5759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568520" y="6063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03360" y="4768920"/>
              <a:ext cx="122400" cy="2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60560" y="5302080"/>
              <a:ext cx="122400" cy="2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563840" y="500652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79680" y="4692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036880" y="4692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9680" y="6216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36880" y="555480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49440" y="467676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6200" y="620568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571760" y="444312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79680" y="4540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4040" y="465768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48880" y="4235400"/>
              <a:ext cx="1146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&gt;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1480" y="5800680"/>
              <a:ext cx="1165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460760" y="266688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603760" y="12193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79880" y="1031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1520" y="225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13400" y="2666880"/>
            <a:ext cx="19810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603760" y="1599840"/>
            <a:ext cx="0" cy="1600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54960" y="16002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 włącz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59880" y="28195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 wyłącz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213600" y="26665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603760" y="19810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241160" y="3968640"/>
            <a:ext cx="4219920" cy="2491560"/>
            <a:chOff x="4241160" y="3968640"/>
            <a:chExt cx="4219920" cy="2491560"/>
          </a:xfrm>
        </p:grpSpPr>
        <p:sp>
          <p:nvSpPr>
            <p:cNvPr id="96" name=""/>
            <p:cNvSpPr/>
            <p:nvPr/>
          </p:nvSpPr>
          <p:spPr>
            <a:xfrm>
              <a:off x="4476600" y="5603760"/>
              <a:ext cx="251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619600" y="415620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95720" y="3968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82440" y="5340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632840" y="5517360"/>
              <a:ext cx="1973880" cy="172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26080" y="4537080"/>
              <a:ext cx="214200" cy="1063800"/>
            </a:xfrm>
            <a:custGeom>
              <a:avLst/>
              <a:gdLst/>
              <a:ahLst/>
              <a:rect l="l" t="t" r="r" b="b"/>
              <a:pathLst>
                <a:path w="135" h="670">
                  <a:moveTo>
                    <a:pt x="0" y="670"/>
                  </a:moveTo>
                  <a:lnTo>
                    <a:pt x="104" y="662"/>
                  </a:lnTo>
                  <a:lnTo>
                    <a:pt x="135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12160" y="442584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n włączen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88480" y="5721480"/>
              <a:ext cx="21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n wyłączen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92760" y="556884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832360" y="47307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6289200" y="556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17320" y="412128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05280" y="503568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17960" y="6254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832360" y="6254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41160" y="595008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982960" y="13860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cz idea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870280" y="3587760"/>
            <a:ext cx="666720" cy="152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8400" y="3575160"/>
            <a:ext cx="717840" cy="12985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048120" y="990720"/>
            <a:ext cx="0" cy="1590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743200" y="2057400"/>
            <a:ext cx="4448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39260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895480" y="23623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30481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048120" y="144792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257800" y="1447920"/>
            <a:ext cx="0" cy="9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257800" y="2362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74500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259240" y="167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3048120" y="350496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3200" y="4724280"/>
            <a:ext cx="4448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316280" y="4495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362320" y="3048120"/>
            <a:ext cx="58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895480" y="472428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74500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521080" y="119232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68440" y="218268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2743200" y="380988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95680"/>
            <a:ext cx="0" cy="67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438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34290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905560" y="5181480"/>
            <a:ext cx="39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257800" y="4648320"/>
            <a:ext cx="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638680" y="3809880"/>
            <a:ext cx="0" cy="15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64832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563832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502240" y="5257800"/>
            <a:ext cx="48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048120" y="3809880"/>
            <a:ext cx="204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11040000">
            <a:off x="3225240" y="3101760"/>
            <a:ext cx="573840" cy="14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429000" y="4551480"/>
            <a:ext cx="182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780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57800" y="4495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57800" y="4419720"/>
            <a:ext cx="12600" cy="152280"/>
          </a:xfrm>
          <a:custGeom>
            <a:avLst/>
            <a:gdLst/>
            <a:ahLst/>
            <a:rect l="l" t="t" r="r" b="b"/>
            <a:pathLst>
              <a:path w="8" h="96">
                <a:moveTo>
                  <a:pt x="0" y="96"/>
                </a:moveTo>
                <a:cubicBezTo>
                  <a:pt x="4" y="48"/>
                  <a:pt x="8" y="0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232240" y="4406760"/>
            <a:ext cx="190800" cy="165240"/>
          </a:xfrm>
          <a:custGeom>
            <a:avLst/>
            <a:gdLst/>
            <a:ahLst/>
            <a:rect l="l" t="t" r="r" b="b"/>
            <a:pathLst>
              <a:path w="120" h="104">
                <a:moveTo>
                  <a:pt x="16" y="104"/>
                </a:moveTo>
                <a:cubicBezTo>
                  <a:pt x="16" y="88"/>
                  <a:pt x="16" y="72"/>
                  <a:pt x="16" y="56"/>
                </a:cubicBezTo>
                <a:cubicBezTo>
                  <a:pt x="16" y="40"/>
                  <a:pt x="0" y="16"/>
                  <a:pt x="16" y="8"/>
                </a:cubicBezTo>
                <a:cubicBezTo>
                  <a:pt x="32" y="0"/>
                  <a:pt x="104" y="8"/>
                  <a:pt x="112" y="8"/>
                </a:cubicBezTo>
                <a:cubicBezTo>
                  <a:pt x="120" y="8"/>
                  <a:pt x="72" y="8"/>
                  <a:pt x="64" y="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rot="12719400">
            <a:off x="5614200" y="3308040"/>
            <a:ext cx="288720" cy="118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200400" y="3809880"/>
            <a:ext cx="246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638680" y="3809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3581280"/>
            <a:ext cx="587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2666880" y="4572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60680" y="4205160"/>
            <a:ext cx="87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6440" y="270000"/>
            <a:ext cx="75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w bipolarnym tranzystorowym kluczu nasyca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43240" y="7239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94920" y="39546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Zjawisko przeciąg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"/>
          <p:cNvGrpSpPr/>
          <p:nvPr/>
        </p:nvGrpSpPr>
        <p:grpSpPr>
          <a:xfrm>
            <a:off x="561960" y="289080"/>
            <a:ext cx="8371080" cy="6121080"/>
            <a:chOff x="561960" y="289080"/>
            <a:chExt cx="8371080" cy="6121080"/>
          </a:xfrm>
        </p:grpSpPr>
        <p:pic>
          <p:nvPicPr>
            <p:cNvPr id="771" name="" descr=""/>
            <p:cNvPicPr/>
            <p:nvPr/>
          </p:nvPicPr>
          <p:blipFill>
            <a:blip r:embed="rId1"/>
            <a:stretch/>
          </p:blipFill>
          <p:spPr>
            <a:xfrm>
              <a:off x="561960" y="1370160"/>
              <a:ext cx="8015400" cy="5040000"/>
            </a:xfrm>
            <a:prstGeom prst="rect">
              <a:avLst/>
            </a:prstGeom>
            <a:ln w="76320">
              <a:solidFill>
                <a:srgbClr val="008000"/>
              </a:solidFill>
              <a:miter/>
            </a:ln>
          </p:spPr>
        </p:pic>
        <p:sp>
          <p:nvSpPr>
            <p:cNvPr id="772" name=""/>
            <p:cNvSpPr/>
            <p:nvPr/>
          </p:nvSpPr>
          <p:spPr>
            <a:xfrm flipV="1">
              <a:off x="1373040" y="3562200"/>
              <a:ext cx="0" cy="2462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16080" y="1693800"/>
              <a:ext cx="0" cy="4292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3809880" y="1607760"/>
              <a:ext cx="0" cy="44038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0400" y="1865160"/>
              <a:ext cx="0" cy="41594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489400" y="4670280"/>
              <a:ext cx="94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V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03920" y="1639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90320" y="38527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9" name="" descr=""/>
            <p:cNvPicPr/>
            <p:nvPr/>
          </p:nvPicPr>
          <p:blipFill>
            <a:blip r:embed="rId2"/>
            <a:stretch/>
          </p:blipFill>
          <p:spPr>
            <a:xfrm>
              <a:off x="6323040" y="289080"/>
              <a:ext cx="2610000" cy="1828800"/>
            </a:xfrm>
            <a:prstGeom prst="rect">
              <a:avLst/>
            </a:prstGeom>
            <a:ln w="76320">
              <a:solidFill>
                <a:srgbClr val="008000"/>
              </a:solidFill>
              <a:miter/>
            </a:ln>
          </p:spPr>
        </p:pic>
        <p:sp>
          <p:nvSpPr>
            <p:cNvPr id="780" name=""/>
            <p:cNvSpPr/>
            <p:nvPr/>
          </p:nvSpPr>
          <p:spPr>
            <a:xfrm>
              <a:off x="1398600" y="5715000"/>
              <a:ext cx="70488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24200" y="1373040"/>
              <a:ext cx="1136880" cy="395280"/>
            </a:xfrm>
            <a:prstGeom prst="ellipse">
              <a:avLst/>
            </a:prstGeom>
            <a:noFill/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84320" y="1604880"/>
              <a:ext cx="13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Times New Roman"/>
                </a:rPr>
                <a:t>przeciągan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289160" y="353880"/>
              <a:ext cx="455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lucz nasycony - 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514920" y="398952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erowanie klucz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7211520" y="4416480"/>
              <a:ext cx="4932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408920" y="2554200"/>
              <a:ext cx="1843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as przeciągan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97360" y="2362320"/>
              <a:ext cx="753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4280040" y="2387160"/>
              <a:ext cx="1857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"/>
          <p:cNvGrpSpPr/>
          <p:nvPr/>
        </p:nvGrpSpPr>
        <p:grpSpPr>
          <a:xfrm>
            <a:off x="1332000" y="3048120"/>
            <a:ext cx="6174720" cy="2974320"/>
            <a:chOff x="1332000" y="3048120"/>
            <a:chExt cx="6174720" cy="2974320"/>
          </a:xfrm>
        </p:grpSpPr>
        <p:sp>
          <p:nvSpPr>
            <p:cNvPr id="790" name=""/>
            <p:cNvSpPr/>
            <p:nvPr/>
          </p:nvSpPr>
          <p:spPr>
            <a:xfrm>
              <a:off x="3006720" y="43434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006720" y="42336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006720" y="4614840"/>
              <a:ext cx="22860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78120" y="45388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3235320" y="350496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235320" y="476568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5400000">
              <a:off x="2625840" y="3886200"/>
              <a:ext cx="193680" cy="1936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54440" y="3876840"/>
              <a:ext cx="0" cy="25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54440" y="3886200"/>
              <a:ext cx="7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778120" y="4114800"/>
              <a:ext cx="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54440" y="40021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2091960" y="45421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244600" y="400212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44600" y="3988080"/>
              <a:ext cx="0" cy="55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197160" y="3962520"/>
              <a:ext cx="71640" cy="712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05000" y="4496040"/>
              <a:ext cx="71640" cy="712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199680" y="3429000"/>
              <a:ext cx="81000" cy="76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787400" y="4502160"/>
              <a:ext cx="7164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08320" y="557856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1863360" y="45421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940040" y="45421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549520" y="45421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32000" y="4038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65720" y="3048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313080" y="5562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721520" y="464832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482920" y="4648320"/>
              <a:ext cx="38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40640" y="4302360"/>
              <a:ext cx="0" cy="50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6740640" y="4268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740640" y="4649760"/>
              <a:ext cx="22860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512040" y="45738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969240" y="353988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969240" y="480060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5825880" y="457704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6933600" y="3463920"/>
              <a:ext cx="81000" cy="76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49920" y="453096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942240" y="561348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75400" y="3997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123320" y="3083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22960" y="5521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50000" y="4294440"/>
              <a:ext cx="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653160" y="4797720"/>
              <a:ext cx="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226040" y="44197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226040" y="45720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226040" y="47246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1271160" y="270000"/>
            <a:ext cx="71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nie szybkości działania klucza tranzystor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24120" y="1108080"/>
            <a:ext cx="5968800" cy="192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Płytkie nasyc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dioda Schotkyego zmniejsza nasycenie 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Kompensacja w obwodach baz (brame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Nienasycanie tranzysto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271160" y="270000"/>
            <a:ext cx="71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nie szybkości działania klucza tranzystor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w obwodzie b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954000" y="1092240"/>
            <a:ext cx="6926400" cy="4059000"/>
            <a:chOff x="954000" y="1092240"/>
            <a:chExt cx="6926400" cy="4059000"/>
          </a:xfrm>
        </p:grpSpPr>
        <p:sp>
          <p:nvSpPr>
            <p:cNvPr id="839" name=""/>
            <p:cNvSpPr/>
            <p:nvPr/>
          </p:nvSpPr>
          <p:spPr>
            <a:xfrm>
              <a:off x="1783080" y="3924360"/>
              <a:ext cx="554040" cy="554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87640" y="44654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74960" y="5143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049840" y="3238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154680" y="323856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5400000">
              <a:off x="3926520" y="30153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10800000">
              <a:off x="5771880" y="1854000"/>
              <a:ext cx="158760" cy="446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5848560" y="124416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848560" y="2311200"/>
              <a:ext cx="0" cy="64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859040" y="430524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1935360" y="40762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35360" y="4076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63960" y="4076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63960" y="430524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526280" y="319860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221360" y="3238560"/>
              <a:ext cx="304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449960" y="5143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526280" y="476244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4561200" y="323820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4561200" y="4838760"/>
              <a:ext cx="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13640" y="116820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48560" y="2768400"/>
              <a:ext cx="1143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975720" y="272880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880320" y="5130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956640" y="474984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6991560" y="2844720"/>
              <a:ext cx="0" cy="188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991560" y="4825440"/>
              <a:ext cx="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611880" y="339084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64160" y="4000320"/>
              <a:ext cx="52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96480" y="3606840"/>
              <a:ext cx="58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77160" y="1854000"/>
              <a:ext cx="52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954000" y="3695760"/>
              <a:ext cx="73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619960" y="303048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5619960" y="292068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619960" y="33019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848560" y="3454200"/>
              <a:ext cx="0" cy="167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31200" y="5130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588200" y="3225600"/>
              <a:ext cx="103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96960" y="109224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5400000">
              <a:off x="2840760" y="301860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43360" y="3238560"/>
              <a:ext cx="633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3535560" y="270504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4373640" y="270504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535560" y="2705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92760" y="270504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16440" y="262872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92760" y="262872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00640" y="3198600"/>
              <a:ext cx="71280" cy="71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54560" y="3205080"/>
              <a:ext cx="71640" cy="71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764160" y="2095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638440" y="3314520"/>
              <a:ext cx="58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813640" y="2746440"/>
              <a:ext cx="71280" cy="712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745160" y="4141800"/>
              <a:ext cx="1106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,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324760" y="32209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324760" y="3678120"/>
              <a:ext cx="0" cy="3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5222880" y="3601800"/>
              <a:ext cx="17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5222880" y="3678120"/>
              <a:ext cx="17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308920" y="4062240"/>
              <a:ext cx="531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1118520" y="5364000"/>
            <a:ext cx="734364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łączanie dużym prądem bazy a następnie zmniejs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sterowania tranzystora przy zachowaniu jego nasyc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1533600" y="574560"/>
            <a:ext cx="6804000" cy="5703840"/>
            <a:chOff x="1533600" y="574560"/>
            <a:chExt cx="6804000" cy="5703840"/>
          </a:xfrm>
        </p:grpSpPr>
        <p:sp>
          <p:nvSpPr>
            <p:cNvPr id="899" name=""/>
            <p:cNvSpPr/>
            <p:nvPr/>
          </p:nvSpPr>
          <p:spPr>
            <a:xfrm flipV="1">
              <a:off x="1681200" y="766440"/>
              <a:ext cx="0" cy="426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533600" y="4946400"/>
              <a:ext cx="68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733480" y="1919160"/>
              <a:ext cx="4157640" cy="3768480"/>
            </a:xfrm>
            <a:custGeom>
              <a:avLst/>
              <a:gdLst/>
              <a:ahLst/>
              <a:rect l="l" t="t" r="r" b="b"/>
              <a:pathLst>
                <a:path w="2619" h="2374">
                  <a:moveTo>
                    <a:pt x="0" y="1907"/>
                  </a:moveTo>
                  <a:cubicBezTo>
                    <a:pt x="11" y="1666"/>
                    <a:pt x="25" y="1513"/>
                    <a:pt x="47" y="1221"/>
                  </a:cubicBezTo>
                  <a:cubicBezTo>
                    <a:pt x="69" y="929"/>
                    <a:pt x="84" y="308"/>
                    <a:pt x="133" y="154"/>
                  </a:cubicBezTo>
                  <a:cubicBezTo>
                    <a:pt x="182" y="0"/>
                    <a:pt x="273" y="263"/>
                    <a:pt x="343" y="294"/>
                  </a:cubicBezTo>
                  <a:cubicBezTo>
                    <a:pt x="413" y="325"/>
                    <a:pt x="441" y="329"/>
                    <a:pt x="554" y="341"/>
                  </a:cubicBezTo>
                  <a:cubicBezTo>
                    <a:pt x="667" y="353"/>
                    <a:pt x="899" y="324"/>
                    <a:pt x="1021" y="364"/>
                  </a:cubicBezTo>
                  <a:cubicBezTo>
                    <a:pt x="1143" y="404"/>
                    <a:pt x="1231" y="296"/>
                    <a:pt x="1286" y="583"/>
                  </a:cubicBezTo>
                  <a:cubicBezTo>
                    <a:pt x="1341" y="870"/>
                    <a:pt x="1326" y="1800"/>
                    <a:pt x="1349" y="2087"/>
                  </a:cubicBezTo>
                  <a:cubicBezTo>
                    <a:pt x="1372" y="2374"/>
                    <a:pt x="1382" y="2300"/>
                    <a:pt x="1426" y="2305"/>
                  </a:cubicBezTo>
                  <a:cubicBezTo>
                    <a:pt x="1470" y="2310"/>
                    <a:pt x="1543" y="2157"/>
                    <a:pt x="1613" y="2118"/>
                  </a:cubicBezTo>
                  <a:cubicBezTo>
                    <a:pt x="1683" y="2079"/>
                    <a:pt x="1774" y="2100"/>
                    <a:pt x="1847" y="2071"/>
                  </a:cubicBezTo>
                  <a:cubicBezTo>
                    <a:pt x="1920" y="2042"/>
                    <a:pt x="1921" y="1971"/>
                    <a:pt x="2050" y="1946"/>
                  </a:cubicBezTo>
                  <a:cubicBezTo>
                    <a:pt x="2179" y="1921"/>
                    <a:pt x="2501" y="1928"/>
                    <a:pt x="2619" y="1923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39760" y="1371240"/>
              <a:ext cx="4356360" cy="3564000"/>
            </a:xfrm>
            <a:custGeom>
              <a:avLst/>
              <a:gdLst/>
              <a:ahLst/>
              <a:rect l="l" t="t" r="r" b="b"/>
              <a:pathLst>
                <a:path w="3048" h="2128">
                  <a:moveTo>
                    <a:pt x="0" y="2127"/>
                  </a:moveTo>
                  <a:lnTo>
                    <a:pt x="452" y="2127"/>
                  </a:lnTo>
                  <a:lnTo>
                    <a:pt x="447" y="0"/>
                  </a:lnTo>
                  <a:lnTo>
                    <a:pt x="1848" y="0"/>
                  </a:lnTo>
                  <a:lnTo>
                    <a:pt x="1848" y="2127"/>
                  </a:lnTo>
                  <a:lnTo>
                    <a:pt x="3048" y="21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11520" y="1333080"/>
              <a:ext cx="4092480" cy="4945320"/>
            </a:xfrm>
            <a:custGeom>
              <a:avLst/>
              <a:gdLst/>
              <a:ahLst/>
              <a:rect l="l" t="t" r="r" b="b"/>
              <a:pathLst>
                <a:path w="2578" h="3115">
                  <a:moveTo>
                    <a:pt x="0" y="2263"/>
                  </a:moveTo>
                  <a:cubicBezTo>
                    <a:pt x="11" y="2022"/>
                    <a:pt x="30" y="1920"/>
                    <a:pt x="47" y="1577"/>
                  </a:cubicBezTo>
                  <a:cubicBezTo>
                    <a:pt x="64" y="1234"/>
                    <a:pt x="75" y="406"/>
                    <a:pt x="100" y="203"/>
                  </a:cubicBezTo>
                  <a:cubicBezTo>
                    <a:pt x="125" y="0"/>
                    <a:pt x="161" y="304"/>
                    <a:pt x="194" y="359"/>
                  </a:cubicBezTo>
                  <a:cubicBezTo>
                    <a:pt x="227" y="414"/>
                    <a:pt x="252" y="475"/>
                    <a:pt x="295" y="531"/>
                  </a:cubicBezTo>
                  <a:cubicBezTo>
                    <a:pt x="338" y="587"/>
                    <a:pt x="303" y="656"/>
                    <a:pt x="450" y="694"/>
                  </a:cubicBezTo>
                  <a:cubicBezTo>
                    <a:pt x="597" y="732"/>
                    <a:pt x="1035" y="657"/>
                    <a:pt x="1175" y="757"/>
                  </a:cubicBezTo>
                  <a:cubicBezTo>
                    <a:pt x="1315" y="857"/>
                    <a:pt x="1262" y="933"/>
                    <a:pt x="1292" y="1294"/>
                  </a:cubicBezTo>
                  <a:cubicBezTo>
                    <a:pt x="1322" y="1655"/>
                    <a:pt x="1311" y="2731"/>
                    <a:pt x="1355" y="2923"/>
                  </a:cubicBezTo>
                  <a:cubicBezTo>
                    <a:pt x="1399" y="3115"/>
                    <a:pt x="1353" y="2553"/>
                    <a:pt x="1557" y="2448"/>
                  </a:cubicBezTo>
                  <a:cubicBezTo>
                    <a:pt x="1761" y="2343"/>
                    <a:pt x="2366" y="2324"/>
                    <a:pt x="2578" y="2292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77720" y="118080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89400" y="2688840"/>
              <a:ext cx="906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3333cc"/>
                  </a:solidFill>
                  <a:latin typeface="Times New Roman"/>
                </a:rPr>
                <a:t>Bez C</a:t>
              </a:r>
              <a:r>
                <a:rPr b="1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243240" y="1777680"/>
              <a:ext cx="1220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wpływ C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971720" y="574560"/>
              <a:ext cx="38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"/>
          <p:cNvGrpSpPr/>
          <p:nvPr/>
        </p:nvGrpSpPr>
        <p:grpSpPr>
          <a:xfrm>
            <a:off x="433440" y="298440"/>
            <a:ext cx="8418600" cy="5837400"/>
            <a:chOff x="433440" y="298440"/>
            <a:chExt cx="8418600" cy="5837400"/>
          </a:xfrm>
        </p:grpSpPr>
        <p:pic>
          <p:nvPicPr>
            <p:cNvPr id="909" name="" descr=""/>
            <p:cNvPicPr/>
            <p:nvPr/>
          </p:nvPicPr>
          <p:blipFill>
            <a:blip r:embed="rId1"/>
            <a:stretch/>
          </p:blipFill>
          <p:spPr>
            <a:xfrm>
              <a:off x="433440" y="760320"/>
              <a:ext cx="8218440" cy="53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4153320" y="46944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c0000"/>
                  </a:solidFill>
                  <a:latin typeface="Times New Roman"/>
                </a:rPr>
                <a:t>z 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3908520" y="4576320"/>
              <a:ext cx="247680" cy="2970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2" name="" descr=""/>
            <p:cNvPicPr/>
            <p:nvPr/>
          </p:nvPicPr>
          <p:blipFill>
            <a:blip r:embed="rId2"/>
            <a:stretch/>
          </p:blipFill>
          <p:spPr>
            <a:xfrm>
              <a:off x="5537160" y="298440"/>
              <a:ext cx="331488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1500840" y="97164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231640" y="303120"/>
              <a:ext cx="252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PSpice - symulac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93200" y="3713040"/>
              <a:ext cx="108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8000"/>
                  </a:solidFill>
                  <a:latin typeface="Times New Roman"/>
                </a:rPr>
                <a:t>bez 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4748040" y="3583080"/>
              <a:ext cx="247680" cy="2966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7" name=""/>
          <p:cNvGrpSpPr/>
          <p:nvPr/>
        </p:nvGrpSpPr>
        <p:grpSpPr>
          <a:xfrm>
            <a:off x="725400" y="303120"/>
            <a:ext cx="8064720" cy="5931000"/>
            <a:chOff x="725400" y="303120"/>
            <a:chExt cx="8064720" cy="5931000"/>
          </a:xfrm>
        </p:grpSpPr>
        <p:grpSp>
          <p:nvGrpSpPr>
            <p:cNvPr id="918" name=""/>
            <p:cNvGrpSpPr/>
            <p:nvPr/>
          </p:nvGrpSpPr>
          <p:grpSpPr>
            <a:xfrm>
              <a:off x="725400" y="411120"/>
              <a:ext cx="8064720" cy="5823000"/>
              <a:chOff x="725400" y="411120"/>
              <a:chExt cx="8064720" cy="5823000"/>
            </a:xfrm>
          </p:grpSpPr>
          <p:pic>
            <p:nvPicPr>
              <p:cNvPr id="9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25400" y="1488960"/>
                <a:ext cx="7255080" cy="4745160"/>
              </a:xfrm>
              <a:prstGeom prst="rect">
                <a:avLst/>
              </a:prstGeom>
              <a:ln w="76320">
                <a:solidFill>
                  <a:srgbClr val="008000"/>
                </a:solidFill>
                <a:miter/>
              </a:ln>
            </p:spPr>
          </p:pic>
          <p:pic>
            <p:nvPicPr>
              <p:cNvPr id="9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27720" y="411120"/>
                <a:ext cx="3362400" cy="2000160"/>
              </a:xfrm>
              <a:prstGeom prst="rect">
                <a:avLst/>
              </a:prstGeom>
              <a:ln w="76320">
                <a:solidFill>
                  <a:srgbClr val="008000"/>
                </a:solidFill>
                <a:miter/>
              </a:ln>
            </p:spPr>
          </p:pic>
          <p:sp>
            <p:nvSpPr>
              <p:cNvPr id="921" name=""/>
              <p:cNvSpPr/>
              <p:nvPr/>
            </p:nvSpPr>
            <p:spPr>
              <a:xfrm>
                <a:off x="2420640" y="2368440"/>
                <a:ext cx="116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Cp=300p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 flipV="1">
                <a:off x="1930320" y="2374920"/>
                <a:ext cx="432000" cy="14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3538440" y="2400480"/>
                <a:ext cx="555840" cy="17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1842840" y="2771640"/>
                <a:ext cx="1089000" cy="195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290760" y="2746440"/>
                <a:ext cx="865440" cy="169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2231640" y="303120"/>
              <a:ext cx="252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PSpice - symulac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57880" y="213192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95320" y="414504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271160" y="270000"/>
            <a:ext cx="71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nie szybkości działania klucza tranzystor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pojemności wejściowej tranzys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888840" y="1312920"/>
            <a:ext cx="6926400" cy="4059000"/>
            <a:chOff x="888840" y="1312920"/>
            <a:chExt cx="6926400" cy="4059000"/>
          </a:xfrm>
        </p:grpSpPr>
        <p:sp>
          <p:nvSpPr>
            <p:cNvPr id="931" name=""/>
            <p:cNvSpPr/>
            <p:nvPr/>
          </p:nvSpPr>
          <p:spPr>
            <a:xfrm>
              <a:off x="1717920" y="4145040"/>
              <a:ext cx="554040" cy="554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022480" y="468612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09800" y="5364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1984680" y="345888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5400000">
              <a:off x="3861360" y="323604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10800000">
              <a:off x="5706720" y="2074680"/>
              <a:ext cx="158760" cy="446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5783400" y="146484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783400" y="2531880"/>
              <a:ext cx="0" cy="64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793880" y="45259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1870200" y="42969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870200" y="42973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98800" y="42973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98800" y="45259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461120" y="341928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156200" y="3459240"/>
              <a:ext cx="304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84800" y="5364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461120" y="498312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4496040" y="345888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4496040" y="5059440"/>
              <a:ext cx="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48480" y="138888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83400" y="2989080"/>
              <a:ext cx="1143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910560" y="294948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15160" y="5351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891480" y="497052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926400" y="3065400"/>
              <a:ext cx="0" cy="188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6926400" y="5046120"/>
              <a:ext cx="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46720" y="3611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99000" y="4221000"/>
              <a:ext cx="52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31320" y="3827520"/>
              <a:ext cx="58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12000" y="2074680"/>
              <a:ext cx="52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88840" y="3916440"/>
              <a:ext cx="73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54800" y="32511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5554800" y="314136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554800" y="352260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783400" y="3674880"/>
              <a:ext cx="0" cy="167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666040" y="5351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23040" y="3446280"/>
              <a:ext cx="103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031800" y="131292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978200" y="3459240"/>
              <a:ext cx="173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3470400" y="292572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4308480" y="292572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470400" y="29257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927600" y="292572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51280" y="2849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927600" y="2849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435480" y="3419280"/>
              <a:ext cx="71280" cy="71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289400" y="3425760"/>
              <a:ext cx="71640" cy="71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699000" y="23162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748480" y="2967120"/>
              <a:ext cx="71280" cy="712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680000" y="4362480"/>
              <a:ext cx="1106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,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59600" y="34416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259600" y="3898800"/>
              <a:ext cx="0" cy="3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5157720" y="3822480"/>
              <a:ext cx="17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5157720" y="3898800"/>
              <a:ext cx="17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243760" y="4282920"/>
              <a:ext cx="531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541440" y="344520"/>
            <a:ext cx="8361360" cy="5894280"/>
            <a:chOff x="541440" y="344520"/>
            <a:chExt cx="8361360" cy="5894280"/>
          </a:xfrm>
        </p:grpSpPr>
        <p:pic>
          <p:nvPicPr>
            <p:cNvPr id="987" name="" descr=""/>
            <p:cNvPicPr/>
            <p:nvPr/>
          </p:nvPicPr>
          <p:blipFill>
            <a:blip r:embed="rId1"/>
            <a:stretch/>
          </p:blipFill>
          <p:spPr>
            <a:xfrm>
              <a:off x="541440" y="1328760"/>
              <a:ext cx="7507440" cy="49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" descr=""/>
            <p:cNvPicPr/>
            <p:nvPr/>
          </p:nvPicPr>
          <p:blipFill>
            <a:blip r:embed="rId2"/>
            <a:stretch/>
          </p:blipFill>
          <p:spPr>
            <a:xfrm>
              <a:off x="5511960" y="344520"/>
              <a:ext cx="339084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2384280" y="236988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p=200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1447920" y="2746440"/>
              <a:ext cx="86688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932200" y="2906640"/>
              <a:ext cx="66852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2231640" y="30312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Spice - symul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"/>
          <p:cNvGrpSpPr/>
          <p:nvPr/>
        </p:nvGrpSpPr>
        <p:grpSpPr>
          <a:xfrm>
            <a:off x="1600200" y="808200"/>
            <a:ext cx="2528280" cy="2012760"/>
            <a:chOff x="1600200" y="808200"/>
            <a:chExt cx="2528280" cy="2012760"/>
          </a:xfrm>
        </p:grpSpPr>
        <p:sp>
          <p:nvSpPr>
            <p:cNvPr id="994" name=""/>
            <p:cNvSpPr/>
            <p:nvPr/>
          </p:nvSpPr>
          <p:spPr>
            <a:xfrm>
              <a:off x="2143080" y="1000080"/>
              <a:ext cx="10800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43080" y="1685880"/>
              <a:ext cx="10800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54400" y="2027160"/>
              <a:ext cx="10764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54400" y="2712960"/>
              <a:ext cx="107640" cy="1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201760" y="1112760"/>
              <a:ext cx="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2418120" y="1713600"/>
              <a:ext cx="253440" cy="32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13080" y="21621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201760" y="1341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2658600" y="19512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600200" y="8082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3589200" y="918720"/>
              <a:ext cx="1800" cy="18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728160" y="1189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58960" y="1036800"/>
              <a:ext cx="108000" cy="10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658960" y="1722600"/>
              <a:ext cx="108000" cy="10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717640" y="1149480"/>
              <a:ext cx="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719440" y="1341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971800" y="8082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2039400" y="0"/>
            <a:ext cx="52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lucz prądowy różnicowy  - nienasyc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2313000" y="3314880"/>
            <a:ext cx="5446440" cy="3248640"/>
            <a:chOff x="2313000" y="3314880"/>
            <a:chExt cx="5446440" cy="3248640"/>
          </a:xfrm>
        </p:grpSpPr>
        <p:sp>
          <p:nvSpPr>
            <p:cNvPr id="1013" name=""/>
            <p:cNvSpPr/>
            <p:nvPr/>
          </p:nvSpPr>
          <p:spPr>
            <a:xfrm>
              <a:off x="4460400" y="3314880"/>
              <a:ext cx="1800" cy="298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460400" y="4082040"/>
              <a:ext cx="158796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624"/>
                  </a:moveTo>
                  <a:lnTo>
                    <a:pt x="50" y="351"/>
                  </a:lnTo>
                  <a:lnTo>
                    <a:pt x="151" y="117"/>
                  </a:lnTo>
                  <a:lnTo>
                    <a:pt x="252" y="39"/>
                  </a:lnTo>
                  <a:lnTo>
                    <a:pt x="404" y="0"/>
                  </a:lnTo>
                  <a:lnTo>
                    <a:pt x="959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69200" y="5104440"/>
              <a:ext cx="158940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0"/>
                  </a:moveTo>
                  <a:lnTo>
                    <a:pt x="909" y="273"/>
                  </a:lnTo>
                  <a:lnTo>
                    <a:pt x="808" y="507"/>
                  </a:lnTo>
                  <a:lnTo>
                    <a:pt x="707" y="585"/>
                  </a:lnTo>
                  <a:lnTo>
                    <a:pt x="555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60400" y="5106240"/>
              <a:ext cx="1587960" cy="11098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67400" y="4082040"/>
              <a:ext cx="158904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4380120" y="331488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460400" y="331488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313000" y="6216120"/>
              <a:ext cx="477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 flipV="1">
              <a:off x="6926760" y="6130080"/>
              <a:ext cx="1594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6926760" y="6216120"/>
              <a:ext cx="159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83760" y="6046560"/>
              <a:ext cx="95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983760" y="4253040"/>
              <a:ext cx="95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776480" y="580572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776480" y="43574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505320" y="4100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812560" y="4100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380480" y="5106240"/>
              <a:ext cx="15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51800" y="4235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544560" y="4235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731920" y="631980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812560" y="613008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108600" y="613008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760" y="631980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546960" y="5707440"/>
              <a:ext cx="1212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t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250920" y="3894120"/>
                <a:ext cx="1995480" cy="21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8" name=""/>
          <p:cNvGrpSpPr/>
          <p:nvPr/>
        </p:nvGrpSpPr>
        <p:grpSpPr>
          <a:xfrm>
            <a:off x="4962600" y="585720"/>
            <a:ext cx="2942640" cy="3056040"/>
            <a:chOff x="4962600" y="585720"/>
            <a:chExt cx="2942640" cy="3056040"/>
          </a:xfrm>
        </p:grpSpPr>
        <p:sp>
          <p:nvSpPr>
            <p:cNvPr id="1039" name=""/>
            <p:cNvSpPr/>
            <p:nvPr/>
          </p:nvSpPr>
          <p:spPr>
            <a:xfrm>
              <a:off x="6134760" y="1452240"/>
              <a:ext cx="0" cy="36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6134760" y="1347840"/>
              <a:ext cx="202320" cy="2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34760" y="1709280"/>
              <a:ext cx="20232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644880" y="2084040"/>
              <a:ext cx="63000" cy="67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281360" y="1379880"/>
              <a:ext cx="1440" cy="36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79040" y="1306800"/>
              <a:ext cx="202320" cy="2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7100280" y="1689480"/>
              <a:ext cx="184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337080" y="1834200"/>
              <a:ext cx="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079040" y="1861200"/>
              <a:ext cx="0" cy="27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331320" y="2102040"/>
              <a:ext cx="74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674400" y="2102040"/>
              <a:ext cx="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557760" y="2390760"/>
              <a:ext cx="236160" cy="252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557760" y="2535480"/>
              <a:ext cx="236160" cy="252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674400" y="2390760"/>
              <a:ext cx="1440" cy="43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674400" y="3112920"/>
              <a:ext cx="0" cy="3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10800000">
              <a:off x="5595120" y="1812960"/>
              <a:ext cx="140400" cy="422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0800000">
              <a:off x="7753680" y="1885320"/>
              <a:ext cx="140400" cy="422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37080" y="946440"/>
              <a:ext cx="0" cy="4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079040" y="946440"/>
              <a:ext cx="0" cy="3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6337080" y="657360"/>
              <a:ext cx="0" cy="28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7079040" y="657360"/>
              <a:ext cx="0" cy="28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643440" y="3474000"/>
              <a:ext cx="63360" cy="67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09000" y="600480"/>
              <a:ext cx="63000" cy="67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050960" y="585720"/>
              <a:ext cx="63360" cy="67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637240" y="2679840"/>
              <a:ext cx="63000" cy="67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637240" y="3069360"/>
              <a:ext cx="63000" cy="67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080" y="87408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079040" y="87408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79360" y="65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298280" y="585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019640" y="24631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5662080" y="1634040"/>
              <a:ext cx="44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62440" y="1650600"/>
              <a:ext cx="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264440" y="1596600"/>
              <a:ext cx="55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821360" y="15966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821360" y="2318760"/>
              <a:ext cx="0" cy="79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5722560" y="3112920"/>
              <a:ext cx="21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662440" y="224640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674400" y="28242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5662440" y="2751840"/>
              <a:ext cx="0" cy="28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962600" y="2457000"/>
              <a:ext cx="65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816680" y="3114360"/>
              <a:ext cx="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697520" y="3290400"/>
              <a:ext cx="20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786080" y="3084480"/>
              <a:ext cx="63360" cy="676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788520" y="3270960"/>
              <a:ext cx="53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46880" y="3142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kluczy analog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4840" y="1459080"/>
            <a:ext cx="8129520" cy="42249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 stanie włączeni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 stanie wyłączeni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res napięć wejści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y przełączeń, a zatem maksymalne częstotliwości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nikanie sygnału sterującego na wyjś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rowadzane zniekształcenia nieliniowe i li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przewodzeni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symalny prąd przewodz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symalna rozpraszana 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" descr=""/>
          <p:cNvPicPr/>
          <p:nvPr/>
        </p:nvPicPr>
        <p:blipFill>
          <a:blip r:embed="rId1"/>
          <a:stretch/>
        </p:blipFill>
        <p:spPr>
          <a:xfrm>
            <a:off x="573120" y="1909800"/>
            <a:ext cx="7213680" cy="4537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85" name="" descr=""/>
          <p:cNvPicPr/>
          <p:nvPr/>
        </p:nvPicPr>
        <p:blipFill>
          <a:blip r:embed="rId2"/>
          <a:stretch/>
        </p:blipFill>
        <p:spPr>
          <a:xfrm>
            <a:off x="5175360" y="334800"/>
            <a:ext cx="3666960" cy="27720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sp>
        <p:nvSpPr>
          <p:cNvPr id="1086" name=""/>
          <p:cNvSpPr/>
          <p:nvPr/>
        </p:nvSpPr>
        <p:spPr>
          <a:xfrm>
            <a:off x="2231640" y="30312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Spice - symul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213720" y="31082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 przełącz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476440" y="3568680"/>
            <a:ext cx="33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2863800" y="3568680"/>
            <a:ext cx="2921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7248600" y="3879720"/>
            <a:ext cx="164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427880" y="2959200"/>
            <a:ext cx="1360440" cy="592200"/>
          </a:xfrm>
          <a:custGeom>
            <a:avLst/>
            <a:gdLst/>
            <a:ahLst/>
            <a:rect l="l" t="t" r="r" b="b"/>
            <a:pathLst>
              <a:path w="998" h="436">
                <a:moveTo>
                  <a:pt x="0" y="436"/>
                </a:moveTo>
                <a:lnTo>
                  <a:pt x="226" y="436"/>
                </a:lnTo>
                <a:lnTo>
                  <a:pt x="226" y="0"/>
                </a:lnTo>
                <a:lnTo>
                  <a:pt x="429" y="0"/>
                </a:lnTo>
                <a:lnTo>
                  <a:pt x="429" y="436"/>
                </a:lnTo>
                <a:lnTo>
                  <a:pt x="647" y="436"/>
                </a:lnTo>
                <a:lnTo>
                  <a:pt x="647" y="0"/>
                </a:lnTo>
                <a:lnTo>
                  <a:pt x="881" y="0"/>
                </a:lnTo>
                <a:lnTo>
                  <a:pt x="881" y="436"/>
                </a:lnTo>
                <a:lnTo>
                  <a:pt x="998" y="43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23200" y="245412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365960" y="3244680"/>
            <a:ext cx="1465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338040" y="992160"/>
            <a:ext cx="6499080" cy="5343480"/>
            <a:chOff x="338040" y="992160"/>
            <a:chExt cx="6499080" cy="5343480"/>
          </a:xfrm>
        </p:grpSpPr>
        <p:pic>
          <p:nvPicPr>
            <p:cNvPr id="1095" name="" descr=""/>
            <p:cNvPicPr/>
            <p:nvPr/>
          </p:nvPicPr>
          <p:blipFill>
            <a:blip r:embed="rId1"/>
            <a:stretch/>
          </p:blipFill>
          <p:spPr>
            <a:xfrm>
              <a:off x="338040" y="992160"/>
              <a:ext cx="6499080" cy="534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6" name=""/>
            <p:cNvGrpSpPr/>
            <p:nvPr/>
          </p:nvGrpSpPr>
          <p:grpSpPr>
            <a:xfrm>
              <a:off x="373680" y="1861920"/>
              <a:ext cx="5271480" cy="2751840"/>
              <a:chOff x="373680" y="1861920"/>
              <a:chExt cx="5271480" cy="2751840"/>
            </a:xfrm>
          </p:grpSpPr>
          <p:sp>
            <p:nvSpPr>
              <p:cNvPr id="1097" name=""/>
              <p:cNvSpPr/>
              <p:nvPr/>
            </p:nvSpPr>
            <p:spPr>
              <a:xfrm>
                <a:off x="2313000" y="3117240"/>
                <a:ext cx="2548080" cy="149652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716200" y="3702960"/>
                <a:ext cx="170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Times New Roman"/>
                  </a:rPr>
                  <a:t>klucz różnicow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298520" y="2287080"/>
                <a:ext cx="4346640" cy="1134720"/>
              </a:xfrm>
              <a:custGeom>
                <a:avLst/>
                <a:gdLst/>
                <a:ahLst/>
                <a:rect l="l" t="t" r="r" b="b"/>
                <a:pathLst>
                  <a:path w="2738" h="715">
                    <a:moveTo>
                      <a:pt x="86" y="336"/>
                    </a:moveTo>
                    <a:cubicBezTo>
                      <a:pt x="17" y="441"/>
                      <a:pt x="0" y="664"/>
                      <a:pt x="195" y="686"/>
                    </a:cubicBezTo>
                    <a:cubicBezTo>
                      <a:pt x="390" y="708"/>
                      <a:pt x="932" y="493"/>
                      <a:pt x="1255" y="468"/>
                    </a:cubicBezTo>
                    <a:cubicBezTo>
                      <a:pt x="1578" y="443"/>
                      <a:pt x="1910" y="507"/>
                      <a:pt x="2135" y="538"/>
                    </a:cubicBezTo>
                    <a:cubicBezTo>
                      <a:pt x="2360" y="569"/>
                      <a:pt x="2517" y="715"/>
                      <a:pt x="2603" y="655"/>
                    </a:cubicBezTo>
                    <a:cubicBezTo>
                      <a:pt x="2689" y="595"/>
                      <a:pt x="2738" y="280"/>
                      <a:pt x="2650" y="180"/>
                    </a:cubicBezTo>
                    <a:cubicBezTo>
                      <a:pt x="2562" y="80"/>
                      <a:pt x="2274" y="84"/>
                      <a:pt x="2073" y="55"/>
                    </a:cubicBezTo>
                    <a:cubicBezTo>
                      <a:pt x="1872" y="26"/>
                      <a:pt x="1686" y="8"/>
                      <a:pt x="1442" y="8"/>
                    </a:cubicBezTo>
                    <a:cubicBezTo>
                      <a:pt x="1198" y="8"/>
                      <a:pt x="834" y="0"/>
                      <a:pt x="608" y="55"/>
                    </a:cubicBezTo>
                    <a:cubicBezTo>
                      <a:pt x="382" y="110"/>
                      <a:pt x="155" y="231"/>
                      <a:pt x="86" y="336"/>
                    </a:cubicBezTo>
                    <a:close/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3680" y="1861920"/>
                <a:ext cx="2983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Times New Roman"/>
                  </a:rPr>
                  <a:t>tranzystory sterujące kluczam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1" name=""/>
          <p:cNvSpPr/>
          <p:nvPr/>
        </p:nvSpPr>
        <p:spPr>
          <a:xfrm flipV="1">
            <a:off x="7396200" y="2544480"/>
            <a:ext cx="0" cy="145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791400" y="3112920"/>
            <a:ext cx="62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5183280" y="1768320"/>
            <a:ext cx="4176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900760" y="2462040"/>
            <a:ext cx="284040" cy="235080"/>
          </a:xfrm>
          <a:custGeom>
            <a:avLst/>
            <a:gdLst/>
            <a:ahLst/>
            <a:rect l="l" t="t" r="r" b="b"/>
            <a:pathLst>
              <a:path w="179" h="148">
                <a:moveTo>
                  <a:pt x="0" y="0"/>
                </a:moveTo>
                <a:lnTo>
                  <a:pt x="179" y="0"/>
                </a:lnTo>
                <a:lnTo>
                  <a:pt x="86" y="148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6024600" y="2152800"/>
            <a:ext cx="0" cy="29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98600" y="244440"/>
            <a:ext cx="82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cz prądowy różnicowy nienasycony- układ prakt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316480" y="2162160"/>
            <a:ext cx="412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1505160" y="270000"/>
            <a:ext cx="55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cz napięciowy, różnicowy, nienasyc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013920" y="4707000"/>
            <a:ext cx="5124600" cy="4597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 nienasycania się tranzystor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032360" y="5357880"/>
                <a:ext cx="3057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11" name=""/>
          <p:cNvGrpSpPr/>
          <p:nvPr/>
        </p:nvGrpSpPr>
        <p:grpSpPr>
          <a:xfrm>
            <a:off x="1515240" y="746280"/>
            <a:ext cx="5612760" cy="3816720"/>
            <a:chOff x="1515240" y="746280"/>
            <a:chExt cx="5612760" cy="3816720"/>
          </a:xfrm>
        </p:grpSpPr>
        <p:sp>
          <p:nvSpPr>
            <p:cNvPr id="1112" name=""/>
            <p:cNvSpPr/>
            <p:nvPr/>
          </p:nvSpPr>
          <p:spPr>
            <a:xfrm>
              <a:off x="3719520" y="248760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3719520" y="2404800"/>
              <a:ext cx="21888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9520" y="2695320"/>
              <a:ext cx="21888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98120" y="2631960"/>
              <a:ext cx="22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73200" y="2997000"/>
              <a:ext cx="687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964400" y="2429640"/>
              <a:ext cx="2160" cy="29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745520" y="2370960"/>
              <a:ext cx="21888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4776840" y="2684880"/>
              <a:ext cx="18504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964400" y="2603880"/>
              <a:ext cx="22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938400" y="2796480"/>
              <a:ext cx="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745520" y="281700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932280" y="3011760"/>
              <a:ext cx="80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305600" y="3011760"/>
              <a:ext cx="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129200" y="3231000"/>
              <a:ext cx="368640" cy="365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129200" y="3438720"/>
              <a:ext cx="368640" cy="365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311720" y="3231000"/>
              <a:ext cx="360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305600" y="3826080"/>
              <a:ext cx="0" cy="2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rot="10800000">
              <a:off x="3133080" y="2779200"/>
              <a:ext cx="151920" cy="34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0800000">
              <a:off x="5477760" y="2837520"/>
              <a:ext cx="151920" cy="34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938400" y="20811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745520" y="2081160"/>
              <a:ext cx="0" cy="31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938400" y="1846800"/>
              <a:ext cx="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4745520" y="1846800"/>
              <a:ext cx="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71040" y="4116600"/>
              <a:ext cx="68760" cy="5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345920" y="916200"/>
              <a:ext cx="68760" cy="5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899880" y="2006280"/>
              <a:ext cx="687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177720" y="3477960"/>
              <a:ext cx="68760" cy="5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177720" y="3790440"/>
              <a:ext cx="68760" cy="5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938400" y="213912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45520" y="213912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210480" y="207000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972680" y="202680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577400" y="3304080"/>
              <a:ext cx="776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205800" y="263556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206160" y="264852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185800" y="260388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550840" y="2603880"/>
              <a:ext cx="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206160" y="3127680"/>
              <a:ext cx="0" cy="35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05600" y="3593880"/>
              <a:ext cx="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3206160" y="3535920"/>
              <a:ext cx="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10800000">
              <a:off x="3865320" y="1498680"/>
              <a:ext cx="151920" cy="34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rot="10800000">
              <a:off x="4672440" y="1498680"/>
              <a:ext cx="151920" cy="34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3938400" y="1266480"/>
              <a:ext cx="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4745520" y="1266480"/>
              <a:ext cx="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938400" y="1266840"/>
              <a:ext cx="80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378680" y="9741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524560" y="3536280"/>
              <a:ext cx="68400" cy="5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524560" y="3848760"/>
              <a:ext cx="68400" cy="5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550840" y="3186000"/>
              <a:ext cx="0" cy="35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5550840" y="3593520"/>
              <a:ext cx="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119400" y="4058640"/>
              <a:ext cx="2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06160" y="38354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463360" y="4107240"/>
              <a:ext cx="22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550840" y="3891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2325960" y="2023200"/>
              <a:ext cx="161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4745520" y="2023200"/>
              <a:ext cx="161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253240" y="1994760"/>
              <a:ext cx="68760" cy="5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57960" y="2002680"/>
              <a:ext cx="68760" cy="5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3560" y="1982160"/>
              <a:ext cx="687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390920" y="4122360"/>
              <a:ext cx="63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09080" y="74628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344120" y="1229400"/>
              <a:ext cx="687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224800" y="3781080"/>
              <a:ext cx="68760" cy="5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66120" y="4049280"/>
              <a:ext cx="2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253240" y="38260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402600" y="3781080"/>
              <a:ext cx="68760" cy="5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343560" y="4049280"/>
              <a:ext cx="2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431040" y="38260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2253240" y="2080800"/>
              <a:ext cx="0" cy="16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431040" y="2080800"/>
              <a:ext cx="0" cy="16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515240" y="2697120"/>
              <a:ext cx="53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589080" y="2609280"/>
              <a:ext cx="53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399040" y="3420000"/>
              <a:ext cx="750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8000"/>
                  </a:solidFill>
                  <a:latin typeface="Times New Roman"/>
                </a:rPr>
                <a:t>e</a:t>
              </a:r>
              <a:r>
                <a:rPr b="1" lang="pl-PL" sz="20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213720" y="150264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969080" y="150264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30040" y="3395520"/>
              <a:ext cx="1094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re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725400" y="4546440"/>
            <a:ext cx="1792440" cy="1591920"/>
            <a:chOff x="725400" y="4546440"/>
            <a:chExt cx="1792440" cy="1591920"/>
          </a:xfrm>
        </p:grpSpPr>
        <p:sp>
          <p:nvSpPr>
            <p:cNvPr id="1189" name=""/>
            <p:cNvSpPr/>
            <p:nvPr/>
          </p:nvSpPr>
          <p:spPr>
            <a:xfrm flipV="1">
              <a:off x="1154160" y="4638240"/>
              <a:ext cx="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19160" y="601812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182600" y="5067000"/>
              <a:ext cx="1238400" cy="611280"/>
            </a:xfrm>
            <a:custGeom>
              <a:avLst/>
              <a:gdLst/>
              <a:ahLst/>
              <a:rect l="l" t="t" r="r" b="b"/>
              <a:pathLst>
                <a:path w="998" h="436">
                  <a:moveTo>
                    <a:pt x="0" y="436"/>
                  </a:moveTo>
                  <a:lnTo>
                    <a:pt x="226" y="436"/>
                  </a:lnTo>
                  <a:lnTo>
                    <a:pt x="226" y="0"/>
                  </a:lnTo>
                  <a:lnTo>
                    <a:pt x="429" y="0"/>
                  </a:lnTo>
                  <a:lnTo>
                    <a:pt x="429" y="436"/>
                  </a:lnTo>
                  <a:lnTo>
                    <a:pt x="647" y="436"/>
                  </a:lnTo>
                  <a:lnTo>
                    <a:pt x="647" y="0"/>
                  </a:lnTo>
                  <a:lnTo>
                    <a:pt x="881" y="0"/>
                  </a:lnTo>
                  <a:lnTo>
                    <a:pt x="881" y="436"/>
                  </a:lnTo>
                  <a:lnTo>
                    <a:pt x="998" y="4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5720" y="4944960"/>
              <a:ext cx="380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1133640" y="5078160"/>
              <a:ext cx="3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177920" y="454644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125360" y="5360760"/>
              <a:ext cx="1333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25400" y="5227560"/>
              <a:ext cx="449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r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2231640" y="30312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Spice - symul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252360" y="1386000"/>
            <a:ext cx="8305920" cy="5222880"/>
            <a:chOff x="252360" y="1386000"/>
            <a:chExt cx="8305920" cy="5222880"/>
          </a:xfrm>
        </p:grpSpPr>
        <p:pic>
          <p:nvPicPr>
            <p:cNvPr id="1199" name="" descr=""/>
            <p:cNvPicPr/>
            <p:nvPr/>
          </p:nvPicPr>
          <p:blipFill>
            <a:blip r:embed="rId1"/>
            <a:stretch/>
          </p:blipFill>
          <p:spPr>
            <a:xfrm>
              <a:off x="252360" y="1386000"/>
              <a:ext cx="8305920" cy="5222880"/>
            </a:xfrm>
            <a:prstGeom prst="rect">
              <a:avLst/>
            </a:prstGeom>
            <a:ln w="76320">
              <a:solidFill>
                <a:srgbClr val="ccccff"/>
              </a:solidFill>
              <a:miter/>
            </a:ln>
          </p:spPr>
        </p:pic>
        <p:sp>
          <p:nvSpPr>
            <p:cNvPr id="1200" name=""/>
            <p:cNvSpPr/>
            <p:nvPr/>
          </p:nvSpPr>
          <p:spPr>
            <a:xfrm>
              <a:off x="2368440" y="3127320"/>
              <a:ext cx="43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3770280" y="3137040"/>
              <a:ext cx="55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793960" y="3127320"/>
              <a:ext cx="196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832120" y="2124000"/>
              <a:ext cx="0" cy="3681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795840" y="2108160"/>
              <a:ext cx="0" cy="3603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037760" y="314964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 przełączan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027320" y="192564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3849480" y="2136600"/>
              <a:ext cx="19188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8" name="" descr=""/>
          <p:cNvPicPr/>
          <p:nvPr/>
        </p:nvPicPr>
        <p:blipFill>
          <a:blip r:embed="rId2"/>
          <a:stretch/>
        </p:blipFill>
        <p:spPr>
          <a:xfrm>
            <a:off x="5883120" y="154080"/>
            <a:ext cx="3090960" cy="2247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"/>
          <p:cNvGrpSpPr/>
          <p:nvPr/>
        </p:nvGrpSpPr>
        <p:grpSpPr>
          <a:xfrm>
            <a:off x="262080" y="615960"/>
            <a:ext cx="4981320" cy="2133720"/>
            <a:chOff x="262080" y="615960"/>
            <a:chExt cx="4981320" cy="2133720"/>
          </a:xfrm>
        </p:grpSpPr>
        <p:pic>
          <p:nvPicPr>
            <p:cNvPr id="1210" name="" descr=""/>
            <p:cNvPicPr/>
            <p:nvPr/>
          </p:nvPicPr>
          <p:blipFill>
            <a:blip r:embed="rId1"/>
            <a:stretch/>
          </p:blipFill>
          <p:spPr>
            <a:xfrm>
              <a:off x="490680" y="615960"/>
              <a:ext cx="336204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" descr=""/>
            <p:cNvPicPr/>
            <p:nvPr/>
          </p:nvPicPr>
          <p:blipFill>
            <a:blip r:embed="rId2"/>
            <a:stretch/>
          </p:blipFill>
          <p:spPr>
            <a:xfrm>
              <a:off x="262080" y="2549520"/>
              <a:ext cx="4981320" cy="20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2" name=""/>
          <p:cNvGrpSpPr/>
          <p:nvPr/>
        </p:nvGrpSpPr>
        <p:grpSpPr>
          <a:xfrm>
            <a:off x="3813120" y="493560"/>
            <a:ext cx="5330880" cy="3319560"/>
            <a:chOff x="3813120" y="493560"/>
            <a:chExt cx="5330880" cy="3319560"/>
          </a:xfrm>
        </p:grpSpPr>
        <p:pic>
          <p:nvPicPr>
            <p:cNvPr id="1213" name="" descr=""/>
            <p:cNvPicPr/>
            <p:nvPr/>
          </p:nvPicPr>
          <p:blipFill>
            <a:blip r:embed="rId3"/>
            <a:stretch/>
          </p:blipFill>
          <p:spPr>
            <a:xfrm>
              <a:off x="5788080" y="493560"/>
              <a:ext cx="2886120" cy="29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" descr=""/>
            <p:cNvPicPr/>
            <p:nvPr/>
          </p:nvPicPr>
          <p:blipFill>
            <a:blip r:embed="rId4"/>
            <a:stretch/>
          </p:blipFill>
          <p:spPr>
            <a:xfrm>
              <a:off x="3813120" y="3628800"/>
              <a:ext cx="5330880" cy="18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5" name=""/>
          <p:cNvGrpSpPr/>
          <p:nvPr/>
        </p:nvGrpSpPr>
        <p:grpSpPr>
          <a:xfrm>
            <a:off x="272880" y="2927520"/>
            <a:ext cx="4714920" cy="3773160"/>
            <a:chOff x="272880" y="2927520"/>
            <a:chExt cx="4714920" cy="3773160"/>
          </a:xfrm>
        </p:grpSpPr>
        <p:pic>
          <p:nvPicPr>
            <p:cNvPr id="1216" name="" descr=""/>
            <p:cNvPicPr/>
            <p:nvPr/>
          </p:nvPicPr>
          <p:blipFill>
            <a:blip r:embed="rId5"/>
            <a:stretch/>
          </p:blipFill>
          <p:spPr>
            <a:xfrm>
              <a:off x="392040" y="2927520"/>
              <a:ext cx="3194280" cy="34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" descr=""/>
            <p:cNvPicPr/>
            <p:nvPr/>
          </p:nvPicPr>
          <p:blipFill>
            <a:blip r:embed="rId6"/>
            <a:stretch/>
          </p:blipFill>
          <p:spPr>
            <a:xfrm>
              <a:off x="272880" y="6491160"/>
              <a:ext cx="4714920" cy="20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8" name="" descr=""/>
          <p:cNvPicPr/>
          <p:nvPr/>
        </p:nvPicPr>
        <p:blipFill>
          <a:blip r:embed="rId7"/>
          <a:stretch/>
        </p:blipFill>
        <p:spPr>
          <a:xfrm>
            <a:off x="5218200" y="4249800"/>
            <a:ext cx="3162240" cy="36180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8"/>
          <a:stretch/>
        </p:blipFill>
        <p:spPr>
          <a:xfrm>
            <a:off x="5241960" y="4944960"/>
            <a:ext cx="2962080" cy="68256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/>
          <p:nvPr/>
        </p:nvSpPr>
        <p:spPr>
          <a:xfrm>
            <a:off x="1866240" y="0"/>
            <a:ext cx="64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łączniki scalone na tranzystorach unipolar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1" name=""/>
          <p:cNvGrpSpPr/>
          <p:nvPr/>
        </p:nvGrpSpPr>
        <p:grpSpPr>
          <a:xfrm>
            <a:off x="343080" y="714240"/>
            <a:ext cx="3579120" cy="3877920"/>
            <a:chOff x="343080" y="714240"/>
            <a:chExt cx="3579120" cy="3877920"/>
          </a:xfrm>
        </p:grpSpPr>
        <p:pic>
          <p:nvPicPr>
            <p:cNvPr id="1222" name="" descr=""/>
            <p:cNvPicPr/>
            <p:nvPr/>
          </p:nvPicPr>
          <p:blipFill>
            <a:blip r:embed="rId1"/>
            <a:stretch/>
          </p:blipFill>
          <p:spPr>
            <a:xfrm>
              <a:off x="343080" y="714240"/>
              <a:ext cx="3579120" cy="339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2"/>
            <a:stretch/>
          </p:blipFill>
          <p:spPr>
            <a:xfrm>
              <a:off x="552600" y="4406040"/>
              <a:ext cx="3183120" cy="18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4" name=""/>
          <p:cNvGrpSpPr/>
          <p:nvPr/>
        </p:nvGrpSpPr>
        <p:grpSpPr>
          <a:xfrm>
            <a:off x="3995640" y="719280"/>
            <a:ext cx="4901760" cy="3885840"/>
            <a:chOff x="3995640" y="719280"/>
            <a:chExt cx="4901760" cy="3885840"/>
          </a:xfrm>
        </p:grpSpPr>
        <p:pic>
          <p:nvPicPr>
            <p:cNvPr id="1225" name="" descr=""/>
            <p:cNvPicPr/>
            <p:nvPr/>
          </p:nvPicPr>
          <p:blipFill>
            <a:blip r:embed="rId3"/>
            <a:stretch/>
          </p:blipFill>
          <p:spPr>
            <a:xfrm>
              <a:off x="4796280" y="719280"/>
              <a:ext cx="3271680" cy="33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" descr=""/>
            <p:cNvPicPr/>
            <p:nvPr/>
          </p:nvPicPr>
          <p:blipFill>
            <a:blip r:embed="rId4"/>
            <a:stretch/>
          </p:blipFill>
          <p:spPr>
            <a:xfrm>
              <a:off x="3995640" y="4402080"/>
              <a:ext cx="4901760" cy="20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7" name="" descr=""/>
          <p:cNvPicPr/>
          <p:nvPr/>
        </p:nvPicPr>
        <p:blipFill>
          <a:blip r:embed="rId5"/>
          <a:stretch/>
        </p:blipFill>
        <p:spPr>
          <a:xfrm>
            <a:off x="2830680" y="6118200"/>
            <a:ext cx="316224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" descr=""/>
          <p:cNvPicPr/>
          <p:nvPr/>
        </p:nvPicPr>
        <p:blipFill>
          <a:blip r:embed="rId1"/>
          <a:stretch/>
        </p:blipFill>
        <p:spPr>
          <a:xfrm>
            <a:off x="2287440" y="925560"/>
            <a:ext cx="2686320" cy="258120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0" y="4070520"/>
            <a:ext cx="8953560" cy="1171440"/>
          </a:xfrm>
          <a:prstGeom prst="rect">
            <a:avLst/>
          </a:prstGeom>
          <a:ln w="0">
            <a:noFill/>
          </a:ln>
        </p:spPr>
      </p:pic>
      <p:pic>
        <p:nvPicPr>
          <p:cNvPr id="1230" name="" descr=""/>
          <p:cNvPicPr/>
          <p:nvPr/>
        </p:nvPicPr>
        <p:blipFill>
          <a:blip r:embed="rId3"/>
          <a:stretch/>
        </p:blipFill>
        <p:spPr>
          <a:xfrm>
            <a:off x="2422440" y="444600"/>
            <a:ext cx="2943360" cy="30456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4"/>
          <a:stretch/>
        </p:blipFill>
        <p:spPr>
          <a:xfrm>
            <a:off x="5602320" y="1712880"/>
            <a:ext cx="316224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zastosowania kluc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25400" y="2436840"/>
            <a:ext cx="78375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etektory fazy (pętla PL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Układy modulacji i detekcji (detekcja synchronicz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1135800" y="30492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y fazy mnożący z kluczem tranzysto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913040" y="2124000"/>
            <a:ext cx="1440" cy="349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683400" y="1590840"/>
            <a:ext cx="1440" cy="395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683400" y="1620720"/>
            <a:ext cx="921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696000" y="1940040"/>
            <a:ext cx="7956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6775560" y="1503360"/>
            <a:ext cx="144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6775560" y="1940040"/>
            <a:ext cx="1440" cy="674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5646240" y="1881360"/>
            <a:ext cx="1011600" cy="87120"/>
            <a:chOff x="5646240" y="1881360"/>
            <a:chExt cx="1011600" cy="87120"/>
          </a:xfrm>
        </p:grpSpPr>
        <p:sp>
          <p:nvSpPr>
            <p:cNvPr id="1242" name=""/>
            <p:cNvSpPr/>
            <p:nvPr/>
          </p:nvSpPr>
          <p:spPr>
            <a:xfrm flipH="1">
              <a:off x="5646240" y="1922400"/>
              <a:ext cx="1011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570720" y="18813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6172200" y="2073240"/>
            <a:ext cx="142920" cy="3780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238800" y="1932120"/>
            <a:ext cx="1800" cy="158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238800" y="244332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402240" y="2190600"/>
            <a:ext cx="10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524280" y="2274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722680" y="1906560"/>
            <a:ext cx="428400" cy="42696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857680" y="1998720"/>
            <a:ext cx="1440" cy="239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2870280" y="1960560"/>
            <a:ext cx="209520" cy="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2870280" y="2154240"/>
            <a:ext cx="129960" cy="87480"/>
            <a:chOff x="2870280" y="2154240"/>
            <a:chExt cx="129960" cy="87480"/>
          </a:xfrm>
        </p:grpSpPr>
        <p:sp>
          <p:nvSpPr>
            <p:cNvPr id="1253" name=""/>
            <p:cNvSpPr/>
            <p:nvPr/>
          </p:nvSpPr>
          <p:spPr>
            <a:xfrm>
              <a:off x="2870280" y="2170080"/>
              <a:ext cx="12996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95480" y="2154240"/>
              <a:ext cx="104760" cy="8748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0" y="55"/>
                  </a:moveTo>
                  <a:lnTo>
                    <a:pt x="66" y="53"/>
                  </a:lnTo>
                  <a:lnTo>
                    <a:pt x="2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5" name=""/>
          <p:cNvSpPr/>
          <p:nvPr/>
        </p:nvSpPr>
        <p:spPr>
          <a:xfrm>
            <a:off x="3000240" y="2238480"/>
            <a:ext cx="79560" cy="36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2722320" y="2124000"/>
            <a:ext cx="135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79800" y="2274840"/>
            <a:ext cx="1440" cy="495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3079800" y="1515600"/>
            <a:ext cx="1440" cy="43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581200" y="2124000"/>
            <a:ext cx="146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42080" y="1473120"/>
            <a:ext cx="58680" cy="5580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554800" y="2090880"/>
            <a:ext cx="172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564160" y="2090880"/>
            <a:ext cx="8244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5646600" y="2090520"/>
            <a:ext cx="9396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567400" y="2195640"/>
            <a:ext cx="1731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23960" y="1457280"/>
            <a:ext cx="37296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477800" y="1523880"/>
            <a:ext cx="158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1994040" y="1518840"/>
            <a:ext cx="185400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779480" y="1138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345280" y="142704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202360" y="1498680"/>
            <a:ext cx="1555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715000" y="1495080"/>
            <a:ext cx="17906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424480" y="1074600"/>
            <a:ext cx="268200" cy="306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500800" y="1108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055960" y="205740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913040" y="2128680"/>
            <a:ext cx="155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425680" y="2128680"/>
            <a:ext cx="1843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178000" y="17384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87440" y="1822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054240" y="1503360"/>
            <a:ext cx="5580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213600" y="1901880"/>
            <a:ext cx="5868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434960" y="150336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84240" y="2448000"/>
            <a:ext cx="59040" cy="489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805200" y="1503360"/>
            <a:ext cx="5868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6460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618160" y="237960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148360" y="213192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000240" y="2762280"/>
            <a:ext cx="158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3480" y="3048120"/>
            <a:ext cx="160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389240" y="2157480"/>
            <a:ext cx="155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584680" y="2825640"/>
            <a:ext cx="155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7086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722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646600" y="1922400"/>
            <a:ext cx="1800" cy="181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646600" y="220824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16888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6" name=""/>
          <p:cNvGrpSpPr/>
          <p:nvPr/>
        </p:nvGrpSpPr>
        <p:grpSpPr>
          <a:xfrm>
            <a:off x="5605560" y="2484360"/>
            <a:ext cx="87120" cy="290520"/>
            <a:chOff x="5605560" y="2484360"/>
            <a:chExt cx="87120" cy="290520"/>
          </a:xfrm>
        </p:grpSpPr>
        <p:sp>
          <p:nvSpPr>
            <p:cNvPr id="1297" name=""/>
            <p:cNvSpPr/>
            <p:nvPr/>
          </p:nvSpPr>
          <p:spPr>
            <a:xfrm>
              <a:off x="5646600" y="2484360"/>
              <a:ext cx="180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605560" y="2484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9" name=""/>
          <p:cNvSpPr/>
          <p:nvPr/>
        </p:nvSpPr>
        <p:spPr>
          <a:xfrm>
            <a:off x="48034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892400" y="1838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93092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452600" y="2627280"/>
            <a:ext cx="411120" cy="270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501560" y="2662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590480" y="2744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649520" y="2662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640280" y="17175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727760" y="1801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786800" y="1717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919680" y="1725480"/>
            <a:ext cx="411120" cy="265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9682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057200" y="1838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11660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214600" y="2527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303520" y="2611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362560" y="2527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053720" y="1779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141200" y="1863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179720" y="1779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3449520" y="5961240"/>
            <a:ext cx="136440" cy="60120"/>
            <a:chOff x="3449520" y="5961240"/>
            <a:chExt cx="136440" cy="60120"/>
          </a:xfrm>
        </p:grpSpPr>
        <p:sp>
          <p:nvSpPr>
            <p:cNvPr id="1320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2533680" y="6226200"/>
            <a:ext cx="203040" cy="243000"/>
            <a:chOff x="2533680" y="6226200"/>
            <a:chExt cx="203040" cy="243000"/>
          </a:xfrm>
        </p:grpSpPr>
        <p:sp>
          <p:nvSpPr>
            <p:cNvPr id="1323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2187720" y="5961240"/>
            <a:ext cx="345960" cy="264960"/>
            <a:chOff x="2187720" y="5961240"/>
            <a:chExt cx="345960" cy="264960"/>
          </a:xfrm>
        </p:grpSpPr>
        <p:sp>
          <p:nvSpPr>
            <p:cNvPr id="1326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251000" y="6226200"/>
            <a:ext cx="203040" cy="243000"/>
            <a:chOff x="1251000" y="6226200"/>
            <a:chExt cx="203040" cy="243000"/>
          </a:xfrm>
        </p:grpSpPr>
        <p:sp>
          <p:nvSpPr>
            <p:cNvPr id="1329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905040" y="5961240"/>
            <a:ext cx="347400" cy="264960"/>
            <a:chOff x="905040" y="5961240"/>
            <a:chExt cx="347400" cy="264960"/>
          </a:xfrm>
        </p:grpSpPr>
        <p:sp>
          <p:nvSpPr>
            <p:cNvPr id="1332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3184560" y="3959280"/>
            <a:ext cx="347400" cy="264960"/>
            <a:chOff x="3184560" y="3959280"/>
            <a:chExt cx="347400" cy="264960"/>
          </a:xfrm>
        </p:grpSpPr>
        <p:sp>
          <p:nvSpPr>
            <p:cNvPr id="1335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  <a:lnTo>
                    <a:pt x="219" y="16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2832120" y="4224240"/>
            <a:ext cx="345960" cy="265320"/>
            <a:chOff x="2832120" y="4224240"/>
            <a:chExt cx="345960" cy="265320"/>
          </a:xfrm>
        </p:grpSpPr>
        <p:sp>
          <p:nvSpPr>
            <p:cNvPr id="1338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2552760" y="4224240"/>
            <a:ext cx="347760" cy="265320"/>
            <a:chOff x="2552760" y="4224240"/>
            <a:chExt cx="347760" cy="265320"/>
          </a:xfrm>
        </p:grpSpPr>
        <p:sp>
          <p:nvSpPr>
            <p:cNvPr id="1341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2201760" y="3959280"/>
            <a:ext cx="345960" cy="264960"/>
            <a:chOff x="2201760" y="3959280"/>
            <a:chExt cx="345960" cy="264960"/>
          </a:xfrm>
        </p:grpSpPr>
        <p:sp>
          <p:nvSpPr>
            <p:cNvPr id="1344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1909800" y="3959280"/>
            <a:ext cx="345960" cy="264960"/>
            <a:chOff x="1909800" y="3959280"/>
            <a:chExt cx="345960" cy="264960"/>
          </a:xfrm>
        </p:grpSpPr>
        <p:sp>
          <p:nvSpPr>
            <p:cNvPr id="1347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1563840" y="4224240"/>
            <a:ext cx="345960" cy="265320"/>
            <a:chOff x="1563840" y="4224240"/>
            <a:chExt cx="345960" cy="265320"/>
          </a:xfrm>
        </p:grpSpPr>
        <p:sp>
          <p:nvSpPr>
            <p:cNvPr id="1350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1273320" y="4224240"/>
            <a:ext cx="344520" cy="265320"/>
            <a:chOff x="1273320" y="4224240"/>
            <a:chExt cx="344520" cy="265320"/>
          </a:xfrm>
        </p:grpSpPr>
        <p:sp>
          <p:nvSpPr>
            <p:cNvPr id="1353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  <a:lnTo>
                    <a:pt x="217" y="0"/>
                  </a:lnTo>
                  <a:lnTo>
                    <a:pt x="217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925560" y="3959280"/>
            <a:ext cx="347760" cy="264960"/>
            <a:chOff x="925560" y="3959280"/>
            <a:chExt cx="347760" cy="264960"/>
          </a:xfrm>
        </p:grpSpPr>
        <p:sp>
          <p:nvSpPr>
            <p:cNvPr id="1356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608040" y="3959280"/>
            <a:ext cx="345960" cy="264960"/>
            <a:chOff x="608040" y="3959280"/>
            <a:chExt cx="345960" cy="264960"/>
          </a:xfrm>
        </p:grpSpPr>
        <p:sp>
          <p:nvSpPr>
            <p:cNvPr id="1359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84280" y="3957480"/>
            <a:ext cx="3232800" cy="5040"/>
            <a:chOff x="584280" y="3957480"/>
            <a:chExt cx="3232800" cy="5040"/>
          </a:xfrm>
        </p:grpSpPr>
        <p:grpSp>
          <p:nvGrpSpPr>
            <p:cNvPr id="1362" name=""/>
            <p:cNvGrpSpPr/>
            <p:nvPr/>
          </p:nvGrpSpPr>
          <p:grpSpPr>
            <a:xfrm>
              <a:off x="2085840" y="3957480"/>
              <a:ext cx="1731240" cy="5040"/>
              <a:chOff x="2085840" y="3957480"/>
              <a:chExt cx="1731240" cy="5040"/>
            </a:xfrm>
          </p:grpSpPr>
          <p:sp>
            <p:nvSpPr>
              <p:cNvPr id="1363" name=""/>
              <p:cNvSpPr/>
              <p:nvPr/>
            </p:nvSpPr>
            <p:spPr>
              <a:xfrm>
                <a:off x="3812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380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79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378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779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769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7620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75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744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3735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7270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3717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709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700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69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682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67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3665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365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6493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363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3631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622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614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60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3596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587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357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569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561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552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54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53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52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519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3509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501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49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484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474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466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457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449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4394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431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42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41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404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396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38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37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3714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361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353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34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336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326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318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30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30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291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283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27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26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256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2490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241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231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2238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2140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206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196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188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1791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171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161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15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14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136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126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11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10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101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093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084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0762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066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058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049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0412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03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023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014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00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99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988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979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97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9635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953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945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936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9286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918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910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901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89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88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876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866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85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84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841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831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23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815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806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798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27885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2780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2771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2763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7536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745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73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72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718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7108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70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69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685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675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667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658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650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6409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6330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62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61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6060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598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58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58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571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5632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555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545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538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528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520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511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503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493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485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476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46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45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450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441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43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42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415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407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398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390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380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372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363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554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4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337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328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320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31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2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293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285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2777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268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260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250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2428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233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25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15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07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19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90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180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172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16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155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145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138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129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120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112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102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094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85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3" name=""/>
            <p:cNvSpPr/>
            <p:nvPr/>
          </p:nvSpPr>
          <p:spPr>
            <a:xfrm>
              <a:off x="2077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0682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060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050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04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033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0253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16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00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0001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9904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982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73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965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955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947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938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93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920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12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903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89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885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877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868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860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852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842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834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825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817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8079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8000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790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78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77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765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755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74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73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730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722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712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7049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695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687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677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700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6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652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643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63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62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17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608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59228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582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574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565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5573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547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539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530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5224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51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504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495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48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47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469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460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45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4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434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4270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4173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094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400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392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3824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374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36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35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347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3395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33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32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3143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3046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296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287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279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2697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2618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252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24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2348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226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21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20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199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1919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18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17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1667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1570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149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139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131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1221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1142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104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09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08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079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069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06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5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044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036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027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0191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009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001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992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9842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97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966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957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94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93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931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922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91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90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896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88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79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715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61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53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44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366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2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19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09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01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9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84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4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66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58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49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41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31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23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4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06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96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8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7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71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61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53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36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28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18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10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01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93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84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603360" y="5958000"/>
            <a:ext cx="3232800" cy="4680"/>
            <a:chOff x="603360" y="5958000"/>
            <a:chExt cx="3232800" cy="4680"/>
          </a:xfrm>
        </p:grpSpPr>
        <p:grpSp>
          <p:nvGrpSpPr>
            <p:cNvPr id="1737" name=""/>
            <p:cNvGrpSpPr/>
            <p:nvPr/>
          </p:nvGrpSpPr>
          <p:grpSpPr>
            <a:xfrm>
              <a:off x="2106360" y="5958000"/>
              <a:ext cx="1729800" cy="4680"/>
              <a:chOff x="2106360" y="5958000"/>
              <a:chExt cx="1729800" cy="4680"/>
            </a:xfrm>
          </p:grpSpPr>
          <p:sp>
            <p:nvSpPr>
              <p:cNvPr id="1738" name=""/>
              <p:cNvSpPr/>
              <p:nvPr/>
            </p:nvSpPr>
            <p:spPr>
              <a:xfrm>
                <a:off x="3833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823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81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806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798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789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78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771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76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755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746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738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72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720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711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702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93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685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676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668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58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650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641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6331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623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61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607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5982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590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58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573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5632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555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54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53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528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520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51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50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493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85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477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46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460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50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442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43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25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15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7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398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39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380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372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363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5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345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337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330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320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312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303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295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285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277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26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260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50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324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23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225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215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20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2000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190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182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173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1651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155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147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138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13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12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112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103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09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08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077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069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3060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0524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3042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3034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3025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3017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3007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999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990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9822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97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964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955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9473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93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2930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29221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912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2904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895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2887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28774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2869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86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285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28425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834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282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281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2807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27997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791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782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774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7648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756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747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739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27298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721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2712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270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694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687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2677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66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660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2652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644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634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2626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2617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609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599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592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58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574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2565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55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254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539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530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52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2514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2504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2496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2487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24793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2469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2461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452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44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243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426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417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40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39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2391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2383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2374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23666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2356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349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2339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2331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2322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2314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304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2296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228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2279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269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2261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225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244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236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26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8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209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201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191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183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17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166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156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148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13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131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121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1139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106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8" name=""/>
            <p:cNvSpPr/>
            <p:nvPr/>
          </p:nvSpPr>
          <p:spPr>
            <a:xfrm>
              <a:off x="2097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089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079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071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062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054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044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036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7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01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009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001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992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98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974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66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958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949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41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931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923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914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906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896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888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879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87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861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854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844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83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8288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819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811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801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7938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784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76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66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75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74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741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731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72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71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706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697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689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6812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671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663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654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645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636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628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619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6110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60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593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584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5760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56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558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5508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5411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533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523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515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5062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4983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48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48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4713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463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45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44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436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4284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420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411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4032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3935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385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376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368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3586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3507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341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33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3237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315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306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29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2888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280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272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263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2556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245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2380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228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220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21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203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193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18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17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168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158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15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1430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133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125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16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1080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098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090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081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07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06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055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046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03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02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020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011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00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954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85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977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968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9601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950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942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33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9252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91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907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898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8902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88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873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865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55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47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838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830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820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12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0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95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85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77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6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60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50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26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3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25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17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77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9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0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82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728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64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55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47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379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30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20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12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03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584280" y="4487760"/>
            <a:ext cx="3232800" cy="3240"/>
            <a:chOff x="584280" y="4487760"/>
            <a:chExt cx="3232800" cy="3240"/>
          </a:xfrm>
        </p:grpSpPr>
        <p:grpSp>
          <p:nvGrpSpPr>
            <p:cNvPr id="2112" name=""/>
            <p:cNvGrpSpPr/>
            <p:nvPr/>
          </p:nvGrpSpPr>
          <p:grpSpPr>
            <a:xfrm>
              <a:off x="2085840" y="4487760"/>
              <a:ext cx="1731240" cy="3240"/>
              <a:chOff x="2085840" y="4487760"/>
              <a:chExt cx="1731240" cy="3240"/>
            </a:xfrm>
          </p:grpSpPr>
          <p:sp>
            <p:nvSpPr>
              <p:cNvPr id="2113" name=""/>
              <p:cNvSpPr/>
              <p:nvPr/>
            </p:nvSpPr>
            <p:spPr>
              <a:xfrm>
                <a:off x="3812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80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79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78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779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769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7620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75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744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735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7270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717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709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700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69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682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67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665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65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6493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63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631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622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614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60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596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587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57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569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561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552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54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53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52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519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509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501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49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484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474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466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457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449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4394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431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42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41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404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396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38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37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3714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361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353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34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336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326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318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30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30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291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283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27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26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256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2490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241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231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2238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2140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206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196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188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1791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171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161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15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14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136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126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11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10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101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093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084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0762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066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058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049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30412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03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023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014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00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99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988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979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97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9635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953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2945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936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29286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2918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2910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2901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289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288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2876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2866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285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284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2841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2831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2823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2815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2806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798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7885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2780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2771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763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27536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745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73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72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718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27108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70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69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2685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2675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2667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658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2650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26409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26330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262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261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26060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2598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258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258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2571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25632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2555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2545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2538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2528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2520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2511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2503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493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485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2476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46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245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450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441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43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42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415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2407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2398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390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380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2372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363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23554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234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2337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328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320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231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2302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2293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285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22777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2268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2260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2250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22428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233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225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215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207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19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2190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180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172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16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2155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2145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2138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2129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2120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2112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2102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094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2085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3" name=""/>
            <p:cNvSpPr/>
            <p:nvPr/>
          </p:nvSpPr>
          <p:spPr>
            <a:xfrm>
              <a:off x="2077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0682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060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050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04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033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0253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016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00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0001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9904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982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973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965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55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947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938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93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920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912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903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89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885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877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868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860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852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842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834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825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817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8079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8000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1790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78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177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765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755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74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73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1730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722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712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7049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695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687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677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16700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66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1652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643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63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62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617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608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60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59228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582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574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565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5573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547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539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530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5224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51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504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1495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48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47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469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460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145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444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434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4270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4173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4094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0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392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13824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1374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136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135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1347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13395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33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32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3143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13046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296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287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279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2697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2618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252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24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2348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226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21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20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199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1919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18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17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1667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1570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149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139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131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11221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1142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104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109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08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079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069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06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05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044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036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027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0191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1009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001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92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9842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97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966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957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94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93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931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922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91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90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96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88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879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715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61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853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844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366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2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19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09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01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9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84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74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66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58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49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41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31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23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14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06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96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88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7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71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61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53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4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36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28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18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10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01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93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84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6" name=""/>
          <p:cNvGrpSpPr/>
          <p:nvPr/>
        </p:nvGrpSpPr>
        <p:grpSpPr>
          <a:xfrm>
            <a:off x="814320" y="3944880"/>
            <a:ext cx="9360" cy="1089000"/>
            <a:chOff x="814320" y="3944880"/>
            <a:chExt cx="9360" cy="1089000"/>
          </a:xfrm>
        </p:grpSpPr>
        <p:sp>
          <p:nvSpPr>
            <p:cNvPr id="2487" name=""/>
            <p:cNvSpPr/>
            <p:nvPr/>
          </p:nvSpPr>
          <p:spPr>
            <a:xfrm>
              <a:off x="814320" y="502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14320" y="50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814320" y="501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003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14320" y="499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14320" y="49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14320" y="497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14320" y="496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14320" y="4960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14320" y="49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14320" y="4943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14320" y="493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14320" y="492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14320" y="491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14320" y="490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14320" y="489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14320" y="4890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14320" y="488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14320" y="48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814320" y="486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814320" y="485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814320" y="484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814320" y="48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814320" y="4830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14320" y="482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14320" y="4813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14320" y="48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14320" y="479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814320" y="478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14320" y="477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814320" y="476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814320" y="47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815760" y="4751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15760" y="4743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815760" y="473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815760" y="47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815760" y="4716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815760" y="470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815760" y="4700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815760" y="46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815760" y="4683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815760" y="467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815760" y="4665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815760" y="465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815760" y="464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815760" y="463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815760" y="463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815760" y="462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15760" y="46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815760" y="460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815760" y="45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815760" y="458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815760" y="45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815760" y="456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15760" y="456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15760" y="4552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15760" y="45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15760" y="45356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15760" y="452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15760" y="451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815760" y="450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815760" y="450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815760" y="449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815760" y="4483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815760" y="447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815760" y="44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815760" y="445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815760" y="444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815760" y="443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815760" y="443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815760" y="4422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815760" y="441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815760" y="4405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815760" y="4395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815760" y="438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815760" y="437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815760" y="437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815760" y="4361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15760" y="4352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815760" y="434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815760" y="4335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815760" y="432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815760" y="4317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815760" y="430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815760" y="430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815760" y="429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15760" y="428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815760" y="4275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815760" y="426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815760" y="4257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815760" y="424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815760" y="424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815760" y="423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815760" y="422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815760" y="421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819000" y="4205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819000" y="419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819000" y="4187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819000" y="4178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819000" y="4170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819000" y="416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819000" y="4152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819000" y="4145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819000" y="4135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819000" y="4127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819000" y="41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819000" y="4110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819000" y="4100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819000" y="4092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819000" y="4083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819000" y="40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819000" y="4065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819000" y="4057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819000" y="4048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819000" y="40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819000" y="4030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819000" y="4022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819000" y="4014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19000" y="40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19000" y="3997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19000" y="3987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19000" y="3979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819000" y="3970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819000" y="39625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819000" y="3952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819000" y="3944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3" name=""/>
          <p:cNvGrpSpPr/>
          <p:nvPr/>
        </p:nvGrpSpPr>
        <p:grpSpPr>
          <a:xfrm>
            <a:off x="1457280" y="3951360"/>
            <a:ext cx="6120" cy="1089000"/>
            <a:chOff x="1457280" y="3951360"/>
            <a:chExt cx="6120" cy="1089000"/>
          </a:xfrm>
        </p:grpSpPr>
        <p:sp>
          <p:nvSpPr>
            <p:cNvPr id="2614" name=""/>
            <p:cNvSpPr/>
            <p:nvPr/>
          </p:nvSpPr>
          <p:spPr>
            <a:xfrm>
              <a:off x="1457280" y="503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1457280" y="50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457280" y="501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1457280" y="501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1457280" y="500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457280" y="49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1457280" y="4984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457280" y="497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457280" y="496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1457280" y="495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457280" y="4950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457280" y="494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457280" y="4932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457280" y="492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457280" y="49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457280" y="490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457280" y="489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457280" y="488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457280" y="487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457280" y="4871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457280" y="486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457280" y="4854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457280" y="484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457280" y="483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457280" y="482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457280" y="481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457280" y="480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457280" y="480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457280" y="479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457280" y="47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457280" y="477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457280" y="4767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457280" y="475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457280" y="47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457280" y="474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457280" y="473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457280" y="4724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457280" y="47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1457280" y="4707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1457280" y="469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457280" y="468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1457280" y="468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1457280" y="467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1457280" y="466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1457280" y="4654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1457280" y="464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1457280" y="46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457280" y="462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1457280" y="4619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1457280" y="461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457280" y="46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457280" y="4594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457280" y="45846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457280" y="45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457280" y="45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457280" y="455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457280" y="45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457280" y="454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457280" y="453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457280" y="45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457280" y="451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457280" y="4506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457280" y="449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458720" y="448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1458720" y="447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1458720" y="4471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458720" y="4462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1458720" y="4454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458720" y="4446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458720" y="4437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458720" y="4429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458720" y="4419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458720" y="4411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458720" y="4402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458720" y="4394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458720" y="4384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458720" y="437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458720" y="436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458720" y="4359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458720" y="4349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458720" y="434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458720" y="433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458720" y="4324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1458720" y="4316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1458720" y="4307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1458720" y="42991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1458720" y="4289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1458720" y="4281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1458720" y="4272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1458720" y="42642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458720" y="425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458720" y="4246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458720" y="4237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458720" y="422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458720" y="421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1458720" y="421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458720" y="4202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458720" y="4194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458720" y="4186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458720" y="4176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458720" y="4168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458720" y="4159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458720" y="4151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458720" y="4141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458720" y="4133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458720" y="4124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458720" y="4116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1458720" y="410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458720" y="4098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1458720" y="4089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458720" y="4081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458720" y="407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458720" y="4064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1458720" y="4054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1458720" y="4046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1458720" y="4038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458720" y="4029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1458720" y="4021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1458720" y="4011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1458720" y="4003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1458720" y="3994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458720" y="3986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458720" y="3976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458720" y="3968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458720" y="395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458720" y="3951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0" name=""/>
          <p:cNvGrpSpPr/>
          <p:nvPr/>
        </p:nvGrpSpPr>
        <p:grpSpPr>
          <a:xfrm>
            <a:off x="2101680" y="3951360"/>
            <a:ext cx="6480" cy="1089000"/>
            <a:chOff x="2101680" y="3951360"/>
            <a:chExt cx="6480" cy="1089000"/>
          </a:xfrm>
        </p:grpSpPr>
        <p:sp>
          <p:nvSpPr>
            <p:cNvPr id="2741" name=""/>
            <p:cNvSpPr/>
            <p:nvPr/>
          </p:nvSpPr>
          <p:spPr>
            <a:xfrm>
              <a:off x="210168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10168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10168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10168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10168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10168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10168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10168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10168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10168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10168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10168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210168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10168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10168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10168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210168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10168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10168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10168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210168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10168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10168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10168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10168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210168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210168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10168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10168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210168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10168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10168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101680" y="475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101680" y="474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101680" y="4740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101680" y="4732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101680" y="4724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101680" y="4714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101680" y="4707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101680" y="4697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101680" y="4689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101680" y="4680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101680" y="4672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101680" y="4662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101680" y="4654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101680" y="464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101680" y="463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101680" y="4627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101680" y="4619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101680" y="4610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101680" y="460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101680" y="4594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101680" y="4584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101680" y="4576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101680" y="4567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101680" y="4559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101680" y="4549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101680" y="4541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101680" y="4532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101680" y="452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2101680" y="451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101680" y="4506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101680" y="4497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103120" y="448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103120" y="44798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103120" y="44719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103120" y="4462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103120" y="4454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103120" y="44467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103120" y="44370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103120" y="4429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103120" y="4419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103120" y="44118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103120" y="44020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103120" y="4394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103120" y="4384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103120" y="437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103120" y="4367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103120" y="4359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103120" y="4349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103120" y="434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103120" y="4332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103120" y="43243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103120" y="43164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103120" y="4307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103120" y="42991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103120" y="42894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103120" y="4281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103120" y="4272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103120" y="42642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103120" y="42544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2103120" y="4246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103120" y="4237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103120" y="422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103120" y="421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2103120" y="4211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103120" y="4202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103120" y="41940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103120" y="4186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103120" y="4176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103120" y="41688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103120" y="41590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103120" y="4151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103120" y="4141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103120" y="41338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103120" y="41241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103120" y="41162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103120" y="410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103120" y="4098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2103120" y="40892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103120" y="4081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103120" y="407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2103120" y="4064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103120" y="4054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2103120" y="40464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103120" y="4038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103120" y="4029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103120" y="40212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103120" y="40114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2103120" y="40035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103120" y="3994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2103120" y="39862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103120" y="39765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2103120" y="39686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103120" y="395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103120" y="39513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7" name=""/>
          <p:cNvGrpSpPr/>
          <p:nvPr/>
        </p:nvGrpSpPr>
        <p:grpSpPr>
          <a:xfrm>
            <a:off x="2730600" y="3959280"/>
            <a:ext cx="9000" cy="1081080"/>
            <a:chOff x="2730600" y="3959280"/>
            <a:chExt cx="9000" cy="1081080"/>
          </a:xfrm>
        </p:grpSpPr>
        <p:sp>
          <p:nvSpPr>
            <p:cNvPr id="2868" name=""/>
            <p:cNvSpPr/>
            <p:nvPr/>
          </p:nvSpPr>
          <p:spPr>
            <a:xfrm>
              <a:off x="27306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7306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27306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27306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27306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27306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27306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27306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27306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27306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27306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27306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27306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7306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27306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27306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27306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27306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27306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27306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27306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27306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7306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7306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27306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27306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27306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27306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27306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27306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27306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27306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2733480" y="4757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2733480" y="474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2733480" y="47401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2733480" y="47322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2733480" y="4724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2733480" y="4714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2733480" y="4707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2733480" y="46972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2733480" y="4689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2733480" y="4680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2733480" y="4672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2733480" y="466236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2733480" y="4654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2733480" y="4645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2733480" y="463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733480" y="4627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733480" y="46195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733480" y="4610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733480" y="460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733480" y="45943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2733480" y="45846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2733480" y="4576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733480" y="4567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733480" y="4559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733480" y="45496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2733480" y="4541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2733480" y="4532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733480" y="452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733480" y="4514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2733480" y="4506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733480" y="4497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2733480" y="4489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2733480" y="447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733480" y="4471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2733480" y="4462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2733480" y="4454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2733480" y="44467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2733480" y="4437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2733480" y="4429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2733480" y="44197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2733480" y="44118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2733480" y="4402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2733480" y="4394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2733480" y="43848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2733480" y="4376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2733480" y="436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2733480" y="4359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2733480" y="4349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2733480" y="43419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2733480" y="433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733480" y="4324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733480" y="4316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2733480" y="43070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2733480" y="42991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733480" y="4289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733480" y="42814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733480" y="4272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733480" y="42642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2733480" y="425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2733480" y="4246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2733480" y="42372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2733480" y="4229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27352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27352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7352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7352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27352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27352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27352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7352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27352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27352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7352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7352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27352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27352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27352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7352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27352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27352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27352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27352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27352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27352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27352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27352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27352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7352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7352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7352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7352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27352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27352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3" name=""/>
          <p:cNvGrpSpPr/>
          <p:nvPr/>
        </p:nvGrpSpPr>
        <p:grpSpPr>
          <a:xfrm>
            <a:off x="3362400" y="3959280"/>
            <a:ext cx="9000" cy="1081080"/>
            <a:chOff x="3362400" y="3959280"/>
            <a:chExt cx="9000" cy="1081080"/>
          </a:xfrm>
        </p:grpSpPr>
        <p:sp>
          <p:nvSpPr>
            <p:cNvPr id="2994" name=""/>
            <p:cNvSpPr/>
            <p:nvPr/>
          </p:nvSpPr>
          <p:spPr>
            <a:xfrm>
              <a:off x="33624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33624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33624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3624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3624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33624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3624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3624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3624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3624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33624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33624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33624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33624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33624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33624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33624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33624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33624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33624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3624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33624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3624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3624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33624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33624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33624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33624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33624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33624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3624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3624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3363840" y="4757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3363840" y="474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3363840" y="47401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3363840" y="47322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3363840" y="4724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3363840" y="4714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3363840" y="47070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3363840" y="46972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3363840" y="46893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3363840" y="4680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3363840" y="4672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3363840" y="46623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3363840" y="4654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3363840" y="4645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3363840" y="463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363840" y="4627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3363840" y="46195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3363840" y="4610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3363840" y="460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3363840" y="459432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3363840" y="45846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3363840" y="45766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3363840" y="4567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3363840" y="4559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3363840" y="45496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3363840" y="4541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363840" y="4532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3363840" y="452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363840" y="4514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3363840" y="4506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3363840" y="4497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363840" y="448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3363840" y="447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3363840" y="4471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363840" y="4462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3363840" y="4454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3363840" y="44467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363840" y="4437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3363840" y="4429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3363840" y="4419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363840" y="44118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3363840" y="4402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363840" y="4394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363840" y="4384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363840" y="437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363840" y="436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3363840" y="4359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363840" y="4349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3363840" y="434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3363840" y="433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3363840" y="4324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363840" y="4316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3363840" y="4307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363840" y="42991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363840" y="4289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363840" y="4281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3363840" y="4272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363840" y="42642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363840" y="425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363840" y="4246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3363840" y="4237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3363840" y="422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33670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3670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3670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33670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33670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33670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33670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33670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33670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33670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33670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33670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33670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33670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33670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33670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33670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33670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33670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33670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33670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33670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33670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33670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3670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33670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33670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3670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3670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33670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33670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9" name=""/>
          <p:cNvSpPr/>
          <p:nvPr/>
        </p:nvSpPr>
        <p:spPr>
          <a:xfrm>
            <a:off x="593640" y="503244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82080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825480" y="5364000"/>
            <a:ext cx="6285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14605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2106720" y="5370480"/>
            <a:ext cx="630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27367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3367080" y="5370480"/>
            <a:ext cx="2192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145908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2103480" y="5040360"/>
            <a:ext cx="1440" cy="334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2733840" y="504036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3363840" y="5040360"/>
            <a:ext cx="180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600120" y="622620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1" name=""/>
          <p:cNvGrpSpPr/>
          <p:nvPr/>
        </p:nvGrpSpPr>
        <p:grpSpPr>
          <a:xfrm>
            <a:off x="816120" y="5961240"/>
            <a:ext cx="137880" cy="47520"/>
            <a:chOff x="816120" y="5961240"/>
            <a:chExt cx="137880" cy="47520"/>
          </a:xfrm>
        </p:grpSpPr>
        <p:sp>
          <p:nvSpPr>
            <p:cNvPr id="3132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4" name=""/>
          <p:cNvSpPr/>
          <p:nvPr/>
        </p:nvSpPr>
        <p:spPr>
          <a:xfrm>
            <a:off x="816120" y="6014880"/>
            <a:ext cx="288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 flipV="1">
            <a:off x="1454040" y="6225840"/>
            <a:ext cx="180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146052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273060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8" name=""/>
          <p:cNvGrpSpPr/>
          <p:nvPr/>
        </p:nvGrpSpPr>
        <p:grpSpPr>
          <a:xfrm>
            <a:off x="2098800" y="5961240"/>
            <a:ext cx="137880" cy="47520"/>
            <a:chOff x="2098800" y="5961240"/>
            <a:chExt cx="137880" cy="47520"/>
          </a:xfrm>
        </p:grpSpPr>
        <p:sp>
          <p:nvSpPr>
            <p:cNvPr id="3139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1" name=""/>
          <p:cNvSpPr/>
          <p:nvPr/>
        </p:nvSpPr>
        <p:spPr>
          <a:xfrm>
            <a:off x="2098800" y="6014880"/>
            <a:ext cx="144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 flipV="1">
            <a:off x="2730600" y="6225840"/>
            <a:ext cx="144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3" name=""/>
          <p:cNvGrpSpPr/>
          <p:nvPr/>
        </p:nvGrpSpPr>
        <p:grpSpPr>
          <a:xfrm>
            <a:off x="3360600" y="5961240"/>
            <a:ext cx="136440" cy="47520"/>
            <a:chOff x="3360600" y="5961240"/>
            <a:chExt cx="136440" cy="47520"/>
          </a:xfrm>
        </p:grpSpPr>
        <p:sp>
          <p:nvSpPr>
            <p:cNvPr id="3144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86" y="3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6" name=""/>
          <p:cNvSpPr/>
          <p:nvPr/>
        </p:nvSpPr>
        <p:spPr>
          <a:xfrm>
            <a:off x="3360600" y="6014880"/>
            <a:ext cx="180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1909800" y="4224240"/>
            <a:ext cx="1440" cy="4888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3755880" y="6264360"/>
            <a:ext cx="10980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3793320" y="6280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3755880" y="5241960"/>
            <a:ext cx="10980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3793320" y="5254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3727440" y="4265640"/>
            <a:ext cx="1094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3767760" y="42782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477720" y="416412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510480" y="4176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471600" y="5140440"/>
            <a:ext cx="11088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504000" y="5153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477720" y="616428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510480" y="6176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2255760" y="4495680"/>
            <a:ext cx="15264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2290680" y="4506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2345400" y="4514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2146320" y="5526000"/>
            <a:ext cx="11124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2177640" y="55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423720" y="5762520"/>
            <a:ext cx="14616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456480" y="5778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500760" y="5821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423720" y="4754520"/>
            <a:ext cx="14616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456480" y="47671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500760" y="480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471600" y="3809880"/>
            <a:ext cx="11088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492840" y="3825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537480" y="3868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4" name=""/>
          <p:cNvGrpSpPr/>
          <p:nvPr/>
        </p:nvGrpSpPr>
        <p:grpSpPr>
          <a:xfrm>
            <a:off x="814320" y="5370480"/>
            <a:ext cx="6120" cy="620640"/>
            <a:chOff x="814320" y="5370480"/>
            <a:chExt cx="6120" cy="620640"/>
          </a:xfrm>
        </p:grpSpPr>
        <p:sp>
          <p:nvSpPr>
            <p:cNvPr id="3175" name=""/>
            <p:cNvSpPr/>
            <p:nvPr/>
          </p:nvSpPr>
          <p:spPr>
            <a:xfrm>
              <a:off x="81432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1432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1432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1432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81432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81432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1432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1432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81432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1432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81432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1432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1432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1432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1432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1432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1432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81432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1432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1432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1432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1432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1432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1432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1432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1432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1432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1432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1432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1432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1432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81432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1432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1432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1432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1432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1576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1576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1576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1576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1576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1576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81576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81576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1576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1576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1576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1576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1576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1576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1576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1576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1576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1576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1576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1576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1576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1576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81576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1576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1576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1576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1576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1576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81576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81576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81576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1576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1576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1576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1576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1576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7" name=""/>
          <p:cNvGrpSpPr/>
          <p:nvPr/>
        </p:nvGrpSpPr>
        <p:grpSpPr>
          <a:xfrm>
            <a:off x="2101680" y="5370480"/>
            <a:ext cx="4680" cy="620640"/>
            <a:chOff x="2101680" y="5370480"/>
            <a:chExt cx="4680" cy="620640"/>
          </a:xfrm>
        </p:grpSpPr>
        <p:sp>
          <p:nvSpPr>
            <p:cNvPr id="3248" name=""/>
            <p:cNvSpPr/>
            <p:nvPr/>
          </p:nvSpPr>
          <p:spPr>
            <a:xfrm>
              <a:off x="210168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210168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210168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10168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10168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210168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210168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10168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10168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210168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210168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10168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10168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10168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10168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10168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10168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10168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10168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10168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10168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10168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10168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10168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210168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10168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10168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10168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10168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10168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10168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10168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10168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10168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10168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10168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10168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10168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10168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10168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10168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10168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10168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10168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10168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10168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10168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10168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10168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10168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10168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10168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10168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10168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10168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10168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10168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10168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10168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10168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10168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10168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210168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10168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10168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10168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10168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10168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10168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10168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10168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10168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0" name=""/>
          <p:cNvGrpSpPr/>
          <p:nvPr/>
        </p:nvGrpSpPr>
        <p:grpSpPr>
          <a:xfrm>
            <a:off x="1457280" y="5364000"/>
            <a:ext cx="3240" cy="863640"/>
            <a:chOff x="1457280" y="5364000"/>
            <a:chExt cx="3240" cy="863640"/>
          </a:xfrm>
        </p:grpSpPr>
        <p:sp>
          <p:nvSpPr>
            <p:cNvPr id="3321" name=""/>
            <p:cNvSpPr/>
            <p:nvPr/>
          </p:nvSpPr>
          <p:spPr>
            <a:xfrm>
              <a:off x="1457280" y="6222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1457280" y="6215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1457280" y="620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1457280" y="619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1457280" y="618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1457280" y="618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1457280" y="6170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1457280" y="616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1457280" y="6153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1457280" y="614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1457280" y="613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1457280" y="612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1457280" y="611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1457280" y="611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1457280" y="6102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1457280" y="609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1457280" y="608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1457280" y="607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1457280" y="606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1457280" y="605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1457280" y="604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1457280" y="6040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1457280" y="603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1457280" y="6022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1457280" y="601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1457280" y="6005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1457280" y="599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1457280" y="598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1457280" y="597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1457280" y="597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1457280" y="596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1457280" y="5954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1457280" y="594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1457280" y="593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1457280" y="59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1457280" y="591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1457280" y="591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1457280" y="590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1457280" y="58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1457280" y="588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1457280" y="5875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1457280" y="586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1457280" y="585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1457280" y="585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1457280" y="584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1457280" y="583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1457280" y="5824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1457280" y="58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1457280" y="5807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1457280" y="579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1457280" y="5789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1457280" y="578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1457280" y="577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1457280" y="5762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1457280" y="5754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1457280" y="5745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1457280" y="573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1457280" y="572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1457280" y="571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1457280" y="571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1457280" y="570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1457280" y="5694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1457280" y="56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1457280" y="5676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1457280" y="566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1457280" y="56595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1457280" y="56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1457280" y="5641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1457280" y="5632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1457280" y="5624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1457280" y="56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1457280" y="5607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1457280" y="5597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1457280" y="55897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1457280" y="55818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1457280" y="5572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1457280" y="5564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1457280" y="55548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1457280" y="5546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1457280" y="55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1457280" y="5529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1457280" y="5519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1457280" y="5511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1457280" y="55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1457280" y="5494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1457280" y="5484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1457280" y="5477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1457280" y="54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1457280" y="5459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1457280" y="5451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1457280" y="5442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1457280" y="54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1457280" y="54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1457280" y="5416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1457280" y="5407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1457280" y="539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457280" y="5389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457280" y="5381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1457280" y="5372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457280" y="53640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1" name=""/>
          <p:cNvGrpSpPr/>
          <p:nvPr/>
        </p:nvGrpSpPr>
        <p:grpSpPr>
          <a:xfrm>
            <a:off x="2730600" y="5357880"/>
            <a:ext cx="4680" cy="863640"/>
            <a:chOff x="2730600" y="5357880"/>
            <a:chExt cx="4680" cy="863640"/>
          </a:xfrm>
        </p:grpSpPr>
        <p:sp>
          <p:nvSpPr>
            <p:cNvPr id="3422" name=""/>
            <p:cNvSpPr/>
            <p:nvPr/>
          </p:nvSpPr>
          <p:spPr>
            <a:xfrm>
              <a:off x="2730600" y="6216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2730600" y="6208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2730600" y="619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2730600" y="6191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2730600" y="618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2730600" y="6173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730600" y="616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2730600" y="615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730600" y="614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730600" y="613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2730600" y="6129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2730600" y="612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2730600" y="6111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2730600" y="610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730600" y="609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730600" y="608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2730600" y="607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730600" y="606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2730600" y="6060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2730600" y="605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730600" y="6043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2730600" y="603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2730600" y="602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2730600" y="601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2730600" y="600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2730600" y="5999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2730600" y="599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2730600" y="5981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2730600" y="597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2730600" y="596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730600" y="595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2730600" y="594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2730600" y="593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2730600" y="5931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2730600" y="59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2730600" y="5913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2730600" y="590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2730600" y="589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2730600" y="58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2730600" y="587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2730600" y="5869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2730600" y="586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2730600" y="58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2730600" y="584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2730600" y="5834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2730600" y="582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730600" y="581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2730600" y="580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2730600" y="580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2730600" y="579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2730600" y="57834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730600" y="57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2730600" y="5765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2730600" y="575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2730600" y="574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2730600" y="57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730600" y="573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730600" y="5721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730600" y="571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730600" y="57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730600" y="569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2730600" y="568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2730600" y="567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2730600" y="567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2730600" y="56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2730600" y="5653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2730600" y="564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2730600" y="5635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2730600" y="56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730600" y="561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730600" y="560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2730600" y="560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2730600" y="55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730600" y="558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730600" y="5573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2730600" y="5565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2730600" y="555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2730600" y="554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730600" y="554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730600" y="5530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730600" y="5522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2730600" y="55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2730600" y="5505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2730600" y="549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730600" y="5487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730600" y="54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2730600" y="547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730600" y="546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730600" y="545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730600" y="54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730600" y="543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730600" y="5425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730600" y="541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730600" y="541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730600" y="540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730600" y="539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30600" y="538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2730600" y="5375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730600" y="53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730600" y="5357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2" name=""/>
          <p:cNvGrpSpPr/>
          <p:nvPr/>
        </p:nvGrpSpPr>
        <p:grpSpPr>
          <a:xfrm>
            <a:off x="3362400" y="5370480"/>
            <a:ext cx="4680" cy="620640"/>
            <a:chOff x="3362400" y="5370480"/>
            <a:chExt cx="4680" cy="620640"/>
          </a:xfrm>
        </p:grpSpPr>
        <p:sp>
          <p:nvSpPr>
            <p:cNvPr id="3523" name=""/>
            <p:cNvSpPr/>
            <p:nvPr/>
          </p:nvSpPr>
          <p:spPr>
            <a:xfrm>
              <a:off x="336240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336240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36240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36240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336240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336240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336240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336240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336240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336240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36240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36240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36240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336240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36240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36240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36240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336240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336240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336240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336240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336240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336240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336240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336240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36240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336240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336240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336240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336240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336240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36240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36240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36240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36240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36240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36240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336240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36240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336240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336240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36240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36240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36240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336240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36240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36240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36240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36240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36240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36240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36240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36240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36240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36240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36240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36240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36240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36240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336240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36240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36240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36240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36240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336240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36240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36240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36240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36240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36240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36240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36240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5" name=""/>
          <p:cNvGrpSpPr/>
          <p:nvPr/>
        </p:nvGrpSpPr>
        <p:grpSpPr>
          <a:xfrm>
            <a:off x="6306480" y="5133960"/>
            <a:ext cx="201240" cy="407160"/>
            <a:chOff x="6306480" y="5133960"/>
            <a:chExt cx="201240" cy="407160"/>
          </a:xfrm>
        </p:grpSpPr>
        <p:sp>
          <p:nvSpPr>
            <p:cNvPr id="3596" name=""/>
            <p:cNvSpPr/>
            <p:nvPr/>
          </p:nvSpPr>
          <p:spPr>
            <a:xfrm>
              <a:off x="6402240" y="5308560"/>
              <a:ext cx="96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306480" y="5214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40584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41700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0" name=""/>
          <p:cNvGrpSpPr/>
          <p:nvPr/>
        </p:nvGrpSpPr>
        <p:grpSpPr>
          <a:xfrm>
            <a:off x="7243920" y="5133960"/>
            <a:ext cx="105840" cy="407160"/>
            <a:chOff x="7243920" y="5133960"/>
            <a:chExt cx="105840" cy="407160"/>
          </a:xfrm>
        </p:grpSpPr>
        <p:sp>
          <p:nvSpPr>
            <p:cNvPr id="3601" name=""/>
            <p:cNvSpPr/>
            <p:nvPr/>
          </p:nvSpPr>
          <p:spPr>
            <a:xfrm>
              <a:off x="7243920" y="5308560"/>
              <a:ext cx="968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724788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725904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4" name=""/>
          <p:cNvGrpSpPr/>
          <p:nvPr/>
        </p:nvGrpSpPr>
        <p:grpSpPr>
          <a:xfrm>
            <a:off x="6419880" y="4565520"/>
            <a:ext cx="420480" cy="314280"/>
            <a:chOff x="6419880" y="4565520"/>
            <a:chExt cx="420480" cy="314280"/>
          </a:xfrm>
        </p:grpSpPr>
        <p:sp>
          <p:nvSpPr>
            <p:cNvPr id="3605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  <a:lnTo>
                    <a:pt x="265" y="19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7" name=""/>
          <p:cNvGrpSpPr/>
          <p:nvPr/>
        </p:nvGrpSpPr>
        <p:grpSpPr>
          <a:xfrm>
            <a:off x="6840360" y="4565520"/>
            <a:ext cx="420840" cy="314280"/>
            <a:chOff x="6840360" y="4565520"/>
            <a:chExt cx="420840" cy="314280"/>
          </a:xfrm>
        </p:grpSpPr>
        <p:sp>
          <p:nvSpPr>
            <p:cNvPr id="3608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  <a:lnTo>
                    <a:pt x="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0" name=""/>
          <p:cNvSpPr/>
          <p:nvPr/>
        </p:nvSpPr>
        <p:spPr>
          <a:xfrm flipH="1">
            <a:off x="6240600" y="4849920"/>
            <a:ext cx="1728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7248600" y="4849920"/>
            <a:ext cx="1746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7423200" y="5383080"/>
            <a:ext cx="417600" cy="317520"/>
            <a:chOff x="7423200" y="5383080"/>
            <a:chExt cx="417600" cy="317520"/>
          </a:xfrm>
        </p:grpSpPr>
        <p:sp>
          <p:nvSpPr>
            <p:cNvPr id="3613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3" y="0"/>
                  </a:lnTo>
                  <a:lnTo>
                    <a:pt x="263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7840800" y="5383080"/>
            <a:ext cx="420480" cy="317520"/>
            <a:chOff x="7840800" y="5383080"/>
            <a:chExt cx="420480" cy="317520"/>
          </a:xfrm>
        </p:grpSpPr>
        <p:sp>
          <p:nvSpPr>
            <p:cNvPr id="3616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400720" y="5373720"/>
            <a:ext cx="420480" cy="317520"/>
            <a:chOff x="5400720" y="5373720"/>
            <a:chExt cx="420480" cy="317520"/>
          </a:xfrm>
        </p:grpSpPr>
        <p:sp>
          <p:nvSpPr>
            <p:cNvPr id="3619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26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5821200" y="5373720"/>
            <a:ext cx="419040" cy="317520"/>
            <a:chOff x="5821200" y="5373720"/>
            <a:chExt cx="419040" cy="317520"/>
          </a:xfrm>
        </p:grpSpPr>
        <p:sp>
          <p:nvSpPr>
            <p:cNvPr id="3622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5307120" y="5108400"/>
            <a:ext cx="85680" cy="268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6397560" y="4562640"/>
            <a:ext cx="433440" cy="6120"/>
            <a:chOff x="6397560" y="4562640"/>
            <a:chExt cx="433440" cy="6120"/>
          </a:xfrm>
        </p:grpSpPr>
        <p:sp>
          <p:nvSpPr>
            <p:cNvPr id="3626" name=""/>
            <p:cNvSpPr/>
            <p:nvPr/>
          </p:nvSpPr>
          <p:spPr>
            <a:xfrm>
              <a:off x="6397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4101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422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433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446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4594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47064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4832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495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50844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519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532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5451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556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568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58152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592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6052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61824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62940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6420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654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665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6783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691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7021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7150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727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738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7514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7640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77700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7881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8007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8133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824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2" name=""/>
          <p:cNvSpPr/>
          <p:nvPr/>
        </p:nvSpPr>
        <p:spPr>
          <a:xfrm>
            <a:off x="6604920" y="4138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6668280" y="4200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6041160" y="4492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6104520" y="455436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6422400" y="57513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6492240" y="5764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6555600" y="582444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6936480" y="5157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7952760" y="5141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5895000" y="5151600"/>
            <a:ext cx="15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609480" y="42307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609480" y="52243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609480" y="622620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1484280" y="565308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1967040" y="4713120"/>
            <a:ext cx="74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 flipV="1">
            <a:off x="606600" y="37972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 flipV="1">
            <a:off x="568440" y="475128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 flipV="1">
            <a:off x="581040" y="571500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 flipV="1">
            <a:off x="6827760" y="405756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5195880" y="5097600"/>
            <a:ext cx="343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 flipV="1">
            <a:off x="7446960" y="1644120"/>
            <a:ext cx="0" cy="58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 flipV="1">
            <a:off x="5219640" y="158400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 flipV="1">
            <a:off x="1434960" y="162036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 flipV="1">
            <a:off x="1892160" y="25732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 flipV="1">
            <a:off x="3711600" y="16570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58480" y="304920"/>
            <a:ext cx="50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arne układy przełączają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57840" y="2606760"/>
            <a:ext cx="47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ucz diodowy - szerego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999720" y="1828800"/>
            <a:ext cx="6912360" cy="2370240"/>
            <a:chOff x="999720" y="1828800"/>
            <a:chExt cx="6912360" cy="2370240"/>
          </a:xfrm>
        </p:grpSpPr>
        <p:grpSp>
          <p:nvGrpSpPr>
            <p:cNvPr id="118" name=""/>
            <p:cNvGrpSpPr/>
            <p:nvPr/>
          </p:nvGrpSpPr>
          <p:grpSpPr>
            <a:xfrm>
              <a:off x="999720" y="1828800"/>
              <a:ext cx="6912360" cy="2370240"/>
              <a:chOff x="999720" y="1828800"/>
              <a:chExt cx="6912360" cy="2370240"/>
            </a:xfrm>
          </p:grpSpPr>
          <p:sp>
            <p:nvSpPr>
              <p:cNvPr id="119" name=""/>
              <p:cNvSpPr/>
              <p:nvPr/>
            </p:nvSpPr>
            <p:spPr>
              <a:xfrm>
                <a:off x="1828800" y="2971800"/>
                <a:ext cx="554040" cy="554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3720" y="351324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21040" y="419112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2095560" y="228564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92320" y="2286000"/>
                <a:ext cx="102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400000">
                <a:off x="3286440" y="2062800"/>
                <a:ext cx="158400" cy="446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05120" y="335268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981080" y="31237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81080" y="3124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09680" y="31240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09680" y="335268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86200" y="2246400"/>
                <a:ext cx="7128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81280" y="22860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62520" y="2279520"/>
                <a:ext cx="82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09880" y="419112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86200" y="380988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3921120" y="2285640"/>
                <a:ext cx="0" cy="152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3921120" y="38858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82600" y="24382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41000" y="3048120"/>
                <a:ext cx="538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99720" y="2743200"/>
                <a:ext cx="73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(t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581360" y="1828800"/>
                <a:ext cx="3330720" cy="2362320"/>
                <a:chOff x="4581360" y="1828800"/>
                <a:chExt cx="3330720" cy="2362320"/>
              </a:xfrm>
            </p:grpSpPr>
            <p:sp>
              <p:nvSpPr>
                <p:cNvPr id="141" name=""/>
                <p:cNvSpPr/>
                <p:nvPr/>
              </p:nvSpPr>
              <p:spPr>
                <a:xfrm rot="5400000">
                  <a:off x="4813200" y="2181240"/>
                  <a:ext cx="193680" cy="193680"/>
                </a:xfrm>
                <a:prstGeom prst="triangle">
                  <a:avLst>
                    <a:gd name="adj" fmla="val 50000"/>
                  </a:avLst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41800" y="2171880"/>
                  <a:ext cx="0" cy="25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41800" y="228600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0800000">
                  <a:off x="6032160" y="2895120"/>
                  <a:ext cx="158760" cy="446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6108480" y="228564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108480" y="3352680"/>
                  <a:ext cx="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13440" y="419112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60960" y="225432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108480" y="228600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254720" y="2246400"/>
                  <a:ext cx="71640" cy="71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175520" y="419112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251480" y="3809880"/>
                  <a:ext cx="7164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7288200" y="2285640"/>
                  <a:ext cx="0" cy="152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7286400" y="38858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327800" y="3124080"/>
                  <a:ext cx="584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0" lang="pl-PL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w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262920" y="28195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120280" y="1828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" name=""/>
                <p:cNvGrpSpPr/>
                <p:nvPr/>
              </p:nvGrpSpPr>
              <p:grpSpPr>
                <a:xfrm>
                  <a:off x="4995720" y="2664000"/>
                  <a:ext cx="103320" cy="354960"/>
                  <a:chOff x="4995720" y="2664000"/>
                  <a:chExt cx="103320" cy="35496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4995720" y="2673000"/>
                    <a:ext cx="0" cy="345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5099040" y="2664000"/>
                    <a:ext cx="0" cy="345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>
                  <a:off x="5505480" y="2313000"/>
                  <a:ext cx="0" cy="54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4602240" y="2263680"/>
                  <a:ext cx="0" cy="58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602240" y="2844720"/>
                  <a:ext cx="38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126040" y="2860560"/>
                  <a:ext cx="38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472000" y="225900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581360" y="223344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" name=""/>
            <p:cNvSpPr/>
            <p:nvPr/>
          </p:nvSpPr>
          <p:spPr>
            <a:xfrm>
              <a:off x="4547880" y="280044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cc0000"/>
                  </a:solidFill>
                  <a:latin typeface="Times New Roman"/>
                </a:rPr>
                <a:t>Ś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196800" y="3049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łączanie diody - ukł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898880" y="4514760"/>
            <a:ext cx="1608120" cy="11019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048120" y="990720"/>
            <a:ext cx="0" cy="1590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2057400"/>
            <a:ext cx="4448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260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24680" y="4572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23623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0481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144792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1447920"/>
            <a:ext cx="0" cy="9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2362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500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9240" y="167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048120" y="3504960"/>
            <a:ext cx="0" cy="170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4724280"/>
            <a:ext cx="4448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16280" y="4495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3048120"/>
            <a:ext cx="58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472428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048120" y="3809880"/>
            <a:ext cx="0" cy="93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3240" y="4114800"/>
            <a:ext cx="1994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4114800"/>
            <a:ext cx="0" cy="9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5029200"/>
            <a:ext cx="5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50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9240" y="4343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0481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1838600">
            <a:off x="3007080" y="2168280"/>
            <a:ext cx="1650240" cy="21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57" y="602"/>
                </a:moveTo>
                <a:arcTo wR="10800" hR="10800" stAng="-4246387" swAng="1420760"/>
                <a:lnTo>
                  <a:pt x="10800" y="10800"/>
                </a:lnTo>
                <a:close/>
              </a:path>
              <a:path fill="none" w="21600" h="21600">
                <a:moveTo>
                  <a:pt x="14357" y="602"/>
                </a:moveTo>
                <a:arcTo wR="10800" hR="10800" stAng="-4246387" swAng="142076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7820000">
            <a:off x="5904000" y="4473360"/>
            <a:ext cx="1617120" cy="215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1092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109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21080" y="119232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8440" y="218268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3581280"/>
            <a:ext cx="246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R/(R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27760" y="3824280"/>
            <a:ext cx="214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R/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743200" y="380988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92240" y="4876920"/>
            <a:ext cx="2163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R/(R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27672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05560" y="5181480"/>
            <a:ext cx="39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472428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832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24816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02240" y="5257800"/>
            <a:ext cx="48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95360" y="30492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łączanie diody - przebie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1480" y="771480"/>
                <a:ext cx="5838840" cy="28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ł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ś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ł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,3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śr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866960" y="3962520"/>
            <a:ext cx="47923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ś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uśredniona pojemność złączow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czas przelotu nośni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311040" y="657360"/>
            <a:ext cx="8596440" cy="5738400"/>
            <a:chOff x="311040" y="657360"/>
            <a:chExt cx="8596440" cy="573840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311040" y="1177920"/>
              <a:ext cx="8298000" cy="5217840"/>
            </a:xfrm>
            <a:prstGeom prst="rect">
              <a:avLst/>
            </a:prstGeom>
            <a:ln w="76320">
              <a:solidFill>
                <a:srgbClr val="008000"/>
              </a:solidFill>
              <a:miter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5925960" y="657360"/>
              <a:ext cx="2981520" cy="1457280"/>
            </a:xfrm>
            <a:prstGeom prst="rect">
              <a:avLst/>
            </a:prstGeom>
            <a:ln w="76320">
              <a:solidFill>
                <a:srgbClr val="008000"/>
              </a:solidFill>
              <a:miter/>
            </a:ln>
          </p:spPr>
        </p:pic>
      </p:grpSp>
      <p:sp>
        <p:nvSpPr>
          <p:cNvPr id="218" name=""/>
          <p:cNvSpPr/>
          <p:nvPr/>
        </p:nvSpPr>
        <p:spPr>
          <a:xfrm>
            <a:off x="1249560" y="0"/>
            <a:ext cx="57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Spice - symulacja klucza z diodą impuls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56240" y="1938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17360" y="3998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594200" y="1479600"/>
            <a:ext cx="7858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539640" y="403200"/>
            <a:ext cx="8604360" cy="6141960"/>
            <a:chOff x="539640" y="403200"/>
            <a:chExt cx="8604360" cy="614196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539640" y="1157400"/>
              <a:ext cx="7898040" cy="5387760"/>
            </a:xfrm>
            <a:prstGeom prst="rect">
              <a:avLst/>
            </a:prstGeom>
            <a:ln w="57240">
              <a:solidFill>
                <a:srgbClr val="cc0000"/>
              </a:solidFill>
              <a:miter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6210360" y="403200"/>
              <a:ext cx="2933640" cy="1523880"/>
            </a:xfrm>
            <a:prstGeom prst="rect">
              <a:avLst/>
            </a:prstGeom>
            <a:ln w="76320">
              <a:solidFill>
                <a:srgbClr val="cc0000"/>
              </a:solidFill>
              <a:miter/>
            </a:ln>
          </p:spPr>
        </p:pic>
      </p:grpSp>
      <p:sp>
        <p:nvSpPr>
          <p:cNvPr id="225" name=""/>
          <p:cNvSpPr/>
          <p:nvPr/>
        </p:nvSpPr>
        <p:spPr>
          <a:xfrm>
            <a:off x="979200" y="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Spice - symulacja klucza z diodą prostownicz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56240" y="1938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17360" y="3998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929720" y="1260360"/>
            <a:ext cx="7855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7T03:07:28Z</dcterms:created>
  <dc:creator>Marian  Pierzchala</dc:creator>
  <dc:description/>
  <dc:language>en-US</dc:language>
  <cp:lastModifiedBy>MK</cp:lastModifiedBy>
  <dcterms:modified xsi:type="dcterms:W3CDTF">2007-12-13T05:12:28Z</dcterms:modified>
  <cp:revision>98</cp:revision>
  <dc:subject/>
  <dc:title>Bez tytułu slajdu</dc:title>
</cp:coreProperties>
</file>