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348-2EFB-4934-9312-86571187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37D-5926-44A5-A89B-262866C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5BF-6444-4DBA-AB5C-CF17E39F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5F2-CACC-4B31-AC4D-31A98553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008-0195-4124-B38C-3551826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D1D-F6B6-43C0-8F90-688F21B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20A-4819-45A1-97D5-F0E1C0E3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DA0-9F49-4400-BC97-B421E5BF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281-D507-43F6-8CEE-EA4EC581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CDD-7F50-4D73-8A0D-2777595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6EA-BC1C-4335-B361-C1DCD6B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84A-BC95-493F-80E0-6F8CB874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1844-74D3-46D0-AE56-224B8A200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kwarcow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84040" y="1467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83400" y="2011320"/>
              <a:ext cx="98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8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145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165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195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87360" y="2602080"/>
            <a:ext cx="4331880" cy="2892240"/>
            <a:chOff x="1287360" y="2602080"/>
            <a:chExt cx="4331880" cy="2892240"/>
          </a:xfrm>
        </p:grpSpPr>
        <p:sp>
          <p:nvSpPr>
            <p:cNvPr id="209" name=""/>
            <p:cNvSpPr/>
            <p:nvPr/>
          </p:nvSpPr>
          <p:spPr>
            <a:xfrm>
              <a:off x="3142800" y="2602080"/>
              <a:ext cx="1320480" cy="10731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21600" y="296244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60440" y="4425840"/>
              <a:ext cx="1320480" cy="106848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1240" y="477216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682720" y="2867040"/>
              <a:ext cx="108720" cy="583920"/>
              <a:chOff x="2682720" y="2867040"/>
              <a:chExt cx="108720" cy="5839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2734920" y="2867040"/>
                <a:ext cx="2160" cy="58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82720" y="286704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1480680" y="2771640"/>
              <a:ext cx="16617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467800" y="3530520"/>
              <a:ext cx="674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810800" y="5370480"/>
              <a:ext cx="134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73200" y="3541680"/>
              <a:ext cx="1080" cy="1001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477800" y="3678120"/>
              <a:ext cx="33912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468160" y="4543560"/>
              <a:ext cx="70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85680" y="3068640"/>
              <a:ext cx="32976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42560" y="3110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8640" y="3216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65160" y="2962440"/>
              <a:ext cx="336240" cy="344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7000" y="3005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3960" y="3110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17280" y="3689280"/>
              <a:ext cx="2880" cy="168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908000" y="3853080"/>
              <a:ext cx="484920" cy="112320"/>
              <a:chOff x="1908000" y="3853080"/>
              <a:chExt cx="484920" cy="112320"/>
            </a:xfrm>
          </p:grpSpPr>
          <p:sp>
            <p:nvSpPr>
              <p:cNvPr id="230" name=""/>
              <p:cNvSpPr/>
              <p:nvPr/>
            </p:nvSpPr>
            <p:spPr>
              <a:xfrm>
                <a:off x="1908000" y="3912480"/>
                <a:ext cx="484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08000" y="3853080"/>
                <a:ext cx="10836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001600" y="3492720"/>
              <a:ext cx="32832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42280" y="3535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99600" y="3641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39880" y="2719440"/>
              <a:ext cx="1115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85960" y="4527720"/>
              <a:ext cx="6426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63640" y="3530520"/>
              <a:ext cx="1155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481280" y="5338800"/>
              <a:ext cx="918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717800" y="2833200"/>
              <a:ext cx="107280" cy="563400"/>
              <a:chOff x="4717800" y="2833200"/>
              <a:chExt cx="107280" cy="56340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4769280" y="2833200"/>
                <a:ext cx="2160" cy="56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17800" y="2833560"/>
                <a:ext cx="10728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833720" y="2940120"/>
              <a:ext cx="348840" cy="352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85560" y="29894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42520" y="3095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7360" y="3025800"/>
              <a:ext cx="399960" cy="409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66560" y="3191040"/>
              <a:ext cx="997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66560" y="3227400"/>
              <a:ext cx="99720" cy="954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77800" y="3191040"/>
              <a:ext cx="97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77800" y="3159000"/>
              <a:ext cx="97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480680" y="2771640"/>
              <a:ext cx="288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480680" y="3423960"/>
              <a:ext cx="2880" cy="250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8600" y="3011400"/>
              <a:ext cx="121680" cy="480960"/>
              <a:chOff x="1758600" y="3011400"/>
              <a:chExt cx="121680" cy="480960"/>
            </a:xfrm>
          </p:grpSpPr>
          <p:sp>
            <p:nvSpPr>
              <p:cNvPr id="253" name=""/>
              <p:cNvSpPr/>
              <p:nvPr/>
            </p:nvSpPr>
            <p:spPr>
              <a:xfrm>
                <a:off x="1817280" y="3011400"/>
                <a:ext cx="2160" cy="4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58600" y="30114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693520" y="2735280"/>
              <a:ext cx="7128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93520" y="3497400"/>
              <a:ext cx="71280" cy="651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12600" y="4513320"/>
              <a:ext cx="6948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2840" y="2685960"/>
              <a:ext cx="71280" cy="637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43000" y="4494240"/>
              <a:ext cx="72720" cy="651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59200" y="530856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1280" y="3497400"/>
              <a:ext cx="71280" cy="651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0240" y="5338800"/>
              <a:ext cx="68040" cy="651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6320" y="2722680"/>
              <a:ext cx="0" cy="18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14760" y="3538440"/>
              <a:ext cx="0" cy="17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267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268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9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0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272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6160" y="795240"/>
            <a:ext cx="86868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rozrzuty i fluktuacje parametrów układu warunek generacji jest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722760" y="289404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866960" y="417024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295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296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470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471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0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612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618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632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657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708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754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755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768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769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pasożytnic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pasożytnicz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74760" y="27874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rezonansowe LC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61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68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6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76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94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04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10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1997-06-08T17:08:45Z</dcterms:modified>
  <cp:revision>87</cp:revision>
  <dc:subject/>
  <dc:title>Generatory LC</dc:title>
</cp:coreProperties>
</file>