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60B-5B46-4A8F-A511-BDF137C6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E19-48DE-4A65-81A1-5A24919D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587-B722-464E-A6C5-C6D52A87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C0E-1A01-4BB5-85F9-E87242A0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4DB-F6FE-439A-B19E-048547FA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515-F6D7-482C-BFCB-AF41EE1B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62B-ACEE-4D98-AB18-E2879992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220-3CF7-4319-8525-A6BF38A7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272-8634-410C-BE97-A479E6EC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0E2-A076-4069-BADD-D50CDF99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A21-7054-4A59-AC2C-35DBF8F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A3A-7B9E-473A-BB52-E87F41D3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6A09-FA3B-4210-8286-7BF1A4644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51960" y="2592360"/>
            <a:ext cx="374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etworn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frowo-Analogow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owo-Cyfr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91520" y="277164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arzanie analogowo-cyfr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457200" y="1143000"/>
            <a:ext cx="8153280" cy="5334120"/>
            <a:chOff x="457200" y="1143000"/>
            <a:chExt cx="8153280" cy="5334120"/>
          </a:xfrm>
        </p:grpSpPr>
        <p:sp>
          <p:nvSpPr>
            <p:cNvPr id="199" name=""/>
            <p:cNvSpPr/>
            <p:nvPr/>
          </p:nvSpPr>
          <p:spPr>
            <a:xfrm flipV="1">
              <a:off x="1681920" y="1523520"/>
              <a:ext cx="5046480" cy="387756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741680" y="1471680"/>
              <a:ext cx="4698720" cy="3935520"/>
              <a:chOff x="1741680" y="1471680"/>
              <a:chExt cx="4698720" cy="3935520"/>
            </a:xfrm>
          </p:grpSpPr>
          <p:sp>
            <p:nvSpPr>
              <p:cNvPr id="201" name=""/>
              <p:cNvSpPr/>
              <p:nvPr/>
            </p:nvSpPr>
            <p:spPr>
              <a:xfrm>
                <a:off x="1741680" y="5400360"/>
                <a:ext cx="33948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73960" y="4839840"/>
                <a:ext cx="1080" cy="55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082240" y="4837320"/>
                <a:ext cx="714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791440" y="4280040"/>
                <a:ext cx="1080" cy="55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21680" y="4281480"/>
                <a:ext cx="714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25840" y="3718440"/>
                <a:ext cx="1080" cy="55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57520" y="3714120"/>
                <a:ext cx="714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65640" y="3158280"/>
                <a:ext cx="1080" cy="55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72840" y="3159360"/>
                <a:ext cx="714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82400" y="2595240"/>
                <a:ext cx="1080" cy="55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89240" y="2589120"/>
                <a:ext cx="7153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97360" y="2030400"/>
                <a:ext cx="1080" cy="55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25440" y="2031840"/>
                <a:ext cx="714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34280" y="1471680"/>
                <a:ext cx="1080" cy="55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571400" y="1143000"/>
              <a:ext cx="5612400" cy="4343400"/>
              <a:chOff x="1571400" y="1143000"/>
              <a:chExt cx="5612400" cy="43434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1571400" y="1143000"/>
                <a:ext cx="190440" cy="4257360"/>
                <a:chOff x="1571400" y="1143000"/>
                <a:chExt cx="190440" cy="4257360"/>
              </a:xfrm>
            </p:grpSpPr>
            <p:sp>
              <p:nvSpPr>
                <p:cNvPr id="217" name=""/>
                <p:cNvSpPr/>
                <p:nvPr/>
              </p:nvSpPr>
              <p:spPr>
                <a:xfrm flipV="1">
                  <a:off x="1663560" y="1143000"/>
                  <a:ext cx="1080" cy="4257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571400" y="4830120"/>
                  <a:ext cx="18360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573560" y="4278240"/>
                  <a:ext cx="1836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578600" y="3726720"/>
                  <a:ext cx="18324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578600" y="3153960"/>
                  <a:ext cx="1832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578600" y="2019240"/>
                  <a:ext cx="18324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578600" y="2588040"/>
                  <a:ext cx="18324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702440" y="5338080"/>
                <a:ext cx="5481360" cy="148320"/>
                <a:chOff x="1702440" y="5338080"/>
                <a:chExt cx="5481360" cy="1483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702440" y="5411520"/>
                  <a:ext cx="5481360" cy="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34320" y="5338080"/>
                  <a:ext cx="108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48920" y="5340600"/>
                  <a:ext cx="72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56680" y="5343480"/>
                  <a:ext cx="108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592880" y="5343840"/>
                  <a:ext cx="108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052680" y="5343840"/>
                  <a:ext cx="108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21520" y="5343840"/>
                  <a:ext cx="108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" name=""/>
            <p:cNvSpPr/>
            <p:nvPr/>
          </p:nvSpPr>
          <p:spPr>
            <a:xfrm>
              <a:off x="6458760" y="2493360"/>
              <a:ext cx="1333080" cy="37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9558" y="-11493"/>
                  </a:moveTo>
                  <a:lnTo>
                    <a:pt x="-2404" y="149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nia pr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72280" y="3551760"/>
              <a:ext cx="2558160" cy="60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009" y="-12084"/>
                  </a:moveTo>
                  <a:lnTo>
                    <a:pt x="-1263" y="95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środek przedziału kwantow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 kroku 0..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35440" y="5466600"/>
              <a:ext cx="207504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artość analogowa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na wejści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24000" y="4553640"/>
              <a:ext cx="42462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zerokość q przedziału kwantowania 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2040" y="3778920"/>
              <a:ext cx="1080" cy="58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80600" y="3269520"/>
              <a:ext cx="1080" cy="107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80040" y="4263120"/>
              <a:ext cx="6591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6080" y="5983200"/>
              <a:ext cx="28825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29160" y="1168200"/>
              <a:ext cx="1562760" cy="7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czba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98560" y="6045480"/>
              <a:ext cx="3673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artość środkowa w kroku 0..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4080" y="5166000"/>
              <a:ext cx="8791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.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6600" y="4600440"/>
              <a:ext cx="10249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..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9120" y="4020120"/>
              <a:ext cx="96948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..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9120" y="3519360"/>
              <a:ext cx="1042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..0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29360" y="5441400"/>
              <a:ext cx="47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0        1                2                 3                4                  5                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90360" y="5823720"/>
              <a:ext cx="1080" cy="28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120" y="2925360"/>
              <a:ext cx="85968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.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600" y="2358000"/>
              <a:ext cx="9338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..1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6600" y="1848600"/>
              <a:ext cx="9338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..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" y="2890080"/>
              <a:ext cx="4793760" cy="5331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78680" y="2120760"/>
              <a:ext cx="126000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9528" y="40669"/>
                  </a:moveTo>
                  <a:lnTo>
                    <a:pt x="-2544" y="1544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rok 0.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613400" y="3269520"/>
              <a:ext cx="3600" cy="126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77440" y="4796280"/>
              <a:ext cx="8892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09440" y="4961520"/>
              <a:ext cx="1080" cy="31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17240" y="4241880"/>
              <a:ext cx="88920" cy="95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31480" y="3673080"/>
              <a:ext cx="8892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9840" y="3108600"/>
              <a:ext cx="8892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7040" y="2552760"/>
              <a:ext cx="8892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1280" y="1983960"/>
              <a:ext cx="88560" cy="95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9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przejściowa idealnego przetwornika A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838080"/>
            <a:ext cx="8381880" cy="82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 rysunku wynika, że każdej wyjściowej liczbie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odpowiada pewien przedział wejściowych wartości analogowych x. Ponieważ skala analogowa  jest  ciągła,  natomiast skala cyfrowa jest nieciągła zatem w procesie kwantowania popełniany jest tzw. błąd kwantyzacji. Błąd kwantyzacji zależy od ilości przedziałów, na które został podzielony zakres pełnej zmienności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Full Scale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) analogowego sygnału wejściowego. Szerokość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jednego przedziału kwantowania jest określana jako 1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LS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i wykorzystywana jako jednostka pomiarowa, względem której określane są inne parametry procesu przetwarzania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A/C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(i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/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). Wartość odpowiadająca 1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LS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jest też miarą  rozdzielczości przetwornika. Rozdzielczość zależy od liczby bitów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w wyjściowym słowie cyfrowym przetwornika. Pierwszy krok (zerowy) i ostatni krok mają na ogół szerokość odpowiadającą 1/2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LS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, zatem zakres przetwarzania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FS N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-bitowego przetwornika jest podzielony na 2</a:t>
            </a:r>
            <a:r>
              <a:rPr b="0" i="1" lang="pl-PL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-1 przedział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Stąd 1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LS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/(2</a:t>
            </a:r>
            <a:r>
              <a:rPr b="0" i="1" lang="pl-PL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-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569880" y="878040"/>
          <a:ext cx="816768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878040"/>
                    <a:ext cx="816768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38040" y="5257800"/>
            <a:ext cx="842868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twarzanie analogowo-cyfrowe wprowadz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ieciągłość i niejednoznaczność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óżnym poziomom analogowego sygnału wejściowego odpowiadaj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ie same sygnały cyfrowe na wyjści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7360" y="252360"/>
            <a:ext cx="81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stawanie błędu kwantowania - szumu kwant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066680"/>
            <a:ext cx="82296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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- błąd kwanty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óżnica między wartością rzeczywistą sygnału analog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wartością odpowiadającą liczbie wyjściowej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/2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um kwantyzacji (dodatkowy sygnał zakłócają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zdzielczość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liczbą bitów N słowa cyfrowego reprezentującego sygnał analogowy, np. przy rozdzielczości N=12 bitów Q=1/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4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39200" y="269712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arzanie cyfrowo-analo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452600" y="1352520"/>
          <a:ext cx="655488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352520"/>
                    <a:ext cx="655488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a przejściowa idealnego przetwornika 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4840" y="5002200"/>
            <a:ext cx="808416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twarzanie cyfrowo-analogowe jest procesem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jednoznaczny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zn. cyfrowemu sygnałowi wejściowemu odpowiada ściśle określona wart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ściowego sygnału analog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762120" y="1447560"/>
            <a:ext cx="7848360" cy="4800960"/>
            <a:chOff x="762120" y="1447560"/>
            <a:chExt cx="7848360" cy="4800960"/>
          </a:xfrm>
        </p:grpSpPr>
        <p:sp>
          <p:nvSpPr>
            <p:cNvPr id="274" name=""/>
            <p:cNvSpPr/>
            <p:nvPr/>
          </p:nvSpPr>
          <p:spPr>
            <a:xfrm flipV="1">
              <a:off x="1200240" y="2030400"/>
              <a:ext cx="4927680" cy="36162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094760" y="1447560"/>
              <a:ext cx="5833440" cy="4282920"/>
              <a:chOff x="1094760" y="1447560"/>
              <a:chExt cx="5833440" cy="428292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1094760" y="1447560"/>
                <a:ext cx="199440" cy="4197240"/>
                <a:chOff x="1094760" y="1447560"/>
                <a:chExt cx="199440" cy="419724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1191240" y="1447560"/>
                  <a:ext cx="1080" cy="4197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094760" y="5081400"/>
                  <a:ext cx="1918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097280" y="4536000"/>
                  <a:ext cx="1918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102680" y="3992040"/>
                  <a:ext cx="1915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102680" y="3431520"/>
                  <a:ext cx="1915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102680" y="2311920"/>
                  <a:ext cx="1915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102680" y="2874240"/>
                  <a:ext cx="1915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231560" y="5582160"/>
                <a:ext cx="5696640" cy="148320"/>
                <a:chOff x="1231560" y="5582160"/>
                <a:chExt cx="5696640" cy="1483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231560" y="5655240"/>
                  <a:ext cx="569664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992600" y="5582160"/>
                  <a:ext cx="1080" cy="14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34920" y="5583960"/>
                  <a:ext cx="1080" cy="14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472200" y="5589000"/>
                  <a:ext cx="1080" cy="14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236120" y="5589000"/>
                  <a:ext cx="1080" cy="14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752440" y="5589000"/>
                  <a:ext cx="1080" cy="14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992840" y="5589000"/>
                  <a:ext cx="1080" cy="14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2" name=""/>
            <p:cNvSpPr/>
            <p:nvPr/>
          </p:nvSpPr>
          <p:spPr>
            <a:xfrm>
              <a:off x="1581480" y="2560680"/>
              <a:ext cx="2459880" cy="34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6046" y="37260"/>
                  </a:moveTo>
                  <a:lnTo>
                    <a:pt x="22964" y="157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rakterystyka teoretycz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04160" y="5381280"/>
              <a:ext cx="16063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iczba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 wejści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6000" y="3462120"/>
              <a:ext cx="29494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sokość kroku 0..011 (=1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1400" y="3429720"/>
              <a:ext cx="2160" cy="47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99600" y="1452960"/>
              <a:ext cx="2181960" cy="7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rtość analogowa y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 wyjści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120" y="1984320"/>
              <a:ext cx="242640" cy="41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1960" y="2794320"/>
              <a:ext cx="92520" cy="96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37200" y="3336120"/>
              <a:ext cx="92880" cy="9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65000" y="3882960"/>
              <a:ext cx="92520" cy="9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07920" y="4447080"/>
              <a:ext cx="88560" cy="10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18440" y="5018040"/>
              <a:ext cx="92520" cy="96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4200" y="2255400"/>
              <a:ext cx="92520" cy="9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09720" y="3935880"/>
              <a:ext cx="1083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52040" y="3383640"/>
              <a:ext cx="36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26560" y="3983400"/>
              <a:ext cx="1080" cy="164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60200" y="4399560"/>
              <a:ext cx="18554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rtość kroku 0..0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72280" y="4866480"/>
              <a:ext cx="199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41000" y="3397320"/>
              <a:ext cx="732240" cy="2851200"/>
            </a:xfrm>
            <a:custGeom>
              <a:avLst/>
              <a:gdLst>
                <a:gd name="textAreaLeft" fmla="*/ 35640 w 732240"/>
                <a:gd name="textAreaRight" fmla="*/ 696600 w 732240"/>
                <a:gd name="textAreaTop" fmla="*/ 35640 h 2851200"/>
                <a:gd name="textAreaBottom" fmla="*/ 2815560 h 2851200"/>
              </a:gdLst>
              <a:ahLst/>
              <a:rect l="textAreaLeft" t="textAreaTop" r="textAreaRight" b="textAreaBottom"/>
              <a:pathLst>
                <a:path w="21600" h="84075">
                  <a:moveTo>
                    <a:pt x="3600" y="0"/>
                  </a:moveTo>
                  <a:arcTo wR="3600" hR="3600" stAng="16200000" swAng="-5400000"/>
                  <a:lnTo>
                    <a:pt x="0" y="80475"/>
                  </a:lnTo>
                  <a:arcTo wR="3600" hR="3600" stAng="10800000" swAng="-5400000"/>
                  <a:lnTo>
                    <a:pt x="18000" y="840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55120" y="3274560"/>
              <a:ext cx="1093320" cy="38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0853" y="30735"/>
                  </a:moveTo>
                  <a:lnTo>
                    <a:pt x="24667" y="137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rok 0..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81360" y="5774760"/>
              <a:ext cx="5580360" cy="410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0..000            0..001       0.. 010           0..011         0..100           0..101          0..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52000" y="5609520"/>
              <a:ext cx="92880" cy="96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956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przejściowa idealnego przetwornika 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1371600"/>
            <a:ext cx="8092800" cy="70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dealna charakterystyka przetwarzania przetwornika cyfrowo-analogowego jest liną prostą.  Ponieważ wejściowy sygnał cyfrowy 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D(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jest sygnałem dyskretnym i ograniczonym, zatem wyjściowy sygnał analogowy 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y(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przyjmuje także wartości ze zbioru  wartości dyskretnych i ograniczony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ak więc charakterystyka idealnego przetwornika 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/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jest złożona z równooddalonych punktów leżących na linii prost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573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arzanie sygnałów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53320" y="2403360"/>
            <a:ext cx="8346240" cy="2136600"/>
            <a:chOff x="553320" y="2403360"/>
            <a:chExt cx="8346240" cy="2136600"/>
          </a:xfrm>
        </p:grpSpPr>
        <p:sp>
          <p:nvSpPr>
            <p:cNvPr id="43" name=""/>
            <p:cNvSpPr/>
            <p:nvPr/>
          </p:nvSpPr>
          <p:spPr>
            <a:xfrm>
              <a:off x="2573280" y="3402000"/>
              <a:ext cx="632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65280" y="2946240"/>
              <a:ext cx="1098720" cy="90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73400" y="2403360"/>
              <a:ext cx="223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alogowy sygnał elektrycz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80960" y="2720880"/>
              <a:ext cx="2292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2665440" y="2720880"/>
              <a:ext cx="27468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3320" y="2778120"/>
              <a:ext cx="67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ielkość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4400" y="3004920"/>
              <a:ext cx="75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ejścio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52040" y="3085920"/>
              <a:ext cx="87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zetworn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53840" y="3313080"/>
              <a:ext cx="76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ejścio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39440" y="3402000"/>
              <a:ext cx="824040" cy="1440"/>
            </a:xfrm>
            <a:prstGeom prst="line">
              <a:avLst/>
            </a:prstGeom>
            <a:ln w="61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1380960" y="3288960"/>
              <a:ext cx="182880" cy="112680"/>
            </a:xfrm>
            <a:prstGeom prst="line">
              <a:avLst/>
            </a:prstGeom>
            <a:ln w="61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380960" y="3402000"/>
              <a:ext cx="182880" cy="114120"/>
            </a:xfrm>
            <a:prstGeom prst="line">
              <a:avLst/>
            </a:prstGeom>
            <a:ln w="61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40120" y="2946240"/>
              <a:ext cx="1100160" cy="90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28680" y="3085920"/>
              <a:ext cx="87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zetworn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31560" y="3313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/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99080" y="2946240"/>
              <a:ext cx="1100160" cy="90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8720" y="3085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ce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89080" y="331308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yfro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6080" y="2946240"/>
              <a:ext cx="1100160" cy="90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54640" y="3085920"/>
              <a:ext cx="87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zetworn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57520" y="3313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/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06760" y="2604960"/>
              <a:ext cx="825480" cy="1935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7480" y="331308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mięć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132080" y="3288960"/>
              <a:ext cx="903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132080" y="3402000"/>
              <a:ext cx="90360" cy="11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2755800" y="3288960"/>
              <a:ext cx="921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755800" y="3402000"/>
              <a:ext cx="92160" cy="11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324400" y="328896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324400" y="3402000"/>
              <a:ext cx="90720" cy="11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6883200" y="3288960"/>
              <a:ext cx="903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883200" y="3402000"/>
              <a:ext cx="90360" cy="11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8442000" y="3288960"/>
              <a:ext cx="903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8442000" y="3402000"/>
              <a:ext cx="90360" cy="11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43480" y="3994200"/>
              <a:ext cx="113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ygnał cyfro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47800" y="4311360"/>
              <a:ext cx="229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040280" y="3402000"/>
              <a:ext cx="274680" cy="90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cyfrowego systemu przetwarzania sygnałów analog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04920" y="990720"/>
            <a:ext cx="8534160" cy="124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 idealnym próbkowaniu (nieskończenie krótkim czasie pobieranie próbki) widmo sygnału spróbkowanego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a się wz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209680" y="2438280"/>
                <a:ext cx="40150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*</m:t>
                    </m:r>
                    <m:r>
                      <m:t xml:space="preserve">(</m:t>
                    </m:r>
                    <m:r>
                      <m:t xml:space="preserve">j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=-</m:t>
                        </m:r>
                        <m:r>
                          <m:t xml:space="preserve">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jw</m:t>
                        </m:r>
                        <m:r>
                          <m:rPr>
                            <m:lit/>
                            <m:nor/>
                          </m:rPr>
                          <m:t xml:space="preserve">-jn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139680" y="3459240"/>
            <a:ext cx="8777160" cy="3070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ęstotliwość próbkowania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usi być co najmniej dwukrotnie większa od maksymalnej częstotliwości występującej w widmie przetwarzanego sygnału analogowym. Ta zasada jest sformułowana w postaci twierdzenia Shannona-Kotielnikowa o próbkowa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inimalną częstotliwość próbkowania, równą podwojonej wartości górnej częstotliwości widma sygnału nazywa się często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częstotliwością Nyqu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ustracja  twierdzenia o próbkow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66240" y="1447920"/>
            <a:ext cx="415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ykład niejednoznaczności pr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znaczaniu sygnału za pomocą jego prób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3160" y="3505320"/>
            <a:ext cx="2724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dmo sygnału oryginal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po próbkowan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960" y="2743200"/>
            <a:ext cx="4571280" cy="1926360"/>
            <a:chOff x="228960" y="2743200"/>
            <a:chExt cx="4571280" cy="1926360"/>
          </a:xfrm>
        </p:grpSpPr>
        <p:sp>
          <p:nvSpPr>
            <p:cNvPr id="323" name=""/>
            <p:cNvSpPr/>
            <p:nvPr/>
          </p:nvSpPr>
          <p:spPr>
            <a:xfrm>
              <a:off x="395280" y="3000240"/>
              <a:ext cx="0" cy="144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8800" y="4443480"/>
              <a:ext cx="1149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85960" y="3233160"/>
              <a:ext cx="0" cy="124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93080" y="4480200"/>
              <a:ext cx="3107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9560" y="3661920"/>
              <a:ext cx="103680" cy="109800"/>
            </a:xfrm>
            <a:custGeom>
              <a:avLst/>
              <a:gdLst/>
              <a:ahLst/>
              <a:rect l="l" t="t" r="r" b="b"/>
              <a:pathLst>
                <a:path w="158" h="123">
                  <a:moveTo>
                    <a:pt x="0" y="4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9" y="2"/>
                  </a:lnTo>
                  <a:lnTo>
                    <a:pt x="37" y="8"/>
                  </a:lnTo>
                  <a:lnTo>
                    <a:pt x="59" y="19"/>
                  </a:lnTo>
                  <a:lnTo>
                    <a:pt x="86" y="42"/>
                  </a:lnTo>
                  <a:lnTo>
                    <a:pt x="118" y="74"/>
                  </a:lnTo>
                  <a:lnTo>
                    <a:pt x="158" y="12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63240" y="3771720"/>
              <a:ext cx="187200" cy="492480"/>
            </a:xfrm>
            <a:custGeom>
              <a:avLst/>
              <a:gdLst/>
              <a:ahLst/>
              <a:rect l="l" t="t" r="r" b="b"/>
              <a:pathLst>
                <a:path w="281" h="537">
                  <a:moveTo>
                    <a:pt x="0" y="0"/>
                  </a:moveTo>
                  <a:lnTo>
                    <a:pt x="34" y="57"/>
                  </a:lnTo>
                  <a:lnTo>
                    <a:pt x="65" y="122"/>
                  </a:lnTo>
                  <a:lnTo>
                    <a:pt x="89" y="190"/>
                  </a:lnTo>
                  <a:lnTo>
                    <a:pt x="114" y="262"/>
                  </a:lnTo>
                  <a:lnTo>
                    <a:pt x="142" y="332"/>
                  </a:lnTo>
                  <a:lnTo>
                    <a:pt x="179" y="404"/>
                  </a:lnTo>
                  <a:lnTo>
                    <a:pt x="222" y="473"/>
                  </a:lnTo>
                  <a:lnTo>
                    <a:pt x="281" y="53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50440" y="4264560"/>
              <a:ext cx="262800" cy="181080"/>
            </a:xfrm>
            <a:custGeom>
              <a:avLst/>
              <a:gdLst/>
              <a:ahLst/>
              <a:rect l="l" t="t" r="r" b="b"/>
              <a:pathLst>
                <a:path w="393" h="197">
                  <a:moveTo>
                    <a:pt x="0" y="0"/>
                  </a:moveTo>
                  <a:lnTo>
                    <a:pt x="70" y="65"/>
                  </a:lnTo>
                  <a:lnTo>
                    <a:pt x="129" y="114"/>
                  </a:lnTo>
                  <a:lnTo>
                    <a:pt x="180" y="148"/>
                  </a:lnTo>
                  <a:lnTo>
                    <a:pt x="226" y="173"/>
                  </a:lnTo>
                  <a:lnTo>
                    <a:pt x="266" y="186"/>
                  </a:lnTo>
                  <a:lnTo>
                    <a:pt x="306" y="194"/>
                  </a:lnTo>
                  <a:lnTo>
                    <a:pt x="348" y="196"/>
                  </a:lnTo>
                  <a:lnTo>
                    <a:pt x="393" y="19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55880" y="3661920"/>
              <a:ext cx="105480" cy="109800"/>
            </a:xfrm>
            <a:custGeom>
              <a:avLst/>
              <a:gdLst/>
              <a:ahLst/>
              <a:rect l="l" t="t" r="r" b="b"/>
              <a:pathLst>
                <a:path w="157" h="123">
                  <a:moveTo>
                    <a:pt x="157" y="4"/>
                  </a:moveTo>
                  <a:lnTo>
                    <a:pt x="154" y="2"/>
                  </a:lnTo>
                  <a:lnTo>
                    <a:pt x="148" y="0"/>
                  </a:lnTo>
                  <a:lnTo>
                    <a:pt x="137" y="2"/>
                  </a:lnTo>
                  <a:lnTo>
                    <a:pt x="119" y="8"/>
                  </a:lnTo>
                  <a:lnTo>
                    <a:pt x="97" y="19"/>
                  </a:lnTo>
                  <a:lnTo>
                    <a:pt x="70" y="42"/>
                  </a:lnTo>
                  <a:lnTo>
                    <a:pt x="38" y="74"/>
                  </a:lnTo>
                  <a:lnTo>
                    <a:pt x="0" y="12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67240" y="3771720"/>
              <a:ext cx="188280" cy="492480"/>
            </a:xfrm>
            <a:custGeom>
              <a:avLst/>
              <a:gdLst/>
              <a:ahLst/>
              <a:rect l="l" t="t" r="r" b="b"/>
              <a:pathLst>
                <a:path w="281" h="537">
                  <a:moveTo>
                    <a:pt x="281" y="0"/>
                  </a:moveTo>
                  <a:lnTo>
                    <a:pt x="245" y="57"/>
                  </a:lnTo>
                  <a:lnTo>
                    <a:pt x="214" y="122"/>
                  </a:lnTo>
                  <a:lnTo>
                    <a:pt x="190" y="190"/>
                  </a:lnTo>
                  <a:lnTo>
                    <a:pt x="165" y="262"/>
                  </a:lnTo>
                  <a:lnTo>
                    <a:pt x="137" y="332"/>
                  </a:lnTo>
                  <a:lnTo>
                    <a:pt x="100" y="404"/>
                  </a:lnTo>
                  <a:lnTo>
                    <a:pt x="57" y="473"/>
                  </a:lnTo>
                  <a:lnTo>
                    <a:pt x="0" y="53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07680" y="4264560"/>
              <a:ext cx="259200" cy="181080"/>
            </a:xfrm>
            <a:custGeom>
              <a:avLst/>
              <a:gdLst/>
              <a:ahLst/>
              <a:rect l="l" t="t" r="r" b="b"/>
              <a:pathLst>
                <a:path w="391" h="197">
                  <a:moveTo>
                    <a:pt x="391" y="0"/>
                  </a:moveTo>
                  <a:lnTo>
                    <a:pt x="319" y="65"/>
                  </a:lnTo>
                  <a:lnTo>
                    <a:pt x="260" y="114"/>
                  </a:lnTo>
                  <a:lnTo>
                    <a:pt x="210" y="148"/>
                  </a:lnTo>
                  <a:lnTo>
                    <a:pt x="165" y="173"/>
                  </a:lnTo>
                  <a:lnTo>
                    <a:pt x="125" y="186"/>
                  </a:lnTo>
                  <a:lnTo>
                    <a:pt x="85" y="194"/>
                  </a:lnTo>
                  <a:lnTo>
                    <a:pt x="43" y="196"/>
                  </a:lnTo>
                  <a:lnTo>
                    <a:pt x="0" y="19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07600" y="3661920"/>
              <a:ext cx="103680" cy="109800"/>
            </a:xfrm>
            <a:custGeom>
              <a:avLst/>
              <a:gdLst/>
              <a:ahLst/>
              <a:rect l="l" t="t" r="r" b="b"/>
              <a:pathLst>
                <a:path w="157" h="123">
                  <a:moveTo>
                    <a:pt x="0" y="4"/>
                  </a:moveTo>
                  <a:lnTo>
                    <a:pt x="1" y="2"/>
                  </a:lnTo>
                  <a:lnTo>
                    <a:pt x="7" y="0"/>
                  </a:lnTo>
                  <a:lnTo>
                    <a:pt x="19" y="2"/>
                  </a:lnTo>
                  <a:lnTo>
                    <a:pt x="36" y="8"/>
                  </a:lnTo>
                  <a:lnTo>
                    <a:pt x="58" y="19"/>
                  </a:lnTo>
                  <a:lnTo>
                    <a:pt x="85" y="42"/>
                  </a:lnTo>
                  <a:lnTo>
                    <a:pt x="117" y="74"/>
                  </a:lnTo>
                  <a:lnTo>
                    <a:pt x="157" y="12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11280" y="3771720"/>
              <a:ext cx="187200" cy="492480"/>
            </a:xfrm>
            <a:custGeom>
              <a:avLst/>
              <a:gdLst/>
              <a:ahLst/>
              <a:rect l="l" t="t" r="r" b="b"/>
              <a:pathLst>
                <a:path w="281" h="537">
                  <a:moveTo>
                    <a:pt x="0" y="0"/>
                  </a:moveTo>
                  <a:lnTo>
                    <a:pt x="34" y="57"/>
                  </a:lnTo>
                  <a:lnTo>
                    <a:pt x="65" y="122"/>
                  </a:lnTo>
                  <a:lnTo>
                    <a:pt x="89" y="190"/>
                  </a:lnTo>
                  <a:lnTo>
                    <a:pt x="114" y="262"/>
                  </a:lnTo>
                  <a:lnTo>
                    <a:pt x="143" y="332"/>
                  </a:lnTo>
                  <a:lnTo>
                    <a:pt x="179" y="404"/>
                  </a:lnTo>
                  <a:lnTo>
                    <a:pt x="222" y="473"/>
                  </a:lnTo>
                  <a:lnTo>
                    <a:pt x="281" y="53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98480" y="4264560"/>
              <a:ext cx="260640" cy="181080"/>
            </a:xfrm>
            <a:custGeom>
              <a:avLst/>
              <a:gdLst/>
              <a:ahLst/>
              <a:rect l="l" t="t" r="r" b="b"/>
              <a:pathLst>
                <a:path w="393" h="197">
                  <a:moveTo>
                    <a:pt x="0" y="0"/>
                  </a:moveTo>
                  <a:lnTo>
                    <a:pt x="70" y="65"/>
                  </a:lnTo>
                  <a:lnTo>
                    <a:pt x="129" y="114"/>
                  </a:lnTo>
                  <a:lnTo>
                    <a:pt x="181" y="148"/>
                  </a:lnTo>
                  <a:lnTo>
                    <a:pt x="226" y="173"/>
                  </a:lnTo>
                  <a:lnTo>
                    <a:pt x="266" y="186"/>
                  </a:lnTo>
                  <a:lnTo>
                    <a:pt x="306" y="194"/>
                  </a:lnTo>
                  <a:lnTo>
                    <a:pt x="348" y="196"/>
                  </a:lnTo>
                  <a:lnTo>
                    <a:pt x="393" y="19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03920" y="3661920"/>
              <a:ext cx="103680" cy="109800"/>
            </a:xfrm>
            <a:custGeom>
              <a:avLst/>
              <a:gdLst/>
              <a:ahLst/>
              <a:rect l="l" t="t" r="r" b="b"/>
              <a:pathLst>
                <a:path w="157" h="123">
                  <a:moveTo>
                    <a:pt x="157" y="4"/>
                  </a:moveTo>
                  <a:lnTo>
                    <a:pt x="154" y="2"/>
                  </a:lnTo>
                  <a:lnTo>
                    <a:pt x="148" y="0"/>
                  </a:lnTo>
                  <a:lnTo>
                    <a:pt x="137" y="2"/>
                  </a:lnTo>
                  <a:lnTo>
                    <a:pt x="120" y="8"/>
                  </a:lnTo>
                  <a:lnTo>
                    <a:pt x="97" y="19"/>
                  </a:lnTo>
                  <a:lnTo>
                    <a:pt x="70" y="42"/>
                  </a:lnTo>
                  <a:lnTo>
                    <a:pt x="38" y="74"/>
                  </a:lnTo>
                  <a:lnTo>
                    <a:pt x="0" y="12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15280" y="3771720"/>
              <a:ext cx="188280" cy="492480"/>
            </a:xfrm>
            <a:custGeom>
              <a:avLst/>
              <a:gdLst/>
              <a:ahLst/>
              <a:rect l="l" t="t" r="r" b="b"/>
              <a:pathLst>
                <a:path w="281" h="537">
                  <a:moveTo>
                    <a:pt x="281" y="0"/>
                  </a:moveTo>
                  <a:lnTo>
                    <a:pt x="245" y="57"/>
                  </a:lnTo>
                  <a:lnTo>
                    <a:pt x="214" y="122"/>
                  </a:lnTo>
                  <a:lnTo>
                    <a:pt x="190" y="190"/>
                  </a:lnTo>
                  <a:lnTo>
                    <a:pt x="165" y="262"/>
                  </a:lnTo>
                  <a:lnTo>
                    <a:pt x="137" y="332"/>
                  </a:lnTo>
                  <a:lnTo>
                    <a:pt x="101" y="404"/>
                  </a:lnTo>
                  <a:lnTo>
                    <a:pt x="57" y="473"/>
                  </a:lnTo>
                  <a:lnTo>
                    <a:pt x="0" y="53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53920" y="4264560"/>
              <a:ext cx="261000" cy="181080"/>
            </a:xfrm>
            <a:custGeom>
              <a:avLst/>
              <a:gdLst/>
              <a:ahLst/>
              <a:rect l="l" t="t" r="r" b="b"/>
              <a:pathLst>
                <a:path w="393" h="197">
                  <a:moveTo>
                    <a:pt x="393" y="0"/>
                  </a:moveTo>
                  <a:lnTo>
                    <a:pt x="321" y="65"/>
                  </a:lnTo>
                  <a:lnTo>
                    <a:pt x="262" y="114"/>
                  </a:lnTo>
                  <a:lnTo>
                    <a:pt x="211" y="148"/>
                  </a:lnTo>
                  <a:lnTo>
                    <a:pt x="165" y="173"/>
                  </a:lnTo>
                  <a:lnTo>
                    <a:pt x="125" y="186"/>
                  </a:lnTo>
                  <a:lnTo>
                    <a:pt x="85" y="194"/>
                  </a:lnTo>
                  <a:lnTo>
                    <a:pt x="44" y="196"/>
                  </a:lnTo>
                  <a:lnTo>
                    <a:pt x="0" y="19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87400" y="3661920"/>
              <a:ext cx="105120" cy="109800"/>
            </a:xfrm>
            <a:custGeom>
              <a:avLst/>
              <a:gdLst/>
              <a:ahLst/>
              <a:rect l="l" t="t" r="r" b="b"/>
              <a:pathLst>
                <a:path w="158" h="123">
                  <a:moveTo>
                    <a:pt x="0" y="4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9" y="2"/>
                  </a:lnTo>
                  <a:lnTo>
                    <a:pt x="36" y="8"/>
                  </a:lnTo>
                  <a:lnTo>
                    <a:pt x="59" y="19"/>
                  </a:lnTo>
                  <a:lnTo>
                    <a:pt x="86" y="42"/>
                  </a:lnTo>
                  <a:lnTo>
                    <a:pt x="118" y="74"/>
                  </a:lnTo>
                  <a:lnTo>
                    <a:pt x="158" y="12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92880" y="3771720"/>
              <a:ext cx="187200" cy="492480"/>
            </a:xfrm>
            <a:custGeom>
              <a:avLst/>
              <a:gdLst/>
              <a:ahLst/>
              <a:rect l="l" t="t" r="r" b="b"/>
              <a:pathLst>
                <a:path w="281" h="537">
                  <a:moveTo>
                    <a:pt x="0" y="0"/>
                  </a:moveTo>
                  <a:lnTo>
                    <a:pt x="34" y="57"/>
                  </a:lnTo>
                  <a:lnTo>
                    <a:pt x="64" y="122"/>
                  </a:lnTo>
                  <a:lnTo>
                    <a:pt x="89" y="190"/>
                  </a:lnTo>
                  <a:lnTo>
                    <a:pt x="114" y="262"/>
                  </a:lnTo>
                  <a:lnTo>
                    <a:pt x="142" y="332"/>
                  </a:lnTo>
                  <a:lnTo>
                    <a:pt x="178" y="404"/>
                  </a:lnTo>
                  <a:lnTo>
                    <a:pt x="222" y="473"/>
                  </a:lnTo>
                  <a:lnTo>
                    <a:pt x="281" y="53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80080" y="4264560"/>
              <a:ext cx="260640" cy="181080"/>
            </a:xfrm>
            <a:custGeom>
              <a:avLst/>
              <a:gdLst/>
              <a:ahLst/>
              <a:rect l="l" t="t" r="r" b="b"/>
              <a:pathLst>
                <a:path w="393" h="197">
                  <a:moveTo>
                    <a:pt x="0" y="0"/>
                  </a:moveTo>
                  <a:lnTo>
                    <a:pt x="70" y="65"/>
                  </a:lnTo>
                  <a:lnTo>
                    <a:pt x="129" y="114"/>
                  </a:lnTo>
                  <a:lnTo>
                    <a:pt x="180" y="148"/>
                  </a:lnTo>
                  <a:lnTo>
                    <a:pt x="226" y="173"/>
                  </a:lnTo>
                  <a:lnTo>
                    <a:pt x="266" y="186"/>
                  </a:lnTo>
                  <a:lnTo>
                    <a:pt x="306" y="194"/>
                  </a:lnTo>
                  <a:lnTo>
                    <a:pt x="347" y="196"/>
                  </a:lnTo>
                  <a:lnTo>
                    <a:pt x="393" y="197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48640" y="4379760"/>
              <a:ext cx="0" cy="1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04080" y="4379760"/>
              <a:ext cx="1800" cy="1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41000" y="44874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06960" y="448740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s-f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57760" y="3590640"/>
              <a:ext cx="1440" cy="9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93320" y="45169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13080" y="44895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s+f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8160" y="449964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58760" y="4164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04000" y="3590640"/>
              <a:ext cx="0" cy="9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11080" y="4377240"/>
              <a:ext cx="0" cy="12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61880" y="318636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  (j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28480" y="326736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15200" y="4352760"/>
              <a:ext cx="0" cy="12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07920" y="44650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90680" y="4254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8880" y="3595680"/>
              <a:ext cx="116640" cy="119880"/>
            </a:xfrm>
            <a:custGeom>
              <a:avLst/>
              <a:gdLst/>
              <a:ahLst/>
              <a:rect l="l" t="t" r="r" b="b"/>
              <a:pathLst>
                <a:path w="173" h="133">
                  <a:moveTo>
                    <a:pt x="0" y="4"/>
                  </a:moveTo>
                  <a:lnTo>
                    <a:pt x="2" y="2"/>
                  </a:lnTo>
                  <a:lnTo>
                    <a:pt x="10" y="0"/>
                  </a:lnTo>
                  <a:lnTo>
                    <a:pt x="23" y="2"/>
                  </a:lnTo>
                  <a:lnTo>
                    <a:pt x="40" y="8"/>
                  </a:lnTo>
                  <a:lnTo>
                    <a:pt x="65" y="21"/>
                  </a:lnTo>
                  <a:lnTo>
                    <a:pt x="95" y="44"/>
                  </a:lnTo>
                  <a:lnTo>
                    <a:pt x="131" y="80"/>
                  </a:lnTo>
                  <a:lnTo>
                    <a:pt x="173" y="133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5520" y="3715920"/>
              <a:ext cx="203400" cy="528840"/>
            </a:xfrm>
            <a:custGeom>
              <a:avLst/>
              <a:gdLst/>
              <a:ahLst/>
              <a:rect l="l" t="t" r="r" b="b"/>
              <a:pathLst>
                <a:path w="308" h="575">
                  <a:moveTo>
                    <a:pt x="0" y="0"/>
                  </a:moveTo>
                  <a:lnTo>
                    <a:pt x="38" y="62"/>
                  </a:lnTo>
                  <a:lnTo>
                    <a:pt x="71" y="131"/>
                  </a:lnTo>
                  <a:lnTo>
                    <a:pt x="99" y="203"/>
                  </a:lnTo>
                  <a:lnTo>
                    <a:pt x="126" y="279"/>
                  </a:lnTo>
                  <a:lnTo>
                    <a:pt x="156" y="356"/>
                  </a:lnTo>
                  <a:lnTo>
                    <a:pt x="194" y="432"/>
                  </a:lnTo>
                  <a:lnTo>
                    <a:pt x="243" y="504"/>
                  </a:lnTo>
                  <a:lnTo>
                    <a:pt x="308" y="575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9280" y="4244760"/>
              <a:ext cx="288360" cy="190800"/>
            </a:xfrm>
            <a:custGeom>
              <a:avLst/>
              <a:gdLst/>
              <a:ahLst/>
              <a:rect l="l" t="t" r="r" b="b"/>
              <a:pathLst>
                <a:path w="433" h="210">
                  <a:moveTo>
                    <a:pt x="0" y="0"/>
                  </a:moveTo>
                  <a:lnTo>
                    <a:pt x="78" y="68"/>
                  </a:lnTo>
                  <a:lnTo>
                    <a:pt x="142" y="121"/>
                  </a:lnTo>
                  <a:lnTo>
                    <a:pt x="199" y="157"/>
                  </a:lnTo>
                  <a:lnTo>
                    <a:pt x="249" y="184"/>
                  </a:lnTo>
                  <a:lnTo>
                    <a:pt x="294" y="199"/>
                  </a:lnTo>
                  <a:lnTo>
                    <a:pt x="338" y="206"/>
                  </a:lnTo>
                  <a:lnTo>
                    <a:pt x="383" y="208"/>
                  </a:lnTo>
                  <a:lnTo>
                    <a:pt x="433" y="210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960" y="288540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(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0600" y="27432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0800" y="2801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28600" y="4724280"/>
            <a:ext cx="4498920" cy="1807560"/>
            <a:chOff x="228600" y="4724280"/>
            <a:chExt cx="4498920" cy="1807560"/>
          </a:xfrm>
        </p:grpSpPr>
        <p:sp>
          <p:nvSpPr>
            <p:cNvPr id="365" name=""/>
            <p:cNvSpPr/>
            <p:nvPr/>
          </p:nvSpPr>
          <p:spPr>
            <a:xfrm>
              <a:off x="410760" y="5378040"/>
              <a:ext cx="525960" cy="840240"/>
            </a:xfrm>
            <a:custGeom>
              <a:avLst/>
              <a:gdLst/>
              <a:ahLst/>
              <a:rect l="l" t="t" r="r" b="b"/>
              <a:pathLst>
                <a:path w="783" h="1009">
                  <a:moveTo>
                    <a:pt x="0" y="1009"/>
                  </a:moveTo>
                  <a:lnTo>
                    <a:pt x="781" y="1009"/>
                  </a:lnTo>
                  <a:lnTo>
                    <a:pt x="781" y="9"/>
                  </a:lnTo>
                  <a:lnTo>
                    <a:pt x="783" y="0"/>
                  </a:lnTo>
                  <a:lnTo>
                    <a:pt x="769" y="11"/>
                  </a:lnTo>
                  <a:lnTo>
                    <a:pt x="758" y="24"/>
                  </a:lnTo>
                  <a:lnTo>
                    <a:pt x="745" y="38"/>
                  </a:lnTo>
                  <a:lnTo>
                    <a:pt x="733" y="51"/>
                  </a:lnTo>
                  <a:lnTo>
                    <a:pt x="720" y="64"/>
                  </a:lnTo>
                  <a:lnTo>
                    <a:pt x="708" y="79"/>
                  </a:lnTo>
                  <a:lnTo>
                    <a:pt x="695" y="95"/>
                  </a:lnTo>
                  <a:lnTo>
                    <a:pt x="684" y="110"/>
                  </a:lnTo>
                  <a:lnTo>
                    <a:pt x="625" y="178"/>
                  </a:lnTo>
                  <a:lnTo>
                    <a:pt x="564" y="262"/>
                  </a:lnTo>
                  <a:lnTo>
                    <a:pt x="503" y="353"/>
                  </a:lnTo>
                  <a:lnTo>
                    <a:pt x="445" y="449"/>
                  </a:lnTo>
                  <a:lnTo>
                    <a:pt x="386" y="542"/>
                  </a:lnTo>
                  <a:lnTo>
                    <a:pt x="331" y="631"/>
                  </a:lnTo>
                  <a:lnTo>
                    <a:pt x="281" y="711"/>
                  </a:lnTo>
                  <a:lnTo>
                    <a:pt x="238" y="777"/>
                  </a:lnTo>
                  <a:lnTo>
                    <a:pt x="196" y="829"/>
                  </a:lnTo>
                  <a:lnTo>
                    <a:pt x="160" y="874"/>
                  </a:lnTo>
                  <a:lnTo>
                    <a:pt x="127" y="912"/>
                  </a:lnTo>
                  <a:lnTo>
                    <a:pt x="97" y="944"/>
                  </a:lnTo>
                  <a:lnTo>
                    <a:pt x="72" y="969"/>
                  </a:lnTo>
                  <a:lnTo>
                    <a:pt x="50" y="986"/>
                  </a:lnTo>
                  <a:lnTo>
                    <a:pt x="31" y="996"/>
                  </a:lnTo>
                  <a:lnTo>
                    <a:pt x="15" y="1001"/>
                  </a:lnTo>
                  <a:lnTo>
                    <a:pt x="0" y="100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6040" y="4833720"/>
              <a:ext cx="0" cy="138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6040" y="6218640"/>
              <a:ext cx="145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28600" y="4833720"/>
              <a:ext cx="37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040" y="4833720"/>
              <a:ext cx="356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1646640" y="6173280"/>
              <a:ext cx="76680" cy="4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646640" y="6218640"/>
              <a:ext cx="76680" cy="4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6040" y="5109480"/>
              <a:ext cx="745560" cy="368640"/>
            </a:xfrm>
            <a:custGeom>
              <a:avLst/>
              <a:gdLst/>
              <a:ahLst/>
              <a:rect l="l" t="t" r="r" b="b"/>
              <a:pathLst>
                <a:path w="1110" h="444">
                  <a:moveTo>
                    <a:pt x="0" y="0"/>
                  </a:moveTo>
                  <a:lnTo>
                    <a:pt x="95" y="0"/>
                  </a:lnTo>
                  <a:lnTo>
                    <a:pt x="186" y="6"/>
                  </a:lnTo>
                  <a:lnTo>
                    <a:pt x="275" y="14"/>
                  </a:lnTo>
                  <a:lnTo>
                    <a:pt x="360" y="27"/>
                  </a:lnTo>
                  <a:lnTo>
                    <a:pt x="442" y="42"/>
                  </a:lnTo>
                  <a:lnTo>
                    <a:pt x="520" y="61"/>
                  </a:lnTo>
                  <a:lnTo>
                    <a:pt x="594" y="84"/>
                  </a:lnTo>
                  <a:lnTo>
                    <a:pt x="666" y="110"/>
                  </a:lnTo>
                  <a:lnTo>
                    <a:pt x="731" y="137"/>
                  </a:lnTo>
                  <a:lnTo>
                    <a:pt x="791" y="167"/>
                  </a:lnTo>
                  <a:lnTo>
                    <a:pt x="847" y="203"/>
                  </a:lnTo>
                  <a:lnTo>
                    <a:pt x="900" y="241"/>
                  </a:lnTo>
                  <a:lnTo>
                    <a:pt x="951" y="283"/>
                  </a:lnTo>
                  <a:lnTo>
                    <a:pt x="1002" y="330"/>
                  </a:lnTo>
                  <a:lnTo>
                    <a:pt x="1053" y="384"/>
                  </a:lnTo>
                  <a:lnTo>
                    <a:pt x="1110" y="444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11600" y="5478480"/>
              <a:ext cx="451080" cy="740160"/>
            </a:xfrm>
            <a:custGeom>
              <a:avLst/>
              <a:gdLst/>
              <a:ahLst/>
              <a:rect l="l" t="t" r="r" b="b"/>
              <a:pathLst>
                <a:path w="669" h="890">
                  <a:moveTo>
                    <a:pt x="0" y="0"/>
                  </a:moveTo>
                  <a:lnTo>
                    <a:pt x="55" y="69"/>
                  </a:lnTo>
                  <a:lnTo>
                    <a:pt x="114" y="152"/>
                  </a:lnTo>
                  <a:lnTo>
                    <a:pt x="175" y="245"/>
                  </a:lnTo>
                  <a:lnTo>
                    <a:pt x="236" y="340"/>
                  </a:lnTo>
                  <a:lnTo>
                    <a:pt x="293" y="435"/>
                  </a:lnTo>
                  <a:lnTo>
                    <a:pt x="350" y="524"/>
                  </a:lnTo>
                  <a:lnTo>
                    <a:pt x="401" y="601"/>
                  </a:lnTo>
                  <a:lnTo>
                    <a:pt x="447" y="668"/>
                  </a:lnTo>
                  <a:lnTo>
                    <a:pt x="486" y="719"/>
                  </a:lnTo>
                  <a:lnTo>
                    <a:pt x="523" y="765"/>
                  </a:lnTo>
                  <a:lnTo>
                    <a:pt x="555" y="803"/>
                  </a:lnTo>
                  <a:lnTo>
                    <a:pt x="585" y="833"/>
                  </a:lnTo>
                  <a:lnTo>
                    <a:pt x="610" y="858"/>
                  </a:lnTo>
                  <a:lnTo>
                    <a:pt x="633" y="875"/>
                  </a:lnTo>
                  <a:lnTo>
                    <a:pt x="652" y="886"/>
                  </a:lnTo>
                  <a:lnTo>
                    <a:pt x="669" y="890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5080" y="5102280"/>
              <a:ext cx="747360" cy="366480"/>
            </a:xfrm>
            <a:custGeom>
              <a:avLst/>
              <a:gdLst/>
              <a:ahLst/>
              <a:rect l="l" t="t" r="r" b="b"/>
              <a:pathLst>
                <a:path w="1113" h="442">
                  <a:moveTo>
                    <a:pt x="1113" y="0"/>
                  </a:moveTo>
                  <a:lnTo>
                    <a:pt x="1016" y="0"/>
                  </a:lnTo>
                  <a:lnTo>
                    <a:pt x="923" y="6"/>
                  </a:lnTo>
                  <a:lnTo>
                    <a:pt x="835" y="15"/>
                  </a:lnTo>
                  <a:lnTo>
                    <a:pt x="750" y="27"/>
                  </a:lnTo>
                  <a:lnTo>
                    <a:pt x="668" y="42"/>
                  </a:lnTo>
                  <a:lnTo>
                    <a:pt x="589" y="61"/>
                  </a:lnTo>
                  <a:lnTo>
                    <a:pt x="515" y="83"/>
                  </a:lnTo>
                  <a:lnTo>
                    <a:pt x="444" y="110"/>
                  </a:lnTo>
                  <a:lnTo>
                    <a:pt x="376" y="137"/>
                  </a:lnTo>
                  <a:lnTo>
                    <a:pt x="315" y="167"/>
                  </a:lnTo>
                  <a:lnTo>
                    <a:pt x="260" y="201"/>
                  </a:lnTo>
                  <a:lnTo>
                    <a:pt x="207" y="239"/>
                  </a:lnTo>
                  <a:lnTo>
                    <a:pt x="154" y="281"/>
                  </a:lnTo>
                  <a:lnTo>
                    <a:pt x="105" y="328"/>
                  </a:lnTo>
                  <a:lnTo>
                    <a:pt x="53" y="381"/>
                  </a:lnTo>
                  <a:lnTo>
                    <a:pt x="0" y="442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7240" y="5469120"/>
              <a:ext cx="447840" cy="738000"/>
            </a:xfrm>
            <a:custGeom>
              <a:avLst/>
              <a:gdLst/>
              <a:ahLst/>
              <a:rect l="l" t="t" r="r" b="b"/>
              <a:pathLst>
                <a:path w="666" h="889">
                  <a:moveTo>
                    <a:pt x="666" y="0"/>
                  </a:moveTo>
                  <a:lnTo>
                    <a:pt x="607" y="68"/>
                  </a:lnTo>
                  <a:lnTo>
                    <a:pt x="548" y="152"/>
                  </a:lnTo>
                  <a:lnTo>
                    <a:pt x="488" y="245"/>
                  </a:lnTo>
                  <a:lnTo>
                    <a:pt x="429" y="339"/>
                  </a:lnTo>
                  <a:lnTo>
                    <a:pt x="370" y="434"/>
                  </a:lnTo>
                  <a:lnTo>
                    <a:pt x="315" y="523"/>
                  </a:lnTo>
                  <a:lnTo>
                    <a:pt x="264" y="601"/>
                  </a:lnTo>
                  <a:lnTo>
                    <a:pt x="222" y="667"/>
                  </a:lnTo>
                  <a:lnTo>
                    <a:pt x="180" y="719"/>
                  </a:lnTo>
                  <a:lnTo>
                    <a:pt x="144" y="764"/>
                  </a:lnTo>
                  <a:lnTo>
                    <a:pt x="112" y="802"/>
                  </a:lnTo>
                  <a:lnTo>
                    <a:pt x="81" y="832"/>
                  </a:lnTo>
                  <a:lnTo>
                    <a:pt x="57" y="857"/>
                  </a:lnTo>
                  <a:lnTo>
                    <a:pt x="34" y="874"/>
                  </a:lnTo>
                  <a:lnTo>
                    <a:pt x="15" y="886"/>
                  </a:lnTo>
                  <a:lnTo>
                    <a:pt x="0" y="889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8520" y="5202360"/>
              <a:ext cx="0" cy="10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4120" y="5847120"/>
              <a:ext cx="0" cy="50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11480" y="5847120"/>
              <a:ext cx="0" cy="50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7640" y="6394320"/>
              <a:ext cx="21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s-f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440" y="6255360"/>
              <a:ext cx="18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s/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13640" y="6394320"/>
              <a:ext cx="9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36480" y="5063400"/>
              <a:ext cx="1440" cy="129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06960" y="6394320"/>
              <a:ext cx="9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80840" y="602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8920" y="473328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(jf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12760" y="5576400"/>
              <a:ext cx="2702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10320" y="4740120"/>
              <a:ext cx="1440" cy="167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060280" y="4740120"/>
              <a:ext cx="4932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10320" y="4740120"/>
              <a:ext cx="4716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18440" y="5515200"/>
              <a:ext cx="9720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618440" y="5576400"/>
              <a:ext cx="9720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10320" y="5218560"/>
              <a:ext cx="289080" cy="357840"/>
            </a:xfrm>
            <a:custGeom>
              <a:avLst/>
              <a:gdLst/>
              <a:ahLst/>
              <a:rect l="l" t="t" r="r" b="b"/>
              <a:pathLst>
                <a:path w="431" h="431">
                  <a:moveTo>
                    <a:pt x="0" y="431"/>
                  </a:moveTo>
                  <a:lnTo>
                    <a:pt x="52" y="328"/>
                  </a:lnTo>
                  <a:lnTo>
                    <a:pt x="97" y="241"/>
                  </a:lnTo>
                  <a:lnTo>
                    <a:pt x="143" y="167"/>
                  </a:lnTo>
                  <a:lnTo>
                    <a:pt x="188" y="107"/>
                  </a:lnTo>
                  <a:lnTo>
                    <a:pt x="238" y="61"/>
                  </a:lnTo>
                  <a:lnTo>
                    <a:pt x="293" y="27"/>
                  </a:lnTo>
                  <a:lnTo>
                    <a:pt x="355" y="6"/>
                  </a:lnTo>
                  <a:lnTo>
                    <a:pt x="43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99400" y="5218560"/>
              <a:ext cx="285840" cy="357840"/>
            </a:xfrm>
            <a:custGeom>
              <a:avLst/>
              <a:gdLst/>
              <a:ahLst/>
              <a:rect l="l" t="t" r="r" b="b"/>
              <a:pathLst>
                <a:path w="427" h="431">
                  <a:moveTo>
                    <a:pt x="0" y="0"/>
                  </a:moveTo>
                  <a:lnTo>
                    <a:pt x="71" y="10"/>
                  </a:lnTo>
                  <a:lnTo>
                    <a:pt x="126" y="36"/>
                  </a:lnTo>
                  <a:lnTo>
                    <a:pt x="171" y="78"/>
                  </a:lnTo>
                  <a:lnTo>
                    <a:pt x="211" y="133"/>
                  </a:lnTo>
                  <a:lnTo>
                    <a:pt x="253" y="199"/>
                  </a:lnTo>
                  <a:lnTo>
                    <a:pt x="298" y="272"/>
                  </a:lnTo>
                  <a:lnTo>
                    <a:pt x="355" y="349"/>
                  </a:lnTo>
                  <a:lnTo>
                    <a:pt x="427" y="431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85600" y="5576400"/>
              <a:ext cx="290880" cy="354600"/>
            </a:xfrm>
            <a:custGeom>
              <a:avLst/>
              <a:gdLst/>
              <a:ahLst/>
              <a:rect l="l" t="t" r="r" b="b"/>
              <a:pathLst>
                <a:path w="431" h="428">
                  <a:moveTo>
                    <a:pt x="0" y="0"/>
                  </a:moveTo>
                  <a:lnTo>
                    <a:pt x="71" y="80"/>
                  </a:lnTo>
                  <a:lnTo>
                    <a:pt x="128" y="155"/>
                  </a:lnTo>
                  <a:lnTo>
                    <a:pt x="173" y="229"/>
                  </a:lnTo>
                  <a:lnTo>
                    <a:pt x="215" y="294"/>
                  </a:lnTo>
                  <a:lnTo>
                    <a:pt x="255" y="349"/>
                  </a:lnTo>
                  <a:lnTo>
                    <a:pt x="302" y="391"/>
                  </a:lnTo>
                  <a:lnTo>
                    <a:pt x="359" y="417"/>
                  </a:lnTo>
                  <a:lnTo>
                    <a:pt x="431" y="42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76840" y="5576400"/>
              <a:ext cx="289440" cy="354600"/>
            </a:xfrm>
            <a:custGeom>
              <a:avLst/>
              <a:gdLst/>
              <a:ahLst/>
              <a:rect l="l" t="t" r="r" b="b"/>
              <a:pathLst>
                <a:path w="431" h="428">
                  <a:moveTo>
                    <a:pt x="0" y="428"/>
                  </a:moveTo>
                  <a:lnTo>
                    <a:pt x="71" y="417"/>
                  </a:lnTo>
                  <a:lnTo>
                    <a:pt x="128" y="391"/>
                  </a:lnTo>
                  <a:lnTo>
                    <a:pt x="173" y="349"/>
                  </a:lnTo>
                  <a:lnTo>
                    <a:pt x="215" y="294"/>
                  </a:lnTo>
                  <a:lnTo>
                    <a:pt x="255" y="229"/>
                  </a:lnTo>
                  <a:lnTo>
                    <a:pt x="302" y="155"/>
                  </a:lnTo>
                  <a:lnTo>
                    <a:pt x="359" y="80"/>
                  </a:lnTo>
                  <a:lnTo>
                    <a:pt x="43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66280" y="5218560"/>
              <a:ext cx="290880" cy="357840"/>
            </a:xfrm>
            <a:custGeom>
              <a:avLst/>
              <a:gdLst/>
              <a:ahLst/>
              <a:rect l="l" t="t" r="r" b="b"/>
              <a:pathLst>
                <a:path w="431" h="431">
                  <a:moveTo>
                    <a:pt x="0" y="431"/>
                  </a:moveTo>
                  <a:lnTo>
                    <a:pt x="71" y="349"/>
                  </a:lnTo>
                  <a:lnTo>
                    <a:pt x="128" y="272"/>
                  </a:lnTo>
                  <a:lnTo>
                    <a:pt x="173" y="199"/>
                  </a:lnTo>
                  <a:lnTo>
                    <a:pt x="215" y="133"/>
                  </a:lnTo>
                  <a:lnTo>
                    <a:pt x="255" y="78"/>
                  </a:lnTo>
                  <a:lnTo>
                    <a:pt x="302" y="36"/>
                  </a:lnTo>
                  <a:lnTo>
                    <a:pt x="359" y="10"/>
                  </a:lnTo>
                  <a:lnTo>
                    <a:pt x="43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57520" y="5218560"/>
              <a:ext cx="287640" cy="357840"/>
            </a:xfrm>
            <a:custGeom>
              <a:avLst/>
              <a:gdLst/>
              <a:ahLst/>
              <a:rect l="l" t="t" r="r" b="b"/>
              <a:pathLst>
                <a:path w="431" h="431">
                  <a:moveTo>
                    <a:pt x="0" y="0"/>
                  </a:moveTo>
                  <a:lnTo>
                    <a:pt x="71" y="10"/>
                  </a:lnTo>
                  <a:lnTo>
                    <a:pt x="128" y="36"/>
                  </a:lnTo>
                  <a:lnTo>
                    <a:pt x="173" y="78"/>
                  </a:lnTo>
                  <a:lnTo>
                    <a:pt x="215" y="133"/>
                  </a:lnTo>
                  <a:lnTo>
                    <a:pt x="255" y="199"/>
                  </a:lnTo>
                  <a:lnTo>
                    <a:pt x="302" y="272"/>
                  </a:lnTo>
                  <a:lnTo>
                    <a:pt x="359" y="349"/>
                  </a:lnTo>
                  <a:lnTo>
                    <a:pt x="431" y="431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45160" y="5576400"/>
              <a:ext cx="289440" cy="354600"/>
            </a:xfrm>
            <a:custGeom>
              <a:avLst/>
              <a:gdLst/>
              <a:ahLst/>
              <a:rect l="l" t="t" r="r" b="b"/>
              <a:pathLst>
                <a:path w="430" h="428">
                  <a:moveTo>
                    <a:pt x="0" y="0"/>
                  </a:moveTo>
                  <a:lnTo>
                    <a:pt x="71" y="80"/>
                  </a:lnTo>
                  <a:lnTo>
                    <a:pt x="126" y="155"/>
                  </a:lnTo>
                  <a:lnTo>
                    <a:pt x="173" y="229"/>
                  </a:lnTo>
                  <a:lnTo>
                    <a:pt x="213" y="294"/>
                  </a:lnTo>
                  <a:lnTo>
                    <a:pt x="255" y="349"/>
                  </a:lnTo>
                  <a:lnTo>
                    <a:pt x="300" y="391"/>
                  </a:lnTo>
                  <a:lnTo>
                    <a:pt x="357" y="417"/>
                  </a:lnTo>
                  <a:lnTo>
                    <a:pt x="430" y="42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4960" y="5277960"/>
              <a:ext cx="435960" cy="653400"/>
            </a:xfrm>
            <a:custGeom>
              <a:avLst/>
              <a:gdLst/>
              <a:ahLst/>
              <a:rect l="l" t="t" r="r" b="b"/>
              <a:pathLst>
                <a:path w="647" h="787">
                  <a:moveTo>
                    <a:pt x="0" y="787"/>
                  </a:moveTo>
                  <a:lnTo>
                    <a:pt x="89" y="753"/>
                  </a:lnTo>
                  <a:lnTo>
                    <a:pt x="189" y="664"/>
                  </a:lnTo>
                  <a:lnTo>
                    <a:pt x="298" y="537"/>
                  </a:lnTo>
                  <a:lnTo>
                    <a:pt x="402" y="393"/>
                  </a:lnTo>
                  <a:lnTo>
                    <a:pt x="497" y="249"/>
                  </a:lnTo>
                  <a:lnTo>
                    <a:pt x="575" y="122"/>
                  </a:lnTo>
                  <a:lnTo>
                    <a:pt x="626" y="33"/>
                  </a:lnTo>
                  <a:lnTo>
                    <a:pt x="647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24400" y="5277960"/>
              <a:ext cx="146160" cy="298440"/>
            </a:xfrm>
            <a:custGeom>
              <a:avLst/>
              <a:gdLst/>
              <a:ahLst/>
              <a:rect l="l" t="t" r="r" b="b"/>
              <a:pathLst>
                <a:path w="216" h="359">
                  <a:moveTo>
                    <a:pt x="216" y="0"/>
                  </a:moveTo>
                  <a:lnTo>
                    <a:pt x="207" y="16"/>
                  </a:lnTo>
                  <a:lnTo>
                    <a:pt x="182" y="55"/>
                  </a:lnTo>
                  <a:lnTo>
                    <a:pt x="146" y="112"/>
                  </a:lnTo>
                  <a:lnTo>
                    <a:pt x="108" y="179"/>
                  </a:lnTo>
                  <a:lnTo>
                    <a:pt x="68" y="245"/>
                  </a:lnTo>
                  <a:lnTo>
                    <a:pt x="32" y="302"/>
                  </a:lnTo>
                  <a:lnTo>
                    <a:pt x="7" y="342"/>
                  </a:lnTo>
                  <a:lnTo>
                    <a:pt x="0" y="359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0320" y="5337360"/>
              <a:ext cx="2460600" cy="557640"/>
            </a:xfrm>
            <a:custGeom>
              <a:avLst/>
              <a:gdLst/>
              <a:ahLst/>
              <a:rect l="l" t="t" r="r" b="b"/>
              <a:pathLst>
                <a:path w="3659" h="673">
                  <a:moveTo>
                    <a:pt x="0" y="0"/>
                  </a:moveTo>
                  <a:lnTo>
                    <a:pt x="186" y="123"/>
                  </a:lnTo>
                  <a:lnTo>
                    <a:pt x="371" y="235"/>
                  </a:lnTo>
                  <a:lnTo>
                    <a:pt x="553" y="333"/>
                  </a:lnTo>
                  <a:lnTo>
                    <a:pt x="733" y="421"/>
                  </a:lnTo>
                  <a:lnTo>
                    <a:pt x="912" y="495"/>
                  </a:lnTo>
                  <a:lnTo>
                    <a:pt x="1088" y="557"/>
                  </a:lnTo>
                  <a:lnTo>
                    <a:pt x="1261" y="608"/>
                  </a:lnTo>
                  <a:lnTo>
                    <a:pt x="1434" y="646"/>
                  </a:lnTo>
                  <a:lnTo>
                    <a:pt x="1603" y="667"/>
                  </a:lnTo>
                  <a:lnTo>
                    <a:pt x="1774" y="673"/>
                  </a:lnTo>
                  <a:lnTo>
                    <a:pt x="1943" y="663"/>
                  </a:lnTo>
                  <a:lnTo>
                    <a:pt x="2110" y="644"/>
                  </a:lnTo>
                  <a:lnTo>
                    <a:pt x="2271" y="616"/>
                  </a:lnTo>
                  <a:lnTo>
                    <a:pt x="2429" y="580"/>
                  </a:lnTo>
                  <a:lnTo>
                    <a:pt x="2581" y="540"/>
                  </a:lnTo>
                  <a:lnTo>
                    <a:pt x="2725" y="502"/>
                  </a:lnTo>
                  <a:lnTo>
                    <a:pt x="2860" y="459"/>
                  </a:lnTo>
                  <a:lnTo>
                    <a:pt x="2991" y="409"/>
                  </a:lnTo>
                  <a:lnTo>
                    <a:pt x="3116" y="354"/>
                  </a:lnTo>
                  <a:lnTo>
                    <a:pt x="3236" y="295"/>
                  </a:lnTo>
                  <a:lnTo>
                    <a:pt x="3350" y="229"/>
                  </a:lnTo>
                  <a:lnTo>
                    <a:pt x="3458" y="157"/>
                  </a:lnTo>
                  <a:lnTo>
                    <a:pt x="3560" y="81"/>
                  </a:lnTo>
                  <a:lnTo>
                    <a:pt x="3659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83040" y="5396400"/>
              <a:ext cx="1800" cy="18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3968280" y="5576400"/>
              <a:ext cx="1440" cy="1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092760" y="5576400"/>
              <a:ext cx="0" cy="29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07920" y="5396400"/>
              <a:ext cx="1440" cy="18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70520" y="472428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mpulsy próbkują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2639520" y="4979160"/>
              <a:ext cx="434160" cy="65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639160" y="4979160"/>
              <a:ext cx="1350360" cy="65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99400" y="4979160"/>
              <a:ext cx="7239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9320" y="5861160"/>
              <a:ext cx="21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s-f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12920" y="5148360"/>
              <a:ext cx="9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94760" y="5623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52440" y="472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5406840" y="4876920"/>
            <a:ext cx="3169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niekształcenia widma sygnał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jściowego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jawisko przeplatania wid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nik niewłaściwego odtwarz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700280"/>
            <a:ext cx="3481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41520" y="958680"/>
            <a:ext cx="160200" cy="7416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1720" y="958680"/>
            <a:ext cx="482400" cy="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84120" y="958680"/>
            <a:ext cx="158760" cy="7416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565000" y="1704960"/>
            <a:ext cx="160200" cy="73188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87280" y="2436840"/>
            <a:ext cx="4777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1925640" y="1704600"/>
            <a:ext cx="162000" cy="73188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2760" y="1122480"/>
            <a:ext cx="1277640" cy="577800"/>
          </a:xfrm>
          <a:custGeom>
            <a:avLst/>
            <a:gdLst/>
            <a:ahLst/>
            <a:rect l="l" t="t" r="r" b="b"/>
            <a:pathLst>
              <a:path w="2297" h="1003">
                <a:moveTo>
                  <a:pt x="0" y="1003"/>
                </a:moveTo>
                <a:lnTo>
                  <a:pt x="142" y="768"/>
                </a:lnTo>
                <a:lnTo>
                  <a:pt x="287" y="563"/>
                </a:lnTo>
                <a:lnTo>
                  <a:pt x="429" y="391"/>
                </a:lnTo>
                <a:lnTo>
                  <a:pt x="573" y="250"/>
                </a:lnTo>
                <a:lnTo>
                  <a:pt x="718" y="140"/>
                </a:lnTo>
                <a:lnTo>
                  <a:pt x="860" y="63"/>
                </a:lnTo>
                <a:lnTo>
                  <a:pt x="1004" y="15"/>
                </a:lnTo>
                <a:lnTo>
                  <a:pt x="1149" y="0"/>
                </a:lnTo>
                <a:lnTo>
                  <a:pt x="1291" y="28"/>
                </a:lnTo>
                <a:lnTo>
                  <a:pt x="1435" y="108"/>
                </a:lnTo>
                <a:lnTo>
                  <a:pt x="1578" y="228"/>
                </a:lnTo>
                <a:lnTo>
                  <a:pt x="1722" y="375"/>
                </a:lnTo>
                <a:lnTo>
                  <a:pt x="1866" y="537"/>
                </a:lnTo>
                <a:lnTo>
                  <a:pt x="2009" y="704"/>
                </a:lnTo>
                <a:lnTo>
                  <a:pt x="2153" y="861"/>
                </a:lnTo>
                <a:lnTo>
                  <a:pt x="2297" y="1003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51040" y="1700280"/>
            <a:ext cx="650880" cy="576360"/>
          </a:xfrm>
          <a:custGeom>
            <a:avLst/>
            <a:gdLst/>
            <a:ahLst/>
            <a:rect l="l" t="t" r="r" b="b"/>
            <a:pathLst>
              <a:path w="1147" h="1004">
                <a:moveTo>
                  <a:pt x="0" y="0"/>
                </a:moveTo>
                <a:lnTo>
                  <a:pt x="143" y="137"/>
                </a:lnTo>
                <a:lnTo>
                  <a:pt x="289" y="294"/>
                </a:lnTo>
                <a:lnTo>
                  <a:pt x="435" y="459"/>
                </a:lnTo>
                <a:lnTo>
                  <a:pt x="581" y="622"/>
                </a:lnTo>
                <a:lnTo>
                  <a:pt x="726" y="768"/>
                </a:lnTo>
                <a:lnTo>
                  <a:pt x="870" y="888"/>
                </a:lnTo>
                <a:lnTo>
                  <a:pt x="1008" y="969"/>
                </a:lnTo>
                <a:lnTo>
                  <a:pt x="1147" y="1004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01920" y="1122480"/>
            <a:ext cx="961920" cy="1154160"/>
          </a:xfrm>
          <a:custGeom>
            <a:avLst/>
            <a:gdLst/>
            <a:ahLst/>
            <a:rect l="l" t="t" r="r" b="b"/>
            <a:pathLst>
              <a:path w="1722" h="2007">
                <a:moveTo>
                  <a:pt x="0" y="2007"/>
                </a:moveTo>
                <a:lnTo>
                  <a:pt x="133" y="1982"/>
                </a:lnTo>
                <a:lnTo>
                  <a:pt x="266" y="1912"/>
                </a:lnTo>
                <a:lnTo>
                  <a:pt x="399" y="1804"/>
                </a:lnTo>
                <a:lnTo>
                  <a:pt x="528" y="1671"/>
                </a:lnTo>
                <a:lnTo>
                  <a:pt x="653" y="1519"/>
                </a:lnTo>
                <a:lnTo>
                  <a:pt x="775" y="1362"/>
                </a:lnTo>
                <a:lnTo>
                  <a:pt x="892" y="1210"/>
                </a:lnTo>
                <a:lnTo>
                  <a:pt x="1004" y="1075"/>
                </a:lnTo>
                <a:lnTo>
                  <a:pt x="1109" y="948"/>
                </a:lnTo>
                <a:lnTo>
                  <a:pt x="1210" y="819"/>
                </a:lnTo>
                <a:lnTo>
                  <a:pt x="1306" y="688"/>
                </a:lnTo>
                <a:lnTo>
                  <a:pt x="1397" y="556"/>
                </a:lnTo>
                <a:lnTo>
                  <a:pt x="1485" y="419"/>
                </a:lnTo>
                <a:lnTo>
                  <a:pt x="1568" y="281"/>
                </a:lnTo>
                <a:lnTo>
                  <a:pt x="1648" y="142"/>
                </a:lnTo>
                <a:lnTo>
                  <a:pt x="1722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1960" y="1227240"/>
            <a:ext cx="519120" cy="636480"/>
          </a:xfrm>
          <a:custGeom>
            <a:avLst/>
            <a:gdLst/>
            <a:ahLst/>
            <a:rect l="l" t="t" r="r" b="b"/>
            <a:pathLst>
              <a:path w="932" h="1108">
                <a:moveTo>
                  <a:pt x="0" y="1108"/>
                </a:moveTo>
                <a:lnTo>
                  <a:pt x="50" y="901"/>
                </a:lnTo>
                <a:lnTo>
                  <a:pt x="101" y="717"/>
                </a:lnTo>
                <a:lnTo>
                  <a:pt x="152" y="552"/>
                </a:lnTo>
                <a:lnTo>
                  <a:pt x="205" y="408"/>
                </a:lnTo>
                <a:lnTo>
                  <a:pt x="260" y="283"/>
                </a:lnTo>
                <a:lnTo>
                  <a:pt x="315" y="178"/>
                </a:lnTo>
                <a:lnTo>
                  <a:pt x="372" y="95"/>
                </a:lnTo>
                <a:lnTo>
                  <a:pt x="431" y="32"/>
                </a:lnTo>
                <a:lnTo>
                  <a:pt x="486" y="0"/>
                </a:lnTo>
                <a:lnTo>
                  <a:pt x="547" y="4"/>
                </a:lnTo>
                <a:lnTo>
                  <a:pt x="606" y="36"/>
                </a:lnTo>
                <a:lnTo>
                  <a:pt x="667" y="85"/>
                </a:lnTo>
                <a:lnTo>
                  <a:pt x="729" y="140"/>
                </a:lnTo>
                <a:lnTo>
                  <a:pt x="794" y="192"/>
                </a:lnTo>
                <a:lnTo>
                  <a:pt x="860" y="231"/>
                </a:lnTo>
                <a:lnTo>
                  <a:pt x="932" y="248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81080" y="1224000"/>
            <a:ext cx="898560" cy="723960"/>
          </a:xfrm>
          <a:custGeom>
            <a:avLst/>
            <a:gdLst/>
            <a:ahLst/>
            <a:rect l="l" t="t" r="r" b="b"/>
            <a:pathLst>
              <a:path w="1652" h="1261">
                <a:moveTo>
                  <a:pt x="0" y="257"/>
                </a:moveTo>
                <a:lnTo>
                  <a:pt x="71" y="240"/>
                </a:lnTo>
                <a:lnTo>
                  <a:pt x="141" y="199"/>
                </a:lnTo>
                <a:lnTo>
                  <a:pt x="215" y="142"/>
                </a:lnTo>
                <a:lnTo>
                  <a:pt x="291" y="85"/>
                </a:lnTo>
                <a:lnTo>
                  <a:pt x="369" y="36"/>
                </a:lnTo>
                <a:lnTo>
                  <a:pt x="454" y="3"/>
                </a:lnTo>
                <a:lnTo>
                  <a:pt x="545" y="0"/>
                </a:lnTo>
                <a:lnTo>
                  <a:pt x="646" y="41"/>
                </a:lnTo>
                <a:lnTo>
                  <a:pt x="750" y="113"/>
                </a:lnTo>
                <a:lnTo>
                  <a:pt x="862" y="210"/>
                </a:lnTo>
                <a:lnTo>
                  <a:pt x="980" y="330"/>
                </a:lnTo>
                <a:lnTo>
                  <a:pt x="1104" y="470"/>
                </a:lnTo>
                <a:lnTo>
                  <a:pt x="1231" y="635"/>
                </a:lnTo>
                <a:lnTo>
                  <a:pt x="1366" y="821"/>
                </a:lnTo>
                <a:lnTo>
                  <a:pt x="1506" y="1029"/>
                </a:lnTo>
                <a:lnTo>
                  <a:pt x="1652" y="1261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03400" y="1947960"/>
            <a:ext cx="358920" cy="163440"/>
          </a:xfrm>
          <a:custGeom>
            <a:avLst/>
            <a:gdLst/>
            <a:ahLst/>
            <a:rect l="l" t="t" r="r" b="b"/>
            <a:pathLst>
              <a:path w="644" h="286">
                <a:moveTo>
                  <a:pt x="0" y="0"/>
                </a:moveTo>
                <a:lnTo>
                  <a:pt x="31" y="59"/>
                </a:lnTo>
                <a:lnTo>
                  <a:pt x="63" y="112"/>
                </a:lnTo>
                <a:lnTo>
                  <a:pt x="97" y="157"/>
                </a:lnTo>
                <a:lnTo>
                  <a:pt x="133" y="195"/>
                </a:lnTo>
                <a:lnTo>
                  <a:pt x="169" y="227"/>
                </a:lnTo>
                <a:lnTo>
                  <a:pt x="205" y="254"/>
                </a:lnTo>
                <a:lnTo>
                  <a:pt x="245" y="273"/>
                </a:lnTo>
                <a:lnTo>
                  <a:pt x="285" y="286"/>
                </a:lnTo>
                <a:lnTo>
                  <a:pt x="323" y="284"/>
                </a:lnTo>
                <a:lnTo>
                  <a:pt x="361" y="269"/>
                </a:lnTo>
                <a:lnTo>
                  <a:pt x="401" y="243"/>
                </a:lnTo>
                <a:lnTo>
                  <a:pt x="441" y="212"/>
                </a:lnTo>
                <a:lnTo>
                  <a:pt x="483" y="182"/>
                </a:lnTo>
                <a:lnTo>
                  <a:pt x="530" y="155"/>
                </a:lnTo>
                <a:lnTo>
                  <a:pt x="583" y="142"/>
                </a:lnTo>
                <a:lnTo>
                  <a:pt x="644" y="142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2030400"/>
            <a:ext cx="360360" cy="165240"/>
          </a:xfrm>
          <a:custGeom>
            <a:avLst/>
            <a:gdLst/>
            <a:ahLst/>
            <a:rect l="l" t="t" r="r" b="b"/>
            <a:pathLst>
              <a:path w="645" h="288">
                <a:moveTo>
                  <a:pt x="0" y="0"/>
                </a:moveTo>
                <a:lnTo>
                  <a:pt x="66" y="19"/>
                </a:lnTo>
                <a:lnTo>
                  <a:pt x="144" y="61"/>
                </a:lnTo>
                <a:lnTo>
                  <a:pt x="228" y="114"/>
                </a:lnTo>
                <a:lnTo>
                  <a:pt x="317" y="169"/>
                </a:lnTo>
                <a:lnTo>
                  <a:pt x="404" y="224"/>
                </a:lnTo>
                <a:lnTo>
                  <a:pt x="490" y="266"/>
                </a:lnTo>
                <a:lnTo>
                  <a:pt x="571" y="288"/>
                </a:lnTo>
                <a:lnTo>
                  <a:pt x="645" y="288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22680" y="1204920"/>
            <a:ext cx="439560" cy="990720"/>
          </a:xfrm>
          <a:custGeom>
            <a:avLst/>
            <a:gdLst/>
            <a:ahLst/>
            <a:rect l="l" t="t" r="r" b="b"/>
            <a:pathLst>
              <a:path w="790" h="1722">
                <a:moveTo>
                  <a:pt x="0" y="1722"/>
                </a:moveTo>
                <a:lnTo>
                  <a:pt x="63" y="1694"/>
                </a:lnTo>
                <a:lnTo>
                  <a:pt x="124" y="1650"/>
                </a:lnTo>
                <a:lnTo>
                  <a:pt x="179" y="1593"/>
                </a:lnTo>
                <a:lnTo>
                  <a:pt x="232" y="1523"/>
                </a:lnTo>
                <a:lnTo>
                  <a:pt x="283" y="1442"/>
                </a:lnTo>
                <a:lnTo>
                  <a:pt x="331" y="1351"/>
                </a:lnTo>
                <a:lnTo>
                  <a:pt x="380" y="1252"/>
                </a:lnTo>
                <a:lnTo>
                  <a:pt x="431" y="1148"/>
                </a:lnTo>
                <a:lnTo>
                  <a:pt x="479" y="1034"/>
                </a:lnTo>
                <a:lnTo>
                  <a:pt x="526" y="914"/>
                </a:lnTo>
                <a:lnTo>
                  <a:pt x="574" y="784"/>
                </a:lnTo>
                <a:lnTo>
                  <a:pt x="619" y="645"/>
                </a:lnTo>
                <a:lnTo>
                  <a:pt x="663" y="497"/>
                </a:lnTo>
                <a:lnTo>
                  <a:pt x="707" y="340"/>
                </a:lnTo>
                <a:lnTo>
                  <a:pt x="749" y="175"/>
                </a:lnTo>
                <a:lnTo>
                  <a:pt x="79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25360" y="17319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440" y="130500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05000" y="1190520"/>
            <a:ext cx="7452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28880" y="189072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85880" y="2133720"/>
            <a:ext cx="7488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85600" y="84780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olejne prób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434600" y="1050840"/>
            <a:ext cx="335160" cy="112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9680" y="1200240"/>
            <a:ext cx="8697960" cy="3486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widmo sygnału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st ograniczone od gó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częstotliwośc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może być jednoznacznie odtworz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 podstawie ciągu swoich prób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x(k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o ile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ada ta jest znana jako prawo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hanona-Kotielnikow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 próbkowa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0800" y="5129280"/>
            <a:ext cx="780984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żeli widmo sygnału nie jest ograniczone od góry (prawie zawsz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usi zostać ograniczone  przy pomocy filtrów dolnoprzepust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41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ka przetwarzania sygnał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74840" y="120600"/>
            <a:ext cx="8229600" cy="192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akres dynamicz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zetwarzania, określony jest stosunkiem największej i najmniejszej wartości sygnału, jakie mogą być reprezentowane w postaci sygnału cyfrowego. Dynamikę przetwarzania określa wyrażen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670040" y="2658960"/>
                <a:ext cx="5334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20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»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1289520" y="4122720"/>
            <a:ext cx="594612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um kwanty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ć skuteczna szumu kwantyzacji wy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306600" y="5373720"/>
                <a:ext cx="17528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825920" y="53352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symalny stosunek sygnału do szum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905120" y="1295280"/>
                <a:ext cx="49528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396720" y="3025800"/>
            <a:ext cx="853452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unek sygnału do szumu kwantyzacji można wyrazić w decybelach w zależności od N bitów liczby słowa cyfrowe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752480" y="3962520"/>
                <a:ext cx="57150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R = 10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6,0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 +1,7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304920" y="2209680"/>
          <a:ext cx="8610480" cy="25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1048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331920" y="396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dzielczość i dynamika N-bitowego przetwornika A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teoretycznym zakresie przetwarzania FS=1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9680" y="241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łędy statyczne w procesie przetwar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5559120" y="2286000"/>
            <a:ext cx="29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zera przetwornika 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04920" y="1066680"/>
            <a:ext cx="4876560" cy="2667240"/>
            <a:chOff x="304920" y="1066680"/>
            <a:chExt cx="4876560" cy="2667240"/>
          </a:xfrm>
        </p:grpSpPr>
        <p:sp>
          <p:nvSpPr>
            <p:cNvPr id="454" name=""/>
            <p:cNvSpPr/>
            <p:nvPr/>
          </p:nvSpPr>
          <p:spPr>
            <a:xfrm>
              <a:off x="2046240" y="2111040"/>
              <a:ext cx="594360" cy="237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rok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71480" y="1277640"/>
              <a:ext cx="360" cy="1433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9720" y="2333160"/>
              <a:ext cx="89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2600" y="1956600"/>
              <a:ext cx="89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2600" y="1574640"/>
              <a:ext cx="89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90200" y="2715840"/>
              <a:ext cx="4091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83560" y="2692440"/>
              <a:ext cx="360" cy="4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76920" y="2693880"/>
              <a:ext cx="360" cy="4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76760" y="2693880"/>
              <a:ext cx="360" cy="4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76880" y="1430640"/>
              <a:ext cx="2363760" cy="128628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32960" y="1156320"/>
              <a:ext cx="1253880" cy="3398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 idealnego przetwornika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A/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58240" y="2041920"/>
              <a:ext cx="1600200" cy="35352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 rzeczywistego przetwornika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A/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765000" y="1430640"/>
              <a:ext cx="2461680" cy="1285920"/>
              <a:chOff x="765000" y="1430640"/>
              <a:chExt cx="2461680" cy="128592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65000" y="2337120"/>
                <a:ext cx="354960" cy="379440"/>
                <a:chOff x="765000" y="2337120"/>
                <a:chExt cx="354960" cy="3794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65000" y="2715840"/>
                  <a:ext cx="354240" cy="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1119240" y="2337120"/>
                  <a:ext cx="720" cy="37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1128240" y="1957320"/>
                <a:ext cx="696960" cy="379440"/>
                <a:chOff x="1128240" y="1957320"/>
                <a:chExt cx="696960" cy="3794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128240" y="2334600"/>
                  <a:ext cx="695520" cy="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1824480" y="1957320"/>
                  <a:ext cx="720" cy="37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1828080" y="1579320"/>
                <a:ext cx="695520" cy="379440"/>
                <a:chOff x="1828080" y="1579320"/>
                <a:chExt cx="695520" cy="3794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828080" y="1957320"/>
                  <a:ext cx="695520" cy="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2522160" y="1579320"/>
                  <a:ext cx="720" cy="37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528640" y="1430640"/>
                <a:ext cx="698040" cy="145800"/>
                <a:chOff x="2528640" y="1430640"/>
                <a:chExt cx="698040" cy="1458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528640" y="1573920"/>
                  <a:ext cx="695880" cy="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3225960" y="1430640"/>
                  <a:ext cx="720" cy="145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1646280" y="2337120"/>
              <a:ext cx="354960" cy="379440"/>
              <a:chOff x="1646280" y="2337120"/>
              <a:chExt cx="354960" cy="379440"/>
            </a:xfrm>
          </p:grpSpPr>
          <p:sp>
            <p:nvSpPr>
              <p:cNvPr id="480" name=""/>
              <p:cNvSpPr/>
              <p:nvPr/>
            </p:nvSpPr>
            <p:spPr>
              <a:xfrm>
                <a:off x="1646280" y="2715840"/>
                <a:ext cx="3542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2000520" y="2337120"/>
                <a:ext cx="720" cy="37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007360" y="1957320"/>
              <a:ext cx="698400" cy="379440"/>
              <a:chOff x="2007360" y="1957320"/>
              <a:chExt cx="698400" cy="379440"/>
            </a:xfrm>
          </p:grpSpPr>
          <p:sp>
            <p:nvSpPr>
              <p:cNvPr id="483" name=""/>
              <p:cNvSpPr/>
              <p:nvPr/>
            </p:nvSpPr>
            <p:spPr>
              <a:xfrm>
                <a:off x="2007360" y="2334600"/>
                <a:ext cx="6955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2705040" y="1957320"/>
                <a:ext cx="720" cy="37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707920" y="1579320"/>
              <a:ext cx="695520" cy="379440"/>
              <a:chOff x="2707920" y="1579320"/>
              <a:chExt cx="695520" cy="379440"/>
            </a:xfrm>
          </p:grpSpPr>
          <p:sp>
            <p:nvSpPr>
              <p:cNvPr id="486" name=""/>
              <p:cNvSpPr/>
              <p:nvPr/>
            </p:nvSpPr>
            <p:spPr>
              <a:xfrm>
                <a:off x="2707920" y="1957320"/>
                <a:ext cx="695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3402000" y="1579320"/>
                <a:ext cx="720" cy="37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409560" y="1430640"/>
              <a:ext cx="696960" cy="145800"/>
              <a:chOff x="3409560" y="1430640"/>
              <a:chExt cx="696960" cy="145800"/>
            </a:xfrm>
          </p:grpSpPr>
          <p:sp>
            <p:nvSpPr>
              <p:cNvPr id="489" name=""/>
              <p:cNvSpPr/>
              <p:nvPr/>
            </p:nvSpPr>
            <p:spPr>
              <a:xfrm>
                <a:off x="3409560" y="1573920"/>
                <a:ext cx="6955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4105800" y="1430640"/>
                <a:ext cx="72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3601080" y="2693880"/>
              <a:ext cx="720" cy="4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6480" y="2629440"/>
              <a:ext cx="3718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4600" y="2242080"/>
              <a:ext cx="3834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6040" y="1865520"/>
              <a:ext cx="352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7640" y="1476360"/>
              <a:ext cx="3625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07160" y="2801880"/>
              <a:ext cx="1174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ejście analogowe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x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920" y="1066680"/>
              <a:ext cx="1080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od wyjściowy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3520" y="2766960"/>
              <a:ext cx="29815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                     1                      2                       3                      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635480" y="2431800"/>
              <a:ext cx="360" cy="279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35480" y="2529720"/>
              <a:ext cx="34164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932120" y="2526480"/>
              <a:ext cx="116676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52240" y="2370600"/>
              <a:ext cx="684720" cy="16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+1/2 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3040" y="3423600"/>
              <a:ext cx="1171440" cy="31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603" y="10641"/>
                  </a:moveTo>
                  <a:lnTo>
                    <a:pt x="-3994" y="10641"/>
                  </a:lnTo>
                  <a:lnTo>
                    <a:pt x="-3994" y="-31024"/>
                  </a:lnTo>
                  <a:lnTo>
                    <a:pt x="54" y="-4711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minalne położeni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z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82960" y="3302640"/>
              <a:ext cx="1812960" cy="4136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ktualne położenie z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wartość środkowa w kroku 000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78320" y="3081960"/>
              <a:ext cx="85248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9400" y="3199320"/>
              <a:ext cx="1359360" cy="199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łąd zera +1 1/4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37640" y="2715840"/>
              <a:ext cx="360" cy="46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5360" y="2745000"/>
              <a:ext cx="360" cy="428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1680" y="2692440"/>
              <a:ext cx="55800" cy="4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9560" y="2692440"/>
              <a:ext cx="55800" cy="4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5000" y="1722600"/>
              <a:ext cx="622800" cy="21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rok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559120" y="5334120"/>
            <a:ext cx="29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zera przetwornika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57200" y="4038480"/>
            <a:ext cx="4952520" cy="2590560"/>
            <a:chOff x="457200" y="4038480"/>
            <a:chExt cx="4952520" cy="2590560"/>
          </a:xfrm>
        </p:grpSpPr>
        <p:sp>
          <p:nvSpPr>
            <p:cNvPr id="514" name=""/>
            <p:cNvSpPr/>
            <p:nvPr/>
          </p:nvSpPr>
          <p:spPr>
            <a:xfrm flipV="1">
              <a:off x="911520" y="4286880"/>
              <a:ext cx="720" cy="167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69760" y="5517720"/>
              <a:ext cx="87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72640" y="5077080"/>
              <a:ext cx="8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2640" y="4629240"/>
              <a:ext cx="8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28800" y="5965200"/>
              <a:ext cx="34657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03800" y="5935320"/>
              <a:ext cx="720" cy="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77000" y="5937480"/>
              <a:ext cx="72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57040" y="5937480"/>
              <a:ext cx="72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916560" y="4463640"/>
              <a:ext cx="2296800" cy="1501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61560" y="5937480"/>
              <a:ext cx="72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00" y="4038480"/>
              <a:ext cx="121464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yjście analogowe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y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47800" y="5863680"/>
              <a:ext cx="96192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od wejściowy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N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6840" y="6019560"/>
              <a:ext cx="29804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0                  001                   010                   011                   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7440" y="4505400"/>
              <a:ext cx="182160" cy="16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64200" y="5500440"/>
              <a:ext cx="50040" cy="471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40640" y="5061240"/>
              <a:ext cx="50040" cy="471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24280" y="4617000"/>
              <a:ext cx="50040" cy="471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14920" y="4343400"/>
              <a:ext cx="50040" cy="471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26240" y="4672080"/>
              <a:ext cx="50040" cy="471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52680" y="5016240"/>
              <a:ext cx="50040" cy="471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87760" y="5946480"/>
              <a:ext cx="50040" cy="471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7760" y="5364360"/>
              <a:ext cx="50040" cy="478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02160" y="5386320"/>
              <a:ext cx="15552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393640" y="5389200"/>
              <a:ext cx="360" cy="576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68160" y="5551920"/>
              <a:ext cx="1403640" cy="254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łąd zera +1 1/4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15160" y="5011200"/>
              <a:ext cx="1265760" cy="41796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 idealnego przetwornika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C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04360" y="4521240"/>
              <a:ext cx="1277280" cy="44532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 rzeczywistego przetwornika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C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76840" y="6231600"/>
              <a:ext cx="1282320" cy="3974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minalny   punk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z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9120" y="6255360"/>
              <a:ext cx="979200" cy="3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84" y="9589"/>
                  </a:moveTo>
                  <a:lnTo>
                    <a:pt x="-3816" y="9589"/>
                  </a:lnTo>
                  <a:lnTo>
                    <a:pt x="-3816" y="-15256"/>
                  </a:lnTo>
                  <a:lnTo>
                    <a:pt x="4117" y="-473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ktualny punk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z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918720" y="4226040"/>
              <a:ext cx="2254680" cy="113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04920" y="533520"/>
            <a:ext cx="4952880" cy="2819160"/>
            <a:chOff x="304920" y="533520"/>
            <a:chExt cx="4952880" cy="2819160"/>
          </a:xfrm>
        </p:grpSpPr>
        <p:sp>
          <p:nvSpPr>
            <p:cNvPr id="545" name=""/>
            <p:cNvSpPr/>
            <p:nvPr/>
          </p:nvSpPr>
          <p:spPr>
            <a:xfrm flipV="1">
              <a:off x="715680" y="856080"/>
              <a:ext cx="720" cy="218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4560" y="2462040"/>
              <a:ext cx="109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7800" y="1887120"/>
              <a:ext cx="109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7800" y="1305360"/>
              <a:ext cx="109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37640" y="3040200"/>
              <a:ext cx="30844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82200" y="3008520"/>
              <a:ext cx="720" cy="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25320" y="3009240"/>
              <a:ext cx="720" cy="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76000" y="3009240"/>
              <a:ext cx="720" cy="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22160" y="1315800"/>
              <a:ext cx="2555640" cy="173088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02640" y="2675160"/>
              <a:ext cx="1371960" cy="21996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  ideal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74560" y="2281680"/>
              <a:ext cx="1599120" cy="22932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  rzeczywis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195200" y="1307520"/>
              <a:ext cx="2062800" cy="1174320"/>
              <a:chOff x="1195200" y="1307520"/>
              <a:chExt cx="2062800" cy="11743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195200" y="1893240"/>
                <a:ext cx="750600" cy="588600"/>
                <a:chOff x="1195200" y="1893240"/>
                <a:chExt cx="750600" cy="58860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195200" y="2481120"/>
                  <a:ext cx="749520" cy="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V="1">
                  <a:off x="1945440" y="1893240"/>
                  <a:ext cx="360" cy="584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1956240" y="1307520"/>
                <a:ext cx="847440" cy="585360"/>
                <a:chOff x="1956240" y="1307520"/>
                <a:chExt cx="847440" cy="5853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1956240" y="1892160"/>
                  <a:ext cx="847440" cy="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2802240" y="1307520"/>
                  <a:ext cx="360" cy="584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2809080" y="1308600"/>
                <a:ext cx="44892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915480" y="1896840"/>
              <a:ext cx="432000" cy="586080"/>
              <a:chOff x="915480" y="1896840"/>
              <a:chExt cx="432000" cy="586080"/>
            </a:xfrm>
          </p:grpSpPr>
          <p:sp>
            <p:nvSpPr>
              <p:cNvPr id="565" name=""/>
              <p:cNvSpPr/>
              <p:nvPr/>
            </p:nvSpPr>
            <p:spPr>
              <a:xfrm>
                <a:off x="915480" y="2482200"/>
                <a:ext cx="432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1345320" y="1896840"/>
                <a:ext cx="720" cy="58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354320" y="1311480"/>
              <a:ext cx="848160" cy="584640"/>
              <a:chOff x="1354320" y="1311480"/>
              <a:chExt cx="848160" cy="584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354320" y="1895400"/>
                <a:ext cx="847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2201760" y="1311480"/>
                <a:ext cx="720" cy="58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flipV="1">
              <a:off x="2206440" y="1303560"/>
              <a:ext cx="4489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4800" y="2913480"/>
              <a:ext cx="45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2640" y="2346840"/>
              <a:ext cx="466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9760" y="1765440"/>
              <a:ext cx="4276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1920" y="1192320"/>
              <a:ext cx="439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25800" y="2933640"/>
              <a:ext cx="12654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ejście analogowe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x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920" y="533520"/>
              <a:ext cx="1036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od wyjściowy K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7600" y="3136680"/>
              <a:ext cx="2704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                          5                         6                          7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698760" y="1304280"/>
              <a:ext cx="2091600" cy="324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3278160" y="1307880"/>
              <a:ext cx="720" cy="99288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69400" y="990720"/>
              <a:ext cx="1632240" cy="35856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minalny środek przedział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wantowania w ostatnim krok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35560" y="574920"/>
              <a:ext cx="1722240" cy="3686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ktualny środek przedział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wantowania w ostatnim krok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49600" y="1319040"/>
              <a:ext cx="720" cy="88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195280" y="1483920"/>
              <a:ext cx="45576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71520" y="1483920"/>
              <a:ext cx="9226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95280" y="1533240"/>
              <a:ext cx="5972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˝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27640" y="1303560"/>
              <a:ext cx="41040" cy="38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52240" y="1303560"/>
              <a:ext cx="41040" cy="38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49600" y="2015280"/>
              <a:ext cx="62316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679560" y="1658160"/>
              <a:ext cx="1256040" cy="423360"/>
            </a:xfrm>
            <a:prstGeom prst="borderCallout2">
              <a:avLst>
                <a:gd name="adj1" fmla="val 18750"/>
                <a:gd name="adj2" fmla="val -8333"/>
                <a:gd name="adj3" fmla="val 39759"/>
                <a:gd name="adj4" fmla="val -50087"/>
                <a:gd name="adj5" fmla="val 79115"/>
                <a:gd name="adj6" fmla="val -56722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łąd wzmocnien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3/4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0960" y="2684520"/>
              <a:ext cx="112680" cy="13248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132480"/>
                <a:gd name="textAreaBottom" fmla="*/ 127080 h 132480"/>
              </a:gdLst>
              <a:ahLst/>
              <a:rect l="textAreaLeft" t="textAreaTop" r="textAreaRight" b="textAreaBottom"/>
              <a:pathLst>
                <a:path w="21600" h="25383">
                  <a:moveTo>
                    <a:pt x="3600" y="0"/>
                  </a:moveTo>
                  <a:arcTo wR="3600" hR="3600" stAng="16200000" swAng="-5400000"/>
                  <a:lnTo>
                    <a:pt x="0" y="21783"/>
                  </a:lnTo>
                  <a:arcTo wR="3600" hR="3600" stAng="10800000" swAng="-5400000"/>
                  <a:lnTo>
                    <a:pt x="18000" y="253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622800" y="2587320"/>
              <a:ext cx="182880" cy="286200"/>
              <a:chOff x="622800" y="2587320"/>
              <a:chExt cx="182880" cy="286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622800" y="2656080"/>
                <a:ext cx="180000" cy="217440"/>
                <a:chOff x="622800" y="2656080"/>
                <a:chExt cx="180000" cy="2174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22800" y="2765160"/>
                  <a:ext cx="179280" cy="10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H="1" flipV="1">
                  <a:off x="623520" y="2655720"/>
                  <a:ext cx="179280" cy="10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624960" y="2587320"/>
                <a:ext cx="180720" cy="217440"/>
                <a:chOff x="624960" y="2587320"/>
                <a:chExt cx="180720" cy="21744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624960" y="2696400"/>
                  <a:ext cx="179280" cy="10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flipV="1">
                  <a:off x="626400" y="2586960"/>
                  <a:ext cx="179280" cy="10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8" name=""/>
            <p:cNvGrpSpPr/>
            <p:nvPr/>
          </p:nvGrpSpPr>
          <p:grpSpPr>
            <a:xfrm>
              <a:off x="915120" y="2952720"/>
              <a:ext cx="306360" cy="167760"/>
              <a:chOff x="915120" y="2952720"/>
              <a:chExt cx="306360" cy="167760"/>
            </a:xfrm>
          </p:grpSpPr>
          <p:sp>
            <p:nvSpPr>
              <p:cNvPr id="599" name=""/>
              <p:cNvSpPr/>
              <p:nvPr/>
            </p:nvSpPr>
            <p:spPr>
              <a:xfrm>
                <a:off x="992880" y="2978280"/>
                <a:ext cx="154800" cy="126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915120" y="2952720"/>
                <a:ext cx="306360" cy="167760"/>
                <a:chOff x="915120" y="2952720"/>
                <a:chExt cx="306360" cy="167760"/>
              </a:xfrm>
            </p:grpSpPr>
            <p:grpSp>
              <p:nvGrpSpPr>
                <p:cNvPr id="601" name=""/>
                <p:cNvGrpSpPr/>
                <p:nvPr/>
              </p:nvGrpSpPr>
              <p:grpSpPr>
                <a:xfrm>
                  <a:off x="990720" y="2955600"/>
                  <a:ext cx="230760" cy="164880"/>
                  <a:chOff x="990720" y="2955600"/>
                  <a:chExt cx="230760" cy="1648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 flipH="1">
                    <a:off x="1106280" y="2955600"/>
                    <a:ext cx="11520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V="1">
                    <a:off x="990720" y="2955600"/>
                    <a:ext cx="11520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915120" y="2952720"/>
                  <a:ext cx="233640" cy="164880"/>
                  <a:chOff x="915120" y="2952720"/>
                  <a:chExt cx="233640" cy="16488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flipH="1">
                    <a:off x="1032840" y="2953080"/>
                    <a:ext cx="11592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V="1">
                    <a:off x="915120" y="2952360"/>
                    <a:ext cx="11592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07" name=""/>
            <p:cNvSpPr/>
            <p:nvPr/>
          </p:nvSpPr>
          <p:spPr>
            <a:xfrm>
              <a:off x="3278160" y="2498400"/>
              <a:ext cx="720" cy="20304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78160" y="2903760"/>
              <a:ext cx="720" cy="14256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5175720" y="18288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wzmocnienia przetwornika 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47120" y="45720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wzmocnienia przetwornika 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657600"/>
            <a:ext cx="4800600" cy="2438280"/>
            <a:chOff x="380880" y="3657600"/>
            <a:chExt cx="4800600" cy="2438280"/>
          </a:xfrm>
        </p:grpSpPr>
        <p:sp>
          <p:nvSpPr>
            <p:cNvPr id="612" name=""/>
            <p:cNvSpPr/>
            <p:nvPr/>
          </p:nvSpPr>
          <p:spPr>
            <a:xfrm flipV="1">
              <a:off x="907560" y="3864960"/>
              <a:ext cx="2160" cy="196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53560" y="5398920"/>
              <a:ext cx="90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56440" y="4974840"/>
              <a:ext cx="90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56440" y="4546800"/>
              <a:ext cx="90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760" y="5828040"/>
              <a:ext cx="3097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14600" y="5802480"/>
              <a:ext cx="72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13360" y="5803920"/>
              <a:ext cx="72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18960" y="5803920"/>
              <a:ext cx="72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909000" y="4157640"/>
              <a:ext cx="2826720" cy="16725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0480" y="5803920"/>
              <a:ext cx="72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0880" y="3657600"/>
              <a:ext cx="12603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yjście analogowe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Y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71240" y="5752800"/>
              <a:ext cx="111024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od wejściowy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83360" y="5900760"/>
              <a:ext cx="30924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0                   100                   101                  110                   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2200" y="4041720"/>
              <a:ext cx="189000" cy="19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73920" y="5397120"/>
              <a:ext cx="52200" cy="457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83120" y="4974840"/>
              <a:ext cx="52200" cy="457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85120" y="4559040"/>
              <a:ext cx="52200" cy="457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03320" y="4556160"/>
              <a:ext cx="52200" cy="45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95720" y="5137200"/>
              <a:ext cx="52200" cy="45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76080" y="5445360"/>
              <a:ext cx="52200" cy="457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71920" y="5810760"/>
              <a:ext cx="52200" cy="457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83080" y="5251680"/>
              <a:ext cx="52200" cy="457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52720" y="4395960"/>
              <a:ext cx="1063080" cy="3398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deal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83280" y="5334840"/>
              <a:ext cx="1234440" cy="3758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zeczywista przetwornik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7600" y="4151160"/>
              <a:ext cx="90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81640" y="5553000"/>
              <a:ext cx="6120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58760" y="5801400"/>
              <a:ext cx="83880" cy="5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963000" y="5756040"/>
              <a:ext cx="289440" cy="149760"/>
              <a:chOff x="963000" y="5756040"/>
              <a:chExt cx="289440" cy="14976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1032840" y="5759640"/>
                <a:ext cx="219600" cy="146160"/>
                <a:chOff x="1032840" y="5759640"/>
                <a:chExt cx="219600" cy="146160"/>
              </a:xfrm>
            </p:grpSpPr>
            <p:sp>
              <p:nvSpPr>
                <p:cNvPr id="641" name=""/>
                <p:cNvSpPr/>
                <p:nvPr/>
              </p:nvSpPr>
              <p:spPr>
                <a:xfrm flipH="1">
                  <a:off x="1142280" y="5759640"/>
                  <a:ext cx="110160" cy="144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1032840" y="5761800"/>
                  <a:ext cx="110160" cy="144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963000" y="5756040"/>
                <a:ext cx="219240" cy="146880"/>
                <a:chOff x="963000" y="5756040"/>
                <a:chExt cx="219240" cy="146880"/>
              </a:xfrm>
            </p:grpSpPr>
            <p:sp>
              <p:nvSpPr>
                <p:cNvPr id="644" name=""/>
                <p:cNvSpPr/>
                <p:nvPr/>
              </p:nvSpPr>
              <p:spPr>
                <a:xfrm flipH="1">
                  <a:off x="1072800" y="5756040"/>
                  <a:ext cx="109440" cy="144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963000" y="5758920"/>
                  <a:ext cx="109440" cy="144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824040" y="5464080"/>
              <a:ext cx="169560" cy="257760"/>
              <a:chOff x="824040" y="5464080"/>
              <a:chExt cx="169560" cy="25776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824040" y="5524920"/>
                <a:ext cx="167400" cy="196920"/>
                <a:chOff x="824040" y="5524920"/>
                <a:chExt cx="167400" cy="1969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825120" y="5622840"/>
                  <a:ext cx="166320" cy="9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flipV="1">
                  <a:off x="824040" y="5524560"/>
                  <a:ext cx="166320" cy="9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826920" y="5464080"/>
                <a:ext cx="166680" cy="196920"/>
                <a:chOff x="826920" y="5464080"/>
                <a:chExt cx="166680" cy="19692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827280" y="5562000"/>
                  <a:ext cx="166320" cy="9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826920" y="5463720"/>
                  <a:ext cx="166320" cy="9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3" name=""/>
            <p:cNvSpPr/>
            <p:nvPr/>
          </p:nvSpPr>
          <p:spPr>
            <a:xfrm flipV="1">
              <a:off x="1599840" y="4573440"/>
              <a:ext cx="213588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20160" y="4157640"/>
              <a:ext cx="2815560" cy="36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742560" y="4164480"/>
              <a:ext cx="720" cy="165816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09080" y="4137120"/>
              <a:ext cx="52200" cy="457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07080" y="4839120"/>
              <a:ext cx="52200" cy="45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727440" y="4157640"/>
              <a:ext cx="351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64520" y="4581000"/>
              <a:ext cx="309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63960" y="4159440"/>
              <a:ext cx="720" cy="41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45320" y="4263840"/>
              <a:ext cx="1068120" cy="26604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łąd wzmocnien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69760" y="3774240"/>
              <a:ext cx="1207800" cy="3614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minalna wartość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yjściowa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64400" y="4683240"/>
              <a:ext cx="1077840" cy="42228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ktualna wartość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yjściow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i analogowo-cyfrowe i cyfrowo-analogow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onwertery AC i 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66120" y="1254240"/>
            <a:ext cx="6435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i analogowo-cyfrowe ( AC, A/C,A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arzają sygnał analogowy na sygnał cyfr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i cyfrowo-analogowe (CA, C/A, D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arzają sygnał cyfrowy na analog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01040" y="3770280"/>
            <a:ext cx="8166600" cy="2879280"/>
            <a:chOff x="401040" y="3770280"/>
            <a:chExt cx="8166600" cy="2879280"/>
          </a:xfrm>
        </p:grpSpPr>
        <p:sp>
          <p:nvSpPr>
            <p:cNvPr id="83" name=""/>
            <p:cNvSpPr/>
            <p:nvPr/>
          </p:nvSpPr>
          <p:spPr>
            <a:xfrm>
              <a:off x="3452760" y="3922560"/>
              <a:ext cx="15238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38360" y="4379760"/>
              <a:ext cx="914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76640" y="3998880"/>
              <a:ext cx="838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76640" y="4227480"/>
              <a:ext cx="838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6640" y="4456080"/>
              <a:ext cx="838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76640" y="4684680"/>
              <a:ext cx="838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36880" y="415116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920" y="3922560"/>
              <a:ext cx="20671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Sygnał analogo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np.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= 6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68800" y="3770280"/>
              <a:ext cx="295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44640" y="3846240"/>
              <a:ext cx="186948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Sygnał cyfrow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np.. 4 bitow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= 0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2760" y="5522760"/>
              <a:ext cx="15238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76640" y="5979960"/>
              <a:ext cx="914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14320" y="5599080"/>
              <a:ext cx="838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14320" y="5827680"/>
              <a:ext cx="838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14320" y="6056280"/>
              <a:ext cx="838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14320" y="6284880"/>
              <a:ext cx="838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36880" y="575136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0520" y="5599080"/>
              <a:ext cx="20671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Sygnał analogo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np.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= 6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11200" y="5370480"/>
              <a:ext cx="295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1040" y="5294160"/>
              <a:ext cx="186948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Sygnał cyfrow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np.. 4 bitow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= 0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5328720" y="1447920"/>
            <a:ext cx="35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nieliniowości różniczkow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twornika 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16000" y="4114800"/>
            <a:ext cx="35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nieliniowości różniczkow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twornika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04920" y="533520"/>
            <a:ext cx="4952880" cy="2971440"/>
            <a:chOff x="304920" y="533520"/>
            <a:chExt cx="4952880" cy="2971440"/>
          </a:xfrm>
        </p:grpSpPr>
        <p:sp>
          <p:nvSpPr>
            <p:cNvPr id="667" name=""/>
            <p:cNvSpPr/>
            <p:nvPr/>
          </p:nvSpPr>
          <p:spPr>
            <a:xfrm>
              <a:off x="947520" y="3238560"/>
              <a:ext cx="20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9120" y="2902680"/>
              <a:ext cx="720" cy="331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54160" y="2900880"/>
              <a:ext cx="433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84720" y="2566440"/>
              <a:ext cx="72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1602720" y="2564640"/>
              <a:ext cx="1990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07920" y="2242080"/>
              <a:ext cx="72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96040" y="2218680"/>
              <a:ext cx="671040" cy="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62760" y="1893600"/>
              <a:ext cx="72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2467080" y="1898640"/>
              <a:ext cx="7041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73040" y="1572840"/>
              <a:ext cx="72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182760" y="1571760"/>
              <a:ext cx="433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892800" y="929880"/>
              <a:ext cx="720" cy="2308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36640" y="2895480"/>
              <a:ext cx="111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8080" y="2563560"/>
              <a:ext cx="111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40960" y="2234160"/>
              <a:ext cx="111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40960" y="1891800"/>
              <a:ext cx="111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0960" y="1212480"/>
              <a:ext cx="111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0960" y="1552320"/>
              <a:ext cx="111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916560" y="3242880"/>
              <a:ext cx="2999880" cy="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1160" y="3201480"/>
              <a:ext cx="72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94600" y="3203640"/>
              <a:ext cx="72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23720" y="3205440"/>
              <a:ext cx="72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70120" y="3205440"/>
              <a:ext cx="72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555360" y="3205440"/>
              <a:ext cx="72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12560" y="3205440"/>
              <a:ext cx="72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55320" y="3070440"/>
              <a:ext cx="13024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rtość analogowa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x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a wejści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1760" y="533520"/>
              <a:ext cx="10983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od cyfrowy K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a wyjści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4920" y="30985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6360" y="2758680"/>
              <a:ext cx="6217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7800" y="2411280"/>
              <a:ext cx="58824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7800" y="2111760"/>
              <a:ext cx="632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0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72280" y="3261960"/>
              <a:ext cx="29048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             1             2            3             4             5             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07800" y="1754280"/>
              <a:ext cx="521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6360" y="1414800"/>
              <a:ext cx="5670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6360" y="1110240"/>
              <a:ext cx="5670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1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82200" y="2908800"/>
              <a:ext cx="720" cy="25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02880" y="2594520"/>
              <a:ext cx="2880" cy="22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2007720" y="2594160"/>
              <a:ext cx="3240" cy="58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464200" y="2265480"/>
              <a:ext cx="2880" cy="14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69240" y="2299680"/>
              <a:ext cx="43380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922120" y="1211400"/>
              <a:ext cx="720" cy="119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61520" y="1211760"/>
              <a:ext cx="720" cy="340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88320" y="3078720"/>
              <a:ext cx="4111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916000" y="1395720"/>
              <a:ext cx="2422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74640" y="776880"/>
              <a:ext cx="1545840" cy="407520"/>
            </a:xfrm>
            <a:prstGeom prst="borderCallout2">
              <a:avLst>
                <a:gd name="adj1" fmla="val 18750"/>
                <a:gd name="adj2" fmla="val -8333"/>
                <a:gd name="adj3" fmla="val 37884"/>
                <a:gd name="adj4" fmla="val -21287"/>
                <a:gd name="adj5" fmla="val 142731"/>
                <a:gd name="adj6" fmla="val -2128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łąd nieliniowośc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óżniczkowej +1/2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34400" y="2167560"/>
              <a:ext cx="1482840" cy="434520"/>
            </a:xfrm>
            <a:prstGeom prst="borderCallout1">
              <a:avLst>
                <a:gd name="adj1" fmla="val -19917"/>
                <a:gd name="adj2" fmla="val 26197"/>
                <a:gd name="adj3" fmla="val 19408"/>
                <a:gd name="adj4" fmla="val 2619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łąd nieliniowośc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óżniczkowej -1/2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94440" y="2377080"/>
              <a:ext cx="388080" cy="217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05240" y="2825280"/>
              <a:ext cx="388080" cy="22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07920" y="2687760"/>
              <a:ext cx="20592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85800" y="3657600"/>
            <a:ext cx="4647960" cy="2743200"/>
            <a:chOff x="685800" y="3657600"/>
            <a:chExt cx="4647960" cy="2743200"/>
          </a:xfrm>
        </p:grpSpPr>
        <p:sp>
          <p:nvSpPr>
            <p:cNvPr id="717" name=""/>
            <p:cNvSpPr/>
            <p:nvPr/>
          </p:nvSpPr>
          <p:spPr>
            <a:xfrm>
              <a:off x="685800" y="4026240"/>
              <a:ext cx="131760" cy="21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857520" y="3657600"/>
              <a:ext cx="4476240" cy="2743200"/>
              <a:chOff x="857520" y="3657600"/>
              <a:chExt cx="4476240" cy="274320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894240" y="3661560"/>
                <a:ext cx="108720" cy="2413080"/>
                <a:chOff x="894240" y="3661560"/>
                <a:chExt cx="108720" cy="2413080"/>
              </a:xfrm>
            </p:grpSpPr>
            <p:sp>
              <p:nvSpPr>
                <p:cNvPr id="720" name=""/>
                <p:cNvSpPr/>
                <p:nvPr/>
              </p:nvSpPr>
              <p:spPr>
                <a:xfrm flipV="1">
                  <a:off x="947160" y="3661560"/>
                  <a:ext cx="360" cy="2413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94240" y="5752080"/>
                  <a:ext cx="1047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95680" y="5439240"/>
                  <a:ext cx="10440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98560" y="5125320"/>
                  <a:ext cx="10440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98560" y="4803120"/>
                  <a:ext cx="10440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898560" y="4161960"/>
                  <a:ext cx="10440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898560" y="4480200"/>
                  <a:ext cx="10440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 flipV="1">
                <a:off x="969120" y="6080760"/>
                <a:ext cx="336456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382760" y="6040080"/>
                <a:ext cx="36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787040" y="6041880"/>
                <a:ext cx="36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187360" y="6044040"/>
                <a:ext cx="36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602800" y="6044040"/>
                <a:ext cx="36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427920" y="6044040"/>
                <a:ext cx="36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015000" y="6044040"/>
                <a:ext cx="36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39880" y="5936040"/>
                <a:ext cx="788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Kod cyfrow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na wejści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995400" y="3657600"/>
                <a:ext cx="118728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Wartość analogow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na wyjści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82240" y="4251240"/>
                <a:ext cx="50400" cy="5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575080" y="4492080"/>
                <a:ext cx="50400" cy="5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162160" y="4789080"/>
                <a:ext cx="50760" cy="5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757160" y="5112720"/>
                <a:ext cx="47880" cy="61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362960" y="5530320"/>
                <a:ext cx="50400" cy="5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402000" y="4127040"/>
                <a:ext cx="50400" cy="5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776960" y="5143320"/>
                <a:ext cx="5752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446480" y="5559120"/>
                <a:ext cx="9115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58560" y="4282560"/>
                <a:ext cx="7815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072960" y="4614480"/>
                <a:ext cx="7743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653560" y="4518360"/>
                <a:ext cx="9446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789360" y="4289760"/>
                <a:ext cx="360" cy="31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" name=""/>
              <p:cNvGrpSpPr/>
              <p:nvPr/>
            </p:nvGrpSpPr>
            <p:grpSpPr>
              <a:xfrm>
                <a:off x="3250080" y="4408560"/>
                <a:ext cx="5040" cy="574560"/>
                <a:chOff x="3250080" y="4408560"/>
                <a:chExt cx="5040" cy="5745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3250080" y="4408560"/>
                  <a:ext cx="720" cy="110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3254400" y="4618440"/>
                  <a:ext cx="720" cy="110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252240" y="4490280"/>
                  <a:ext cx="720" cy="492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2282760" y="5153400"/>
                <a:ext cx="720" cy="31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1894320" y="5469840"/>
                <a:ext cx="4644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11320" y="5132520"/>
                <a:ext cx="64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2052000" y="5353920"/>
                <a:ext cx="3960" cy="575280"/>
                <a:chOff x="2052000" y="5353920"/>
                <a:chExt cx="3960" cy="5752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2052000" y="5353920"/>
                  <a:ext cx="720" cy="110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2055240" y="5565600"/>
                  <a:ext cx="720" cy="110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053800" y="5436360"/>
                  <a:ext cx="360" cy="492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2389320" y="5199120"/>
                <a:ext cx="394560" cy="222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95920" y="4316760"/>
                <a:ext cx="390240" cy="21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43560" y="5348520"/>
                <a:ext cx="1690200" cy="390240"/>
              </a:xfrm>
              <a:prstGeom prst="borderCallout1">
                <a:avLst>
                  <a:gd name="adj1" fmla="val 18750"/>
                  <a:gd name="adj2" fmla="val -8333"/>
                  <a:gd name="adj3" fmla="val 101611"/>
                  <a:gd name="adj4" fmla="val -93861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błąd nieliniowości różniczkowej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+1/4(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22680" y="4725000"/>
                <a:ext cx="1700280" cy="405720"/>
              </a:xfrm>
              <a:prstGeom prst="borderCallout1">
                <a:avLst>
                  <a:gd name="adj1" fmla="val 18750"/>
                  <a:gd name="adj2" fmla="val -8333"/>
                  <a:gd name="adj3" fmla="val 44125"/>
                  <a:gd name="adj4" fmla="val -17712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błąd nieliniowości różniczkowej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1/4(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57520" y="6163560"/>
                <a:ext cx="3117600" cy="237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000         001         010        011         100         101         1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952560" y="5559120"/>
                <a:ext cx="437040" cy="509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1382760" y="5143320"/>
                <a:ext cx="394560" cy="41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1776960" y="4815360"/>
                <a:ext cx="411480" cy="33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2192760" y="4524480"/>
                <a:ext cx="405720" cy="293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2597040" y="4280760"/>
                <a:ext cx="411120" cy="23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3007080" y="4150800"/>
                <a:ext cx="426600" cy="12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20880" y="6050880"/>
                <a:ext cx="50760" cy="5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5162040" y="1614600"/>
            <a:ext cx="30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nieliniowości całkow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twornika 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06480" y="4800600"/>
            <a:ext cx="30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nieliniowości całkow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twornika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228600" y="533520"/>
            <a:ext cx="5105160" cy="2971440"/>
            <a:chOff x="228600" y="533520"/>
            <a:chExt cx="5105160" cy="2971440"/>
          </a:xfrm>
        </p:grpSpPr>
        <p:sp>
          <p:nvSpPr>
            <p:cNvPr id="774" name=""/>
            <p:cNvSpPr/>
            <p:nvPr/>
          </p:nvSpPr>
          <p:spPr>
            <a:xfrm flipV="1">
              <a:off x="779400" y="975240"/>
              <a:ext cx="1800" cy="2300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6840" y="2966040"/>
              <a:ext cx="10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7920" y="2665800"/>
              <a:ext cx="10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0800" y="2368440"/>
              <a:ext cx="10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0800" y="2060280"/>
              <a:ext cx="10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0800" y="1444680"/>
              <a:ext cx="10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0800" y="1752840"/>
              <a:ext cx="10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1360" y="3279960"/>
              <a:ext cx="305460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17880" y="3241080"/>
              <a:ext cx="720" cy="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23600" y="3242520"/>
              <a:ext cx="360" cy="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25720" y="3244320"/>
              <a:ext cx="720" cy="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43680" y="3244320"/>
              <a:ext cx="360" cy="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72760" y="3244320"/>
              <a:ext cx="720" cy="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57680" y="3244320"/>
              <a:ext cx="720" cy="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81880" y="3086280"/>
              <a:ext cx="12196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rtość analogowa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x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a wejści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9200" y="533520"/>
              <a:ext cx="94140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Kod cyfrowy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a wyjści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8600" y="3148920"/>
              <a:ext cx="49932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0040" y="2841480"/>
              <a:ext cx="5821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1120" y="2527560"/>
              <a:ext cx="5508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1120" y="2257560"/>
              <a:ext cx="59220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0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7160" y="3304800"/>
              <a:ext cx="3103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             1            2             3             4             5             6             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1120" y="1934280"/>
              <a:ext cx="4881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0040" y="1627920"/>
              <a:ext cx="530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0040" y="1354320"/>
              <a:ext cx="530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1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8000" y="1128240"/>
              <a:ext cx="10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9760" y="1038960"/>
              <a:ext cx="506160" cy="19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..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778680" y="1123200"/>
              <a:ext cx="2907000" cy="2163240"/>
              <a:chOff x="778680" y="1123200"/>
              <a:chExt cx="2907000" cy="2163240"/>
            </a:xfrm>
          </p:grpSpPr>
          <p:sp>
            <p:nvSpPr>
              <p:cNvPr id="801" name=""/>
              <p:cNvSpPr/>
              <p:nvPr/>
            </p:nvSpPr>
            <p:spPr>
              <a:xfrm>
                <a:off x="1839240" y="2361960"/>
                <a:ext cx="360" cy="31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1829520" y="2361960"/>
                <a:ext cx="410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47840" y="2064240"/>
                <a:ext cx="360" cy="31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2238120" y="2059560"/>
                <a:ext cx="410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47800" y="1756800"/>
                <a:ext cx="360" cy="31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2631240" y="1751400"/>
                <a:ext cx="410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049560" y="1440000"/>
                <a:ext cx="360" cy="31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3040560" y="1433520"/>
                <a:ext cx="410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458160" y="1123200"/>
                <a:ext cx="360" cy="31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1420920" y="2665440"/>
                <a:ext cx="410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27040" y="2674080"/>
                <a:ext cx="360" cy="31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000080" y="2973600"/>
                <a:ext cx="410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000440" y="2975400"/>
                <a:ext cx="720" cy="31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465000" y="1131120"/>
                <a:ext cx="2206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78680" y="3282480"/>
                <a:ext cx="2206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779400" y="1131480"/>
              <a:ext cx="2894040" cy="72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5680" y="3238560"/>
              <a:ext cx="36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3684960" y="2653560"/>
              <a:ext cx="720" cy="59976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788040" y="1131120"/>
              <a:ext cx="2890440" cy="215028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9240" y="3246120"/>
              <a:ext cx="57600" cy="56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649320" y="1103400"/>
              <a:ext cx="57600" cy="56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611360" y="2356200"/>
              <a:ext cx="36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606320" y="2356200"/>
              <a:ext cx="411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20680" y="2061000"/>
              <a:ext cx="144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2022840" y="2060280"/>
              <a:ext cx="4312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76800" y="1759680"/>
              <a:ext cx="360" cy="30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2476440" y="1751400"/>
              <a:ext cx="4467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49480" y="1440360"/>
              <a:ext cx="72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951640" y="1433160"/>
              <a:ext cx="4204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00920" y="1131480"/>
              <a:ext cx="36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313280" y="2666880"/>
              <a:ext cx="295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13280" y="2666880"/>
              <a:ext cx="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3400200" y="1125360"/>
              <a:ext cx="2710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08280" y="2973240"/>
              <a:ext cx="4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01080" y="2976840"/>
              <a:ext cx="36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88040" y="3279960"/>
              <a:ext cx="11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313280" y="2973240"/>
              <a:ext cx="720" cy="23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24880" y="2973240"/>
              <a:ext cx="360" cy="23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7800" y="2356200"/>
              <a:ext cx="1800" cy="30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47120" y="2367000"/>
              <a:ext cx="360" cy="28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05480" y="2605320"/>
              <a:ext cx="1072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2250000" y="2605320"/>
              <a:ext cx="1072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1976400" y="2603880"/>
              <a:ext cx="72792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00600" y="3132360"/>
              <a:ext cx="71964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200600" y="3132360"/>
              <a:ext cx="1072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1427760" y="3134880"/>
              <a:ext cx="1072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17360" y="2796840"/>
              <a:ext cx="1242720" cy="40752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łąd w punkcie: 001/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= -1/4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07560" y="2313720"/>
              <a:ext cx="1304640" cy="36756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łąd w punkcie: 011/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= -1/2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0200" y="1760400"/>
              <a:ext cx="1393560" cy="39420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dealnego przetwornika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A/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87840" y="1259280"/>
              <a:ext cx="1024920" cy="3560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zeczywis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3684960" y="1131480"/>
              <a:ext cx="2160" cy="1182240"/>
            </a:xfrm>
            <a:prstGeom prst="line">
              <a:avLst/>
            </a:prstGeom>
            <a:ln w="3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0880" y="3581280"/>
            <a:ext cx="4876920" cy="2819520"/>
            <a:chOff x="380880" y="3581280"/>
            <a:chExt cx="4876920" cy="2819520"/>
          </a:xfrm>
        </p:grpSpPr>
        <p:grpSp>
          <p:nvGrpSpPr>
            <p:cNvPr id="853" name=""/>
            <p:cNvGrpSpPr/>
            <p:nvPr/>
          </p:nvGrpSpPr>
          <p:grpSpPr>
            <a:xfrm>
              <a:off x="380880" y="3581280"/>
              <a:ext cx="4876920" cy="2819520"/>
              <a:chOff x="380880" y="3581280"/>
              <a:chExt cx="4876920" cy="2819520"/>
            </a:xfrm>
          </p:grpSpPr>
          <p:sp>
            <p:nvSpPr>
              <p:cNvPr id="854" name=""/>
              <p:cNvSpPr/>
              <p:nvPr/>
            </p:nvSpPr>
            <p:spPr>
              <a:xfrm>
                <a:off x="4259160" y="5942160"/>
                <a:ext cx="9986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Kod cyfrowy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(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na wejści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80880" y="3581280"/>
                <a:ext cx="1177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Wartość analogowa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y(t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na wyjści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68160" y="4138920"/>
                <a:ext cx="130680" cy="21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8160" y="6172920"/>
                <a:ext cx="3093120" cy="227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000         001         010        011         100         101         110        1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57520" y="4021200"/>
                <a:ext cx="360" cy="206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05680" y="5810760"/>
                <a:ext cx="1033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7120" y="5542560"/>
                <a:ext cx="1033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09640" y="5274360"/>
                <a:ext cx="1033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09640" y="4998960"/>
                <a:ext cx="1033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09640" y="4447440"/>
                <a:ext cx="1033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09640" y="4722840"/>
                <a:ext cx="1033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879480" y="6091920"/>
                <a:ext cx="333792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290240" y="6058080"/>
                <a:ext cx="36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690920" y="6059520"/>
                <a:ext cx="72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089080" y="6060960"/>
                <a:ext cx="36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500920" y="6060960"/>
                <a:ext cx="36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319560" y="6060960"/>
                <a:ext cx="36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909520" y="6060960"/>
                <a:ext cx="36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882880" y="448992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468520" y="479808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058120" y="499572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668960" y="5384520"/>
                <a:ext cx="47520" cy="5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256760" y="562140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291840" y="430416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99360" y="5281560"/>
                <a:ext cx="612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862560" y="5645160"/>
                <a:ext cx="417600" cy="437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1279440" y="5412600"/>
                <a:ext cx="412560" cy="23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1691640" y="5010120"/>
                <a:ext cx="397080" cy="40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2082600" y="4821120"/>
                <a:ext cx="408960" cy="195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491200" y="4509720"/>
                <a:ext cx="408960" cy="31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2899440" y="4327200"/>
                <a:ext cx="416160" cy="18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320" y="606672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731040" y="6053040"/>
                <a:ext cx="36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1800" y="4188600"/>
                <a:ext cx="1033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56800" y="4187520"/>
                <a:ext cx="287460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3731040" y="4189320"/>
                <a:ext cx="360" cy="19022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701160" y="416736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3331440" y="4193280"/>
                <a:ext cx="399960" cy="12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864000" y="4174920"/>
                <a:ext cx="2874240" cy="189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256760" y="577800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665720" y="550728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052720" y="525780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468520" y="497592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889000" y="470052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296160" y="4429440"/>
                <a:ext cx="496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300680" y="5638680"/>
                <a:ext cx="9093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86640" y="5802840"/>
                <a:ext cx="9162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116360" y="5277600"/>
                <a:ext cx="945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117440" y="5016240"/>
                <a:ext cx="96048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133360" y="5644080"/>
                <a:ext cx="360" cy="158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180800" y="5022360"/>
                <a:ext cx="720" cy="25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622600" y="5559840"/>
                <a:ext cx="930240" cy="422280"/>
              </a:xfrm>
              <a:prstGeom prst="borderCallout2">
                <a:avLst>
                  <a:gd name="adj1" fmla="val 18750"/>
                  <a:gd name="adj2" fmla="val -8333"/>
                  <a:gd name="adj3" fmla="val 39666"/>
                  <a:gd name="adj4" fmla="val -25587"/>
                  <a:gd name="adj5" fmla="val 40407"/>
                  <a:gd name="adj6" fmla="val -42166"/>
                </a:avLst>
              </a:prstGeom>
              <a:noFill/>
              <a:ln w="648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w kroku: 0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błąd = 1/4(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90760" y="4448160"/>
                <a:ext cx="887400" cy="359280"/>
              </a:xfrm>
              <a:prstGeom prst="borderCallout2">
                <a:avLst>
                  <a:gd name="adj1" fmla="val 18750"/>
                  <a:gd name="adj2" fmla="val -8333"/>
                  <a:gd name="adj3" fmla="val 34791"/>
                  <a:gd name="adj4" fmla="val -16430"/>
                  <a:gd name="adj5" fmla="val 149453"/>
                  <a:gd name="adj6" fmla="val -33333"/>
                </a:avLst>
              </a:prstGeom>
              <a:noFill/>
              <a:ln w="648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w kroku: 0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błąd= 3/4(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3544920" y="5040000"/>
              <a:ext cx="1257840" cy="438840"/>
            </a:xfrm>
            <a:solidFill>
              <a:srgbClr val="ffffff"/>
            </a:solidFill>
            <a:ln w="324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rakterystyka idealnego przetwornika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C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2210760" y="1981080"/>
            <a:ext cx="44251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ładność przetwornika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430360" y="2989440"/>
                <a:ext cx="41785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 rzeczywiste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 oczekiwane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1818720" y="4162320"/>
            <a:ext cx="4775760" cy="1373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dzielczość przetwornika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(=LS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1371240" y="241632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ynamiczne przetwor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228600" y="1074600"/>
          <a:ext cx="7104240" cy="28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4600"/>
                    <a:ext cx="7104240" cy="28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"/>
          <p:cNvSpPr/>
          <p:nvPr/>
        </p:nvSpPr>
        <p:spPr>
          <a:xfrm>
            <a:off x="6551640" y="19591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 ustal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228600" y="4110120"/>
          <a:ext cx="695628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10120"/>
                    <a:ext cx="695628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3607560" y="4232160"/>
            <a:ext cx="51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jednakowe czasy przełączania kluc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72520" y="3571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861840" y="193680"/>
            <a:ext cx="7274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ędy dynamiczne przetwornika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symalna częstotliwość pracy (próbkowania) (mierzona w MS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914400" y="2133720"/>
          <a:ext cx="739152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39152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219320" y="5257800"/>
                <a:ext cx="1828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+1</m:t>
                            </m:r>
                          </m:sup>
                        </m:sSup>
                        <m:sSub>
                          <m:e>
                            <m:r>
                              <m:t xml:space="preserve">P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952880" y="5181480"/>
                <a:ext cx="2133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+1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J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1137960" y="6154560"/>
            <a:ext cx="195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czas konwers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2286360" y="76212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łąd całkowity przetwor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600" y="2133720"/>
            <a:ext cx="8610480" cy="3215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Nakładanie się na siebie wymienionych błędów przetwarzania można ująć całościowo w postaci błędu całkowitego (</a:t>
            </a:r>
            <a:r>
              <a:rPr b="0" i="1" lang="pl-PL" sz="3600" spc="-1" strike="noStrike" baseline="-25000">
                <a:solidFill>
                  <a:srgbClr val="000000"/>
                </a:solidFill>
                <a:latin typeface="Times New Roman"/>
              </a:rPr>
              <a:t>absolute accuracy error</a:t>
            </a: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Błąd całkowity jest to maksymalna różnica pomiędzy aktualną wartością analogową i teoretyczną wartością środkową w danym krok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próbkująco-pamiętający S/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sample/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9040" y="1217520"/>
            <a:ext cx="8169480" cy="689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kład próbkująco-pamiętający (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albo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sample and hold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S/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) ma za zadanie pobrać i zapamiętać chwilową wartość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x(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analogowego przebiegu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na czas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potrzebny do jej przetworzenia (konwersji) w przetworniku analogowo-cyfrowym. Pamiętanie polega na utrzymywaniu ładunku elektrycznego w kondensatorze pamiętającym. Brak układu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może powodować występowanie dużych błędów w przetwarzaniu, jeżeli poziom sygnału na wejściu przetwornika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A/C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zmieni się, zanim skończy on konwersję. Maksymalną częstotliwość sinusoidalnego sygnału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fmax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, przy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-bitowym przetwarzaniu z dokładnością 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LS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, określa zależność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fmax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=1/(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l-PL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). Na przykład, jeżeli dla ośmiobitowego (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=8) przetwornika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A/C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czas konwersji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wynosi 25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s (np.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AC08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), to przy braku układu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częstotliwość sinusoidalnego sygnału wejściowego nie może przekroczyć wartości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fmax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25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823400" y="2803680"/>
            <a:ext cx="4184280" cy="141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łąd apertury i drżenie aprer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ybkość opad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 ustal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143000" y="762120"/>
            <a:ext cx="64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łędy w procesie próbkowania i pamię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"/>
          <p:cNvGrpSpPr/>
          <p:nvPr/>
        </p:nvGrpSpPr>
        <p:grpSpPr>
          <a:xfrm>
            <a:off x="345960" y="1417680"/>
            <a:ext cx="8313840" cy="3763800"/>
            <a:chOff x="345960" y="1417680"/>
            <a:chExt cx="8313840" cy="3763800"/>
          </a:xfrm>
        </p:grpSpPr>
        <p:sp>
          <p:nvSpPr>
            <p:cNvPr id="932" name=""/>
            <p:cNvSpPr/>
            <p:nvPr/>
          </p:nvSpPr>
          <p:spPr>
            <a:xfrm>
              <a:off x="4353840" y="4674960"/>
              <a:ext cx="26546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ygnał pamiętania - ho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08800" y="4013280"/>
              <a:ext cx="256176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zpoczęcie pamięta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43840" y="1417680"/>
              <a:ext cx="1440" cy="301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39160" y="2965320"/>
              <a:ext cx="53848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4002120" y="1704240"/>
              <a:ext cx="1158840" cy="22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5135760" y="1704240"/>
              <a:ext cx="1158840" cy="22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6294240" y="1704240"/>
              <a:ext cx="1158480" cy="22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25760" y="1812600"/>
              <a:ext cx="1440" cy="149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85760" y="1812600"/>
              <a:ext cx="1440" cy="795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84960" y="1614240"/>
              <a:ext cx="591120" cy="43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863160" y="1990080"/>
              <a:ext cx="2351880" cy="3240"/>
              <a:chOff x="3863160" y="1990080"/>
              <a:chExt cx="2351880" cy="3240"/>
            </a:xfrm>
          </p:grpSpPr>
          <p:sp>
            <p:nvSpPr>
              <p:cNvPr id="943" name=""/>
              <p:cNvSpPr/>
              <p:nvPr/>
            </p:nvSpPr>
            <p:spPr>
              <a:xfrm flipH="1">
                <a:off x="4719240" y="1991880"/>
                <a:ext cx="39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863160" y="1991880"/>
                <a:ext cx="39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037400" y="1990080"/>
                <a:ext cx="21776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 flipV="1">
              <a:off x="4691880" y="2669040"/>
              <a:ext cx="7560" cy="18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4336920" y="3416040"/>
              <a:ext cx="3240" cy="17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399840" y="2599560"/>
              <a:ext cx="128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412080" y="3318840"/>
              <a:ext cx="893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28000" y="2378520"/>
              <a:ext cx="7560" cy="1401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28000" y="2180160"/>
              <a:ext cx="1440" cy="38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528000" y="3373920"/>
              <a:ext cx="1440" cy="38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79680" y="3278520"/>
              <a:ext cx="83520" cy="748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50120" y="2557800"/>
              <a:ext cx="83520" cy="748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786040" y="1558440"/>
              <a:ext cx="633960" cy="513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75240" y="3747240"/>
              <a:ext cx="633960" cy="502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66800" y="3954240"/>
              <a:ext cx="15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66800" y="1739520"/>
              <a:ext cx="15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6600" y="2800080"/>
              <a:ext cx="583200" cy="513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45960" y="2244600"/>
              <a:ext cx="2222640" cy="729360"/>
            </a:xfrm>
            <a:prstGeom prst="borderCallout1">
              <a:avLst>
                <a:gd name="adj1" fmla="val 18750"/>
                <a:gd name="adj2" fmla="val -8333"/>
                <a:gd name="adj3" fmla="val 78995"/>
                <a:gd name="adj4" fmla="val 142083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błąd apertury </a:t>
              </a:r>
              <a:r>
                <a:rPr b="0" i="1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7440120" y="1676880"/>
              <a:ext cx="328680" cy="624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2057760" y="1440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apertury i drżenie aper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10160" y="-50760"/>
            <a:ext cx="51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arzanie analogowo-cyf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058760"/>
            <a:ext cx="816588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twarzanie sygnału analogowego x(t) polega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óbkowani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sygnału , tzn. pobraniu i zapamiętaniu chwil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ci sygnału  analogowego x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yskrety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kwantowaniu) próbki sygnału analog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n. zastąpieniu wartości próbki x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równą jej lub zbliżon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niej liczbą D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dowani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skwantowanej wartości sygnału analog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n. zamiana liczby D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na wyjściowy kod cyfrowy K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2211120" y="14400"/>
            <a:ext cx="48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ustracja parametrów układu 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304920" y="944640"/>
            <a:ext cx="8229600" cy="5151240"/>
            <a:chOff x="304920" y="944640"/>
            <a:chExt cx="8229600" cy="5151240"/>
          </a:xfrm>
        </p:grpSpPr>
        <p:sp>
          <p:nvSpPr>
            <p:cNvPr id="965" name=""/>
            <p:cNvSpPr/>
            <p:nvPr/>
          </p:nvSpPr>
          <p:spPr>
            <a:xfrm flipV="1">
              <a:off x="1260360" y="2249280"/>
              <a:ext cx="6539040" cy="46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120680" y="4330800"/>
              <a:ext cx="814320" cy="79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1940040" y="1771200"/>
              <a:ext cx="503280" cy="2560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49440" y="1771560"/>
              <a:ext cx="1679760" cy="18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4124160" y="1771560"/>
              <a:ext cx="5040" cy="25909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351400" y="4330800"/>
              <a:ext cx="1949400" cy="14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120680" y="4394160"/>
              <a:ext cx="8510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1963800" y="2239920"/>
              <a:ext cx="425520" cy="215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57680" y="2525760"/>
              <a:ext cx="835200" cy="177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381720" y="4287960"/>
              <a:ext cx="1000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49760" y="2606760"/>
              <a:ext cx="3240" cy="236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1033560" y="5046840"/>
              <a:ext cx="7059600" cy="457200"/>
              <a:chOff x="1033560" y="5046840"/>
              <a:chExt cx="7059600" cy="457200"/>
            </a:xfrm>
          </p:grpSpPr>
          <p:sp>
            <p:nvSpPr>
              <p:cNvPr id="977" name=""/>
              <p:cNvSpPr/>
              <p:nvPr/>
            </p:nvSpPr>
            <p:spPr>
              <a:xfrm>
                <a:off x="1033560" y="5046840"/>
                <a:ext cx="1082520" cy="1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115000" y="5046840"/>
                <a:ext cx="1080" cy="457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115000" y="5501880"/>
                <a:ext cx="3463200" cy="1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5567400" y="5046840"/>
                <a:ext cx="1080" cy="457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67400" y="5046840"/>
                <a:ext cx="2525760" cy="1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 flipV="1">
              <a:off x="2114640" y="3534840"/>
              <a:ext cx="1440" cy="147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94000" y="2265480"/>
              <a:ext cx="1440" cy="2754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81720" y="4308480"/>
              <a:ext cx="0" cy="69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098720" y="5129280"/>
              <a:ext cx="819000" cy="576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pom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ample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052800" y="4897440"/>
              <a:ext cx="961920" cy="5349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pamiętan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hold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03920" y="5129280"/>
              <a:ext cx="981000" cy="558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pomi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sample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940040" y="4713120"/>
              <a:ext cx="2516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25560" y="4479840"/>
              <a:ext cx="1258920" cy="3002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zas apertury </a:t>
              </a: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06480" y="4713120"/>
              <a:ext cx="257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2424240" y="4713120"/>
              <a:ext cx="258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60560" y="2846520"/>
              <a:ext cx="849600" cy="39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4730" y="-24635"/>
                  </a:moveTo>
                  <a:lnTo>
                    <a:pt x="24730" y="1023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padan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18120" y="4719600"/>
              <a:ext cx="3346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6407280" y="4719600"/>
              <a:ext cx="349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86520" y="4719600"/>
              <a:ext cx="341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02480" y="4432320"/>
              <a:ext cx="1176120" cy="349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zas ustal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4920" y="1628640"/>
              <a:ext cx="1662120" cy="4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6786" y="18534"/>
                  </a:moveTo>
                  <a:lnTo>
                    <a:pt x="23300" y="1349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sygnał wejściowy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Times New Roman"/>
                </a:rPr>
                <a:t>x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08880" y="3894120"/>
              <a:ext cx="1440" cy="709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11760" y="4056120"/>
              <a:ext cx="1800" cy="23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605640" y="4341600"/>
              <a:ext cx="1440" cy="23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994440" y="3498840"/>
              <a:ext cx="154008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4764" y="18121"/>
                  </a:moveTo>
                  <a:lnTo>
                    <a:pt x="-1835" y="85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wyjściowe napięc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iezrównoważ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17840" y="5686560"/>
              <a:ext cx="2865240" cy="409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Sygnał sterujący układem </a:t>
              </a:r>
              <a:r>
                <a:rPr b="1" i="1" lang="en-US" sz="1400" spc="-1" strike="noStrike">
                  <a:solidFill>
                    <a:srgbClr val="0000ff"/>
                  </a:solidFill>
                  <a:latin typeface="Times New Roman"/>
                </a:rPr>
                <a:t>PP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789080" y="1782720"/>
              <a:ext cx="4680" cy="2565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9960" y="1771560"/>
              <a:ext cx="3240" cy="2570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129200" y="4348080"/>
              <a:ext cx="664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807080" y="1782720"/>
              <a:ext cx="556920" cy="18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13080" y="2265480"/>
              <a:ext cx="171612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32440" y="2608200"/>
              <a:ext cx="666720" cy="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00600" y="2489040"/>
              <a:ext cx="766800" cy="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21080" y="944640"/>
              <a:ext cx="181584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5338" y="57090"/>
                  </a:moveTo>
                  <a:lnTo>
                    <a:pt x="23050" y="75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zenikanie sygnał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jściowego na wyjśc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57280" y="3201840"/>
              <a:ext cx="1800" cy="6922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28920" y="3203640"/>
              <a:ext cx="0" cy="6904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165400" y="3591000"/>
              <a:ext cx="177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435400" y="3591000"/>
              <a:ext cx="179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43200" y="3662280"/>
              <a:ext cx="1211400" cy="563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rżenie apertury </a:t>
              </a: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187720" y="3591000"/>
              <a:ext cx="180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53240" y="1433520"/>
              <a:ext cx="2644560" cy="69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068" y="25011"/>
                  </a:moveTo>
                  <a:lnTo>
                    <a:pt x="-1068" y="8039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teoretyczny, stały poziom próbki </a:t>
              </a:r>
              <a:r>
                <a:rPr b="1" i="1" lang="en-US" sz="1400" spc="-1" strike="noStrike">
                  <a:solidFill>
                    <a:srgbClr val="008000"/>
                  </a:solidFill>
                  <a:latin typeface="Times New Roman"/>
                </a:rPr>
                <a:t>x(</a:t>
              </a:r>
              <a:r>
                <a:rPr b="1" i="1" lang="en-US" sz="1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</a:t>
              </a:r>
              <a:r>
                <a:rPr b="1" i="1" lang="en-US" sz="14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w stanie pamiętan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996240" y="2619360"/>
              <a:ext cx="1407960" cy="54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8118" y="12173"/>
                  </a:moveTo>
                  <a:lnTo>
                    <a:pt x="-2007" y="974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gnał wyjściowy układu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flipV="1">
              <a:off x="2317320" y="5543640"/>
              <a:ext cx="50652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505400" y="1262160"/>
              <a:ext cx="644400" cy="11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1200960" y="2416320"/>
            <a:ext cx="65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zetwarzanie analogowo-cyfr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347040" y="804960"/>
            <a:ext cx="8715240" cy="558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brane metody przetwarza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ezpośrednie - b. szybkie, wymagające dużej ilości kompar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tworniki typu flash (np. wiz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pensacyjne - (kolejnych przybliżeń, wymagany przetwornik 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kompensacja wagowa z rejestrem 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etwornik śledzą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zbliżony do met. kolejnych przybliż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średn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ałkowe - wolne lecz b. dokład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twornik z podwójnym całkowan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twornik z potrójnym całkowan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owe - zamiana poziomu na częstotliw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. generator VCO z równoważeniem ładun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924120" y="0"/>
            <a:ext cx="71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zpośredni, równoległy przetwornik AC (fla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452320" y="1219320"/>
            <a:ext cx="3897720" cy="5281560"/>
            <a:chOff x="2452320" y="1219320"/>
            <a:chExt cx="3897720" cy="5281560"/>
          </a:xfrm>
        </p:grpSpPr>
        <p:sp>
          <p:nvSpPr>
            <p:cNvPr id="1025" name=""/>
            <p:cNvSpPr/>
            <p:nvPr/>
          </p:nvSpPr>
          <p:spPr>
            <a:xfrm>
              <a:off x="5775480" y="2727360"/>
              <a:ext cx="53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0520" y="1649520"/>
              <a:ext cx="717480" cy="718920"/>
            </a:xfrm>
            <a:custGeom>
              <a:avLst/>
              <a:gdLst/>
              <a:ahLst/>
              <a:rect l="l" t="t" r="r" b="b"/>
              <a:pathLst>
                <a:path w="452" h="453">
                  <a:moveTo>
                    <a:pt x="0" y="0"/>
                  </a:moveTo>
                  <a:lnTo>
                    <a:pt x="0" y="453"/>
                  </a:lnTo>
                  <a:lnTo>
                    <a:pt x="452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889440" y="1828800"/>
              <a:ext cx="112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3935520" y="1773000"/>
              <a:ext cx="1440" cy="9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530520" y="1828800"/>
              <a:ext cx="27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530520" y="1469880"/>
              <a:ext cx="1800" cy="1706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30520" y="3265560"/>
              <a:ext cx="1800" cy="90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44840"/>
              <a:ext cx="1800" cy="90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30520" y="3624120"/>
              <a:ext cx="1800" cy="90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901960" y="2278080"/>
              <a:ext cx="898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01960" y="1469880"/>
              <a:ext cx="1440" cy="215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01960" y="3714840"/>
              <a:ext cx="1440" cy="90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01960" y="3894120"/>
              <a:ext cx="1440" cy="90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01960" y="4073400"/>
              <a:ext cx="1440" cy="90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11600" y="1738440"/>
              <a:ext cx="180720" cy="361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811600" y="2455920"/>
              <a:ext cx="180720" cy="361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11600" y="3174840"/>
              <a:ext cx="180720" cy="362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00520" y="2368440"/>
              <a:ext cx="717480" cy="717840"/>
            </a:xfrm>
            <a:custGeom>
              <a:avLst/>
              <a:gdLst/>
              <a:ahLst/>
              <a:rect l="l" t="t" r="r" b="b"/>
              <a:pathLst>
                <a:path w="452" h="452">
                  <a:moveTo>
                    <a:pt x="0" y="0"/>
                  </a:moveTo>
                  <a:lnTo>
                    <a:pt x="0" y="452"/>
                  </a:lnTo>
                  <a:lnTo>
                    <a:pt x="452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889440" y="2548080"/>
              <a:ext cx="112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3935520" y="2490840"/>
              <a:ext cx="1440" cy="10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3530520" y="2548080"/>
              <a:ext cx="27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2901960" y="2997360"/>
              <a:ext cx="898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876920" y="1558800"/>
              <a:ext cx="900000" cy="4221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18000" y="2008080"/>
              <a:ext cx="358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518000" y="2727360"/>
              <a:ext cx="358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00520" y="4343400"/>
              <a:ext cx="717480" cy="719280"/>
            </a:xfrm>
            <a:custGeom>
              <a:avLst/>
              <a:gdLst/>
              <a:ahLst/>
              <a:rect l="l" t="t" r="r" b="b"/>
              <a:pathLst>
                <a:path w="452" h="453">
                  <a:moveTo>
                    <a:pt x="0" y="0"/>
                  </a:moveTo>
                  <a:lnTo>
                    <a:pt x="0" y="453"/>
                  </a:lnTo>
                  <a:lnTo>
                    <a:pt x="452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89440" y="4522680"/>
              <a:ext cx="112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3935520" y="4467240"/>
              <a:ext cx="1440" cy="10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530520" y="4522680"/>
              <a:ext cx="27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3530520" y="3804840"/>
              <a:ext cx="1800" cy="1436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2901960" y="4971960"/>
              <a:ext cx="898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2901960" y="4252680"/>
              <a:ext cx="1440" cy="2246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11600" y="4432320"/>
              <a:ext cx="180720" cy="361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11600" y="5149800"/>
              <a:ext cx="180720" cy="362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11600" y="5869080"/>
              <a:ext cx="180720" cy="3618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00520" y="5062680"/>
              <a:ext cx="717480" cy="717480"/>
            </a:xfrm>
            <a:custGeom>
              <a:avLst/>
              <a:gdLst/>
              <a:ahLst/>
              <a:rect l="l" t="t" r="r" b="b"/>
              <a:pathLst>
                <a:path w="452" h="452">
                  <a:moveTo>
                    <a:pt x="0" y="0"/>
                  </a:moveTo>
                  <a:lnTo>
                    <a:pt x="0" y="452"/>
                  </a:lnTo>
                  <a:lnTo>
                    <a:pt x="452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889440" y="5241960"/>
              <a:ext cx="112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935520" y="5184720"/>
              <a:ext cx="1440" cy="10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3530520" y="5241960"/>
              <a:ext cx="27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2901960" y="5689440"/>
              <a:ext cx="898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18000" y="4702320"/>
              <a:ext cx="358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518000" y="5421240"/>
              <a:ext cx="358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13040" y="6499080"/>
              <a:ext cx="1792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2633400" y="5870520"/>
              <a:ext cx="179640" cy="358920"/>
              <a:chOff x="2633400" y="5870520"/>
              <a:chExt cx="179640" cy="358920"/>
            </a:xfrm>
          </p:grpSpPr>
          <p:sp>
            <p:nvSpPr>
              <p:cNvPr id="1069" name=""/>
              <p:cNvSpPr/>
              <p:nvPr/>
            </p:nvSpPr>
            <p:spPr>
              <a:xfrm>
                <a:off x="2722680" y="5870520"/>
                <a:ext cx="1440" cy="35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633400" y="5870520"/>
                <a:ext cx="8892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722680" y="5870520"/>
                <a:ext cx="9036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2633400" y="5151600"/>
              <a:ext cx="179640" cy="358560"/>
              <a:chOff x="2633400" y="5151600"/>
              <a:chExt cx="179640" cy="358560"/>
            </a:xfrm>
          </p:grpSpPr>
          <p:sp>
            <p:nvSpPr>
              <p:cNvPr id="1073" name=""/>
              <p:cNvSpPr/>
              <p:nvPr/>
            </p:nvSpPr>
            <p:spPr>
              <a:xfrm>
                <a:off x="2722680" y="5151600"/>
                <a:ext cx="1440" cy="358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2633400" y="5151600"/>
                <a:ext cx="88920" cy="9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22680" y="5151600"/>
                <a:ext cx="90360" cy="9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3080520" y="4541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80520" y="3284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80520" y="2567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80520" y="5261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62360" y="2238480"/>
              <a:ext cx="75960" cy="792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90920" y="1789200"/>
              <a:ext cx="7632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62360" y="1428840"/>
              <a:ext cx="7596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90920" y="1428840"/>
              <a:ext cx="7632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90920" y="4483080"/>
              <a:ext cx="7632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62360" y="4932360"/>
              <a:ext cx="75960" cy="792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62360" y="2955960"/>
              <a:ext cx="7596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90920" y="2506680"/>
              <a:ext cx="7632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62360" y="5649840"/>
              <a:ext cx="7596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273720" y="2685960"/>
              <a:ext cx="7632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80520" y="5978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081240" y="6138720"/>
              <a:ext cx="179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080880" y="6157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452320" y="5889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52680" y="6049800"/>
              <a:ext cx="181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452320" y="6068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80880" y="1758960"/>
              <a:ext cx="17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81240" y="1919160"/>
              <a:ext cx="27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171600" y="193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52320" y="5261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75480" y="3805200"/>
              <a:ext cx="537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273720" y="3763800"/>
              <a:ext cx="7632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75480" y="4073400"/>
              <a:ext cx="537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73720" y="4033800"/>
              <a:ext cx="76320" cy="810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75480" y="4343400"/>
              <a:ext cx="53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73720" y="4303800"/>
              <a:ext cx="76320" cy="792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54400" y="4092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54400" y="3824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54400" y="3554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18000" y="1758960"/>
              <a:ext cx="27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  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17640" y="544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517640" y="472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954400" y="2476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08000" y="172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901600" y="1219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081960" y="13622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30160" y="1219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09800" y="13622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68360" y="3016080"/>
              <a:ext cx="52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ko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968000" y="38498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  -1 wejś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55840" y="3786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67280" y="420840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 wyjś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6162120" y="4870440"/>
            <a:ext cx="24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ompar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840960" y="14400"/>
            <a:ext cx="7944120" cy="6687720"/>
            <a:chOff x="840960" y="14400"/>
            <a:chExt cx="7944120" cy="6687720"/>
          </a:xfrm>
        </p:grpSpPr>
        <p:sp>
          <p:nvSpPr>
            <p:cNvPr id="1124" name=""/>
            <p:cNvSpPr/>
            <p:nvPr/>
          </p:nvSpPr>
          <p:spPr>
            <a:xfrm>
              <a:off x="4576680" y="1015920"/>
              <a:ext cx="2325600" cy="63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737240" y="1236600"/>
              <a:ext cx="203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zorcowy przetwornik C/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576680" y="2835360"/>
              <a:ext cx="2325600" cy="63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023800" y="2943360"/>
              <a:ext cx="101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jestr (S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757760" y="1652760"/>
              <a:ext cx="1440" cy="11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025960" y="1652760"/>
              <a:ext cx="1800" cy="11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94160" y="1652760"/>
              <a:ext cx="1800" cy="11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724800" y="1652760"/>
              <a:ext cx="1440" cy="11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57760" y="2744640"/>
              <a:ext cx="2503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025960" y="2562120"/>
              <a:ext cx="2235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24800" y="1835280"/>
              <a:ext cx="53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7170480" y="1743120"/>
              <a:ext cx="903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7170480" y="1835280"/>
              <a:ext cx="9036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7170480" y="2471400"/>
              <a:ext cx="9036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7170480" y="2562120"/>
              <a:ext cx="903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7170480" y="2653920"/>
              <a:ext cx="9036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7170480" y="2744640"/>
              <a:ext cx="90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02280" y="3108240"/>
              <a:ext cx="447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7260840" y="3017520"/>
              <a:ext cx="88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7260840" y="3108240"/>
              <a:ext cx="889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634080" y="3473280"/>
              <a:ext cx="3240" cy="4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6544800" y="3746520"/>
              <a:ext cx="88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634080" y="3746520"/>
              <a:ext cx="907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634080" y="3927600"/>
              <a:ext cx="8953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529400" y="3108240"/>
              <a:ext cx="1800" cy="8193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350120" y="3108240"/>
              <a:ext cx="536760" cy="32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57760" y="3473280"/>
              <a:ext cx="144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4667040" y="3654360"/>
              <a:ext cx="903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57760" y="3654360"/>
              <a:ext cx="889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1177560" y="1469880"/>
              <a:ext cx="3398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177920" y="1015920"/>
              <a:ext cx="1609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787480" y="1015560"/>
              <a:ext cx="1800" cy="11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19280" y="2289240"/>
              <a:ext cx="1800" cy="81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19280" y="3108240"/>
              <a:ext cx="2057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51080" y="1925640"/>
              <a:ext cx="144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1446120" y="1925640"/>
              <a:ext cx="80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446120" y="1925640"/>
              <a:ext cx="180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57200" y="2381400"/>
              <a:ext cx="179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575600" y="385452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14680" y="923760"/>
              <a:ext cx="358560" cy="18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49680" y="1430280"/>
              <a:ext cx="745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139760" y="976320"/>
              <a:ext cx="7452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39760" y="1430280"/>
              <a:ext cx="745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62160" y="2198520"/>
              <a:ext cx="716040" cy="7290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0"/>
                  </a:moveTo>
                  <a:lnTo>
                    <a:pt x="384" y="0"/>
                  </a:lnTo>
                  <a:lnTo>
                    <a:pt x="192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flipV="1">
              <a:off x="3234960" y="3017520"/>
              <a:ext cx="88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234960" y="3108240"/>
              <a:ext cx="889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902280" y="1379520"/>
              <a:ext cx="71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7170840" y="1288800"/>
              <a:ext cx="9036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70840" y="1379520"/>
              <a:ext cx="9036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 flipV="1">
              <a:off x="3860280" y="1379160"/>
              <a:ext cx="8892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860280" y="1469880"/>
              <a:ext cx="8892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2787480" y="1197000"/>
              <a:ext cx="907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 flipV="1">
              <a:off x="2698920" y="1197000"/>
              <a:ext cx="885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14680" y="1379520"/>
              <a:ext cx="358560" cy="18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454440" y="394668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24080" y="3492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081920" y="28544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581360" y="2633760"/>
              <a:ext cx="2830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0         1      2                                      Q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92080" y="1724040"/>
              <a:ext cx="300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SB                                                    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39040" y="1035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72080" y="2854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622880" y="2633760"/>
              <a:ext cx="86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617600" y="1177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341440" y="1671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517480" y="1816200"/>
              <a:ext cx="23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341440" y="2016000"/>
              <a:ext cx="3574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2609640" y="1925280"/>
              <a:ext cx="889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2609640" y="2016000"/>
              <a:ext cx="889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89000" y="66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267200" y="81432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o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89000" y="112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67200" y="1270080"/>
              <a:ext cx="1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14320" y="579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892520" y="7239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o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877480" y="1125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65680" y="127008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o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771360" y="1035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860640" y="117792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805040" y="112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3" name=""/>
            <p:cNvGrpSpPr/>
            <p:nvPr/>
          </p:nvGrpSpPr>
          <p:grpSpPr>
            <a:xfrm>
              <a:off x="1783440" y="3938760"/>
              <a:ext cx="4148640" cy="2763360"/>
              <a:chOff x="1783440" y="3938760"/>
              <a:chExt cx="4148640" cy="2763360"/>
            </a:xfrm>
          </p:grpSpPr>
          <p:sp>
            <p:nvSpPr>
              <p:cNvPr id="1204" name=""/>
              <p:cNvSpPr/>
              <p:nvPr/>
            </p:nvSpPr>
            <p:spPr>
              <a:xfrm flipV="1">
                <a:off x="2606400" y="4028400"/>
                <a:ext cx="2880" cy="116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509200" y="5091480"/>
                <a:ext cx="3225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 flipV="1">
                <a:off x="5538240" y="5041440"/>
                <a:ext cx="196560" cy="4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5538240" y="5091480"/>
                <a:ext cx="196560" cy="51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2508840" y="4028760"/>
                <a:ext cx="96840" cy="10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606400" y="4028760"/>
                <a:ext cx="107640" cy="11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213640" y="44449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U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637960" y="5152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412360" y="4435560"/>
                <a:ext cx="332244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14720" y="4190760"/>
                <a:ext cx="19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783440" y="4739400"/>
                <a:ext cx="40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/2F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606400" y="4332240"/>
                <a:ext cx="2737080" cy="456840"/>
              </a:xfrm>
              <a:custGeom>
                <a:avLst/>
                <a:gdLst/>
                <a:ahLst/>
                <a:rect l="l" t="t" r="r" b="b"/>
                <a:pathLst>
                  <a:path w="1344" h="433">
                    <a:moveTo>
                      <a:pt x="0" y="433"/>
                    </a:moveTo>
                    <a:lnTo>
                      <a:pt x="192" y="433"/>
                    </a:lnTo>
                    <a:lnTo>
                      <a:pt x="192" y="289"/>
                    </a:lnTo>
                    <a:lnTo>
                      <a:pt x="384" y="289"/>
                    </a:lnTo>
                    <a:lnTo>
                      <a:pt x="384" y="0"/>
                    </a:lnTo>
                    <a:lnTo>
                      <a:pt x="576" y="0"/>
                    </a:lnTo>
                    <a:lnTo>
                      <a:pt x="576" y="145"/>
                    </a:lnTo>
                    <a:lnTo>
                      <a:pt x="768" y="145"/>
                    </a:lnTo>
                    <a:lnTo>
                      <a:pt x="768" y="115"/>
                    </a:lnTo>
                    <a:lnTo>
                      <a:pt x="960" y="115"/>
                    </a:lnTo>
                    <a:lnTo>
                      <a:pt x="960" y="48"/>
                    </a:lnTo>
                    <a:lnTo>
                      <a:pt x="1152" y="48"/>
                    </a:lnTo>
                    <a:lnTo>
                      <a:pt x="1152" y="97"/>
                    </a:lnTo>
                    <a:lnTo>
                      <a:pt x="1344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803680" y="39387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826800" y="398664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-RIc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3781080" y="4231440"/>
                <a:ext cx="96840" cy="10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878280" y="4231440"/>
                <a:ext cx="391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0" name=""/>
              <p:cNvGrpSpPr/>
              <p:nvPr/>
            </p:nvGrpSpPr>
            <p:grpSpPr>
              <a:xfrm>
                <a:off x="2315160" y="5244120"/>
                <a:ext cx="3322080" cy="150840"/>
                <a:chOff x="2315160" y="5244120"/>
                <a:chExt cx="3322080" cy="15084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315160" y="5244120"/>
                  <a:ext cx="1856520" cy="150840"/>
                </a:xfrm>
                <a:custGeom>
                  <a:avLst/>
                  <a:gdLst/>
                  <a:ahLst/>
                  <a:rect l="l" t="t" r="r" b="b"/>
                  <a:pathLst>
                    <a:path w="912" h="144">
                      <a:moveTo>
                        <a:pt x="0" y="144"/>
                      </a:moveTo>
                      <a:lnTo>
                        <a:pt x="144" y="144"/>
                      </a:lnTo>
                      <a:lnTo>
                        <a:pt x="144" y="0"/>
                      </a:lnTo>
                      <a:lnTo>
                        <a:pt x="240" y="0"/>
                      </a:lnTo>
                      <a:lnTo>
                        <a:pt x="240" y="144"/>
                      </a:lnTo>
                      <a:lnTo>
                        <a:pt x="336" y="144"/>
                      </a:lnTo>
                      <a:lnTo>
                        <a:pt x="336" y="0"/>
                      </a:lnTo>
                      <a:lnTo>
                        <a:pt x="432" y="0"/>
                      </a:lnTo>
                      <a:lnTo>
                        <a:pt x="432" y="144"/>
                      </a:lnTo>
                      <a:lnTo>
                        <a:pt x="528" y="144"/>
                      </a:lnTo>
                      <a:lnTo>
                        <a:pt x="528" y="0"/>
                      </a:lnTo>
                      <a:lnTo>
                        <a:pt x="624" y="0"/>
                      </a:lnTo>
                      <a:lnTo>
                        <a:pt x="624" y="144"/>
                      </a:lnTo>
                      <a:lnTo>
                        <a:pt x="720" y="144"/>
                      </a:lnTo>
                      <a:lnTo>
                        <a:pt x="720" y="0"/>
                      </a:lnTo>
                      <a:lnTo>
                        <a:pt x="816" y="0"/>
                      </a:lnTo>
                      <a:lnTo>
                        <a:pt x="816" y="144"/>
                      </a:lnTo>
                      <a:lnTo>
                        <a:pt x="912" y="144"/>
                      </a:lnTo>
                      <a:lnTo>
                        <a:pt x="912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4171680" y="5244120"/>
                  <a:ext cx="1465560" cy="150840"/>
                </a:xfrm>
                <a:custGeom>
                  <a:avLst/>
                  <a:gdLst/>
                  <a:ahLst/>
                  <a:rect l="l" t="t" r="r" b="b"/>
                  <a:pathLst>
                    <a:path w="720" h="144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96" y="144"/>
                      </a:lnTo>
                      <a:lnTo>
                        <a:pt x="192" y="144"/>
                      </a:lnTo>
                      <a:lnTo>
                        <a:pt x="192" y="0"/>
                      </a:lnTo>
                      <a:lnTo>
                        <a:pt x="288" y="0"/>
                      </a:lnTo>
                      <a:lnTo>
                        <a:pt x="288" y="144"/>
                      </a:lnTo>
                      <a:lnTo>
                        <a:pt x="384" y="144"/>
                      </a:lnTo>
                      <a:lnTo>
                        <a:pt x="384" y="0"/>
                      </a:lnTo>
                      <a:lnTo>
                        <a:pt x="480" y="0"/>
                      </a:lnTo>
                      <a:lnTo>
                        <a:pt x="480" y="144"/>
                      </a:lnTo>
                      <a:lnTo>
                        <a:pt x="72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>
                <a:off x="2315160" y="5496480"/>
                <a:ext cx="3616920" cy="151200"/>
              </a:xfrm>
              <a:custGeom>
                <a:avLst/>
                <a:gdLst/>
                <a:ahLst/>
                <a:rect l="l" t="t" r="r" b="b"/>
                <a:pathLst>
                  <a:path w="1777" h="144">
                    <a:moveTo>
                      <a:pt x="0" y="144"/>
                    </a:moveTo>
                    <a:lnTo>
                      <a:pt x="144" y="144"/>
                    </a:lnTo>
                    <a:lnTo>
                      <a:pt x="144" y="0"/>
                    </a:lnTo>
                    <a:lnTo>
                      <a:pt x="528" y="0"/>
                    </a:lnTo>
                    <a:lnTo>
                      <a:pt x="528" y="144"/>
                    </a:lnTo>
                    <a:lnTo>
                      <a:pt x="720" y="144"/>
                    </a:lnTo>
                    <a:lnTo>
                      <a:pt x="720" y="0"/>
                    </a:lnTo>
                    <a:lnTo>
                      <a:pt x="1104" y="0"/>
                    </a:lnTo>
                    <a:lnTo>
                      <a:pt x="1104" y="144"/>
                    </a:lnTo>
                    <a:lnTo>
                      <a:pt x="1296" y="144"/>
                    </a:lnTo>
                    <a:lnTo>
                      <a:pt x="1296" y="0"/>
                    </a:lnTo>
                    <a:lnTo>
                      <a:pt x="17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315160" y="5748840"/>
                <a:ext cx="3616920" cy="152640"/>
              </a:xfrm>
              <a:custGeom>
                <a:avLst/>
                <a:gdLst/>
                <a:ahLst/>
                <a:rect l="l" t="t" r="r" b="b"/>
                <a:pathLst>
                  <a:path w="1777" h="144">
                    <a:moveTo>
                      <a:pt x="0" y="144"/>
                    </a:moveTo>
                    <a:lnTo>
                      <a:pt x="144" y="144"/>
                    </a:lnTo>
                    <a:lnTo>
                      <a:pt x="144" y="0"/>
                    </a:lnTo>
                    <a:lnTo>
                      <a:pt x="17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315160" y="6003000"/>
                <a:ext cx="3616920" cy="151200"/>
              </a:xfrm>
              <a:custGeom>
                <a:avLst/>
                <a:gdLst/>
                <a:ahLst/>
                <a:rect l="l" t="t" r="r" b="b"/>
                <a:pathLst>
                  <a:path w="1777" h="144">
                    <a:moveTo>
                      <a:pt x="0" y="144"/>
                    </a:moveTo>
                    <a:lnTo>
                      <a:pt x="336" y="144"/>
                    </a:lnTo>
                    <a:lnTo>
                      <a:pt x="336" y="0"/>
                    </a:lnTo>
                    <a:lnTo>
                      <a:pt x="17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315160" y="6203880"/>
                <a:ext cx="3616920" cy="152640"/>
              </a:xfrm>
              <a:custGeom>
                <a:avLst/>
                <a:gdLst/>
                <a:ahLst/>
                <a:rect l="l" t="t" r="r" b="b"/>
                <a:pathLst>
                  <a:path w="1777" h="144">
                    <a:moveTo>
                      <a:pt x="0" y="144"/>
                    </a:moveTo>
                    <a:lnTo>
                      <a:pt x="528" y="144"/>
                    </a:lnTo>
                    <a:lnTo>
                      <a:pt x="528" y="0"/>
                    </a:lnTo>
                    <a:lnTo>
                      <a:pt x="720" y="0"/>
                    </a:lnTo>
                    <a:lnTo>
                      <a:pt x="720" y="144"/>
                    </a:lnTo>
                    <a:lnTo>
                      <a:pt x="1777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315160" y="6458040"/>
                <a:ext cx="3616920" cy="151200"/>
              </a:xfrm>
              <a:custGeom>
                <a:avLst/>
                <a:gdLst/>
                <a:ahLst/>
                <a:rect l="l" t="t" r="r" b="b"/>
                <a:pathLst>
                  <a:path w="1777" h="144">
                    <a:moveTo>
                      <a:pt x="0" y="144"/>
                    </a:moveTo>
                    <a:lnTo>
                      <a:pt x="720" y="144"/>
                    </a:lnTo>
                    <a:lnTo>
                      <a:pt x="720" y="0"/>
                    </a:lnTo>
                    <a:lnTo>
                      <a:pt x="17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020680" y="555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019600" y="581004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019600" y="606420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019600" y="626508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019600" y="651924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924920" y="5315040"/>
                <a:ext cx="22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6291000" y="1873080"/>
              <a:ext cx="73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yjście cyfrow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660680" y="142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40960" y="14400"/>
              <a:ext cx="794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Przetwornik kompensacyjny AC z tzw. rejestrem S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68080" y="4557600"/>
              <a:ext cx="27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zetwarzanie w N krok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39680" y="0"/>
            <a:ext cx="90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kompensacyjny AC śledzą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1155240" y="1003320"/>
            <a:ext cx="7110360" cy="5122080"/>
            <a:chOff x="1155240" y="1003320"/>
            <a:chExt cx="7110360" cy="5122080"/>
          </a:xfrm>
        </p:grpSpPr>
        <p:sp>
          <p:nvSpPr>
            <p:cNvPr id="1240" name=""/>
            <p:cNvSpPr/>
            <p:nvPr/>
          </p:nvSpPr>
          <p:spPr>
            <a:xfrm>
              <a:off x="3483000" y="2687760"/>
              <a:ext cx="20858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83000" y="1084320"/>
              <a:ext cx="20858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960360" y="2863800"/>
              <a:ext cx="121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zetwornik C/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78280" y="117936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cznik rewersyj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43200" y="1646280"/>
              <a:ext cx="180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82960" y="1646280"/>
              <a:ext cx="180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124160" y="1646280"/>
              <a:ext cx="180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408640" y="1646280"/>
              <a:ext cx="144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43200" y="2608200"/>
              <a:ext cx="224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2960" y="2448000"/>
              <a:ext cx="2006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08640" y="1806480"/>
              <a:ext cx="480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 flipV="1">
              <a:off x="5808240" y="1725120"/>
              <a:ext cx="810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808240" y="1806480"/>
              <a:ext cx="8100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flipV="1">
              <a:off x="5808240" y="2366640"/>
              <a:ext cx="810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5808240" y="2448000"/>
              <a:ext cx="810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 flipV="1">
              <a:off x="5808240" y="2526840"/>
              <a:ext cx="810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808240" y="2608200"/>
              <a:ext cx="8100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5808600" y="1323720"/>
              <a:ext cx="810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808600" y="1405080"/>
              <a:ext cx="810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488400" y="1709640"/>
              <a:ext cx="282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      2      3                                       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68840" y="1405080"/>
              <a:ext cx="720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 flipV="1">
              <a:off x="3561840" y="2206800"/>
              <a:ext cx="810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3643200" y="2206800"/>
              <a:ext cx="7956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803760" y="2206800"/>
              <a:ext cx="792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882960" y="2206800"/>
              <a:ext cx="810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 flipV="1">
              <a:off x="4044960" y="2206800"/>
              <a:ext cx="792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24160" y="2206800"/>
              <a:ext cx="810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5327280" y="2206800"/>
              <a:ext cx="810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5408640" y="2206800"/>
              <a:ext cx="792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049080" y="117936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eg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645520" y="2109960"/>
              <a:ext cx="121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yjście cyfro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2359080" y="1324080"/>
              <a:ext cx="1123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1557360" y="1163520"/>
              <a:ext cx="722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9120" y="1486080"/>
              <a:ext cx="320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279520" y="1003320"/>
              <a:ext cx="641520" cy="642960"/>
            </a:xfrm>
            <a:custGeom>
              <a:avLst/>
              <a:gdLst/>
              <a:ahLst/>
              <a:rect l="l" t="t" r="r" b="b"/>
              <a:pathLst>
                <a:path w="404" h="405">
                  <a:moveTo>
                    <a:pt x="0" y="0"/>
                  </a:moveTo>
                  <a:lnTo>
                    <a:pt x="0" y="405"/>
                  </a:lnTo>
                  <a:lnTo>
                    <a:pt x="404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59120" y="1486080"/>
              <a:ext cx="1440" cy="13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59120" y="2847960"/>
              <a:ext cx="152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59120" y="2928960"/>
              <a:ext cx="1440" cy="32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1877760" y="2928960"/>
              <a:ext cx="810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959120" y="2928960"/>
              <a:ext cx="792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557360" y="3024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717560" y="31528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557360" y="1244520"/>
              <a:ext cx="1440" cy="32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477440" y="1244520"/>
              <a:ext cx="7956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557360" y="1244520"/>
              <a:ext cx="8100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55600" y="1260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14720" y="1389240"/>
              <a:ext cx="1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359080" y="1486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359080" y="1163520"/>
              <a:ext cx="101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400480" y="1114200"/>
              <a:ext cx="14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81160" y="10605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/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111480" y="1054080"/>
              <a:ext cx="14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236600" y="3489480"/>
              <a:ext cx="1800" cy="240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236600" y="5896080"/>
              <a:ext cx="68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 flipV="1">
              <a:off x="8054640" y="5814720"/>
              <a:ext cx="810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8054640" y="5896080"/>
              <a:ext cx="810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1155240" y="3489480"/>
              <a:ext cx="8100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36600" y="3489480"/>
              <a:ext cx="79560" cy="8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236600" y="3890880"/>
              <a:ext cx="6176880" cy="1042920"/>
            </a:xfrm>
            <a:custGeom>
              <a:avLst/>
              <a:gdLst/>
              <a:ahLst/>
              <a:rect l="l" t="t" r="r" b="b"/>
              <a:pathLst>
                <a:path w="3891" h="657">
                  <a:moveTo>
                    <a:pt x="0" y="152"/>
                  </a:moveTo>
                  <a:lnTo>
                    <a:pt x="1415" y="152"/>
                  </a:lnTo>
                  <a:lnTo>
                    <a:pt x="1769" y="202"/>
                  </a:lnTo>
                  <a:lnTo>
                    <a:pt x="2223" y="404"/>
                  </a:lnTo>
                  <a:lnTo>
                    <a:pt x="2526" y="606"/>
                  </a:lnTo>
                  <a:lnTo>
                    <a:pt x="2628" y="657"/>
                  </a:lnTo>
                  <a:lnTo>
                    <a:pt x="2779" y="657"/>
                  </a:lnTo>
                  <a:lnTo>
                    <a:pt x="2981" y="303"/>
                  </a:lnTo>
                  <a:lnTo>
                    <a:pt x="3183" y="50"/>
                  </a:lnTo>
                  <a:lnTo>
                    <a:pt x="3284" y="0"/>
                  </a:lnTo>
                  <a:lnTo>
                    <a:pt x="3891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36600" y="3730680"/>
              <a:ext cx="6256440" cy="2165400"/>
            </a:xfrm>
            <a:custGeom>
              <a:avLst/>
              <a:gdLst/>
              <a:ahLst/>
              <a:rect l="l" t="t" r="r" b="b"/>
              <a:pathLst>
                <a:path w="3941" h="1364">
                  <a:moveTo>
                    <a:pt x="0" y="1364"/>
                  </a:moveTo>
                  <a:lnTo>
                    <a:pt x="0" y="1212"/>
                  </a:lnTo>
                  <a:lnTo>
                    <a:pt x="152" y="1212"/>
                  </a:lnTo>
                  <a:lnTo>
                    <a:pt x="152" y="1061"/>
                  </a:lnTo>
                  <a:lnTo>
                    <a:pt x="303" y="1061"/>
                  </a:lnTo>
                  <a:lnTo>
                    <a:pt x="303" y="909"/>
                  </a:lnTo>
                  <a:lnTo>
                    <a:pt x="455" y="909"/>
                  </a:lnTo>
                  <a:lnTo>
                    <a:pt x="455" y="758"/>
                  </a:lnTo>
                  <a:lnTo>
                    <a:pt x="606" y="758"/>
                  </a:lnTo>
                  <a:lnTo>
                    <a:pt x="606" y="606"/>
                  </a:lnTo>
                  <a:lnTo>
                    <a:pt x="758" y="606"/>
                  </a:lnTo>
                  <a:lnTo>
                    <a:pt x="758" y="455"/>
                  </a:lnTo>
                  <a:lnTo>
                    <a:pt x="909" y="455"/>
                  </a:lnTo>
                  <a:lnTo>
                    <a:pt x="909" y="303"/>
                  </a:lnTo>
                  <a:lnTo>
                    <a:pt x="1061" y="303"/>
                  </a:lnTo>
                  <a:lnTo>
                    <a:pt x="1061" y="151"/>
                  </a:lnTo>
                  <a:lnTo>
                    <a:pt x="1213" y="151"/>
                  </a:lnTo>
                  <a:lnTo>
                    <a:pt x="1213" y="303"/>
                  </a:lnTo>
                  <a:lnTo>
                    <a:pt x="1364" y="303"/>
                  </a:lnTo>
                  <a:lnTo>
                    <a:pt x="1364" y="151"/>
                  </a:lnTo>
                  <a:lnTo>
                    <a:pt x="1516" y="151"/>
                  </a:lnTo>
                  <a:lnTo>
                    <a:pt x="1516" y="303"/>
                  </a:lnTo>
                  <a:lnTo>
                    <a:pt x="1667" y="303"/>
                  </a:lnTo>
                  <a:lnTo>
                    <a:pt x="1667" y="151"/>
                  </a:lnTo>
                  <a:lnTo>
                    <a:pt x="1819" y="151"/>
                  </a:lnTo>
                  <a:lnTo>
                    <a:pt x="1819" y="303"/>
                  </a:lnTo>
                  <a:lnTo>
                    <a:pt x="1971" y="303"/>
                  </a:lnTo>
                  <a:lnTo>
                    <a:pt x="1971" y="455"/>
                  </a:lnTo>
                  <a:lnTo>
                    <a:pt x="2122" y="455"/>
                  </a:lnTo>
                  <a:lnTo>
                    <a:pt x="2122" y="606"/>
                  </a:lnTo>
                  <a:lnTo>
                    <a:pt x="2274" y="606"/>
                  </a:lnTo>
                  <a:lnTo>
                    <a:pt x="2274" y="455"/>
                  </a:lnTo>
                  <a:lnTo>
                    <a:pt x="2425" y="455"/>
                  </a:lnTo>
                  <a:lnTo>
                    <a:pt x="2425" y="606"/>
                  </a:lnTo>
                  <a:lnTo>
                    <a:pt x="2577" y="606"/>
                  </a:lnTo>
                  <a:lnTo>
                    <a:pt x="2577" y="758"/>
                  </a:lnTo>
                  <a:lnTo>
                    <a:pt x="2729" y="758"/>
                  </a:lnTo>
                  <a:lnTo>
                    <a:pt x="2729" y="909"/>
                  </a:lnTo>
                  <a:lnTo>
                    <a:pt x="2880" y="909"/>
                  </a:lnTo>
                  <a:lnTo>
                    <a:pt x="2880" y="758"/>
                  </a:lnTo>
                  <a:lnTo>
                    <a:pt x="3032" y="758"/>
                  </a:lnTo>
                  <a:lnTo>
                    <a:pt x="3032" y="606"/>
                  </a:lnTo>
                  <a:lnTo>
                    <a:pt x="3183" y="606"/>
                  </a:lnTo>
                  <a:lnTo>
                    <a:pt x="3183" y="455"/>
                  </a:lnTo>
                  <a:lnTo>
                    <a:pt x="3335" y="455"/>
                  </a:lnTo>
                  <a:lnTo>
                    <a:pt x="3335" y="303"/>
                  </a:lnTo>
                  <a:lnTo>
                    <a:pt x="3487" y="303"/>
                  </a:lnTo>
                  <a:lnTo>
                    <a:pt x="3487" y="151"/>
                  </a:lnTo>
                  <a:lnTo>
                    <a:pt x="3638" y="151"/>
                  </a:lnTo>
                  <a:lnTo>
                    <a:pt x="3638" y="0"/>
                  </a:lnTo>
                  <a:lnTo>
                    <a:pt x="3790" y="0"/>
                  </a:lnTo>
                  <a:lnTo>
                    <a:pt x="3790" y="151"/>
                  </a:lnTo>
                  <a:lnTo>
                    <a:pt x="3941" y="1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214480" y="59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97160" y="3425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79520" y="478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440080" y="491652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717560" y="382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876680" y="3954600"/>
              <a:ext cx="1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1456560" y="0"/>
            <a:ext cx="59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z podwójnym całkow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1306440" y="693720"/>
            <a:ext cx="7177320" cy="5870520"/>
            <a:chOff x="1306440" y="693720"/>
            <a:chExt cx="7177320" cy="5870520"/>
          </a:xfrm>
        </p:grpSpPr>
        <p:sp>
          <p:nvSpPr>
            <p:cNvPr id="1308" name=""/>
            <p:cNvSpPr/>
            <p:nvPr/>
          </p:nvSpPr>
          <p:spPr>
            <a:xfrm>
              <a:off x="1306440" y="1044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1608120" y="693720"/>
              <a:ext cx="0" cy="26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96960" y="3365640"/>
              <a:ext cx="512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065320" y="1522080"/>
              <a:ext cx="2982960" cy="18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48280" y="1547640"/>
              <a:ext cx="1361880" cy="18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1620720" y="3847680"/>
              <a:ext cx="0" cy="19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50960" y="5819760"/>
              <a:ext cx="512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5680" y="1546200"/>
              <a:ext cx="0" cy="437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2077920" y="5097600"/>
              <a:ext cx="250920" cy="733320"/>
              <a:chOff x="2077920" y="5097600"/>
              <a:chExt cx="250920" cy="733320"/>
            </a:xfrm>
          </p:grpSpPr>
          <p:sp>
            <p:nvSpPr>
              <p:cNvPr id="1317" name=""/>
              <p:cNvSpPr/>
              <p:nvPr/>
            </p:nvSpPr>
            <p:spPr>
              <a:xfrm>
                <a:off x="2077920" y="509760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205000" y="511344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328840" y="511344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2478240" y="5100480"/>
              <a:ext cx="250560" cy="733320"/>
              <a:chOff x="2478240" y="5100480"/>
              <a:chExt cx="250560" cy="733320"/>
            </a:xfrm>
          </p:grpSpPr>
          <p:sp>
            <p:nvSpPr>
              <p:cNvPr id="1321" name=""/>
              <p:cNvSpPr/>
              <p:nvPr/>
            </p:nvSpPr>
            <p:spPr>
              <a:xfrm>
                <a:off x="2478240" y="51004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604960" y="51163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8800" y="51163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2873520" y="5113440"/>
              <a:ext cx="250560" cy="733320"/>
              <a:chOff x="2873520" y="5113440"/>
              <a:chExt cx="250560" cy="733320"/>
            </a:xfrm>
          </p:grpSpPr>
          <p:sp>
            <p:nvSpPr>
              <p:cNvPr id="1325" name=""/>
              <p:cNvSpPr/>
              <p:nvPr/>
            </p:nvSpPr>
            <p:spPr>
              <a:xfrm>
                <a:off x="2873520" y="511344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000240" y="51292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124080" y="51292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3294000" y="5102280"/>
              <a:ext cx="250920" cy="733320"/>
              <a:chOff x="3294000" y="5102280"/>
              <a:chExt cx="250920" cy="733320"/>
            </a:xfrm>
          </p:grpSpPr>
          <p:sp>
            <p:nvSpPr>
              <p:cNvPr id="1329" name=""/>
              <p:cNvSpPr/>
              <p:nvPr/>
            </p:nvSpPr>
            <p:spPr>
              <a:xfrm>
                <a:off x="3294000" y="51022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421080" y="51181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544920" y="51181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3714840" y="5102280"/>
              <a:ext cx="250560" cy="733320"/>
              <a:chOff x="3714840" y="5102280"/>
              <a:chExt cx="250560" cy="733320"/>
            </a:xfrm>
          </p:grpSpPr>
          <p:sp>
            <p:nvSpPr>
              <p:cNvPr id="1333" name=""/>
              <p:cNvSpPr/>
              <p:nvPr/>
            </p:nvSpPr>
            <p:spPr>
              <a:xfrm>
                <a:off x="3714840" y="51022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841560" y="51181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65400" y="51181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4098960" y="5102280"/>
              <a:ext cx="250920" cy="733320"/>
              <a:chOff x="4098960" y="5102280"/>
              <a:chExt cx="250920" cy="733320"/>
            </a:xfrm>
          </p:grpSpPr>
          <p:sp>
            <p:nvSpPr>
              <p:cNvPr id="1337" name=""/>
              <p:cNvSpPr/>
              <p:nvPr/>
            </p:nvSpPr>
            <p:spPr>
              <a:xfrm>
                <a:off x="4098960" y="51022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226040" y="51181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349880" y="51181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4518000" y="5102280"/>
              <a:ext cx="250920" cy="733320"/>
              <a:chOff x="4518000" y="5102280"/>
              <a:chExt cx="250920" cy="733320"/>
            </a:xfrm>
          </p:grpSpPr>
          <p:sp>
            <p:nvSpPr>
              <p:cNvPr id="1341" name=""/>
              <p:cNvSpPr/>
              <p:nvPr/>
            </p:nvSpPr>
            <p:spPr>
              <a:xfrm>
                <a:off x="4518000" y="51022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645080" y="51181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768920" y="51181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4927680" y="5089680"/>
              <a:ext cx="250920" cy="733320"/>
              <a:chOff x="4927680" y="5089680"/>
              <a:chExt cx="250920" cy="733320"/>
            </a:xfrm>
          </p:grpSpPr>
          <p:sp>
            <p:nvSpPr>
              <p:cNvPr id="1345" name=""/>
              <p:cNvSpPr/>
              <p:nvPr/>
            </p:nvSpPr>
            <p:spPr>
              <a:xfrm>
                <a:off x="4927680" y="50896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54760" y="51055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178600" y="51055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5359320" y="5087880"/>
              <a:ext cx="250920" cy="733320"/>
              <a:chOff x="5359320" y="5087880"/>
              <a:chExt cx="250920" cy="733320"/>
            </a:xfrm>
          </p:grpSpPr>
          <p:sp>
            <p:nvSpPr>
              <p:cNvPr id="1349" name=""/>
              <p:cNvSpPr/>
              <p:nvPr/>
            </p:nvSpPr>
            <p:spPr>
              <a:xfrm>
                <a:off x="5359320" y="50878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486400" y="51037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610240" y="51037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5756400" y="5089680"/>
              <a:ext cx="250560" cy="733320"/>
              <a:chOff x="5756400" y="5089680"/>
              <a:chExt cx="250560" cy="733320"/>
            </a:xfrm>
          </p:grpSpPr>
          <p:sp>
            <p:nvSpPr>
              <p:cNvPr id="1353" name=""/>
              <p:cNvSpPr/>
              <p:nvPr/>
            </p:nvSpPr>
            <p:spPr>
              <a:xfrm>
                <a:off x="5756400" y="508968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883120" y="51055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006960" y="510552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6" name=""/>
            <p:cNvSpPr/>
            <p:nvPr/>
          </p:nvSpPr>
          <p:spPr>
            <a:xfrm>
              <a:off x="6399360" y="3184560"/>
              <a:ext cx="0" cy="279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065320" y="3205080"/>
              <a:ext cx="0" cy="279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195280" y="6167520"/>
              <a:ext cx="216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Pierwsze całkowani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773240" y="619596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Drugie całkowani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0" name=""/>
                <p:cNvSpPr txBox="1"/>
                <p:nvPr/>
              </p:nvSpPr>
              <p:spPr>
                <a:xfrm>
                  <a:off x="2933640" y="1514520"/>
                  <a:ext cx="6652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1" name=""/>
                <p:cNvSpPr txBox="1"/>
                <p:nvPr/>
              </p:nvSpPr>
              <p:spPr>
                <a:xfrm>
                  <a:off x="5611680" y="1523880"/>
                  <a:ext cx="909720" cy="70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62" name=""/>
            <p:cNvSpPr/>
            <p:nvPr/>
          </p:nvSpPr>
          <p:spPr>
            <a:xfrm>
              <a:off x="4558680" y="95868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chylen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3649320" y="1311120"/>
              <a:ext cx="8031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653080" y="1285920"/>
              <a:ext cx="27288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5" name=""/>
                <p:cNvSpPr txBox="1"/>
                <p:nvPr/>
              </p:nvSpPr>
              <p:spPr>
                <a:xfrm>
                  <a:off x="6773760" y="4654440"/>
                  <a:ext cx="171000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66" name=""/>
            <p:cNvSpPr/>
            <p:nvPr/>
          </p:nvSpPr>
          <p:spPr>
            <a:xfrm>
              <a:off x="6788880" y="30733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68280" y="53402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152800" y="5951520"/>
              <a:ext cx="27097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83280" y="5962680"/>
              <a:ext cx="111276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328840" y="3556080"/>
              <a:ext cx="1510920" cy="16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0" lang="pl-PL" sz="20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ff"/>
                  </a:solidFill>
                  <a:latin typeface="Times New Roman"/>
                </a:rPr>
                <a:t>=con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r>
                <a:rPr b="0" lang="pl-PL" sz="1800" spc="-1" strike="noStrike" baseline="-25000">
                  <a:solidFill>
                    <a:srgbClr val="0000ff"/>
                  </a:solidFill>
                  <a:latin typeface="Times New Roman"/>
                </a:rPr>
                <a:t>max </a:t>
              </a:r>
              <a:r>
                <a:rPr b="0" lang="pl-PL" sz="1800" spc="-1" strike="noStrike">
                  <a:solidFill>
                    <a:srgbClr val="0000ff"/>
                  </a:solidFill>
                  <a:latin typeface="Times New Roman"/>
                </a:rPr>
                <a:t>impulsó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108400" y="3535200"/>
              <a:ext cx="123372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zliczanie N impulsó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81240" y="4160880"/>
              <a:ext cx="27097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3" name=""/>
            <p:cNvGrpSpPr/>
            <p:nvPr/>
          </p:nvGrpSpPr>
          <p:grpSpPr>
            <a:xfrm>
              <a:off x="6118200" y="5092560"/>
              <a:ext cx="250920" cy="733320"/>
              <a:chOff x="6118200" y="5092560"/>
              <a:chExt cx="250920" cy="733320"/>
            </a:xfrm>
          </p:grpSpPr>
          <p:sp>
            <p:nvSpPr>
              <p:cNvPr id="1374" name=""/>
              <p:cNvSpPr/>
              <p:nvPr/>
            </p:nvSpPr>
            <p:spPr>
              <a:xfrm>
                <a:off x="6118200" y="509256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45280" y="510840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369120" y="5108400"/>
                <a:ext cx="0" cy="7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/>
          <p:nvPr/>
        </p:nvSpPr>
        <p:spPr>
          <a:xfrm>
            <a:off x="1306440" y="104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1608120" y="693720"/>
            <a:ext cx="0" cy="26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596960" y="3365640"/>
            <a:ext cx="582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1620720" y="3847680"/>
            <a:ext cx="0" cy="197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50960" y="5819760"/>
            <a:ext cx="562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035680" y="693720"/>
            <a:ext cx="0" cy="523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77920" y="5097600"/>
            <a:ext cx="250920" cy="733320"/>
            <a:chOff x="2077920" y="5097600"/>
            <a:chExt cx="250920" cy="733320"/>
          </a:xfrm>
        </p:grpSpPr>
        <p:sp>
          <p:nvSpPr>
            <p:cNvPr id="1384" name=""/>
            <p:cNvSpPr/>
            <p:nvPr/>
          </p:nvSpPr>
          <p:spPr>
            <a:xfrm>
              <a:off x="2077920" y="509760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205000" y="511344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28840" y="511344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2478240" y="5100480"/>
            <a:ext cx="250560" cy="733320"/>
            <a:chOff x="2478240" y="5100480"/>
            <a:chExt cx="250560" cy="733320"/>
          </a:xfrm>
        </p:grpSpPr>
        <p:sp>
          <p:nvSpPr>
            <p:cNvPr id="1388" name=""/>
            <p:cNvSpPr/>
            <p:nvPr/>
          </p:nvSpPr>
          <p:spPr>
            <a:xfrm>
              <a:off x="2478240" y="510048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04960" y="51163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28800" y="51163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2873520" y="5113440"/>
            <a:ext cx="250560" cy="733320"/>
            <a:chOff x="2873520" y="5113440"/>
            <a:chExt cx="250560" cy="733320"/>
          </a:xfrm>
        </p:grpSpPr>
        <p:sp>
          <p:nvSpPr>
            <p:cNvPr id="1392" name=""/>
            <p:cNvSpPr/>
            <p:nvPr/>
          </p:nvSpPr>
          <p:spPr>
            <a:xfrm>
              <a:off x="2873520" y="511344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000240" y="512928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124080" y="512928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3294000" y="5102280"/>
            <a:ext cx="250920" cy="733320"/>
            <a:chOff x="3294000" y="5102280"/>
            <a:chExt cx="250920" cy="733320"/>
          </a:xfrm>
        </p:grpSpPr>
        <p:sp>
          <p:nvSpPr>
            <p:cNvPr id="1396" name=""/>
            <p:cNvSpPr/>
            <p:nvPr/>
          </p:nvSpPr>
          <p:spPr>
            <a:xfrm>
              <a:off x="3294000" y="510228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21080" y="51181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544920" y="51181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3714840" y="5102280"/>
            <a:ext cx="250560" cy="733320"/>
            <a:chOff x="3714840" y="5102280"/>
            <a:chExt cx="250560" cy="733320"/>
          </a:xfrm>
        </p:grpSpPr>
        <p:sp>
          <p:nvSpPr>
            <p:cNvPr id="1400" name=""/>
            <p:cNvSpPr/>
            <p:nvPr/>
          </p:nvSpPr>
          <p:spPr>
            <a:xfrm>
              <a:off x="3714840" y="510228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41560" y="51181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965400" y="51181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4098960" y="5102280"/>
            <a:ext cx="250920" cy="733320"/>
            <a:chOff x="4098960" y="5102280"/>
            <a:chExt cx="250920" cy="733320"/>
          </a:xfrm>
        </p:grpSpPr>
        <p:sp>
          <p:nvSpPr>
            <p:cNvPr id="1404" name=""/>
            <p:cNvSpPr/>
            <p:nvPr/>
          </p:nvSpPr>
          <p:spPr>
            <a:xfrm>
              <a:off x="4098960" y="510228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226040" y="51181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349880" y="51181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518000" y="5102280"/>
            <a:ext cx="250920" cy="733320"/>
            <a:chOff x="4518000" y="5102280"/>
            <a:chExt cx="250920" cy="733320"/>
          </a:xfrm>
        </p:grpSpPr>
        <p:sp>
          <p:nvSpPr>
            <p:cNvPr id="1408" name=""/>
            <p:cNvSpPr/>
            <p:nvPr/>
          </p:nvSpPr>
          <p:spPr>
            <a:xfrm>
              <a:off x="4518000" y="510228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645080" y="51181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68920" y="511812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5054760" y="5105520"/>
            <a:ext cx="0" cy="717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216400" y="5114880"/>
            <a:ext cx="0" cy="717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5349960" y="5097600"/>
            <a:ext cx="250920" cy="733320"/>
            <a:chOff x="5349960" y="5097600"/>
            <a:chExt cx="250920" cy="733320"/>
          </a:xfrm>
        </p:grpSpPr>
        <p:sp>
          <p:nvSpPr>
            <p:cNvPr id="1414" name=""/>
            <p:cNvSpPr/>
            <p:nvPr/>
          </p:nvSpPr>
          <p:spPr>
            <a:xfrm>
              <a:off x="5349960" y="509760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477040" y="511344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600880" y="511344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5756400" y="5089680"/>
            <a:ext cx="250560" cy="733320"/>
            <a:chOff x="5756400" y="5089680"/>
            <a:chExt cx="250560" cy="733320"/>
          </a:xfrm>
        </p:grpSpPr>
        <p:sp>
          <p:nvSpPr>
            <p:cNvPr id="1418" name=""/>
            <p:cNvSpPr/>
            <p:nvPr/>
          </p:nvSpPr>
          <p:spPr>
            <a:xfrm>
              <a:off x="5756400" y="508968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83120" y="510552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006960" y="510552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6818400" y="3173400"/>
            <a:ext cx="0" cy="279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65320" y="3205080"/>
            <a:ext cx="0" cy="279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195280" y="616752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ierwsze całkow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772880" y="61959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Drugie całkowani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098480" y="30733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138080" y="54151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52800" y="5951520"/>
            <a:ext cx="27097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183280" y="5962680"/>
            <a:ext cx="1112760" cy="0"/>
          </a:xfrm>
          <a:prstGeom prst="line">
            <a:avLst/>
          </a:prstGeom>
          <a:ln w="19080">
            <a:solidFill>
              <a:srgbClr val="33cc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81240" y="4160880"/>
            <a:ext cx="27097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6118200" y="5092560"/>
            <a:ext cx="250920" cy="733320"/>
            <a:chOff x="6118200" y="5092560"/>
            <a:chExt cx="250920" cy="733320"/>
          </a:xfrm>
        </p:grpSpPr>
        <p:sp>
          <p:nvSpPr>
            <p:cNvPr id="1431" name=""/>
            <p:cNvSpPr/>
            <p:nvPr/>
          </p:nvSpPr>
          <p:spPr>
            <a:xfrm>
              <a:off x="6118200" y="509256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45280" y="510840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69120" y="510840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V="1">
            <a:off x="2090880" y="738000"/>
            <a:ext cx="2933640" cy="2639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035680" y="2759040"/>
            <a:ext cx="382320" cy="6066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048280" y="743040"/>
            <a:ext cx="1793880" cy="264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6518160" y="5097600"/>
            <a:ext cx="250920" cy="733320"/>
            <a:chOff x="6518160" y="5097600"/>
            <a:chExt cx="250920" cy="733320"/>
          </a:xfrm>
        </p:grpSpPr>
        <p:sp>
          <p:nvSpPr>
            <p:cNvPr id="1438" name=""/>
            <p:cNvSpPr/>
            <p:nvPr/>
          </p:nvSpPr>
          <p:spPr>
            <a:xfrm>
              <a:off x="6518160" y="509760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645240" y="511344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69080" y="5113440"/>
              <a:ext cx="0" cy="717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1" name=""/>
          <p:cNvSpPr/>
          <p:nvPr/>
        </p:nvSpPr>
        <p:spPr>
          <a:xfrm flipH="1">
            <a:off x="2054160" y="2782800"/>
            <a:ext cx="2981520" cy="569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052960" y="3983040"/>
            <a:ext cx="0" cy="717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186520" y="3983040"/>
            <a:ext cx="0" cy="717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313240" y="3975120"/>
            <a:ext cx="0" cy="717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418000" y="3249720"/>
            <a:ext cx="0" cy="27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7034040" y="4282920"/>
                <a:ext cx="1710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7" name=""/>
          <p:cNvSpPr/>
          <p:nvPr/>
        </p:nvSpPr>
        <p:spPr>
          <a:xfrm>
            <a:off x="5869440" y="1119240"/>
            <a:ext cx="133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WE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W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zetwarzanie cyfrowo-analog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139680" y="719280"/>
            <a:ext cx="8534520" cy="1292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zróżnia się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rzetworniki unipolarne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 których napięcie zmienia się od zera do pewnej wartości maksymalnej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rzetworn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ipolarn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gdzie napięcie zawiera się w granicach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39680" y="4454640"/>
            <a:ext cx="861048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ozdzielczo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Q jest określana liczbą bitów N słowa cyfrowego reprezentującego sygnał analogow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. rozdzielczość 12 bitów oznacza, że Q=FS (1/2)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FS/4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39680" y="2662200"/>
            <a:ext cx="84740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Zakres przetwornika FS (full scale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który jest równy wartości napięcia (prądu) odpowiadającej zwiększonej o jeden największej liczbie całkowitej stosowanej w słowie cyfrowym przetwo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38200" y="1185840"/>
            <a:ext cx="8229240" cy="3809520"/>
            <a:chOff x="538200" y="1185840"/>
            <a:chExt cx="8229240" cy="3809520"/>
          </a:xfrm>
        </p:grpSpPr>
        <p:sp>
          <p:nvSpPr>
            <p:cNvPr id="106" name=""/>
            <p:cNvSpPr/>
            <p:nvPr/>
          </p:nvSpPr>
          <p:spPr>
            <a:xfrm flipH="1">
              <a:off x="2276280" y="2606760"/>
              <a:ext cx="3177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60440" y="2359800"/>
              <a:ext cx="1022400" cy="5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apamięta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óbka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x(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9360" y="4622040"/>
              <a:ext cx="1153440" cy="343440"/>
            </a:xfrm>
            <a:noFill/>
            <a:ln w="324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wantowan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99880" y="2831040"/>
              <a:ext cx="720" cy="137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4320" y="4673520"/>
              <a:ext cx="138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ls próbkują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5640" y="1862280"/>
              <a:ext cx="2988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x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48960" y="3465000"/>
              <a:ext cx="24264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1800" y="1920600"/>
              <a:ext cx="0" cy="192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4560" y="3619800"/>
              <a:ext cx="184896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920240" y="2198880"/>
              <a:ext cx="2496240" cy="255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0200" y="3065040"/>
              <a:ext cx="276120" cy="359280"/>
            </a:xfrm>
            <a:noFill/>
            <a:ln w="32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5960" y="1715400"/>
              <a:ext cx="2364120" cy="235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9680" y="2605680"/>
              <a:ext cx="88272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miętan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815120" y="4241160"/>
              <a:ext cx="832680" cy="442800"/>
              <a:chOff x="1815120" y="4241160"/>
              <a:chExt cx="832680" cy="442800"/>
            </a:xfrm>
          </p:grpSpPr>
          <p:sp>
            <p:nvSpPr>
              <p:cNvPr id="120" name=""/>
              <p:cNvSpPr/>
              <p:nvPr/>
            </p:nvSpPr>
            <p:spPr>
              <a:xfrm>
                <a:off x="1815120" y="4675680"/>
                <a:ext cx="309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109600" y="4241160"/>
                <a:ext cx="1080" cy="442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09600" y="4241520"/>
                <a:ext cx="2631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70600" y="4241520"/>
                <a:ext cx="1080" cy="442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70600" y="4675680"/>
                <a:ext cx="277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2256840" y="2619360"/>
              <a:ext cx="1080" cy="15858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012320" y="2619720"/>
              <a:ext cx="12218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60400" y="2831040"/>
              <a:ext cx="1235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3400" y="2342880"/>
              <a:ext cx="720" cy="14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8200" y="3917160"/>
              <a:ext cx="9777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błąd apert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103400" y="2356200"/>
              <a:ext cx="720" cy="734760"/>
              <a:chOff x="1103400" y="2356200"/>
              <a:chExt cx="720" cy="734760"/>
            </a:xfrm>
          </p:grpSpPr>
          <p:sp>
            <p:nvSpPr>
              <p:cNvPr id="131" name=""/>
              <p:cNvSpPr/>
              <p:nvPr/>
            </p:nvSpPr>
            <p:spPr>
              <a:xfrm>
                <a:off x="1103400" y="2851200"/>
                <a:ext cx="720" cy="239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1103400" y="2356200"/>
                <a:ext cx="720" cy="239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649160" y="1240560"/>
              <a:ext cx="22226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Układ próbkująco-pamiętają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8200" y="2662920"/>
              <a:ext cx="298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x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37000" y="2836080"/>
              <a:ext cx="747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419800" y="1899360"/>
              <a:ext cx="1777320" cy="1929600"/>
              <a:chOff x="5419800" y="1899360"/>
              <a:chExt cx="1777320" cy="1929600"/>
            </a:xfrm>
          </p:grpSpPr>
          <p:sp>
            <p:nvSpPr>
              <p:cNvPr id="137" name=""/>
              <p:cNvSpPr/>
              <p:nvPr/>
            </p:nvSpPr>
            <p:spPr>
              <a:xfrm>
                <a:off x="5562360" y="1899360"/>
                <a:ext cx="1080" cy="192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19800" y="3590280"/>
                <a:ext cx="1777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486040" y="1988640"/>
              <a:ext cx="162000" cy="1381320"/>
              <a:chOff x="5486040" y="1988640"/>
              <a:chExt cx="162000" cy="13813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5486040" y="1988640"/>
                <a:ext cx="162000" cy="475920"/>
                <a:chOff x="5486040" y="1988640"/>
                <a:chExt cx="162000" cy="4759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486040" y="1988640"/>
                  <a:ext cx="1620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040" y="2463480"/>
                  <a:ext cx="1620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486040" y="2898720"/>
                <a:ext cx="162000" cy="471240"/>
                <a:chOff x="5486040" y="2898720"/>
                <a:chExt cx="162000" cy="4712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486040" y="2898720"/>
                  <a:ext cx="1620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040" y="3368880"/>
                  <a:ext cx="1620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 flipV="1">
              <a:off x="5557320" y="1975320"/>
              <a:ext cx="1601640" cy="160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48400" y="1988640"/>
              <a:ext cx="1520640" cy="10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48520" y="1988640"/>
              <a:ext cx="720" cy="155916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48400" y="2457720"/>
              <a:ext cx="10602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82680" y="2469600"/>
              <a:ext cx="1080" cy="1121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6480" y="2887200"/>
              <a:ext cx="599760" cy="10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50680" y="2887200"/>
              <a:ext cx="720" cy="6930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62440" y="3371760"/>
              <a:ext cx="115920" cy="10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75840" y="3371760"/>
              <a:ext cx="1080" cy="20484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785920" y="3468240"/>
              <a:ext cx="1373400" cy="275400"/>
              <a:chOff x="5785920" y="3468240"/>
              <a:chExt cx="1373400" cy="2754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682680" y="3468240"/>
                <a:ext cx="476640" cy="275400"/>
                <a:chOff x="6682680" y="3468240"/>
                <a:chExt cx="476640" cy="2754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158240" y="3468240"/>
                  <a:ext cx="1080" cy="27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682680" y="3468240"/>
                  <a:ext cx="720" cy="27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785920" y="3468240"/>
                <a:ext cx="475200" cy="275400"/>
                <a:chOff x="5785920" y="3468240"/>
                <a:chExt cx="475200" cy="275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260040" y="3468240"/>
                  <a:ext cx="1080" cy="27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785920" y="3468240"/>
                  <a:ext cx="720" cy="27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5618880" y="2064960"/>
              <a:ext cx="39852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72840" y="1672560"/>
              <a:ext cx="2364480" cy="236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9400" y="4576680"/>
              <a:ext cx="1561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d wyjściow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6678000" y="3801240"/>
              <a:ext cx="3960" cy="67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70120" y="2594880"/>
              <a:ext cx="1080" cy="23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070120" y="2215080"/>
              <a:ext cx="1080" cy="23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9280" y="2595960"/>
              <a:ext cx="28191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6440" y="2461320"/>
              <a:ext cx="154440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0120" y="2102040"/>
              <a:ext cx="1080" cy="1876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43000" y="4080600"/>
              <a:ext cx="1324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łąd kwantow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17640" y="1998360"/>
              <a:ext cx="6480" cy="45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97920" y="2047320"/>
              <a:ext cx="342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0240" y="1195200"/>
              <a:ext cx="1320120" cy="4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zetwornik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/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72000" y="3418200"/>
              <a:ext cx="194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14560" y="1686960"/>
              <a:ext cx="2426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7880" y="1185840"/>
              <a:ext cx="864000" cy="360360"/>
            </a:xfrm>
            <a:noFill/>
            <a:ln w="324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dowan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9000" y="3585240"/>
              <a:ext cx="72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238840" y="0"/>
            <a:ext cx="51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arzanie analogowo-cyf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9520" y="5218200"/>
            <a:ext cx="779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twornik analogowo cyfrowy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analog-to-digital conver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zywany przetwornikiem A/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kształca sygnał analogowy w dyskretny sygnał cyf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128520" y="1878120"/>
            <a:ext cx="8821800" cy="4189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em wyjściowym przetwornika może być prąd lub napię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i CA z wyjściem prądowym są szybs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i z wyjściem napięciowym wymagają użycia konwer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-napię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werterem I/U może by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or - prymitywne rozwiązanie (czasami daje dobre efek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peracyjny (zmniejsza szybkość działa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09480" y="1066680"/>
            <a:ext cx="7925040" cy="6007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owa wartość sygnału wyjściowego przetwornik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/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kreślona zależ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*D(K)/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teoretycznym zakresem przetwarzania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(K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dziesiętną wartością liczbow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owego kodu cyfroweg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rzykład, w naturalnym ośmiobitowym kodzie dwójkowym, d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ziesiętni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S=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.96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arzanie cyfrowo-analog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0" y="595080"/>
            <a:ext cx="91440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i z rezystorami wag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553840" y="533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187880" y="2104920"/>
            <a:ext cx="2736720" cy="15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640560" y="2514600"/>
            <a:ext cx="296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629480" y="2317680"/>
            <a:ext cx="3952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937200" y="1922400"/>
            <a:ext cx="692280" cy="790560"/>
          </a:xfrm>
          <a:custGeom>
            <a:avLst/>
            <a:gdLst/>
            <a:ahLst/>
            <a:rect l="l" t="t" r="r" b="b"/>
            <a:pathLst>
              <a:path w="436" h="498">
                <a:moveTo>
                  <a:pt x="0" y="0"/>
                </a:moveTo>
                <a:lnTo>
                  <a:pt x="0" y="498"/>
                </a:lnTo>
                <a:lnTo>
                  <a:pt x="436" y="24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6738840" y="1625400"/>
            <a:ext cx="1800" cy="493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738840" y="1625760"/>
            <a:ext cx="1089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27840" y="1625760"/>
            <a:ext cx="1800" cy="691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640560" y="251460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541920" y="2909880"/>
            <a:ext cx="19692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7926120" y="2416320"/>
            <a:ext cx="198720" cy="395280"/>
            <a:chOff x="7926120" y="2416320"/>
            <a:chExt cx="198720" cy="395280"/>
          </a:xfrm>
        </p:grpSpPr>
        <p:sp>
          <p:nvSpPr>
            <p:cNvPr id="1467" name=""/>
            <p:cNvSpPr/>
            <p:nvPr/>
          </p:nvSpPr>
          <p:spPr>
            <a:xfrm>
              <a:off x="8024760" y="2416320"/>
              <a:ext cx="1800" cy="3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7926120" y="2416320"/>
              <a:ext cx="98280" cy="9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024760" y="2416320"/>
              <a:ext cx="100080" cy="9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3422160" y="1714680"/>
            <a:ext cx="790920" cy="791640"/>
            <a:chOff x="3422160" y="1714680"/>
            <a:chExt cx="790920" cy="791640"/>
          </a:xfrm>
        </p:grpSpPr>
        <p:sp>
          <p:nvSpPr>
            <p:cNvPr id="1471" name=""/>
            <p:cNvSpPr/>
            <p:nvPr/>
          </p:nvSpPr>
          <p:spPr>
            <a:xfrm flipH="1" flipV="1">
              <a:off x="3916440" y="1912680"/>
              <a:ext cx="296640" cy="198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 flipV="1">
              <a:off x="4013280" y="1715760"/>
              <a:ext cx="14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 flipV="1">
              <a:off x="3422160" y="1714680"/>
              <a:ext cx="592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013280" y="2111400"/>
              <a:ext cx="1440" cy="29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 flipV="1">
              <a:off x="3819240" y="2406240"/>
              <a:ext cx="1969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 flipV="1">
              <a:off x="3816360" y="2307960"/>
              <a:ext cx="1440" cy="198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7134120" y="1525680"/>
            <a:ext cx="397080" cy="198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633800" y="124920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696000" y="2076480"/>
            <a:ext cx="82800" cy="871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783560" y="2273400"/>
            <a:ext cx="84240" cy="87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973560" y="235728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011360" y="200016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530840" y="25351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727400" y="2692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 flipV="1">
            <a:off x="6837120" y="1527120"/>
            <a:ext cx="9972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6837120" y="1625760"/>
            <a:ext cx="9972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738480" y="12492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36040" y="140796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216320" y="3174840"/>
            <a:ext cx="142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5626080" y="2111040"/>
            <a:ext cx="0" cy="21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3416040" y="2765520"/>
            <a:ext cx="790920" cy="791640"/>
            <a:chOff x="3416040" y="2765520"/>
            <a:chExt cx="790920" cy="791640"/>
          </a:xfrm>
        </p:grpSpPr>
        <p:sp>
          <p:nvSpPr>
            <p:cNvPr id="1492" name=""/>
            <p:cNvSpPr/>
            <p:nvPr/>
          </p:nvSpPr>
          <p:spPr>
            <a:xfrm flipH="1" flipV="1">
              <a:off x="3910320" y="2963520"/>
              <a:ext cx="296640" cy="198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flipV="1">
              <a:off x="4007160" y="2766600"/>
              <a:ext cx="14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 flipV="1">
              <a:off x="3416040" y="2765520"/>
              <a:ext cx="592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4007160" y="3162240"/>
              <a:ext cx="1440" cy="29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 flipV="1">
              <a:off x="3813120" y="3457080"/>
              <a:ext cx="1969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 flipV="1">
              <a:off x="3810240" y="3358800"/>
              <a:ext cx="1440" cy="198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5627520" y="4249800"/>
            <a:ext cx="0" cy="17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1747800" y="2770200"/>
            <a:ext cx="528840" cy="511200"/>
            <a:chOff x="1747800" y="2770200"/>
            <a:chExt cx="528840" cy="511200"/>
          </a:xfrm>
        </p:grpSpPr>
        <p:sp>
          <p:nvSpPr>
            <p:cNvPr id="1500" name=""/>
            <p:cNvSpPr/>
            <p:nvPr/>
          </p:nvSpPr>
          <p:spPr>
            <a:xfrm>
              <a:off x="1747800" y="2770200"/>
              <a:ext cx="528840" cy="51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2005560" y="287460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" name=""/>
          <p:cNvSpPr/>
          <p:nvPr/>
        </p:nvSpPr>
        <p:spPr>
          <a:xfrm flipH="1">
            <a:off x="1976040" y="171144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11320" y="1711440"/>
            <a:ext cx="0" cy="10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011320" y="328140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22400" y="3881520"/>
            <a:ext cx="15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rot="16200000">
            <a:off x="4886280" y="1895040"/>
            <a:ext cx="198360" cy="395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16200000">
            <a:off x="4903560" y="2982240"/>
            <a:ext cx="198360" cy="395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973080" y="2747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30840" y="1338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789440" y="24955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776920" y="3403440"/>
                <a:ext cx="30560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 flipV="1">
            <a:off x="3387600" y="171144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373560" y="1647720"/>
            <a:ext cx="82440" cy="87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355920" y="2722680"/>
            <a:ext cx="82440" cy="871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387600" y="3844800"/>
            <a:ext cx="0" cy="17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667320" y="12272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3355560" y="5084640"/>
            <a:ext cx="2320560" cy="1341000"/>
            <a:chOff x="3355560" y="5084640"/>
            <a:chExt cx="2320560" cy="1341000"/>
          </a:xfrm>
        </p:grpSpPr>
        <p:sp>
          <p:nvSpPr>
            <p:cNvPr id="1518" name=""/>
            <p:cNvSpPr/>
            <p:nvPr/>
          </p:nvSpPr>
          <p:spPr>
            <a:xfrm flipH="1">
              <a:off x="4163760" y="6035400"/>
              <a:ext cx="13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3355560" y="5634000"/>
              <a:ext cx="790920" cy="791640"/>
              <a:chOff x="3355560" y="5634000"/>
              <a:chExt cx="790920" cy="791640"/>
            </a:xfrm>
          </p:grpSpPr>
          <p:sp>
            <p:nvSpPr>
              <p:cNvPr id="1520" name=""/>
              <p:cNvSpPr/>
              <p:nvPr/>
            </p:nvSpPr>
            <p:spPr>
              <a:xfrm flipH="1" flipV="1">
                <a:off x="3849840" y="5832000"/>
                <a:ext cx="296640" cy="198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 flipV="1">
                <a:off x="3946680" y="5635080"/>
                <a:ext cx="144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 flipV="1">
                <a:off x="3355560" y="5634000"/>
                <a:ext cx="592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3946680" y="6030720"/>
                <a:ext cx="1440" cy="29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flipV="1">
                <a:off x="3752640" y="6325560"/>
                <a:ext cx="1969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flipV="1">
                <a:off x="3749760" y="6227280"/>
                <a:ext cx="1440" cy="1983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"/>
            <p:cNvSpPr/>
            <p:nvPr/>
          </p:nvSpPr>
          <p:spPr>
            <a:xfrm rot="16200000">
              <a:off x="4816440" y="5860440"/>
              <a:ext cx="198360" cy="395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09160" y="53816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-1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695760" y="508464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4192560" y="4226040"/>
            <a:ext cx="14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3392280" y="3816360"/>
            <a:ext cx="790920" cy="791640"/>
            <a:chOff x="3392280" y="3816360"/>
            <a:chExt cx="790920" cy="791640"/>
          </a:xfrm>
        </p:grpSpPr>
        <p:sp>
          <p:nvSpPr>
            <p:cNvPr id="1531" name=""/>
            <p:cNvSpPr/>
            <p:nvPr/>
          </p:nvSpPr>
          <p:spPr>
            <a:xfrm flipH="1" flipV="1">
              <a:off x="3886560" y="4014360"/>
              <a:ext cx="296640" cy="198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 flipV="1">
              <a:off x="3983400" y="3817440"/>
              <a:ext cx="14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 flipV="1">
              <a:off x="3392280" y="3816360"/>
              <a:ext cx="592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983400" y="4213080"/>
              <a:ext cx="1440" cy="29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 flipV="1">
              <a:off x="3789360" y="4507920"/>
              <a:ext cx="1969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 flipV="1">
              <a:off x="3786480" y="4409640"/>
              <a:ext cx="1440" cy="198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 rot="16200000">
            <a:off x="4879800" y="4033440"/>
            <a:ext cx="198360" cy="395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332160" y="3773520"/>
            <a:ext cx="82440" cy="871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65680" y="35290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589720" y="2046240"/>
            <a:ext cx="82440" cy="87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589720" y="3105000"/>
            <a:ext cx="82440" cy="87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89720" y="4197240"/>
            <a:ext cx="82440" cy="87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436200" y="1843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501000" y="2913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395160" y="5716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6087960" y="4689360"/>
                <a:ext cx="21877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5937120" y="2054160"/>
            <a:ext cx="606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920920" y="15526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152280" y="15228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arzanie cyfrowo-analog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0" y="531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i z drabinką R-2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774720" y="1608120"/>
            <a:ext cx="7815960" cy="3044880"/>
            <a:chOff x="774720" y="1608120"/>
            <a:chExt cx="7815960" cy="3044880"/>
          </a:xfrm>
        </p:grpSpPr>
        <p:sp>
          <p:nvSpPr>
            <p:cNvPr id="1552" name=""/>
            <p:cNvSpPr/>
            <p:nvPr/>
          </p:nvSpPr>
          <p:spPr>
            <a:xfrm>
              <a:off x="874440" y="2971800"/>
              <a:ext cx="1965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973080" y="1982520"/>
              <a:ext cx="1080" cy="988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73080" y="1982880"/>
              <a:ext cx="4055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600680" y="1982880"/>
              <a:ext cx="1440" cy="988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2971800"/>
              <a:ext cx="19800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962000" y="1982880"/>
              <a:ext cx="1080" cy="108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962000" y="3070440"/>
              <a:ext cx="198000" cy="296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60360" y="3268800"/>
              <a:ext cx="196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357280" y="3268800"/>
              <a:ext cx="1080" cy="592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357280" y="3861000"/>
              <a:ext cx="504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65000" y="3268800"/>
              <a:ext cx="296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665000" y="3268800"/>
              <a:ext cx="14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566720" y="3465720"/>
              <a:ext cx="1980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247920" y="1982880"/>
              <a:ext cx="1080" cy="108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247920" y="3070440"/>
              <a:ext cx="198000" cy="296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46280" y="3268800"/>
              <a:ext cx="198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44640" y="3268800"/>
              <a:ext cx="1440" cy="592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950920" y="3268800"/>
              <a:ext cx="296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50920" y="3268800"/>
              <a:ext cx="14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852640" y="3465720"/>
              <a:ext cx="1980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457360" y="1884600"/>
              <a:ext cx="394920" cy="198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863720" y="2378160"/>
              <a:ext cx="198000" cy="395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9280" y="2378160"/>
              <a:ext cx="198360" cy="395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435200" y="1982880"/>
              <a:ext cx="1440" cy="108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435200" y="3070440"/>
              <a:ext cx="198000" cy="296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33560" y="3268800"/>
              <a:ext cx="196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30480" y="3268800"/>
              <a:ext cx="1440" cy="592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4138200" y="3268800"/>
              <a:ext cx="296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138560" y="3268800"/>
              <a:ext cx="10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039920" y="3465720"/>
              <a:ext cx="1980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643200" y="1884600"/>
              <a:ext cx="396360" cy="198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336920" y="2378160"/>
              <a:ext cx="198000" cy="395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27480" y="1982880"/>
              <a:ext cx="99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325840" y="19828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524200" y="19828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622840" y="1982880"/>
              <a:ext cx="1977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513480" y="1982880"/>
              <a:ext cx="1080" cy="108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513480" y="3070440"/>
              <a:ext cx="198000" cy="296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11840" y="3268800"/>
              <a:ext cx="196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08760" y="3268800"/>
              <a:ext cx="1080" cy="592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6216480" y="3268800"/>
              <a:ext cx="296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216480" y="3268800"/>
              <a:ext cx="10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18200" y="3465720"/>
              <a:ext cx="1962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721120" y="1884600"/>
              <a:ext cx="396720" cy="198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413400" y="2378160"/>
              <a:ext cx="198000" cy="395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7" name=""/>
            <p:cNvGrpSpPr/>
            <p:nvPr/>
          </p:nvGrpSpPr>
          <p:grpSpPr>
            <a:xfrm>
              <a:off x="7107120" y="3664080"/>
              <a:ext cx="1383480" cy="790560"/>
              <a:chOff x="7107120" y="3664080"/>
              <a:chExt cx="1383480" cy="790560"/>
            </a:xfrm>
          </p:grpSpPr>
          <p:sp>
            <p:nvSpPr>
              <p:cNvPr id="1598" name=""/>
              <p:cNvSpPr/>
              <p:nvPr/>
            </p:nvSpPr>
            <p:spPr>
              <a:xfrm>
                <a:off x="7107120" y="3861000"/>
                <a:ext cx="296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107120" y="4256280"/>
                <a:ext cx="296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095680" y="4059360"/>
                <a:ext cx="394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403400" y="3664080"/>
                <a:ext cx="691920" cy="790560"/>
              </a:xfrm>
              <a:custGeom>
                <a:avLst/>
                <a:gdLst/>
                <a:ahLst/>
                <a:rect l="l" t="t" r="r" b="b"/>
                <a:pathLst>
                  <a:path w="436" h="498">
                    <a:moveTo>
                      <a:pt x="0" y="0"/>
                    </a:moveTo>
                    <a:lnTo>
                      <a:pt x="0" y="498"/>
                    </a:lnTo>
                    <a:lnTo>
                      <a:pt x="436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2" name=""/>
            <p:cNvSpPr/>
            <p:nvPr/>
          </p:nvSpPr>
          <p:spPr>
            <a:xfrm flipV="1">
              <a:off x="7205400" y="3367080"/>
              <a:ext cx="1440" cy="493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05400" y="3367080"/>
              <a:ext cx="1088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294400" y="3367080"/>
              <a:ext cx="1440" cy="69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07120" y="4256280"/>
              <a:ext cx="108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08480" y="4651560"/>
              <a:ext cx="1965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8393040" y="4157640"/>
              <a:ext cx="197640" cy="395280"/>
              <a:chOff x="8393040" y="4157640"/>
              <a:chExt cx="197640" cy="395280"/>
            </a:xfrm>
          </p:grpSpPr>
          <p:sp>
            <p:nvSpPr>
              <p:cNvPr id="1608" name=""/>
              <p:cNvSpPr/>
              <p:nvPr/>
            </p:nvSpPr>
            <p:spPr>
              <a:xfrm>
                <a:off x="8490960" y="4157640"/>
                <a:ext cx="1440" cy="39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>
                <a:off x="8393040" y="4157640"/>
                <a:ext cx="9792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8490960" y="4157640"/>
                <a:ext cx="9972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1" name=""/>
            <p:cNvSpPr/>
            <p:nvPr/>
          </p:nvSpPr>
          <p:spPr>
            <a:xfrm flipH="1">
              <a:off x="1467720" y="3168720"/>
              <a:ext cx="4935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468080" y="3168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566720" y="4176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2753640" y="3168720"/>
              <a:ext cx="4935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754000" y="3168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52640" y="4176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3941640" y="3168720"/>
              <a:ext cx="493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941640" y="3168720"/>
              <a:ext cx="1080" cy="10875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039920" y="4176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6017760" y="3168720"/>
              <a:ext cx="495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8120" y="3168720"/>
              <a:ext cx="1080" cy="10875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118200" y="41767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d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60360" y="24973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446280" y="24973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799040" y="24973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33560" y="24973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11840" y="24973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502400" y="2378160"/>
              <a:ext cx="198000" cy="395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600680" y="3267000"/>
              <a:ext cx="396720" cy="198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294040" y="3149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96040" y="2990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787640" y="3818160"/>
              <a:ext cx="82440" cy="87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00360" y="3818160"/>
              <a:ext cx="83520" cy="87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865920" y="3818160"/>
              <a:ext cx="82080" cy="87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162560" y="3818160"/>
              <a:ext cx="82080" cy="87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250120" y="4014720"/>
              <a:ext cx="83880" cy="87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19160" y="1940040"/>
              <a:ext cx="82080" cy="87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205080" y="1940040"/>
              <a:ext cx="82080" cy="87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392360" y="1940040"/>
              <a:ext cx="82080" cy="87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1863720" y="2181240"/>
              <a:ext cx="197640" cy="98640"/>
              <a:chOff x="1863720" y="2181240"/>
              <a:chExt cx="197640" cy="98640"/>
            </a:xfrm>
          </p:grpSpPr>
          <p:sp>
            <p:nvSpPr>
              <p:cNvPr id="1641" name=""/>
              <p:cNvSpPr/>
              <p:nvPr/>
            </p:nvSpPr>
            <p:spPr>
              <a:xfrm flipH="1" flipV="1">
                <a:off x="1863720" y="2181240"/>
                <a:ext cx="9792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1961640" y="2181240"/>
                <a:ext cx="9972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3" name=""/>
            <p:cNvSpPr/>
            <p:nvPr/>
          </p:nvSpPr>
          <p:spPr>
            <a:xfrm>
              <a:off x="774720" y="2378160"/>
              <a:ext cx="396720" cy="395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73080" y="2476440"/>
              <a:ext cx="1080" cy="198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874080" y="2476440"/>
              <a:ext cx="9828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73080" y="2476440"/>
              <a:ext cx="9792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171080" y="22003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367640" y="2357640"/>
              <a:ext cx="17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flipV="1">
              <a:off x="1566720" y="1884240"/>
              <a:ext cx="9792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1566720" y="1982880"/>
              <a:ext cx="9792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467360" y="16081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159640" y="21020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4336920" y="2181240"/>
              <a:ext cx="197640" cy="98640"/>
              <a:chOff x="4336920" y="2181240"/>
              <a:chExt cx="197640" cy="98640"/>
            </a:xfrm>
          </p:grpSpPr>
          <p:sp>
            <p:nvSpPr>
              <p:cNvPr id="1654" name=""/>
              <p:cNvSpPr/>
              <p:nvPr/>
            </p:nvSpPr>
            <p:spPr>
              <a:xfrm flipH="1" flipV="1">
                <a:off x="4336920" y="2181240"/>
                <a:ext cx="9792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4434840" y="2181240"/>
                <a:ext cx="9972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6" name=""/>
            <p:cNvSpPr/>
            <p:nvPr/>
          </p:nvSpPr>
          <p:spPr>
            <a:xfrm>
              <a:off x="4632840" y="21020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/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7" name=""/>
            <p:cNvGrpSpPr/>
            <p:nvPr/>
          </p:nvGrpSpPr>
          <p:grpSpPr>
            <a:xfrm>
              <a:off x="3148920" y="2181240"/>
              <a:ext cx="198360" cy="98640"/>
              <a:chOff x="3148920" y="2181240"/>
              <a:chExt cx="198360" cy="98640"/>
            </a:xfrm>
          </p:grpSpPr>
          <p:sp>
            <p:nvSpPr>
              <p:cNvPr id="1658" name=""/>
              <p:cNvSpPr/>
              <p:nvPr/>
            </p:nvSpPr>
            <p:spPr>
              <a:xfrm flipH="1" flipV="1">
                <a:off x="3148920" y="2181240"/>
                <a:ext cx="9828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3247560" y="2181240"/>
                <a:ext cx="9972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0" name=""/>
            <p:cNvSpPr/>
            <p:nvPr/>
          </p:nvSpPr>
          <p:spPr>
            <a:xfrm>
              <a:off x="3445560" y="21020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/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1" name=""/>
            <p:cNvGrpSpPr/>
            <p:nvPr/>
          </p:nvGrpSpPr>
          <p:grpSpPr>
            <a:xfrm>
              <a:off x="6414480" y="2181240"/>
              <a:ext cx="196560" cy="98640"/>
              <a:chOff x="6414480" y="2181240"/>
              <a:chExt cx="196560" cy="98640"/>
            </a:xfrm>
          </p:grpSpPr>
          <p:sp>
            <p:nvSpPr>
              <p:cNvPr id="1662" name=""/>
              <p:cNvSpPr/>
              <p:nvPr/>
            </p:nvSpPr>
            <p:spPr>
              <a:xfrm flipH="1" flipV="1">
                <a:off x="6414480" y="2181240"/>
                <a:ext cx="9828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6513120" y="2181240"/>
                <a:ext cx="9792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6711120" y="21020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468840" y="1940040"/>
              <a:ext cx="83880" cy="87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908040" y="2062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439040" y="4098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477560" y="37418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42920" y="16081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555640" y="16081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821200" y="16081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997400" y="4276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193240" y="443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 flipV="1">
              <a:off x="7304040" y="3268440"/>
              <a:ext cx="9936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7304040" y="3367080"/>
              <a:ext cx="99360" cy="9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204680" y="2990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03320" y="3149640"/>
              <a:ext cx="17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8" name=""/>
          <p:cNvSpPr/>
          <p:nvPr/>
        </p:nvSpPr>
        <p:spPr>
          <a:xfrm>
            <a:off x="1081080" y="545292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z drabinką R-2R i przełączaniem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2836800" y="4643280"/>
                <a:ext cx="2898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80" name=""/>
          <p:cNvSpPr/>
          <p:nvPr/>
        </p:nvSpPr>
        <p:spPr>
          <a:xfrm>
            <a:off x="6144120" y="34354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542960" y="3521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568600" y="6103800"/>
            <a:ext cx="401976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ucze bipolarne lub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arzanie cyfrowo-analog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1293840" y="5337000"/>
            <a:ext cx="67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z drabinką R-2R i przełączaniem prąd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0" y="631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i z drabinką R-2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495360" y="1793880"/>
            <a:ext cx="8322840" cy="3646800"/>
            <a:chOff x="495360" y="1793880"/>
            <a:chExt cx="8322840" cy="3646800"/>
          </a:xfrm>
        </p:grpSpPr>
        <p:sp>
          <p:nvSpPr>
            <p:cNvPr id="1687" name=""/>
            <p:cNvSpPr/>
            <p:nvPr/>
          </p:nvSpPr>
          <p:spPr>
            <a:xfrm>
              <a:off x="1284120" y="521964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1369800" y="4277880"/>
              <a:ext cx="1440" cy="941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69800" y="4278240"/>
              <a:ext cx="2312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7881840" y="4277880"/>
              <a:ext cx="1080" cy="941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796160" y="521964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969920" y="3335400"/>
              <a:ext cx="1080" cy="18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25640" y="3335400"/>
              <a:ext cx="1080" cy="18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225520" y="4190760"/>
              <a:ext cx="344160" cy="173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82800" y="4619520"/>
              <a:ext cx="172440" cy="344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39960" y="4619520"/>
              <a:ext cx="172440" cy="344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454280" y="3335400"/>
              <a:ext cx="1440" cy="18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68360" y="4190760"/>
              <a:ext cx="344160" cy="173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367160" y="4619520"/>
              <a:ext cx="172440" cy="344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768480" y="4278240"/>
              <a:ext cx="85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940200" y="4278240"/>
              <a:ext cx="85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111560" y="4278240"/>
              <a:ext cx="85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282920" y="4278240"/>
              <a:ext cx="3598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311800" y="3335400"/>
              <a:ext cx="1080" cy="18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709880" y="4190760"/>
              <a:ext cx="344160" cy="173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224320" y="4619520"/>
              <a:ext cx="172800" cy="344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140560" y="47242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996280" y="47242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40440" y="47242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25280" y="47242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794360" y="4619520"/>
              <a:ext cx="172800" cy="344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931760" y="4240080"/>
              <a:ext cx="72720" cy="763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787480" y="4240080"/>
              <a:ext cx="72720" cy="763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416120" y="4240080"/>
              <a:ext cx="72720" cy="763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2226960" y="2736720"/>
              <a:ext cx="171000" cy="84240"/>
              <a:chOff x="2226960" y="2736720"/>
              <a:chExt cx="171000" cy="84240"/>
            </a:xfrm>
          </p:grpSpPr>
          <p:sp>
            <p:nvSpPr>
              <p:cNvPr id="1716" name=""/>
              <p:cNvSpPr/>
              <p:nvPr/>
            </p:nvSpPr>
            <p:spPr>
              <a:xfrm flipH="1" flipV="1">
                <a:off x="2226960" y="2736720"/>
                <a:ext cx="8568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2312640" y="2736720"/>
                <a:ext cx="8532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248436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273640" y="4240080"/>
              <a:ext cx="72720" cy="763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253680" y="3952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312280" y="3952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796640" y="3952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4240" y="521964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741400" y="5219640"/>
              <a:ext cx="169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68600" y="521964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225760" y="5219640"/>
              <a:ext cx="171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969920" y="3335400"/>
              <a:ext cx="171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398680" y="3335400"/>
              <a:ext cx="171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570040" y="3335400"/>
              <a:ext cx="108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484360" y="359244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2141280" y="3077640"/>
              <a:ext cx="17136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2313000" y="2479680"/>
              <a:ext cx="1080" cy="598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9840" y="1963800"/>
              <a:ext cx="344160" cy="3441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139840" y="2135160"/>
              <a:ext cx="344160" cy="344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313000" y="1793880"/>
              <a:ext cx="108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226960" y="1793880"/>
              <a:ext cx="171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6167160" y="3335400"/>
              <a:ext cx="1440" cy="18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567040" y="4190760"/>
              <a:ext cx="344160" cy="173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081480" y="4619520"/>
              <a:ext cx="172800" cy="344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482440" y="47242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129360" y="4240080"/>
              <a:ext cx="72360" cy="763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654160" y="3952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081480" y="521964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338160" y="47242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5" name=""/>
            <p:cNvGrpSpPr/>
            <p:nvPr/>
          </p:nvGrpSpPr>
          <p:grpSpPr>
            <a:xfrm>
              <a:off x="3082320" y="2736720"/>
              <a:ext cx="171360" cy="84240"/>
              <a:chOff x="3082320" y="2736720"/>
              <a:chExt cx="171360" cy="84240"/>
            </a:xfrm>
          </p:grpSpPr>
          <p:sp>
            <p:nvSpPr>
              <p:cNvPr id="1746" name=""/>
              <p:cNvSpPr/>
              <p:nvPr/>
            </p:nvSpPr>
            <p:spPr>
              <a:xfrm flipH="1" flipV="1">
                <a:off x="3082320" y="2736720"/>
                <a:ext cx="8532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3168000" y="2736720"/>
                <a:ext cx="8568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8" name=""/>
            <p:cNvSpPr/>
            <p:nvPr/>
          </p:nvSpPr>
          <p:spPr>
            <a:xfrm>
              <a:off x="333972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825640" y="3335400"/>
              <a:ext cx="171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254400" y="3335400"/>
              <a:ext cx="171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425760" y="3335400"/>
              <a:ext cx="108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340080" y="359244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2997000" y="3077640"/>
              <a:ext cx="1710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3168360" y="2479680"/>
              <a:ext cx="1440" cy="598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997000" y="1963800"/>
              <a:ext cx="344160" cy="3441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997000" y="2135160"/>
              <a:ext cx="344160" cy="344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3168360" y="1793880"/>
              <a:ext cx="144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082680" y="1793880"/>
              <a:ext cx="171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4711320" y="2736720"/>
              <a:ext cx="171000" cy="84240"/>
              <a:chOff x="4711320" y="2736720"/>
              <a:chExt cx="171000" cy="84240"/>
            </a:xfrm>
          </p:grpSpPr>
          <p:sp>
            <p:nvSpPr>
              <p:cNvPr id="1760" name=""/>
              <p:cNvSpPr/>
              <p:nvPr/>
            </p:nvSpPr>
            <p:spPr>
              <a:xfrm flipH="1" flipV="1">
                <a:off x="4711320" y="2736720"/>
                <a:ext cx="8532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4797000" y="2736720"/>
                <a:ext cx="8532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2" name=""/>
            <p:cNvSpPr/>
            <p:nvPr/>
          </p:nvSpPr>
          <p:spPr>
            <a:xfrm>
              <a:off x="496872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54280" y="3335400"/>
              <a:ext cx="1713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883040" y="3335400"/>
              <a:ext cx="171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054400" y="3335400"/>
              <a:ext cx="144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68720" y="359244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626000" y="3077640"/>
              <a:ext cx="1710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4797360" y="2479680"/>
              <a:ext cx="1080" cy="598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624200" y="1963800"/>
              <a:ext cx="344160" cy="3441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624200" y="2135160"/>
              <a:ext cx="344160" cy="344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797360" y="1793880"/>
              <a:ext cx="108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11680" y="179388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3" name=""/>
            <p:cNvGrpSpPr/>
            <p:nvPr/>
          </p:nvGrpSpPr>
          <p:grpSpPr>
            <a:xfrm>
              <a:off x="5568480" y="2736720"/>
              <a:ext cx="171000" cy="84240"/>
              <a:chOff x="5568480" y="2736720"/>
              <a:chExt cx="171000" cy="84240"/>
            </a:xfrm>
          </p:grpSpPr>
          <p:sp>
            <p:nvSpPr>
              <p:cNvPr id="1774" name=""/>
              <p:cNvSpPr/>
              <p:nvPr/>
            </p:nvSpPr>
            <p:spPr>
              <a:xfrm flipH="1" flipV="1">
                <a:off x="5568480" y="2736720"/>
                <a:ext cx="8532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5654160" y="2736720"/>
                <a:ext cx="8532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582588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311800" y="3335400"/>
              <a:ext cx="171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740200" y="3335400"/>
              <a:ext cx="169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910120" y="3335400"/>
              <a:ext cx="108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825880" y="3592440"/>
              <a:ext cx="169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5483160" y="3077640"/>
              <a:ext cx="1710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5654520" y="2479680"/>
              <a:ext cx="1080" cy="598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481360" y="1963800"/>
              <a:ext cx="344160" cy="3441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481360" y="2135160"/>
              <a:ext cx="344160" cy="344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5654520" y="1793880"/>
              <a:ext cx="108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568840" y="179388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7" name=""/>
            <p:cNvGrpSpPr/>
            <p:nvPr/>
          </p:nvGrpSpPr>
          <p:grpSpPr>
            <a:xfrm>
              <a:off x="6424200" y="2736720"/>
              <a:ext cx="171000" cy="84240"/>
              <a:chOff x="6424200" y="2736720"/>
              <a:chExt cx="171000" cy="84240"/>
            </a:xfrm>
          </p:grpSpPr>
          <p:sp>
            <p:nvSpPr>
              <p:cNvPr id="1788" name=""/>
              <p:cNvSpPr/>
              <p:nvPr/>
            </p:nvSpPr>
            <p:spPr>
              <a:xfrm flipH="1" flipV="1">
                <a:off x="6424200" y="2736720"/>
                <a:ext cx="8532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6509880" y="2736720"/>
                <a:ext cx="8532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0" name=""/>
            <p:cNvSpPr/>
            <p:nvPr/>
          </p:nvSpPr>
          <p:spPr>
            <a:xfrm>
              <a:off x="668160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167160" y="3335400"/>
              <a:ext cx="1713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595920" y="3335400"/>
              <a:ext cx="171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767280" y="3335400"/>
              <a:ext cx="144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681600" y="359244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6338880" y="3077640"/>
              <a:ext cx="1710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6510240" y="2479680"/>
              <a:ext cx="1080" cy="598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38880" y="1963800"/>
              <a:ext cx="344160" cy="3441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38880" y="2135160"/>
              <a:ext cx="344160" cy="344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6510240" y="1793880"/>
              <a:ext cx="108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424560" y="179388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83520" y="309564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d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367880" y="3095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225400" y="3095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166800" y="3095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024680" y="4190760"/>
              <a:ext cx="172440" cy="1731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938640" y="4363920"/>
              <a:ext cx="342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110360" y="4363920"/>
              <a:ext cx="1080" cy="42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024680" y="4792680"/>
              <a:ext cx="171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81600" y="4003560"/>
              <a:ext cx="123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zewód współosiow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683400" y="515124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   =Z  =2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766920" y="528804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109640" y="5288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282680" y="4619520"/>
              <a:ext cx="172440" cy="344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539840" y="3695760"/>
              <a:ext cx="99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  =Z  =2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3720" y="383220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ob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966800" y="383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 flipV="1">
              <a:off x="6338520" y="4192560"/>
              <a:ext cx="8532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6338520" y="4278240"/>
              <a:ext cx="8532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338520" y="39528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423840" y="408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1" name=""/>
                <p:cNvSpPr txBox="1"/>
                <p:nvPr/>
              </p:nvSpPr>
              <p:spPr>
                <a:xfrm>
                  <a:off x="6951600" y="2222280"/>
                  <a:ext cx="1866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I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=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-1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</m:nary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822" name=""/>
            <p:cNvGrpSpPr/>
            <p:nvPr/>
          </p:nvGrpSpPr>
          <p:grpSpPr>
            <a:xfrm>
              <a:off x="495360" y="2639880"/>
              <a:ext cx="669600" cy="687240"/>
              <a:chOff x="495360" y="2639880"/>
              <a:chExt cx="669600" cy="687240"/>
            </a:xfrm>
          </p:grpSpPr>
          <p:sp>
            <p:nvSpPr>
              <p:cNvPr id="1823" name=""/>
              <p:cNvSpPr/>
              <p:nvPr/>
            </p:nvSpPr>
            <p:spPr>
              <a:xfrm>
                <a:off x="495360" y="2639880"/>
                <a:ext cx="669600" cy="687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829800" y="2815560"/>
                <a:ext cx="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5" name=""/>
            <p:cNvSpPr/>
            <p:nvPr/>
          </p:nvSpPr>
          <p:spPr>
            <a:xfrm>
              <a:off x="1175760" y="2303280"/>
              <a:ext cx="66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812520" y="2198520"/>
              <a:ext cx="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95240" y="2198520"/>
              <a:ext cx="125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066760" y="2206440"/>
              <a:ext cx="488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30160" y="3327480"/>
              <a:ext cx="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3600" y="3520800"/>
              <a:ext cx="19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898680" y="31734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47680" y="335916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1688400" y="5911920"/>
            <a:ext cx="5470560" cy="94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ucze bipolarne lub 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różnic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arzanie cyfrowo-analog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39680" y="582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ożące przetworniki cyfrowo-analog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72200" y="1947960"/>
            <a:ext cx="729792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ach przetworników CA muszą być źródła napięć odniesi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twornik realizuje funkcj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r>
              <a:rPr b="0" i="1" lang="pl-PL" sz="2400" spc="-1" strike="noStrike">
                <a:solidFill>
                  <a:srgbClr val="ff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ff0000"/>
                </a:solidFill>
                <a:latin typeface="Times New Roman"/>
              </a:rPr>
              <a:t>ref</a:t>
            </a:r>
            <a:r>
              <a:rPr b="0" i="1" lang="pl-PL" sz="2400" spc="-1" strike="noStrike">
                <a:solidFill>
                  <a:srgbClr val="ff0000"/>
                </a:solidFill>
                <a:latin typeface="Times New Roman"/>
              </a:rPr>
              <a:t>*D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Jeżeli 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jest sygnałem: 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0000"/>
                </a:solidFill>
                <a:latin typeface="Times New Roman"/>
              </a:rPr>
              <a:t>wówczas przetwornik CA wykonuje mnożenie U</a:t>
            </a:r>
            <a:r>
              <a:rPr b="0" i="1" lang="pl-PL" sz="2400" spc="-1" strike="noStrike" baseline="-25000">
                <a:solidFill>
                  <a:srgbClr val="ff0000"/>
                </a:solidFill>
                <a:latin typeface="Times New Roman"/>
              </a:rPr>
              <a:t>ref</a:t>
            </a:r>
            <a:r>
              <a:rPr b="0" i="1" lang="pl-PL" sz="2400" spc="-1" strike="noStrike">
                <a:solidFill>
                  <a:srgbClr val="ff0000"/>
                </a:solidFill>
                <a:latin typeface="Times New Roman"/>
              </a:rPr>
              <a:t>(t)*D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arzanie cyfrowo-analog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33160" y="-5076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óbk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9680" y="1308240"/>
            <a:ext cx="876312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padku idealnego próbkowania próbka x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jest pobierana w nieskończenie krótkim czasie. W rzeczywistych układach jej pobranie i zapamiętanie wymaga pewnego, skończonego czasu. Jeśli w tym czasie zmieni się poziom sygnału x(t) to próbka x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będzie obarczona błędem, zwanym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łędem aper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óbki sygnału analogowego pobierane są na ogół w równych odstępach czasu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p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 Otrzymujemy zatem ciąg próbek x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k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, dla k = 1,2,...,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zywa się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kresem próbkowania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odpowiadająca mu częstotliwość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/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stotliwość próbkowania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22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339000" y="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nt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4840" y="719280"/>
            <a:ext cx="821340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D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, to kwantowanie jest obarczon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błędem kwantowania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tóry jest różnicą pomiędzy wartością próbki x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i aproksymującą ją liczbą D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D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może przyjmować wartości dyskretne, należące do ograniczonego przedziału &lt;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, określonego ściśle dla danego typu przetworni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óżnica Q=min(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- nazywa się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zerokością przedziału kwantowani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po prostu -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ziałem kwantow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erokość przedziału kwantowania Q określa zatem tzw.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ozdzielczość przetwornik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570120" y="-5076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d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680" y="566640"/>
            <a:ext cx="875808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technice cyfrowej stosuje się system binarny. Stosowanie naturalnego dwójkowego systemu liczbowego ma bardzo ograniczony zakres, dlatego wprowadza się kodowanie. Jedną z możliwości kodowania liczb dziesiętnych są tzw. kody dziesiętno-dwójkowe (BCD), w których każda cyfra dziesiętna zostaje zastąpiona przez czterocyfrową liczbę binarną, zwaną także tetrad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 pomocą 4 bitów można przedstawić 16 symboli, a zatem 6 symb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e być nie wykorzystane (istnieje 2,9 1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óżnych wariantów kodowan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ktyczne zastosowanie ma jednak tylko kilka z n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kod licznikowy 2-4-2-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kod Aike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kod z nadmiarem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ci sygnałów w układach elektronicznych x(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mogą zawierać również znak. Stosowane są różne konwencje zapisu znaku i sposobu kodowania liczb ujem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częściej stosuje się jeden z następujących trzech sposob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zapis znak - moduł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zapis uzupełnień do dwó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przesunięty kod dwójkow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zentacja binarna liczb - kody przetwor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35920" y="93348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ny kod dwójkow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2040" y="1766880"/>
                <a:ext cx="4600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2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986560" y="222084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b równoważn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836720" y="2635200"/>
                <a:ext cx="4836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F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N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103120" y="391644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d BCD (Binary Coded Decim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178000" y="4427640"/>
                <a:ext cx="36324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Q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-1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10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-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38040" y="4903920"/>
            <a:ext cx="8433000" cy="1702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it d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bitem o największej wadze, czyli najbardziej znaczącym - tzw. M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Most Significant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it d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bitem o najmniejszej wadze, czyli najmniej znaczącym - tzw. L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Least Significant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04680" y="3173400"/>
            <a:ext cx="5439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S - teoretyczny maksymalny zakres przetwar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zeczywisty zakres przetwarzania wynosi FS(1-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6T01:47:04Z</dcterms:created>
  <dc:creator>mk</dc:creator>
  <dc:description/>
  <cp:keywords>przetwornik</cp:keywords>
  <dc:language>en-US</dc:language>
  <cp:lastModifiedBy>MK</cp:lastModifiedBy>
  <dcterms:modified xsi:type="dcterms:W3CDTF">2008-01-24T06:30:01Z</dcterms:modified>
  <cp:revision>113</cp:revision>
  <dc:subject>wykład</dc:subject>
  <dc:title>Bez tytułu slajdu</dc:title>
</cp:coreProperties>
</file>