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C35-2E73-4995-A642-F5BAB2B9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C33-0184-4633-B3EA-C78571D2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233-5806-4CE5-908B-983767A1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FC6-D8AC-47D1-9420-92435386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B03-193E-449B-9A5D-D2BF27E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200-FCF1-410D-8537-DAE17F3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BDA-AFC2-4751-931D-10019FB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91E-7079-41C7-8AB8-3133E18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AE2-8FB4-4FF4-9A89-590DE63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5CE-5D92-447A-86F6-417964B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C14-91E3-40A9-BEF0-FED9D8D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376-6D8B-457E-9D43-709A328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D425-10CA-4674-A746-1851AA88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1997-03-25T16:56:27Z</dcterms:modified>
  <cp:revision>137</cp:revision>
  <dc:subject/>
  <dc:title>Sprzężenie zwrotne</dc:title>
</cp:coreProperties>
</file>