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A9D0-AB03-42D9-80D3-39BD4167E08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388-915E-4DF9-8AA0-F8518137A3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43F-8F6D-4ABF-9A09-FB8317241C3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9BA-EDB2-4DAC-A921-3286D9A822A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A5EF-A67F-44C3-9C1A-334AD4C5262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473-E906-486A-9695-9A431F6F061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CEC9-65A8-4E20-B731-28C340691E9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115-A3E2-4250-8D57-22816F6831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165A-7718-4C2F-B45B-E67A907490D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80E9-23D3-409D-A961-E56EC0B1812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831-2802-47D9-8000-26A45A7D4A6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361-644B-47AB-B084-94C85FDF6F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28B-DFCE-468E-8033-BF511C5AAE2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312-5B7D-42BB-AF86-EADED7C9817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3DD0-DC83-4C44-A52E-6156F950A67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EC2-AA33-452B-B0B6-31A55273F72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0828-982F-4638-A0DF-0779D4218F7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E096-70D6-40DC-A57B-C6D157B8513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4897-70D3-44EE-9A33-229A1BBAD88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464B-6F9A-4951-AB07-66BB01D335E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D98-6C1C-4B10-AB82-10B00A0CA14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865-F9A2-4A07-B207-DF0BF5D96E6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627-D7ED-45F3-9955-426FE8A3EE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8B39-AD2F-4900-B116-CE7B78E61D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174-F831-441D-95B9-273386A5A4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5CD3-7892-4F90-A075-6947AFEC1BF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76C-9329-4A98-A7D9-6A5235C074B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7485-8E48-4BB1-98F1-D31D2F2A85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699-6930-4EB2-9C49-2A34BDC655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8095-032B-47F2-B007-3910A99E24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8DE2-9C0E-43EE-8369-14C69941A12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891B-88A8-462C-82F1-C237F5215F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EF3F-EF40-424A-AA4F-63E6A028FF9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C5D-E958-42F6-BCDD-3E61F744ACB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04E-74D0-40CC-9590-B24EFA385F1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94D-0DCA-4E74-8897-BE4B5504F69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872-D693-4CE7-BE12-71401082192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FB2-99E6-400A-BE56-3BE572B452C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B05-6F78-40C6-87B6-C5440E404DA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35A-3FC0-4A37-BCA7-03066201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D95-FF00-417E-96AA-2EDBE13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A02-5120-4D54-8F4B-4D84D673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1E6-F150-4280-BF0D-934F2203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BBF-DD99-4AEE-9897-39FCA2B3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42B-AF68-44BB-87A1-EEC80FE3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8E6-FE57-4AA8-9733-CF47746E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4A2-F5DB-44FB-BBAF-1D13206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F43-A82A-49BC-AC36-DD8B3EC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E56-1EFA-4027-BE42-ABB3B04D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0AA-1378-4B57-BDCC-CEC9A7E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CED-FAF1-46FC-A1EE-D822D57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B6E1-9FB0-41E1-8527-98A04EBDD4C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zmacniacze tranzystorow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816560" y="540540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1"/>
          <p:cNvSpPr/>
          <p:nvPr/>
        </p:nvSpPr>
        <p:spPr>
          <a:xfrm flipV="1">
            <a:off x="2398680" y="5218200"/>
            <a:ext cx="5000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263" name="Line 14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Line 17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1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2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4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27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9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1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32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3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4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35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6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7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8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9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40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1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2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3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4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5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6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0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7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8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0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1"/>
          <p:cNvSpPr/>
          <p:nvPr/>
        </p:nvSpPr>
        <p:spPr>
          <a:xfrm>
            <a:off x="6111720" y="4753080"/>
            <a:ext cx="89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2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3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55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56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7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58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59"/>
          <p:cNvSpPr/>
          <p:nvPr/>
        </p:nvSpPr>
        <p:spPr>
          <a:xfrm flipH="1">
            <a:off x="2665440" y="1865160"/>
            <a:ext cx="861840" cy="4660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0"/>
          <p:cNvSpPr/>
          <p:nvPr/>
        </p:nvSpPr>
        <p:spPr>
          <a:xfrm>
            <a:off x="3706920" y="2058840"/>
            <a:ext cx="3308400" cy="1519560"/>
          </a:xfrm>
          <a:custGeom>
            <a:avLst/>
            <a:gdLst/>
            <a:ahLst/>
            <a:rect l="l" t="t" r="r" b="b"/>
            <a:pathLst>
              <a:path w="2084" h="957">
                <a:moveTo>
                  <a:pt x="0" y="0"/>
                </a:moveTo>
                <a:cubicBezTo>
                  <a:pt x="265" y="13"/>
                  <a:pt x="530" y="26"/>
                  <a:pt x="738" y="65"/>
                </a:cubicBezTo>
                <a:cubicBezTo>
                  <a:pt x="946" y="104"/>
                  <a:pt x="1025" y="86"/>
                  <a:pt x="1249" y="235"/>
                </a:cubicBezTo>
                <a:cubicBezTo>
                  <a:pt x="1473" y="384"/>
                  <a:pt x="1778" y="670"/>
                  <a:pt x="2084" y="95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1"/>
          <p:cNvSpPr/>
          <p:nvPr/>
        </p:nvSpPr>
        <p:spPr>
          <a:xfrm>
            <a:off x="7607160" y="2854440"/>
            <a:ext cx="0" cy="77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2"/>
          <p:cNvSpPr/>
          <p:nvPr/>
        </p:nvSpPr>
        <p:spPr>
          <a:xfrm>
            <a:off x="4824360" y="5719680"/>
            <a:ext cx="17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 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3"/>
          <p:cNvSpPr/>
          <p:nvPr/>
        </p:nvSpPr>
        <p:spPr>
          <a:xfrm flipV="1">
            <a:off x="6500880" y="6190920"/>
            <a:ext cx="33480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4"/>
          <p:cNvSpPr/>
          <p:nvPr/>
        </p:nvSpPr>
        <p:spPr>
          <a:xfrm>
            <a:off x="7721640" y="293544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5"/>
          <p:cNvSpPr/>
          <p:nvPr/>
        </p:nvSpPr>
        <p:spPr>
          <a:xfrm>
            <a:off x="6316560" y="1841400"/>
            <a:ext cx="89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a przykładzie di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(linearyzacja wokół punktu pracy 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793440" y="191124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yczna w p. pracy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2085840" y="2355840"/>
            <a:ext cx="1300320" cy="11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9"/>
          <p:cNvSpPr/>
          <p:nvPr/>
        </p:nvSpPr>
        <p:spPr>
          <a:xfrm>
            <a:off x="1406160" y="32353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2041560" y="3700440"/>
            <a:ext cx="950760" cy="476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54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329" name="Line 11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Line 14"/>
          <p:cNvSpPr/>
          <p:nvPr/>
        </p:nvSpPr>
        <p:spPr>
          <a:xfrm>
            <a:off x="1181160" y="4227480"/>
            <a:ext cx="3454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5"/>
          <p:cNvSpPr/>
          <p:nvPr/>
        </p:nvSpPr>
        <p:spPr>
          <a:xfrm flipV="1">
            <a:off x="3083040" y="2703240"/>
            <a:ext cx="0" cy="38084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2585880" y="26877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20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1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2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25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28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9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31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2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33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8566200" y="4919760"/>
            <a:ext cx="0" cy="14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5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6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7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8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39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40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43"/>
          <p:cNvSpPr/>
          <p:nvPr/>
        </p:nvSpPr>
        <p:spPr>
          <a:xfrm flipH="1">
            <a:off x="2665440" y="1865160"/>
            <a:ext cx="861840" cy="4660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44"/>
          <p:cNvSpPr/>
          <p:nvPr/>
        </p:nvSpPr>
        <p:spPr>
          <a:xfrm>
            <a:off x="3706920" y="2058840"/>
            <a:ext cx="3308400" cy="1519560"/>
          </a:xfrm>
          <a:custGeom>
            <a:avLst/>
            <a:gdLst/>
            <a:ahLst/>
            <a:rect l="l" t="t" r="r" b="b"/>
            <a:pathLst>
              <a:path w="2084" h="957">
                <a:moveTo>
                  <a:pt x="0" y="0"/>
                </a:moveTo>
                <a:cubicBezTo>
                  <a:pt x="265" y="13"/>
                  <a:pt x="530" y="26"/>
                  <a:pt x="738" y="65"/>
                </a:cubicBezTo>
                <a:cubicBezTo>
                  <a:pt x="946" y="104"/>
                  <a:pt x="1025" y="86"/>
                  <a:pt x="1249" y="235"/>
                </a:cubicBezTo>
                <a:cubicBezTo>
                  <a:pt x="1473" y="384"/>
                  <a:pt x="1778" y="670"/>
                  <a:pt x="2084" y="95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45"/>
          <p:cNvSpPr/>
          <p:nvPr/>
        </p:nvSpPr>
        <p:spPr>
          <a:xfrm>
            <a:off x="7607160" y="2854440"/>
            <a:ext cx="0" cy="77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4226040" y="5992920"/>
            <a:ext cx="225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9933"/>
                </a:solidFill>
                <a:latin typeface="Times New Roman"/>
              </a:rPr>
              <a:t>model małosygnał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9933"/>
                </a:solidFill>
                <a:latin typeface="Times New Roman"/>
              </a:rPr>
              <a:t>usunięte źródła DC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47"/>
          <p:cNvSpPr/>
          <p:nvPr/>
        </p:nvSpPr>
        <p:spPr>
          <a:xfrm flipV="1">
            <a:off x="6500880" y="5905080"/>
            <a:ext cx="43020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7721640" y="293544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6111720" y="4753080"/>
            <a:ext cx="89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lang="pl-PL" sz="2800" spc="-1" strike="noStrike">
                <a:solidFill>
                  <a:srgbClr val="339933"/>
                </a:solidFill>
                <a:latin typeface="Times New Roman"/>
              </a:rPr>
              <a:t>małosygnałowy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di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sunięto źródła stało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3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42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reeform 2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4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7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10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1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6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7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8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Line 19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2341440" y="121608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5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6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7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8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9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0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32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3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4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35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37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8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39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40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41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2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3" name="Line 43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4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45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6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7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48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49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50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1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52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53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54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55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7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59"/>
              <p:cNvSpPr txBox="1"/>
              <p:nvPr/>
            </p:nvSpPr>
            <p:spPr>
              <a:xfrm>
                <a:off x="2943360" y="4537080"/>
                <a:ext cx="5616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0"/>
              <p:cNvSpPr txBox="1"/>
              <p:nvPr/>
            </p:nvSpPr>
            <p:spPr>
              <a:xfrm>
                <a:off x="1255680" y="6302520"/>
                <a:ext cx="1506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Line 61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62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63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64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5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66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7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8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69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70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71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72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3"/>
          <p:cNvSpPr/>
          <p:nvPr/>
        </p:nvSpPr>
        <p:spPr>
          <a:xfrm flipH="1" flipV="1">
            <a:off x="2161800" y="5838840"/>
            <a:ext cx="150840" cy="26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74"/>
          <p:cNvSpPr/>
          <p:nvPr/>
        </p:nvSpPr>
        <p:spPr>
          <a:xfrm>
            <a:off x="679320" y="4775040"/>
            <a:ext cx="64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5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76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77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78"/>
          <p:cNvSpPr/>
          <p:nvPr/>
        </p:nvSpPr>
        <p:spPr>
          <a:xfrm>
            <a:off x="2087640" y="5146560"/>
            <a:ext cx="92160" cy="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4400" y="260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silanie tranzystora bipolar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tencjometryczny układ zasi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4"/>
              <p:cNvSpPr txBox="1"/>
              <p:nvPr/>
            </p:nvSpPr>
            <p:spPr>
              <a:xfrm>
                <a:off x="1886040" y="4432320"/>
                <a:ext cx="237960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15"/>
              <p:cNvSpPr txBox="1"/>
              <p:nvPr/>
            </p:nvSpPr>
            <p:spPr>
              <a:xfrm>
                <a:off x="5151600" y="5021280"/>
                <a:ext cx="2455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55" name="Group 119"/>
          <p:cNvGrpSpPr/>
          <p:nvPr/>
        </p:nvGrpSpPr>
        <p:grpSpPr>
          <a:xfrm>
            <a:off x="566280" y="1585800"/>
            <a:ext cx="7885800" cy="2571840"/>
            <a:chOff x="566280" y="1585800"/>
            <a:chExt cx="7885800" cy="2571840"/>
          </a:xfrm>
        </p:grpSpPr>
        <p:sp>
          <p:nvSpPr>
            <p:cNvPr id="456" name="Rectangle 4"/>
            <p:cNvSpPr/>
            <p:nvPr/>
          </p:nvSpPr>
          <p:spPr>
            <a:xfrm>
              <a:off x="2639880" y="179532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955800" y="2849400"/>
              <a:ext cx="65880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1577880" y="34783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604440" y="34830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866880" y="188748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>
              <a:off x="954000" y="171612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954000" y="233352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566280" y="19638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1954080" y="33973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3"/>
            <p:cNvSpPr/>
            <p:nvPr/>
          </p:nvSpPr>
          <p:spPr>
            <a:xfrm>
              <a:off x="2039760" y="322596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4"/>
            <p:cNvSpPr/>
            <p:nvPr/>
          </p:nvSpPr>
          <p:spPr>
            <a:xfrm>
              <a:off x="2039760" y="384336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5"/>
            <p:cNvSpPr/>
            <p:nvPr/>
          </p:nvSpPr>
          <p:spPr>
            <a:xfrm>
              <a:off x="2192040" y="35100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6"/>
            <p:cNvSpPr/>
            <p:nvPr/>
          </p:nvSpPr>
          <p:spPr>
            <a:xfrm>
              <a:off x="912960" y="282096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23"/>
            <p:cNvSpPr/>
            <p:nvPr/>
          </p:nvSpPr>
          <p:spPr>
            <a:xfrm>
              <a:off x="1608120" y="259704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24"/>
            <p:cNvSpPr/>
            <p:nvPr/>
          </p:nvSpPr>
          <p:spPr>
            <a:xfrm>
              <a:off x="1765440" y="2703600"/>
              <a:ext cx="6120" cy="28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 flipV="1">
              <a:off x="1785960" y="2657160"/>
              <a:ext cx="25380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Group 26"/>
            <p:cNvGrpSpPr/>
            <p:nvPr/>
          </p:nvGrpSpPr>
          <p:grpSpPr>
            <a:xfrm>
              <a:off x="1785960" y="2890800"/>
              <a:ext cx="157320" cy="106200"/>
              <a:chOff x="1785960" y="2890800"/>
              <a:chExt cx="157320" cy="106200"/>
            </a:xfrm>
          </p:grpSpPr>
          <p:sp>
            <p:nvSpPr>
              <p:cNvPr id="473" name="Line 27"/>
              <p:cNvSpPr/>
              <p:nvPr/>
            </p:nvSpPr>
            <p:spPr>
              <a:xfrm>
                <a:off x="1785960" y="291132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8"/>
              <p:cNvSpPr/>
              <p:nvPr/>
            </p:nvSpPr>
            <p:spPr>
              <a:xfrm>
                <a:off x="1816200" y="289080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Line 29"/>
            <p:cNvSpPr/>
            <p:nvPr/>
          </p:nvSpPr>
          <p:spPr>
            <a:xfrm>
              <a:off x="1943280" y="2992320"/>
              <a:ext cx="9648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0"/>
            <p:cNvSpPr/>
            <p:nvPr/>
          </p:nvSpPr>
          <p:spPr>
            <a:xfrm flipH="1">
              <a:off x="1608120" y="2855880"/>
              <a:ext cx="163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1"/>
            <p:cNvSpPr/>
            <p:nvPr/>
          </p:nvSpPr>
          <p:spPr>
            <a:xfrm flipV="1">
              <a:off x="2039760" y="246996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32"/>
            <p:cNvSpPr/>
            <p:nvPr/>
          </p:nvSpPr>
          <p:spPr>
            <a:xfrm flipV="1">
              <a:off x="2039760" y="303804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33"/>
            <p:cNvSpPr/>
            <p:nvPr/>
          </p:nvSpPr>
          <p:spPr>
            <a:xfrm>
              <a:off x="1954080" y="18478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34"/>
            <p:cNvSpPr/>
            <p:nvPr/>
          </p:nvSpPr>
          <p:spPr>
            <a:xfrm>
              <a:off x="2039760" y="1670040"/>
              <a:ext cx="18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35"/>
            <p:cNvSpPr/>
            <p:nvPr/>
          </p:nvSpPr>
          <p:spPr>
            <a:xfrm>
              <a:off x="2039760" y="2293920"/>
              <a:ext cx="180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2181240" y="1943280"/>
              <a:ext cx="371520" cy="325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37"/>
            <p:cNvSpPr/>
            <p:nvPr/>
          </p:nvSpPr>
          <p:spPr>
            <a:xfrm>
              <a:off x="2255400" y="198432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38"/>
            <p:cNvSpPr/>
            <p:nvPr/>
          </p:nvSpPr>
          <p:spPr>
            <a:xfrm>
              <a:off x="866880" y="3408480"/>
              <a:ext cx="172800" cy="450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39"/>
            <p:cNvSpPr/>
            <p:nvPr/>
          </p:nvSpPr>
          <p:spPr>
            <a:xfrm>
              <a:off x="954000" y="2521080"/>
              <a:ext cx="1800" cy="9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40"/>
            <p:cNvSpPr/>
            <p:nvPr/>
          </p:nvSpPr>
          <p:spPr>
            <a:xfrm>
              <a:off x="954000" y="38480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41"/>
            <p:cNvSpPr/>
            <p:nvPr/>
          </p:nvSpPr>
          <p:spPr>
            <a:xfrm flipV="1">
              <a:off x="906480" y="40636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43"/>
            <p:cNvSpPr/>
            <p:nvPr/>
          </p:nvSpPr>
          <p:spPr>
            <a:xfrm>
              <a:off x="3211560" y="2770200"/>
              <a:ext cx="314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44"/>
            <p:cNvSpPr/>
            <p:nvPr/>
          </p:nvSpPr>
          <p:spPr>
            <a:xfrm>
              <a:off x="3287880" y="28306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45"/>
            <p:cNvSpPr/>
            <p:nvPr/>
          </p:nvSpPr>
          <p:spPr>
            <a:xfrm>
              <a:off x="3211560" y="2617920"/>
              <a:ext cx="314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46"/>
            <p:cNvSpPr/>
            <p:nvPr/>
          </p:nvSpPr>
          <p:spPr>
            <a:xfrm>
              <a:off x="3287880" y="2682720"/>
              <a:ext cx="1774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47"/>
            <p:cNvSpPr/>
            <p:nvPr/>
          </p:nvSpPr>
          <p:spPr>
            <a:xfrm>
              <a:off x="3368520" y="28306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48"/>
            <p:cNvSpPr/>
            <p:nvPr/>
          </p:nvSpPr>
          <p:spPr>
            <a:xfrm>
              <a:off x="3368520" y="1674720"/>
              <a:ext cx="1800" cy="9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49"/>
            <p:cNvSpPr/>
            <p:nvPr/>
          </p:nvSpPr>
          <p:spPr>
            <a:xfrm>
              <a:off x="1998720" y="164448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Oval 50"/>
            <p:cNvSpPr/>
            <p:nvPr/>
          </p:nvSpPr>
          <p:spPr>
            <a:xfrm>
              <a:off x="3327480" y="164448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51"/>
            <p:cNvSpPr/>
            <p:nvPr/>
          </p:nvSpPr>
          <p:spPr>
            <a:xfrm>
              <a:off x="1998720" y="320976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52"/>
            <p:cNvSpPr/>
            <p:nvPr/>
          </p:nvSpPr>
          <p:spPr>
            <a:xfrm>
              <a:off x="1998720" y="4016520"/>
              <a:ext cx="6660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54"/>
            <p:cNvSpPr/>
            <p:nvPr/>
          </p:nvSpPr>
          <p:spPr>
            <a:xfrm>
              <a:off x="3327480" y="4016520"/>
              <a:ext cx="7128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3661200" y="25830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3794400" y="2682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3433680" y="22273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3509640" y="22683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3419640" y="289080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3528360" y="2921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5254560" y="30481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5335200" y="30891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63"/>
            <p:cNvSpPr/>
            <p:nvPr/>
          </p:nvSpPr>
          <p:spPr>
            <a:xfrm>
              <a:off x="6730920" y="268920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64"/>
            <p:cNvSpPr/>
            <p:nvPr/>
          </p:nvSpPr>
          <p:spPr>
            <a:xfrm>
              <a:off x="6888240" y="2800440"/>
              <a:ext cx="1440" cy="28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65"/>
            <p:cNvSpPr/>
            <p:nvPr/>
          </p:nvSpPr>
          <p:spPr>
            <a:xfrm flipV="1">
              <a:off x="6904080" y="27540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66"/>
            <p:cNvGrpSpPr/>
            <p:nvPr/>
          </p:nvGrpSpPr>
          <p:grpSpPr>
            <a:xfrm>
              <a:off x="6904080" y="2987640"/>
              <a:ext cx="156960" cy="106200"/>
              <a:chOff x="6904080" y="2987640"/>
              <a:chExt cx="156960" cy="106200"/>
            </a:xfrm>
          </p:grpSpPr>
          <p:sp>
            <p:nvSpPr>
              <p:cNvPr id="511" name="Line 67"/>
              <p:cNvSpPr/>
              <p:nvPr/>
            </p:nvSpPr>
            <p:spPr>
              <a:xfrm>
                <a:off x="6904080" y="300816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68"/>
              <p:cNvSpPr/>
              <p:nvPr/>
            </p:nvSpPr>
            <p:spPr>
              <a:xfrm>
                <a:off x="6933960" y="298764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Line 69"/>
            <p:cNvSpPr/>
            <p:nvPr/>
          </p:nvSpPr>
          <p:spPr>
            <a:xfrm>
              <a:off x="7061040" y="30830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0"/>
            <p:cNvSpPr/>
            <p:nvPr/>
          </p:nvSpPr>
          <p:spPr>
            <a:xfrm flipH="1">
              <a:off x="6730560" y="295272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71"/>
            <p:cNvSpPr/>
            <p:nvPr/>
          </p:nvSpPr>
          <p:spPr>
            <a:xfrm flipV="1">
              <a:off x="7156440" y="256176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72"/>
            <p:cNvSpPr/>
            <p:nvPr/>
          </p:nvSpPr>
          <p:spPr>
            <a:xfrm flipV="1">
              <a:off x="7156440" y="31338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7070760" y="3478320"/>
              <a:ext cx="173160" cy="450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74"/>
            <p:cNvSpPr/>
            <p:nvPr/>
          </p:nvSpPr>
          <p:spPr>
            <a:xfrm>
              <a:off x="7156440" y="330192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>
              <a:off x="7156440" y="39196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7435800" y="35798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77"/>
            <p:cNvSpPr/>
            <p:nvPr/>
          </p:nvSpPr>
          <p:spPr>
            <a:xfrm>
              <a:off x="7142040" y="176688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78"/>
            <p:cNvSpPr/>
            <p:nvPr/>
          </p:nvSpPr>
          <p:spPr>
            <a:xfrm>
              <a:off x="7142040" y="23842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6662160" y="20131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0"/>
            <p:cNvSpPr/>
            <p:nvPr/>
          </p:nvSpPr>
          <p:spPr>
            <a:xfrm>
              <a:off x="7162920" y="1762200"/>
              <a:ext cx="684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81"/>
            <p:cNvSpPr/>
            <p:nvPr/>
          </p:nvSpPr>
          <p:spPr>
            <a:xfrm>
              <a:off x="7678800" y="288144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82"/>
            <p:cNvSpPr/>
            <p:nvPr/>
          </p:nvSpPr>
          <p:spPr>
            <a:xfrm>
              <a:off x="7761240" y="2941560"/>
              <a:ext cx="171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83"/>
            <p:cNvSpPr/>
            <p:nvPr/>
          </p:nvSpPr>
          <p:spPr>
            <a:xfrm>
              <a:off x="7678800" y="272880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84"/>
            <p:cNvSpPr/>
            <p:nvPr/>
          </p:nvSpPr>
          <p:spPr>
            <a:xfrm>
              <a:off x="7761240" y="27892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85"/>
            <p:cNvSpPr/>
            <p:nvPr/>
          </p:nvSpPr>
          <p:spPr>
            <a:xfrm>
              <a:off x="7835760" y="294156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86"/>
            <p:cNvSpPr/>
            <p:nvPr/>
          </p:nvSpPr>
          <p:spPr>
            <a:xfrm>
              <a:off x="7835760" y="1762200"/>
              <a:ext cx="1800" cy="9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068680" y="26733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7902720" y="23385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7978320" y="237960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7886880" y="30020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7997400" y="3033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92"/>
            <p:cNvSpPr/>
            <p:nvPr/>
          </p:nvSpPr>
          <p:spPr>
            <a:xfrm>
              <a:off x="5189400" y="4127400"/>
              <a:ext cx="264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93"/>
            <p:cNvSpPr/>
            <p:nvPr/>
          </p:nvSpPr>
          <p:spPr>
            <a:xfrm>
              <a:off x="5189400" y="29275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94"/>
            <p:cNvSpPr/>
            <p:nvPr/>
          </p:nvSpPr>
          <p:spPr>
            <a:xfrm>
              <a:off x="5032440" y="3591000"/>
              <a:ext cx="318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95"/>
            <p:cNvSpPr/>
            <p:nvPr/>
          </p:nvSpPr>
          <p:spPr>
            <a:xfrm>
              <a:off x="5113440" y="36561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96"/>
            <p:cNvSpPr/>
            <p:nvPr/>
          </p:nvSpPr>
          <p:spPr>
            <a:xfrm>
              <a:off x="5032440" y="3443400"/>
              <a:ext cx="31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97"/>
            <p:cNvSpPr/>
            <p:nvPr/>
          </p:nvSpPr>
          <p:spPr>
            <a:xfrm>
              <a:off x="5113440" y="3503520"/>
              <a:ext cx="172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98"/>
            <p:cNvSpPr/>
            <p:nvPr/>
          </p:nvSpPr>
          <p:spPr>
            <a:xfrm>
              <a:off x="5189400" y="3651120"/>
              <a:ext cx="1800" cy="4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9"/>
            <p:cNvSpPr/>
            <p:nvPr/>
          </p:nvSpPr>
          <p:spPr>
            <a:xfrm>
              <a:off x="5189400" y="29275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4631040" y="346860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5240160" y="3711600"/>
              <a:ext cx="303480" cy="314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5349240" y="37479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Group 103"/>
            <p:cNvGrpSpPr/>
            <p:nvPr/>
          </p:nvGrpSpPr>
          <p:grpSpPr>
            <a:xfrm>
              <a:off x="4935600" y="3306600"/>
              <a:ext cx="106200" cy="536400"/>
              <a:chOff x="4935600" y="3306600"/>
              <a:chExt cx="106200" cy="536400"/>
            </a:xfrm>
          </p:grpSpPr>
          <p:sp>
            <p:nvSpPr>
              <p:cNvPr id="548" name="Line 104"/>
              <p:cNvSpPr/>
              <p:nvPr/>
            </p:nvSpPr>
            <p:spPr>
              <a:xfrm>
                <a:off x="4986000" y="330660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105"/>
              <p:cNvSpPr/>
              <p:nvPr/>
            </p:nvSpPr>
            <p:spPr>
              <a:xfrm>
                <a:off x="4935600" y="33066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Oval 106"/>
            <p:cNvSpPr/>
            <p:nvPr/>
          </p:nvSpPr>
          <p:spPr>
            <a:xfrm>
              <a:off x="7116840" y="409716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5634000" y="24400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 rot="5400000">
              <a:off x="1167480" y="2632680"/>
              <a:ext cx="17316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9"/>
            <p:cNvSpPr/>
            <p:nvPr/>
          </p:nvSpPr>
          <p:spPr>
            <a:xfrm flipH="1">
              <a:off x="942480" y="167004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 rot="5400000">
              <a:off x="2615040" y="1443600"/>
              <a:ext cx="17316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1333080" y="238752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7045200" y="1938240"/>
              <a:ext cx="198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113"/>
                <p:cNvSpPr txBox="1"/>
                <p:nvPr/>
              </p:nvSpPr>
              <p:spPr>
                <a:xfrm>
                  <a:off x="4541760" y="3470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58" name="AutoShape 116"/>
            <p:cNvSpPr/>
            <p:nvPr/>
          </p:nvSpPr>
          <p:spPr>
            <a:xfrm>
              <a:off x="4221000" y="2685960"/>
              <a:ext cx="865440" cy="184320"/>
            </a:xfrm>
            <a:prstGeom prst="rightArrow">
              <a:avLst>
                <a:gd name="adj1" fmla="val 50000"/>
                <a:gd name="adj2" fmla="val 11738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17"/>
            <p:cNvSpPr/>
            <p:nvPr/>
          </p:nvSpPr>
          <p:spPr>
            <a:xfrm>
              <a:off x="5513400" y="284796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0" name="Object 118"/>
              <p:cNvSpPr txBox="1"/>
              <p:nvPr/>
            </p:nvSpPr>
            <p:spPr>
              <a:xfrm>
                <a:off x="5095800" y="5691240"/>
                <a:ext cx="25765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5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6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7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8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9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0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3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6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7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19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pl-PL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3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24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25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6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9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0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3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4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5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Line 36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37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8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39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reeform 41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2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3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4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45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Times New Roman"/>
              </a:rPr>
              <a:t>Statyczn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dynamiczn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3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5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7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6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7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8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3495600" y="1049400"/>
            <a:ext cx="195444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1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2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3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4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5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6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27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8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9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0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1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2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3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4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5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36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Line 37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38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39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0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1"/>
          <p:cNvSpPr/>
          <p:nvPr/>
        </p:nvSpPr>
        <p:spPr>
          <a:xfrm>
            <a:off x="4973040" y="108252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Dynamiczna prosta p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2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8" name="AutoShape 19"/>
          <p:cNvSpPr/>
          <p:nvPr/>
        </p:nvSpPr>
        <p:spPr>
          <a:xfrm>
            <a:off x="554040" y="481176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pl-PL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„zajęty”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Group 4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652" name="Group 5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653" name="Rectangle 6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7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Line 8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9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0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1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4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6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17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18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9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0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1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2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23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24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25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6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27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8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29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30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31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32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33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4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5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36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37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39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40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1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9" name="Object 42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3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Text Box 44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„zajęty”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694" name="Group 4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695" name="Group 5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696" name="Rectangle 6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Line 7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8" name="Line 8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9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10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1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2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3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4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5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6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Text Box 17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18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19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Text Box 20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21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22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Text Box 23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4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25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26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27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Text Box 28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29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0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Text Box 31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Text Box 32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3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34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Line 35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36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37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Line 38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008080" y="914400"/>
            <a:ext cx="52866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e matematyczne elementów (równa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    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naliz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18196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Linearyzacja mode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Przekształcenie modeli nieliniowych w liniowe w otoczeniu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6532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2931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39680" y="844560"/>
            <a:ext cx="1987560" cy="693720"/>
          </a:xfrm>
          <a:prstGeom prst="rightArrow">
            <a:avLst>
              <a:gd name="adj1" fmla="val 50000"/>
              <a:gd name="adj2" fmla="val 716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730" name="Group 3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731" name="Group 4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732" name="Rectangle 5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6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Line 7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8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9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10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Line 11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12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3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4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5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16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Text Box 17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18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9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20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1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Line 22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Line 23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Line 24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5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6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7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8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29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0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Text Box 31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32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33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4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Text Box 35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36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Line 37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635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„zajęty”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małosygnałowy „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hybryd - pi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9"/>
          <p:cNvSpPr/>
          <p:nvPr/>
        </p:nvSpPr>
        <p:spPr>
          <a:xfrm>
            <a:off x="2666880" y="58546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29"/>
          <p:cNvGrpSpPr/>
          <p:nvPr/>
        </p:nvGrpSpPr>
        <p:grpSpPr>
          <a:xfrm>
            <a:off x="3324600" y="2293920"/>
            <a:ext cx="5511240" cy="3308400"/>
            <a:chOff x="3324600" y="2293920"/>
            <a:chExt cx="5511240" cy="3308400"/>
          </a:xfrm>
        </p:grpSpPr>
        <p:sp>
          <p:nvSpPr>
            <p:cNvPr id="769" name="Text Box 30"/>
            <p:cNvSpPr/>
            <p:nvPr/>
          </p:nvSpPr>
          <p:spPr>
            <a:xfrm>
              <a:off x="6022800" y="2293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31"/>
            <p:cNvSpPr/>
            <p:nvPr/>
          </p:nvSpPr>
          <p:spPr>
            <a:xfrm>
              <a:off x="5086440" y="38145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32"/>
            <p:cNvSpPr/>
            <p:nvPr/>
          </p:nvSpPr>
          <p:spPr>
            <a:xfrm rot="16200000">
              <a:off x="4258440" y="331992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Group 33"/>
            <p:cNvGrpSpPr/>
            <p:nvPr/>
          </p:nvGrpSpPr>
          <p:grpSpPr>
            <a:xfrm>
              <a:off x="6958080" y="3716280"/>
              <a:ext cx="417600" cy="717480"/>
              <a:chOff x="6958080" y="3716280"/>
              <a:chExt cx="417600" cy="717480"/>
            </a:xfrm>
          </p:grpSpPr>
          <p:sp>
            <p:nvSpPr>
              <p:cNvPr id="773" name="Oval 34"/>
              <p:cNvSpPr/>
              <p:nvPr/>
            </p:nvSpPr>
            <p:spPr>
              <a:xfrm>
                <a:off x="6958080" y="371628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Oval 35"/>
              <p:cNvSpPr/>
              <p:nvPr/>
            </p:nvSpPr>
            <p:spPr>
              <a:xfrm>
                <a:off x="6969240" y="397476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36"/>
              <p:cNvSpPr/>
              <p:nvPr/>
            </p:nvSpPr>
            <p:spPr>
              <a:xfrm>
                <a:off x="7188480" y="389232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37"/>
            <p:cNvGrpSpPr/>
            <p:nvPr/>
          </p:nvGrpSpPr>
          <p:grpSpPr>
            <a:xfrm>
              <a:off x="5419800" y="3962160"/>
              <a:ext cx="324000" cy="81000"/>
              <a:chOff x="5419800" y="3962160"/>
              <a:chExt cx="324000" cy="81000"/>
            </a:xfrm>
          </p:grpSpPr>
          <p:sp>
            <p:nvSpPr>
              <p:cNvPr id="777" name="Line 38"/>
              <p:cNvSpPr/>
              <p:nvPr/>
            </p:nvSpPr>
            <p:spPr>
              <a:xfrm>
                <a:off x="5426280" y="396216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39"/>
              <p:cNvSpPr/>
              <p:nvPr/>
            </p:nvSpPr>
            <p:spPr>
              <a:xfrm>
                <a:off x="5419800" y="404316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40"/>
            <p:cNvGrpSpPr/>
            <p:nvPr/>
          </p:nvGrpSpPr>
          <p:grpSpPr>
            <a:xfrm>
              <a:off x="6027840" y="3448080"/>
              <a:ext cx="81000" cy="323280"/>
              <a:chOff x="6027840" y="3448080"/>
              <a:chExt cx="81000" cy="323280"/>
            </a:xfrm>
          </p:grpSpPr>
          <p:sp>
            <p:nvSpPr>
              <p:cNvPr id="780" name="Line 41"/>
              <p:cNvSpPr/>
              <p:nvPr/>
            </p:nvSpPr>
            <p:spPr>
              <a:xfrm flipV="1">
                <a:off x="6027840" y="344808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42"/>
              <p:cNvSpPr/>
              <p:nvPr/>
            </p:nvSpPr>
            <p:spPr>
              <a:xfrm flipV="1">
                <a:off x="6108840" y="345420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Line 43"/>
            <p:cNvSpPr/>
            <p:nvPr/>
          </p:nvSpPr>
          <p:spPr>
            <a:xfrm>
              <a:off x="3749760" y="359064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44"/>
            <p:cNvSpPr/>
            <p:nvPr/>
          </p:nvSpPr>
          <p:spPr>
            <a:xfrm>
              <a:off x="4613400" y="360828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45"/>
            <p:cNvSpPr/>
            <p:nvPr/>
          </p:nvSpPr>
          <p:spPr>
            <a:xfrm flipV="1">
              <a:off x="5178600" y="36082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46"/>
            <p:cNvSpPr/>
            <p:nvPr/>
          </p:nvSpPr>
          <p:spPr>
            <a:xfrm flipV="1">
              <a:off x="5585040" y="36079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7"/>
            <p:cNvSpPr/>
            <p:nvPr/>
          </p:nvSpPr>
          <p:spPr>
            <a:xfrm>
              <a:off x="5178600" y="4349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8"/>
            <p:cNvSpPr/>
            <p:nvPr/>
          </p:nvSpPr>
          <p:spPr>
            <a:xfrm>
              <a:off x="5602320" y="404964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9"/>
            <p:cNvSpPr/>
            <p:nvPr/>
          </p:nvSpPr>
          <p:spPr>
            <a:xfrm>
              <a:off x="5178600" y="468468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50"/>
            <p:cNvSpPr/>
            <p:nvPr/>
          </p:nvSpPr>
          <p:spPr>
            <a:xfrm>
              <a:off x="6113520" y="3625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51"/>
            <p:cNvSpPr/>
            <p:nvPr/>
          </p:nvSpPr>
          <p:spPr>
            <a:xfrm>
              <a:off x="7189920" y="36255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52"/>
            <p:cNvSpPr/>
            <p:nvPr/>
          </p:nvSpPr>
          <p:spPr>
            <a:xfrm>
              <a:off x="7172640" y="443700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53"/>
            <p:cNvSpPr/>
            <p:nvPr/>
          </p:nvSpPr>
          <p:spPr>
            <a:xfrm>
              <a:off x="3324600" y="337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54"/>
            <p:cNvSpPr/>
            <p:nvPr/>
          </p:nvSpPr>
          <p:spPr>
            <a:xfrm>
              <a:off x="8452440" y="333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55"/>
            <p:cNvSpPr/>
            <p:nvPr/>
          </p:nvSpPr>
          <p:spPr>
            <a:xfrm>
              <a:off x="8017200" y="4468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56"/>
            <p:cNvSpPr/>
            <p:nvPr/>
          </p:nvSpPr>
          <p:spPr>
            <a:xfrm>
              <a:off x="7702920" y="39146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7"/>
            <p:cNvSpPr/>
            <p:nvPr/>
          </p:nvSpPr>
          <p:spPr>
            <a:xfrm flipV="1">
              <a:off x="7790040" y="36252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8"/>
            <p:cNvSpPr/>
            <p:nvPr/>
          </p:nvSpPr>
          <p:spPr>
            <a:xfrm>
              <a:off x="7807680" y="443700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59"/>
            <p:cNvSpPr/>
            <p:nvPr/>
          </p:nvSpPr>
          <p:spPr>
            <a:xfrm>
              <a:off x="4081680" y="29858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60"/>
            <p:cNvSpPr/>
            <p:nvPr/>
          </p:nvSpPr>
          <p:spPr>
            <a:xfrm>
              <a:off x="4417920" y="39034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61"/>
            <p:cNvSpPr/>
            <p:nvPr/>
          </p:nvSpPr>
          <p:spPr>
            <a:xfrm>
              <a:off x="5739120" y="388620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62"/>
            <p:cNvSpPr/>
            <p:nvPr/>
          </p:nvSpPr>
          <p:spPr>
            <a:xfrm>
              <a:off x="6005880" y="296856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63"/>
            <p:cNvSpPr/>
            <p:nvPr/>
          </p:nvSpPr>
          <p:spPr>
            <a:xfrm>
              <a:off x="8029440" y="3816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64"/>
            <p:cNvSpPr/>
            <p:nvPr/>
          </p:nvSpPr>
          <p:spPr>
            <a:xfrm flipH="1" flipV="1">
              <a:off x="3784320" y="373212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65"/>
            <p:cNvSpPr/>
            <p:nvPr/>
          </p:nvSpPr>
          <p:spPr>
            <a:xfrm>
              <a:off x="3357000" y="411480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66"/>
            <p:cNvSpPr/>
            <p:nvPr/>
          </p:nvSpPr>
          <p:spPr>
            <a:xfrm flipV="1">
              <a:off x="4930920" y="383832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67"/>
            <p:cNvSpPr/>
            <p:nvPr/>
          </p:nvSpPr>
          <p:spPr>
            <a:xfrm>
              <a:off x="4858560" y="298584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68"/>
            <p:cNvSpPr/>
            <p:nvPr/>
          </p:nvSpPr>
          <p:spPr>
            <a:xfrm>
              <a:off x="5562720" y="46465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69"/>
            <p:cNvSpPr/>
            <p:nvPr/>
          </p:nvSpPr>
          <p:spPr>
            <a:xfrm>
              <a:off x="7115400" y="46177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70"/>
            <p:cNvSpPr/>
            <p:nvPr/>
          </p:nvSpPr>
          <p:spPr>
            <a:xfrm>
              <a:off x="7772760" y="46274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Oval 71"/>
            <p:cNvSpPr/>
            <p:nvPr/>
          </p:nvSpPr>
          <p:spPr>
            <a:xfrm>
              <a:off x="5134320" y="35510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72"/>
            <p:cNvSpPr/>
            <p:nvPr/>
          </p:nvSpPr>
          <p:spPr>
            <a:xfrm>
              <a:off x="7153560" y="35985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Oval 73"/>
            <p:cNvSpPr/>
            <p:nvPr/>
          </p:nvSpPr>
          <p:spPr>
            <a:xfrm>
              <a:off x="7763040" y="3579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74"/>
            <p:cNvSpPr/>
            <p:nvPr/>
          </p:nvSpPr>
          <p:spPr>
            <a:xfrm rot="16200000">
              <a:off x="6179760" y="258480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75"/>
            <p:cNvSpPr/>
            <p:nvPr/>
          </p:nvSpPr>
          <p:spPr>
            <a:xfrm flipV="1">
              <a:off x="5585040" y="281412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76"/>
            <p:cNvSpPr/>
            <p:nvPr/>
          </p:nvSpPr>
          <p:spPr>
            <a:xfrm>
              <a:off x="5585040" y="283212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77"/>
            <p:cNvSpPr/>
            <p:nvPr/>
          </p:nvSpPr>
          <p:spPr>
            <a:xfrm flipV="1">
              <a:off x="7189920" y="283212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78"/>
            <p:cNvSpPr/>
            <p:nvPr/>
          </p:nvSpPr>
          <p:spPr>
            <a:xfrm flipH="1">
              <a:off x="6537240" y="28321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79"/>
            <p:cNvSpPr/>
            <p:nvPr/>
          </p:nvSpPr>
          <p:spPr>
            <a:xfrm>
              <a:off x="5538960" y="3581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Object 80"/>
                <p:cNvSpPr txBox="1"/>
                <p:nvPr/>
              </p:nvSpPr>
              <p:spPr>
                <a:xfrm>
                  <a:off x="4524480" y="467172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0" name="Object 81"/>
                <p:cNvSpPr txBox="1"/>
                <p:nvPr/>
              </p:nvSpPr>
              <p:spPr>
                <a:xfrm>
                  <a:off x="4642200" y="5057640"/>
                  <a:ext cx="3719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21" name="Line 82"/>
            <p:cNvSpPr/>
            <p:nvPr/>
          </p:nvSpPr>
          <p:spPr>
            <a:xfrm>
              <a:off x="3767400" y="3590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83"/>
            <p:cNvSpPr/>
            <p:nvPr/>
          </p:nvSpPr>
          <p:spPr>
            <a:xfrm>
              <a:off x="3665880" y="303984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84"/>
            <p:cNvSpPr/>
            <p:nvPr/>
          </p:nvSpPr>
          <p:spPr>
            <a:xfrm flipV="1">
              <a:off x="5391360" y="430992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85"/>
            <p:cNvSpPr/>
            <p:nvPr/>
          </p:nvSpPr>
          <p:spPr>
            <a:xfrm flipH="1">
              <a:off x="7977240" y="362556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86"/>
            <p:cNvSpPr/>
            <p:nvPr/>
          </p:nvSpPr>
          <p:spPr>
            <a:xfrm>
              <a:off x="7995240" y="304956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upa 2"/>
          <p:cNvGrpSpPr/>
          <p:nvPr/>
        </p:nvGrpSpPr>
        <p:grpSpPr>
          <a:xfrm>
            <a:off x="249480" y="2227320"/>
            <a:ext cx="2820240" cy="3560760"/>
            <a:chOff x="249480" y="2227320"/>
            <a:chExt cx="2820240" cy="3560760"/>
          </a:xfrm>
        </p:grpSpPr>
        <p:sp>
          <p:nvSpPr>
            <p:cNvPr id="827" name="Text Box 3"/>
            <p:cNvSpPr/>
            <p:nvPr/>
          </p:nvSpPr>
          <p:spPr>
            <a:xfrm>
              <a:off x="1884600" y="22273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4"/>
            <p:cNvSpPr/>
            <p:nvPr/>
          </p:nvSpPr>
          <p:spPr>
            <a:xfrm>
              <a:off x="1487520" y="2992320"/>
              <a:ext cx="26640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5"/>
            <p:cNvSpPr/>
            <p:nvPr/>
          </p:nvSpPr>
          <p:spPr>
            <a:xfrm>
              <a:off x="1487520" y="3144960"/>
              <a:ext cx="26640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6"/>
            <p:cNvSpPr/>
            <p:nvPr/>
          </p:nvSpPr>
          <p:spPr>
            <a:xfrm>
              <a:off x="1619280" y="2981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7"/>
            <p:cNvSpPr/>
            <p:nvPr/>
          </p:nvSpPr>
          <p:spPr>
            <a:xfrm>
              <a:off x="682560" y="360216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1590840" y="355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2479680" y="26319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0"/>
            <p:cNvSpPr/>
            <p:nvPr/>
          </p:nvSpPr>
          <p:spPr>
            <a:xfrm>
              <a:off x="1619280" y="268740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1"/>
            <p:cNvSpPr/>
            <p:nvPr/>
          </p:nvSpPr>
          <p:spPr>
            <a:xfrm>
              <a:off x="1619280" y="574380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2"/>
            <p:cNvSpPr/>
            <p:nvPr/>
          </p:nvSpPr>
          <p:spPr>
            <a:xfrm>
              <a:off x="1619280" y="268740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13"/>
            <p:cNvSpPr/>
            <p:nvPr/>
          </p:nvSpPr>
          <p:spPr>
            <a:xfrm>
              <a:off x="2460960" y="5680440"/>
              <a:ext cx="10764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14"/>
            <p:cNvSpPr/>
            <p:nvPr/>
          </p:nvSpPr>
          <p:spPr>
            <a:xfrm>
              <a:off x="560160" y="3568680"/>
              <a:ext cx="10764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9" name="Object 15"/>
                <p:cNvSpPr txBox="1"/>
                <p:nvPr/>
              </p:nvSpPr>
              <p:spPr>
                <a:xfrm>
                  <a:off x="903240" y="2886120"/>
                  <a:ext cx="5205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0" name="Line 16"/>
            <p:cNvSpPr/>
            <p:nvPr/>
          </p:nvSpPr>
          <p:spPr>
            <a:xfrm>
              <a:off x="1630440" y="36021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17"/>
            <p:cNvSpPr/>
            <p:nvPr/>
          </p:nvSpPr>
          <p:spPr>
            <a:xfrm>
              <a:off x="249480" y="37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18"/>
            <p:cNvSpPr/>
            <p:nvPr/>
          </p:nvSpPr>
          <p:spPr>
            <a:xfrm>
              <a:off x="2669400" y="2452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1630440" y="33210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1"/>
            <p:cNvSpPr/>
            <p:nvPr/>
          </p:nvSpPr>
          <p:spPr>
            <a:xfrm flipH="1">
              <a:off x="1946520" y="26874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2"/>
            <p:cNvSpPr/>
            <p:nvPr/>
          </p:nvSpPr>
          <p:spPr>
            <a:xfrm>
              <a:off x="879480" y="36021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3"/>
            <p:cNvSpPr/>
            <p:nvPr/>
          </p:nvSpPr>
          <p:spPr>
            <a:xfrm>
              <a:off x="809280" y="36781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24"/>
            <p:cNvSpPr/>
            <p:nvPr/>
          </p:nvSpPr>
          <p:spPr>
            <a:xfrm>
              <a:off x="1535040" y="3979800"/>
              <a:ext cx="176040" cy="529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5"/>
            <p:cNvSpPr/>
            <p:nvPr/>
          </p:nvSpPr>
          <p:spPr>
            <a:xfrm flipV="1">
              <a:off x="1622520" y="4508280"/>
              <a:ext cx="0" cy="12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"/>
            <p:cNvSpPr/>
            <p:nvPr/>
          </p:nvSpPr>
          <p:spPr>
            <a:xfrm>
              <a:off x="952200" y="400212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7"/>
            <p:cNvSpPr/>
            <p:nvPr/>
          </p:nvSpPr>
          <p:spPr>
            <a:xfrm flipH="1" flipV="1">
              <a:off x="690480" y="3846600"/>
              <a:ext cx="14112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Text Box 28"/>
            <p:cNvSpPr/>
            <p:nvPr/>
          </p:nvSpPr>
          <p:spPr>
            <a:xfrm>
              <a:off x="262800" y="422928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87"/>
            <p:cNvSpPr/>
            <p:nvPr/>
          </p:nvSpPr>
          <p:spPr>
            <a:xfrm>
              <a:off x="1336680" y="4969080"/>
              <a:ext cx="56664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88"/>
            <p:cNvSpPr/>
            <p:nvPr/>
          </p:nvSpPr>
          <p:spPr>
            <a:xfrm flipV="1">
              <a:off x="1620720" y="508464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89"/>
            <p:cNvSpPr/>
            <p:nvPr/>
          </p:nvSpPr>
          <p:spPr>
            <a:xfrm>
              <a:off x="1041480" y="4905360"/>
              <a:ext cx="1055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90"/>
            <p:cNvSpPr/>
            <p:nvPr/>
          </p:nvSpPr>
          <p:spPr>
            <a:xfrm flipH="1">
              <a:off x="1025640" y="4992840"/>
              <a:ext cx="1055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Text Box 91"/>
          <p:cNvSpPr/>
          <p:nvPr/>
        </p:nvSpPr>
        <p:spPr>
          <a:xfrm>
            <a:off x="9720" y="133812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93"/>
          <p:cNvSpPr/>
          <p:nvPr/>
        </p:nvSpPr>
        <p:spPr>
          <a:xfrm>
            <a:off x="4605840" y="136692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małosygnałowy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hybryd - 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iekt 1"/>
              <p:cNvSpPr txBox="1"/>
              <p:nvPr/>
            </p:nvSpPr>
            <p:spPr>
              <a:xfrm>
                <a:off x="4160880" y="5629320"/>
                <a:ext cx="40068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arametry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3"/>
              <p:cNvSpPr txBox="1"/>
              <p:nvPr/>
            </p:nvSpPr>
            <p:spPr>
              <a:xfrm>
                <a:off x="231840" y="971640"/>
                <a:ext cx="4270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Object 4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6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7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8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6" name="Text Box 9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9" name="Group 12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870" name="Group 13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871" name="Line 14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15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Line 16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7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Line 18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20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Text Box 21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Text Box 22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Text Box 23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Line 24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Freeform 25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y pracy tranzystora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a przykładzie tr.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331920" y="2127240"/>
            <a:ext cx="8397720" cy="327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56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886" name="Text Box 32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4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5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6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Oval 7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8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0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Oval 11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12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Rectangle 13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4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15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6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17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18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19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20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21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22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23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Oval 24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25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26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27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28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29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30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Oval 31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33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34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35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36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37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38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39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40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41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42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43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44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46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47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48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49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50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51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52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53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54"/>
          <p:cNvSpPr/>
          <p:nvPr/>
        </p:nvSpPr>
        <p:spPr>
          <a:xfrm>
            <a:off x="-176040" y="223920"/>
            <a:ext cx="951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wspólnego emitera ( WE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(składowe zmienne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54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937" name="Rectangle 2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3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5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6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7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9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11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12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15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6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7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8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9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20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21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22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23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24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25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26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27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28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29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30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Oval 31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32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33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34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35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36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37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38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39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40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41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42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43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44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45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46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47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48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Oval 49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50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51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Text Box 52"/>
          <p:cNvSpPr/>
          <p:nvPr/>
        </p:nvSpPr>
        <p:spPr>
          <a:xfrm>
            <a:off x="0" y="225360"/>
            <a:ext cx="947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( W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(składowe zmien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38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105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989" name="Line 2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Oval 3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Oval 5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6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Oval 7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8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Oval 9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0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1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2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13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14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15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16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18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19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20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21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Oval 22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Oval 23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24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Oval 28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Oval 29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30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31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32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33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34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Text Box 35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36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37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39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40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41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42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43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44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6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47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Oval 48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49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50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51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Rectangle 5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wspólnej bazy ( W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(składowe zmien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50"/>
          <p:cNvSpPr/>
          <p:nvPr/>
        </p:nvSpPr>
        <p:spPr>
          <a:xfrm>
            <a:off x="0" y="179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o podstawie pośred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(składowe zmien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41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Group 56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1039" name="Line 2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3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4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Oval 5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6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Oval 7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8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Oval 9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0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1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12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13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4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5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6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17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18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19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Text Box 20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 Box 21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Oval 22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Oval 23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Line 24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25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26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27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Oval 28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Oval 29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30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31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32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33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Line 34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35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36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37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38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39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40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42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43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44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45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46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47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48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Line 49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51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52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53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Text Box 54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24"/>
          <p:cNvGrpSpPr/>
          <p:nvPr/>
        </p:nvGrpSpPr>
        <p:grpSpPr>
          <a:xfrm>
            <a:off x="155520" y="1822320"/>
            <a:ext cx="8331840" cy="4327920"/>
            <a:chOff x="155520" y="1822320"/>
            <a:chExt cx="8331840" cy="4327920"/>
          </a:xfrm>
        </p:grpSpPr>
        <mc:AlternateContent>
          <mc:Choice xmlns:a14="http://schemas.microsoft.com/office/drawing/2010/main" Requires="a14">
            <p:sp>
              <p:nvSpPr>
                <p:cNvPr id="1091" name="Object 5"/>
                <p:cNvSpPr txBox="1"/>
                <p:nvPr/>
              </p:nvSpPr>
              <p:spPr>
                <a:xfrm>
                  <a:off x="155520" y="1822320"/>
                  <a:ext cx="11527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2" name="Text Box 6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6"/>
            <p:cNvSpPr/>
            <p:nvPr/>
          </p:nvSpPr>
          <p:spPr>
            <a:xfrm>
              <a:off x="656640" y="567684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zakres małych 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7"/>
            <p:cNvSpPr/>
            <p:nvPr/>
          </p:nvSpPr>
          <p:spPr>
            <a:xfrm>
              <a:off x="6345720" y="5724360"/>
              <a:ext cx="19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zakres dużych 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8"/>
            <p:cNvSpPr/>
            <p:nvPr/>
          </p:nvSpPr>
          <p:spPr>
            <a:xfrm>
              <a:off x="3037680" y="5751360"/>
              <a:ext cx="32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zakres częstotliwości średn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3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4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7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Group 8"/>
            <p:cNvGrpSpPr/>
            <p:nvPr/>
          </p:nvGrpSpPr>
          <p:grpSpPr>
            <a:xfrm>
              <a:off x="5808600" y="3370320"/>
              <a:ext cx="1621080" cy="1260360"/>
              <a:chOff x="5808600" y="3370320"/>
              <a:chExt cx="1621080" cy="1260360"/>
            </a:xfrm>
          </p:grpSpPr>
          <p:sp>
            <p:nvSpPr>
              <p:cNvPr id="1100" name="Arc 9"/>
              <p:cNvSpPr/>
              <p:nvPr/>
            </p:nvSpPr>
            <p:spPr>
              <a:xfrm>
                <a:off x="5808600" y="3370320"/>
                <a:ext cx="1305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10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11"/>
            <p:cNvGrpSpPr/>
            <p:nvPr/>
          </p:nvGrpSpPr>
          <p:grpSpPr>
            <a:xfrm>
              <a:off x="1560960" y="3370320"/>
              <a:ext cx="1799640" cy="1260360"/>
              <a:chOff x="1560960" y="3370320"/>
              <a:chExt cx="1799640" cy="1260360"/>
            </a:xfrm>
          </p:grpSpPr>
          <p:sp>
            <p:nvSpPr>
              <p:cNvPr id="1103" name="Arc 12"/>
              <p:cNvSpPr/>
              <p:nvPr/>
            </p:nvSpPr>
            <p:spPr>
              <a:xfrm flipH="1">
                <a:off x="1911240" y="3370320"/>
                <a:ext cx="1449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13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Line 14"/>
            <p:cNvSpPr/>
            <p:nvPr/>
          </p:nvSpPr>
          <p:spPr>
            <a:xfrm>
              <a:off x="2927520" y="2793960"/>
              <a:ext cx="0" cy="315900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5"/>
            <p:cNvSpPr/>
            <p:nvPr/>
          </p:nvSpPr>
          <p:spPr>
            <a:xfrm>
              <a:off x="6240600" y="2830680"/>
              <a:ext cx="0" cy="304956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Text Box 19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Text Box 20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21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Text Box 22"/>
          <p:cNvSpPr/>
          <p:nvPr/>
        </p:nvSpPr>
        <p:spPr>
          <a:xfrm>
            <a:off x="0" y="2095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 funkcji  częstotliwoś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19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Group 40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1113" name="Line 24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25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26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6" name="Group 27"/>
            <p:cNvGrpSpPr/>
            <p:nvPr/>
          </p:nvGrpSpPr>
          <p:grpSpPr>
            <a:xfrm>
              <a:off x="5808600" y="3370320"/>
              <a:ext cx="1621080" cy="1260360"/>
              <a:chOff x="5808600" y="3370320"/>
              <a:chExt cx="1621080" cy="1260360"/>
            </a:xfrm>
          </p:grpSpPr>
          <p:sp>
            <p:nvSpPr>
              <p:cNvPr id="1117" name="Arc 28"/>
              <p:cNvSpPr/>
              <p:nvPr/>
            </p:nvSpPr>
            <p:spPr>
              <a:xfrm>
                <a:off x="5808600" y="3370320"/>
                <a:ext cx="1305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Line 29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Group 30"/>
            <p:cNvGrpSpPr/>
            <p:nvPr/>
          </p:nvGrpSpPr>
          <p:grpSpPr>
            <a:xfrm>
              <a:off x="1560960" y="3370320"/>
              <a:ext cx="1799640" cy="1260360"/>
              <a:chOff x="1560960" y="3370320"/>
              <a:chExt cx="1799640" cy="1260360"/>
            </a:xfrm>
          </p:grpSpPr>
          <p:sp>
            <p:nvSpPr>
              <p:cNvPr id="1120" name="Arc 31"/>
              <p:cNvSpPr/>
              <p:nvPr/>
            </p:nvSpPr>
            <p:spPr>
              <a:xfrm flipH="1">
                <a:off x="1911240" y="3370320"/>
                <a:ext cx="1449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-1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32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Line 33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34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35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36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37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Text Box 38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336840" y="16344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59" name="Group 4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60" name="Freeform 5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6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7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0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2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69" name="Group 14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70" name="Line 15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8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9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20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21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24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Q(U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, I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Rectangle 26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27"/>
          <p:cNvSpPr/>
          <p:nvPr/>
        </p:nvSpPr>
        <p:spPr>
          <a:xfrm>
            <a:off x="4881600" y="111924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, I - składow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1374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1218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1159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1160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1161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1162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1163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1164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1165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1166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1167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1168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1169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1170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1172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1175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176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77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1178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1179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1180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1182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183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184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Group 1187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154" name="Line 1185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1186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Line 1188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1189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1190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1191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1192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1193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194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1195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1196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1197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1198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1199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200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201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02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203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204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205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206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207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208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209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210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1211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1213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1214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1215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1216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Group 1381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185" name="Rectangle 1219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Rectangle 1220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Rectangle 1221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222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223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224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Oval 1306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Group 1359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193" name="Line 1310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1311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1312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1313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1314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1315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1316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 Box 1317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Group 1367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202" name="Line 1329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330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Line 1331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1332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1334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1328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Oval 1335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1336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337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345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346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1347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348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1349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1351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356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357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1358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1372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221" name="Group 1368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222" name="Line 1369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1370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Line 1371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Oval 1375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1377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1378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1380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Group 190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1230" name="Rectangle 75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76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77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78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79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80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81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82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83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84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88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94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96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97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98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Group 99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1246" name="Line 100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101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Line 102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103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104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Line 105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Line 106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107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Line 108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109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110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11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12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13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114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15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116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17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124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125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127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128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136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Group 137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1270" name="Line 138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Line 139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Text Box 140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Line 141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142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Oval 143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Line 144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Text Box 145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8" name="Line 150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51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Rectangle 152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153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154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Text Box 155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56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Text Box 157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158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Text Box 159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Text Box 160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161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Text Box 162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163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164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170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Line 179"/>
          <p:cNvSpPr/>
          <p:nvPr/>
        </p:nvSpPr>
        <p:spPr>
          <a:xfrm>
            <a:off x="1768320" y="4726080"/>
            <a:ext cx="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5"/>
              <p:cNvSpPr txBox="1"/>
              <p:nvPr/>
            </p:nvSpPr>
            <p:spPr>
              <a:xfrm>
                <a:off x="5130720" y="6181560"/>
                <a:ext cx="29527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6" name="Rectangle 6"/>
          <p:cNvSpPr/>
          <p:nvPr/>
        </p:nvSpPr>
        <p:spPr>
          <a:xfrm>
            <a:off x="3479760" y="4964040"/>
            <a:ext cx="193680" cy="56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Group 7"/>
          <p:cNvGrpSpPr/>
          <p:nvPr/>
        </p:nvGrpSpPr>
        <p:grpSpPr>
          <a:xfrm>
            <a:off x="5938920" y="4857840"/>
            <a:ext cx="456480" cy="771120"/>
            <a:chOff x="5938920" y="4857840"/>
            <a:chExt cx="456480" cy="771120"/>
          </a:xfrm>
        </p:grpSpPr>
        <p:sp>
          <p:nvSpPr>
            <p:cNvPr id="1298" name="Oval 8"/>
            <p:cNvSpPr/>
            <p:nvPr/>
          </p:nvSpPr>
          <p:spPr>
            <a:xfrm>
              <a:off x="5938920" y="485784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Oval 9"/>
            <p:cNvSpPr/>
            <p:nvPr/>
          </p:nvSpPr>
          <p:spPr>
            <a:xfrm>
              <a:off x="5950800" y="5135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10"/>
            <p:cNvSpPr/>
            <p:nvPr/>
          </p:nvSpPr>
          <p:spPr>
            <a:xfrm>
              <a:off x="6190920" y="504684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Group 11"/>
          <p:cNvGrpSpPr/>
          <p:nvPr/>
        </p:nvGrpSpPr>
        <p:grpSpPr>
          <a:xfrm>
            <a:off x="4251240" y="5122800"/>
            <a:ext cx="353880" cy="87120"/>
            <a:chOff x="4251240" y="5122800"/>
            <a:chExt cx="353880" cy="87120"/>
          </a:xfrm>
        </p:grpSpPr>
        <p:sp>
          <p:nvSpPr>
            <p:cNvPr id="1302" name="Line 12"/>
            <p:cNvSpPr/>
            <p:nvPr/>
          </p:nvSpPr>
          <p:spPr>
            <a:xfrm>
              <a:off x="4258080" y="512280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13"/>
            <p:cNvSpPr/>
            <p:nvPr/>
          </p:nvSpPr>
          <p:spPr>
            <a:xfrm>
              <a:off x="4251240" y="520992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Group 14"/>
          <p:cNvGrpSpPr/>
          <p:nvPr/>
        </p:nvGrpSpPr>
        <p:grpSpPr>
          <a:xfrm>
            <a:off x="4917960" y="4569120"/>
            <a:ext cx="88560" cy="348840"/>
            <a:chOff x="4917960" y="4569120"/>
            <a:chExt cx="88560" cy="348840"/>
          </a:xfrm>
        </p:grpSpPr>
        <p:sp>
          <p:nvSpPr>
            <p:cNvPr id="1305" name="Line 15"/>
            <p:cNvSpPr/>
            <p:nvPr/>
          </p:nvSpPr>
          <p:spPr>
            <a:xfrm flipV="1">
              <a:off x="4917960" y="4569120"/>
              <a:ext cx="0" cy="342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16"/>
            <p:cNvSpPr/>
            <p:nvPr/>
          </p:nvSpPr>
          <p:spPr>
            <a:xfrm flipV="1">
              <a:off x="5006520" y="4575960"/>
              <a:ext cx="0" cy="342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Line 17"/>
          <p:cNvSpPr/>
          <p:nvPr/>
        </p:nvSpPr>
        <p:spPr>
          <a:xfrm>
            <a:off x="2023920" y="47228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18"/>
          <p:cNvSpPr/>
          <p:nvPr/>
        </p:nvSpPr>
        <p:spPr>
          <a:xfrm>
            <a:off x="2870280" y="4741920"/>
            <a:ext cx="155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19"/>
          <p:cNvSpPr/>
          <p:nvPr/>
        </p:nvSpPr>
        <p:spPr>
          <a:xfrm flipV="1">
            <a:off x="3581280" y="474192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20"/>
          <p:cNvSpPr/>
          <p:nvPr/>
        </p:nvSpPr>
        <p:spPr>
          <a:xfrm flipV="1">
            <a:off x="4432320" y="47419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21"/>
          <p:cNvSpPr/>
          <p:nvPr/>
        </p:nvSpPr>
        <p:spPr>
          <a:xfrm>
            <a:off x="3581280" y="553896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22"/>
          <p:cNvSpPr/>
          <p:nvPr/>
        </p:nvSpPr>
        <p:spPr>
          <a:xfrm>
            <a:off x="4451400" y="5216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23"/>
          <p:cNvSpPr/>
          <p:nvPr/>
        </p:nvSpPr>
        <p:spPr>
          <a:xfrm>
            <a:off x="1263600" y="5899320"/>
            <a:ext cx="585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24"/>
          <p:cNvSpPr/>
          <p:nvPr/>
        </p:nvSpPr>
        <p:spPr>
          <a:xfrm>
            <a:off x="6199200" y="476100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25"/>
          <p:cNvSpPr/>
          <p:nvPr/>
        </p:nvSpPr>
        <p:spPr>
          <a:xfrm>
            <a:off x="6192720" y="4761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26"/>
          <p:cNvSpPr/>
          <p:nvPr/>
        </p:nvSpPr>
        <p:spPr>
          <a:xfrm>
            <a:off x="6173640" y="56340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7"/>
          <p:cNvSpPr/>
          <p:nvPr/>
        </p:nvSpPr>
        <p:spPr>
          <a:xfrm>
            <a:off x="1619280" y="421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8"/>
          <p:cNvSpPr/>
          <p:nvPr/>
        </p:nvSpPr>
        <p:spPr>
          <a:xfrm>
            <a:off x="7292520" y="447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9"/>
          <p:cNvSpPr/>
          <p:nvPr/>
        </p:nvSpPr>
        <p:spPr>
          <a:xfrm>
            <a:off x="7100640" y="5667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0"/>
          <p:cNvSpPr/>
          <p:nvPr/>
        </p:nvSpPr>
        <p:spPr>
          <a:xfrm>
            <a:off x="6754680" y="5070600"/>
            <a:ext cx="193680" cy="57132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31"/>
          <p:cNvSpPr/>
          <p:nvPr/>
        </p:nvSpPr>
        <p:spPr>
          <a:xfrm flipV="1">
            <a:off x="6851520" y="476100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32"/>
          <p:cNvSpPr/>
          <p:nvPr/>
        </p:nvSpPr>
        <p:spPr>
          <a:xfrm>
            <a:off x="6870600" y="56340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3"/>
          <p:cNvSpPr/>
          <p:nvPr/>
        </p:nvSpPr>
        <p:spPr>
          <a:xfrm>
            <a:off x="2386080" y="407196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4"/>
          <p:cNvSpPr/>
          <p:nvPr/>
        </p:nvSpPr>
        <p:spPr>
          <a:xfrm>
            <a:off x="3717720" y="504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5"/>
          <p:cNvSpPr/>
          <p:nvPr/>
        </p:nvSpPr>
        <p:spPr>
          <a:xfrm>
            <a:off x="4600440" y="504036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6"/>
          <p:cNvSpPr/>
          <p:nvPr/>
        </p:nvSpPr>
        <p:spPr>
          <a:xfrm>
            <a:off x="4891320" y="405288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7"/>
          <p:cNvSpPr/>
          <p:nvPr/>
        </p:nvSpPr>
        <p:spPr>
          <a:xfrm>
            <a:off x="7108560" y="496584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38"/>
          <p:cNvSpPr/>
          <p:nvPr/>
        </p:nvSpPr>
        <p:spPr>
          <a:xfrm flipH="1" flipV="1">
            <a:off x="2062080" y="4874760"/>
            <a:ext cx="7920" cy="82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9"/>
          <p:cNvSpPr/>
          <p:nvPr/>
        </p:nvSpPr>
        <p:spPr>
          <a:xfrm>
            <a:off x="2167920" y="5064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40"/>
          <p:cNvSpPr/>
          <p:nvPr/>
        </p:nvSpPr>
        <p:spPr>
          <a:xfrm flipV="1">
            <a:off x="3209760" y="4890960"/>
            <a:ext cx="0" cy="873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1"/>
          <p:cNvSpPr/>
          <p:nvPr/>
        </p:nvSpPr>
        <p:spPr>
          <a:xfrm>
            <a:off x="3065400" y="4221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2"/>
          <p:cNvSpPr/>
          <p:nvPr/>
        </p:nvSpPr>
        <p:spPr>
          <a:xfrm>
            <a:off x="4406760" y="5859360"/>
            <a:ext cx="828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3"/>
          <p:cNvSpPr/>
          <p:nvPr/>
        </p:nvSpPr>
        <p:spPr>
          <a:xfrm>
            <a:off x="6110280" y="5827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44"/>
          <p:cNvSpPr/>
          <p:nvPr/>
        </p:nvSpPr>
        <p:spPr>
          <a:xfrm>
            <a:off x="6832440" y="5838840"/>
            <a:ext cx="810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45"/>
          <p:cNvSpPr/>
          <p:nvPr/>
        </p:nvSpPr>
        <p:spPr>
          <a:xfrm>
            <a:off x="3532320" y="468000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46"/>
          <p:cNvSpPr/>
          <p:nvPr/>
        </p:nvSpPr>
        <p:spPr>
          <a:xfrm>
            <a:off x="6153120" y="473076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47"/>
          <p:cNvSpPr/>
          <p:nvPr/>
        </p:nvSpPr>
        <p:spPr>
          <a:xfrm>
            <a:off x="6821640" y="471024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48"/>
          <p:cNvSpPr/>
          <p:nvPr/>
        </p:nvSpPr>
        <p:spPr>
          <a:xfrm rot="16200000">
            <a:off x="5086440" y="3633840"/>
            <a:ext cx="18864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49"/>
          <p:cNvSpPr/>
          <p:nvPr/>
        </p:nvSpPr>
        <p:spPr>
          <a:xfrm flipV="1">
            <a:off x="4432320" y="3887280"/>
            <a:ext cx="0" cy="8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50"/>
          <p:cNvSpPr/>
          <p:nvPr/>
        </p:nvSpPr>
        <p:spPr>
          <a:xfrm flipV="1">
            <a:off x="6192720" y="39049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51"/>
          <p:cNvSpPr/>
          <p:nvPr/>
        </p:nvSpPr>
        <p:spPr>
          <a:xfrm>
            <a:off x="4381560" y="4711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Object 52"/>
              <p:cNvSpPr txBox="1"/>
              <p:nvPr/>
            </p:nvSpPr>
            <p:spPr>
              <a:xfrm>
                <a:off x="2874960" y="5886360"/>
                <a:ext cx="1238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3" name="Line 53"/>
          <p:cNvSpPr/>
          <p:nvPr/>
        </p:nvSpPr>
        <p:spPr>
          <a:xfrm>
            <a:off x="1511280" y="4722840"/>
            <a:ext cx="782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4"/>
          <p:cNvSpPr/>
          <p:nvPr/>
        </p:nvSpPr>
        <p:spPr>
          <a:xfrm>
            <a:off x="1931760" y="4129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Group 183"/>
          <p:cNvGrpSpPr/>
          <p:nvPr/>
        </p:nvGrpSpPr>
        <p:grpSpPr>
          <a:xfrm>
            <a:off x="155520" y="4619520"/>
            <a:ext cx="1077840" cy="1330560"/>
            <a:chOff x="155520" y="4619520"/>
            <a:chExt cx="1077840" cy="1330560"/>
          </a:xfrm>
        </p:grpSpPr>
        <p:sp>
          <p:nvSpPr>
            <p:cNvPr id="1346" name="Line 55"/>
            <p:cNvSpPr/>
            <p:nvPr/>
          </p:nvSpPr>
          <p:spPr>
            <a:xfrm>
              <a:off x="365040" y="4678200"/>
              <a:ext cx="8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56"/>
            <p:cNvSpPr/>
            <p:nvPr/>
          </p:nvSpPr>
          <p:spPr>
            <a:xfrm>
              <a:off x="365040" y="59468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Text Box 57"/>
            <p:cNvSpPr/>
            <p:nvPr/>
          </p:nvSpPr>
          <p:spPr>
            <a:xfrm>
              <a:off x="515520" y="480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58"/>
            <p:cNvSpPr/>
            <p:nvPr/>
          </p:nvSpPr>
          <p:spPr>
            <a:xfrm flipV="1">
              <a:off x="365040" y="4665600"/>
              <a:ext cx="0" cy="12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59"/>
            <p:cNvSpPr/>
            <p:nvPr/>
          </p:nvSpPr>
          <p:spPr>
            <a:xfrm flipH="1" rot="16200000">
              <a:off x="671760" y="449100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Oval 60"/>
            <p:cNvSpPr/>
            <p:nvPr/>
          </p:nvSpPr>
          <p:spPr>
            <a:xfrm>
              <a:off x="155520" y="5045040"/>
              <a:ext cx="415800" cy="37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61"/>
            <p:cNvSpPr/>
            <p:nvPr/>
          </p:nvSpPr>
          <p:spPr>
            <a:xfrm flipV="1">
              <a:off x="365040" y="510048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Text Box 62"/>
            <p:cNvSpPr/>
            <p:nvPr/>
          </p:nvSpPr>
          <p:spPr>
            <a:xfrm>
              <a:off x="503640" y="5343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4" name="Object 63"/>
              <p:cNvSpPr txBox="1"/>
              <p:nvPr/>
            </p:nvSpPr>
            <p:spPr>
              <a:xfrm>
                <a:off x="6480000" y="4052880"/>
                <a:ext cx="2205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5" name="Line 64"/>
          <p:cNvSpPr/>
          <p:nvPr/>
        </p:nvSpPr>
        <p:spPr>
          <a:xfrm flipV="1">
            <a:off x="5332320" y="5417640"/>
            <a:ext cx="53208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5"/>
          <p:cNvSpPr/>
          <p:nvPr/>
        </p:nvSpPr>
        <p:spPr>
          <a:xfrm>
            <a:off x="3532320" y="5837400"/>
            <a:ext cx="824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66"/>
          <p:cNvSpPr/>
          <p:nvPr/>
        </p:nvSpPr>
        <p:spPr>
          <a:xfrm rot="16200000">
            <a:off x="2584440" y="4425480"/>
            <a:ext cx="190440" cy="58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67"/>
          <p:cNvSpPr/>
          <p:nvPr/>
        </p:nvSpPr>
        <p:spPr>
          <a:xfrm flipV="1">
            <a:off x="7856640" y="4824360"/>
            <a:ext cx="0" cy="92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68"/>
          <p:cNvSpPr/>
          <p:nvPr/>
        </p:nvSpPr>
        <p:spPr>
          <a:xfrm>
            <a:off x="7931160" y="4967280"/>
            <a:ext cx="40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69"/>
          <p:cNvSpPr/>
          <p:nvPr/>
        </p:nvSpPr>
        <p:spPr>
          <a:xfrm>
            <a:off x="4432320" y="390528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70"/>
          <p:cNvSpPr/>
          <p:nvPr/>
        </p:nvSpPr>
        <p:spPr>
          <a:xfrm flipH="1">
            <a:off x="5476680" y="3905280"/>
            <a:ext cx="73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71"/>
          <p:cNvSpPr/>
          <p:nvPr/>
        </p:nvSpPr>
        <p:spPr>
          <a:xfrm flipH="1">
            <a:off x="6333840" y="476244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72"/>
          <p:cNvSpPr/>
          <p:nvPr/>
        </p:nvSpPr>
        <p:spPr>
          <a:xfrm>
            <a:off x="5506920" y="3807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Object 73"/>
              <p:cNvSpPr txBox="1"/>
              <p:nvPr/>
            </p:nvSpPr>
            <p:spPr>
              <a:xfrm>
                <a:off x="7093080" y="3546360"/>
                <a:ext cx="1850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5" name="Line 171"/>
          <p:cNvSpPr/>
          <p:nvPr/>
        </p:nvSpPr>
        <p:spPr>
          <a:xfrm>
            <a:off x="4429080" y="47512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72"/>
          <p:cNvSpPr/>
          <p:nvPr/>
        </p:nvSpPr>
        <p:spPr>
          <a:xfrm flipH="1">
            <a:off x="4998600" y="4775040"/>
            <a:ext cx="1187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Object 174"/>
              <p:cNvSpPr txBox="1"/>
              <p:nvPr/>
            </p:nvSpPr>
            <p:spPr>
              <a:xfrm>
                <a:off x="1149480" y="6181560"/>
                <a:ext cx="13381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8" name="Rectangle 178"/>
          <p:cNvSpPr/>
          <p:nvPr/>
        </p:nvSpPr>
        <p:spPr>
          <a:xfrm>
            <a:off x="1690560" y="505944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180"/>
          <p:cNvSpPr/>
          <p:nvPr/>
        </p:nvSpPr>
        <p:spPr>
          <a:xfrm>
            <a:off x="1746360" y="469584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181"/>
          <p:cNvSpPr/>
          <p:nvPr/>
        </p:nvSpPr>
        <p:spPr>
          <a:xfrm>
            <a:off x="1724040" y="588168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182"/>
          <p:cNvSpPr/>
          <p:nvPr/>
        </p:nvSpPr>
        <p:spPr>
          <a:xfrm>
            <a:off x="1303200" y="5122800"/>
            <a:ext cx="289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184"/>
          <p:cNvSpPr/>
          <p:nvPr/>
        </p:nvSpPr>
        <p:spPr>
          <a:xfrm>
            <a:off x="920160" y="529272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Line 185"/>
          <p:cNvSpPr/>
          <p:nvPr/>
        </p:nvSpPr>
        <p:spPr>
          <a:xfrm>
            <a:off x="1584360" y="4599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186"/>
          <p:cNvSpPr/>
          <p:nvPr/>
        </p:nvSpPr>
        <p:spPr>
          <a:xfrm>
            <a:off x="1062000" y="5732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-259200" y="0"/>
            <a:ext cx="940284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dstawowe parametry układu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027"/>
          <p:cNvSpPr/>
          <p:nvPr/>
        </p:nvSpPr>
        <p:spPr>
          <a:xfrm>
            <a:off x="159480" y="122868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8" name="Object 1028"/>
              <p:cNvSpPr txBox="1"/>
              <p:nvPr/>
            </p:nvSpPr>
            <p:spPr>
              <a:xfrm>
                <a:off x="4184640" y="1087560"/>
                <a:ext cx="30225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9" name="Text Box 1029"/>
          <p:cNvSpPr/>
          <p:nvPr/>
        </p:nvSpPr>
        <p:spPr>
          <a:xfrm>
            <a:off x="159840" y="220032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1030"/>
              <p:cNvSpPr txBox="1"/>
              <p:nvPr/>
            </p:nvSpPr>
            <p:spPr>
              <a:xfrm>
                <a:off x="4184640" y="2025720"/>
                <a:ext cx="38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1" name="Text Box 1031"/>
          <p:cNvSpPr/>
          <p:nvPr/>
        </p:nvSpPr>
        <p:spPr>
          <a:xfrm>
            <a:off x="162000" y="39402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2" name="Object 1032"/>
              <p:cNvSpPr txBox="1"/>
              <p:nvPr/>
            </p:nvSpPr>
            <p:spPr>
              <a:xfrm>
                <a:off x="4184640" y="3825720"/>
                <a:ext cx="48610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3" name="Text Box 1033"/>
          <p:cNvSpPr/>
          <p:nvPr/>
        </p:nvSpPr>
        <p:spPr>
          <a:xfrm>
            <a:off x="161640" y="46656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4" name="Object 1034"/>
              <p:cNvSpPr txBox="1"/>
              <p:nvPr/>
            </p:nvSpPr>
            <p:spPr>
              <a:xfrm>
                <a:off x="4184640" y="4660920"/>
                <a:ext cx="1247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Text Box 1035"/>
          <p:cNvSpPr/>
          <p:nvPr/>
        </p:nvSpPr>
        <p:spPr>
          <a:xfrm>
            <a:off x="155160" y="535932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Object 1036"/>
              <p:cNvSpPr txBox="1"/>
              <p:nvPr/>
            </p:nvSpPr>
            <p:spPr>
              <a:xfrm>
                <a:off x="4184640" y="5243400"/>
                <a:ext cx="2397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7" name="Text Box 1037"/>
          <p:cNvSpPr/>
          <p:nvPr/>
        </p:nvSpPr>
        <p:spPr>
          <a:xfrm>
            <a:off x="160200" y="61642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1038"/>
              <p:cNvSpPr txBox="1"/>
              <p:nvPr/>
            </p:nvSpPr>
            <p:spPr>
              <a:xfrm>
                <a:off x="4184640" y="6167520"/>
                <a:ext cx="1535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9" name="Text Box 1039"/>
          <p:cNvSpPr/>
          <p:nvPr/>
        </p:nvSpPr>
        <p:spPr>
          <a:xfrm>
            <a:off x="157320" y="30304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0" name="Object 1040"/>
              <p:cNvSpPr txBox="1"/>
              <p:nvPr/>
            </p:nvSpPr>
            <p:spPr>
              <a:xfrm>
                <a:off x="4184640" y="2925720"/>
                <a:ext cx="3060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42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43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Group 217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1395" name="Line 160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49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5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Rectangle 7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8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Line 9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Rectangle 10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11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13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Line 14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Rectangle 16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Rectangle 17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Oval 19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26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27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28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29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2" name="Group 30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1413" name="Line 31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Freeform 32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Line 33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Line 34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35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36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37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40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41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Rectangle 44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45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48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0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51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2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53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54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55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Oval 56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Oval 57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Oval 58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Rectangle 63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64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65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66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67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68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Rectangle 69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1" name="Group 74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1442" name="Line 71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Line 73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4" name="Line 75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Oval 77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157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163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164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Line 193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195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15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Rectangle 18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46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47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59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60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Oval 62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62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Group 216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1460" name="Line 170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Text Box 172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Line 173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Rectangle 174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Oval 175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Line 176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Text Box 177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Line 171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Text Box 192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194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196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197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Group 211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1473" name="Group 212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1474" name="Line 213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214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6" name="Line 215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7" name="Group 220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1478" name="Text Box 136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Rectangle 83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Rectangle 84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86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87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88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90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91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93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94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95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96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97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98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99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100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101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102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103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104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Text Box 105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Text Box 106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Text Box 107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Rectangle 108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109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110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Text Box 111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Text Box 112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Text Box 113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Text Box 114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Text Box 115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Oval 120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Oval 121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Oval 122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Oval 123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Oval 124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Oval 125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127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129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130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Oval 131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9" name="Object 132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0" name="Object 133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21" name="Line 134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Text Box 135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Line 137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Text Box 138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5" name="Group 167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1526" name="Rectangle 149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Line 150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Line 151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Line 152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Line 153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Text Box 154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Oval 165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Group 179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1534" name="Line 180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Line 181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Text Box 182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Line 183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Rectangle 184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Oval 185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Line 186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Text Box 187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2" name="Text Box 190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191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Text Box 198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Rectangle 126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6" name="Object 207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7" name="Object 209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8" name="Line 218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Line 219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"/>
          <p:cNvSpPr/>
          <p:nvPr/>
        </p:nvSpPr>
        <p:spPr>
          <a:xfrm>
            <a:off x="-3960" y="16495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Object 4"/>
              <p:cNvSpPr txBox="1"/>
              <p:nvPr/>
            </p:nvSpPr>
            <p:spPr>
              <a:xfrm>
                <a:off x="4043520" y="1457280"/>
                <a:ext cx="3570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3" name="Text Box 5"/>
          <p:cNvSpPr/>
          <p:nvPr/>
        </p:nvSpPr>
        <p:spPr>
          <a:xfrm>
            <a:off x="-3600" y="27255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4" name="Object 6"/>
              <p:cNvSpPr txBox="1"/>
              <p:nvPr/>
            </p:nvSpPr>
            <p:spPr>
              <a:xfrm>
                <a:off x="4043520" y="2583000"/>
                <a:ext cx="3446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5" name="Text Box 7"/>
          <p:cNvSpPr/>
          <p:nvPr/>
        </p:nvSpPr>
        <p:spPr>
          <a:xfrm>
            <a:off x="-1800" y="36432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Object 8"/>
              <p:cNvSpPr txBox="1"/>
              <p:nvPr/>
            </p:nvSpPr>
            <p:spPr>
              <a:xfrm>
                <a:off x="4043520" y="3693960"/>
                <a:ext cx="51130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7" name="Text Box 9"/>
          <p:cNvSpPr/>
          <p:nvPr/>
        </p:nvSpPr>
        <p:spPr>
          <a:xfrm>
            <a:off x="-1800" y="46656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Object 10"/>
              <p:cNvSpPr txBox="1"/>
              <p:nvPr/>
            </p:nvSpPr>
            <p:spPr>
              <a:xfrm>
                <a:off x="4043520" y="4556160"/>
                <a:ext cx="4706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9" name="Text Box 11"/>
          <p:cNvSpPr/>
          <p:nvPr/>
        </p:nvSpPr>
        <p:spPr>
          <a:xfrm>
            <a:off x="-8280" y="551196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Object 12"/>
              <p:cNvSpPr txBox="1"/>
              <p:nvPr/>
            </p:nvSpPr>
            <p:spPr>
              <a:xfrm>
                <a:off x="4043520" y="5396040"/>
                <a:ext cx="2384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1" name="Text Box 13"/>
          <p:cNvSpPr/>
          <p:nvPr/>
        </p:nvSpPr>
        <p:spPr>
          <a:xfrm>
            <a:off x="-3240" y="618156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Object 14"/>
              <p:cNvSpPr txBox="1"/>
              <p:nvPr/>
            </p:nvSpPr>
            <p:spPr>
              <a:xfrm>
                <a:off x="4043520" y="6205680"/>
                <a:ext cx="939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Group 1093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1565" name="Oval 1094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Oval 1095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Line 1096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Group 1097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1569" name="Line 1098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Line 1099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Line 1103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1104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1106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1108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1109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Line 1110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1111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1112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113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114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115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1116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1117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1118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120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1121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1123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1124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1125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1126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127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128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130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1131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1132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Line 1133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Line 1134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Line 1135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136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1137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Object 1138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Object 1139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3" name="Line 1140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1141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142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143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144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8" name="Group 1152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609" name="Rectangle 1153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1154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1155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1156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1157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Text Box 1158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1188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89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190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Oval 1191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1192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Group 1200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621" name="Line 1201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1202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Line 1203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1204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1205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1206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Group 1238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628" name="Line 1239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1240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 Box 1241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1242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1243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Oval 1244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1245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Text Box 1246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Line 1039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1040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1046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Line 1047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1048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1049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642" name="Line 1050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1051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4" name="Line 1052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1053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1054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1056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1072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1074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1066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1067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Line 1068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1069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1079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1082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1084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Group 1085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658" name="Line 1086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1087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Group 1167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661" name="Line 1168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Line 1169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Line 1170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Line 1171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Line 1172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Line 1173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1175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1176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1038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1159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1032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1061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Line 1179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1180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1182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1183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184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185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Group 1208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680" name="Line 1209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Line 1210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" name="Line 1211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Line 1212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213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Group 1234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686" name="Line 1222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Line 1225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Text Box 1226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1229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1221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Oval 1227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Line 1230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Text Box 1231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Line 1236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Rectangle 1235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237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1076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Line 1177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1178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1181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186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1187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1214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Group 1266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705" name="Line 1250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Text Box 1251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1252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Group 1271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709" name="Line 1253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Text Box 1254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Line 1255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2" name="Object 1258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3" name="Line 1261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1260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1263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1264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1265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Group 1267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719" name="Line 1268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Text Box 1269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Line 1270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Group 1272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723" name="Line 1273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Text Box 1274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Line 1275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"/>
          <p:cNvSpPr/>
          <p:nvPr/>
        </p:nvSpPr>
        <p:spPr>
          <a:xfrm>
            <a:off x="-3960" y="16495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8" name="Object 4"/>
              <p:cNvSpPr txBox="1"/>
              <p:nvPr/>
            </p:nvSpPr>
            <p:spPr>
              <a:xfrm>
                <a:off x="3990960" y="1511280"/>
                <a:ext cx="2225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9" name="Text Box 5"/>
          <p:cNvSpPr/>
          <p:nvPr/>
        </p:nvSpPr>
        <p:spPr>
          <a:xfrm>
            <a:off x="-3600" y="24033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0" name="Object 6"/>
              <p:cNvSpPr txBox="1"/>
              <p:nvPr/>
            </p:nvSpPr>
            <p:spPr>
              <a:xfrm>
                <a:off x="3990960" y="2244600"/>
                <a:ext cx="2371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1" name="Text Box 7"/>
          <p:cNvSpPr/>
          <p:nvPr/>
        </p:nvSpPr>
        <p:spPr>
          <a:xfrm>
            <a:off x="-1800" y="391464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2" name="Object 8"/>
              <p:cNvSpPr txBox="1"/>
              <p:nvPr/>
            </p:nvSpPr>
            <p:spPr>
              <a:xfrm>
                <a:off x="3990960" y="3774960"/>
                <a:ext cx="470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3" name="Text Box 9"/>
          <p:cNvSpPr/>
          <p:nvPr/>
        </p:nvSpPr>
        <p:spPr>
          <a:xfrm>
            <a:off x="-2160" y="467028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"/>
              <p:cNvSpPr txBox="1"/>
              <p:nvPr/>
            </p:nvSpPr>
            <p:spPr>
              <a:xfrm>
                <a:off x="3990960" y="4664160"/>
                <a:ext cx="127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5" name="Text Box 11"/>
          <p:cNvSpPr/>
          <p:nvPr/>
        </p:nvSpPr>
        <p:spPr>
          <a:xfrm>
            <a:off x="-8280" y="542592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6" name="Object 12"/>
              <p:cNvSpPr txBox="1"/>
              <p:nvPr/>
            </p:nvSpPr>
            <p:spPr>
              <a:xfrm>
                <a:off x="3990960" y="5432400"/>
                <a:ext cx="954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7" name="Text Box 13"/>
          <p:cNvSpPr/>
          <p:nvPr/>
        </p:nvSpPr>
        <p:spPr>
          <a:xfrm>
            <a:off x="-3240" y="618156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14"/>
              <p:cNvSpPr txBox="1"/>
              <p:nvPr/>
            </p:nvSpPr>
            <p:spPr>
              <a:xfrm>
                <a:off x="3990960" y="6146640"/>
                <a:ext cx="1252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9" name="Text Box 15"/>
          <p:cNvSpPr/>
          <p:nvPr/>
        </p:nvSpPr>
        <p:spPr>
          <a:xfrm>
            <a:off x="-6120" y="315900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0" name="Object 16"/>
              <p:cNvSpPr txBox="1"/>
              <p:nvPr/>
            </p:nvSpPr>
            <p:spPr>
              <a:xfrm>
                <a:off x="3990960" y="3024360"/>
                <a:ext cx="20955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2" name="Object 4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Group 6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746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Text Box 4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Text Box 5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113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Rectangle 112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111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Group 53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754" name="Group 26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755" name="Line 27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Line 28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Line 29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Line 30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Line 31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Group 32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761" name="Line 33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Line 34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Line 35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Line 36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Line 37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6" name="Line 38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39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40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42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Oval 43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44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45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46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Text Box 48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49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50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51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52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Text Box 55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6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1" name="Object 57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Object 58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Object 59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4" name="Text Box 61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102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6" name="Group 110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787" name="Group 71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788" name="Line 72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Line 73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Line 74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Line 75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Line 76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Group 77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794" name="Line 78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Line 79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Line 80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Line 81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Line 82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9" name="Line 85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86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Oval 87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88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9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90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Text Box 91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Line 92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Line 93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94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95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96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97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98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99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Oval 100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Text Box 101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Text Box 103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104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05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Oval 106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Text Box 107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Object 108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Object 109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Object 118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24" name="Group 130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825" name="Text Box 119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Text Box 120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7" name="Group 131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828" name="Text Box 121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Text Box 122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0" name="Group 129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831" name="Group 69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832" name="Line 12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13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Line 14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Line 17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18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Line 19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Line 20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Line 22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0" name="Group 25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841" name="Line 5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Line 6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Line 7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Line 10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Line 23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Oval 24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Text Box 60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Text Box 62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Line 65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Line 66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Oval 67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Oval 68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Rectangle 63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Text Box 116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Text Box 117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123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Line 124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Line 125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Text Box 127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Text Box 128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95" name="Line 14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Line 17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0" y="163440"/>
            <a:ext cx="940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a przykładzie charakterystyki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9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0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1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2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3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34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5041800" y="1822320"/>
            <a:ext cx="23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=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6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7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8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1"/>
          <p:cNvSpPr/>
          <p:nvPr/>
        </p:nvSpPr>
        <p:spPr>
          <a:xfrm>
            <a:off x="4486680" y="2792520"/>
            <a:ext cx="209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odpowiedź i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2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3"/>
          <p:cNvSpPr/>
          <p:nvPr/>
        </p:nvSpPr>
        <p:spPr>
          <a:xfrm>
            <a:off x="4147200" y="5937120"/>
            <a:ext cx="219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pobudzenie u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4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659520" y="247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47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48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0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51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2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3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4"/>
          <p:cNvSpPr/>
          <p:nvPr/>
        </p:nvSpPr>
        <p:spPr>
          <a:xfrm>
            <a:off x="731520" y="4646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chwilowy p. pra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2" name="Picture 3" descr=""/>
          <p:cNvPicPr/>
          <p:nvPr/>
        </p:nvPicPr>
        <p:blipFill>
          <a:blip r:embed="rId1"/>
          <a:stretch/>
        </p:blipFill>
        <p:spPr>
          <a:xfrm>
            <a:off x="558720" y="96696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Group 6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865" name="Picture 3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Oval 4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8" name="Group 7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869" name="Picture 3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Oval 4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Line 5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Line 6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3" name="Text Box 8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AutoShape 10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AutoShape 11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20640" y="-36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8" name="Picture 4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879" name="Text Box 5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Picture 3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5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AutoShape 3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tangle 4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reeform 13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Freeform 15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Line 17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18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0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Line 21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Line 23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Line 24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Line 25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Oval 26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Oval 27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28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29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30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31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32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33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34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Text Box 2"/>
          <p:cNvSpPr/>
          <p:nvPr/>
        </p:nvSpPr>
        <p:spPr>
          <a:xfrm>
            <a:off x="3082680" y="2924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Group 19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907" name="AutoShape 3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Freeform 5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6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7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Text Box 8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Text Box 9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10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11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12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14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Text Box 15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16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18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Line 4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5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6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Group 7"/>
          <p:cNvGrpSpPr/>
          <p:nvPr/>
        </p:nvGrpSpPr>
        <p:grpSpPr>
          <a:xfrm>
            <a:off x="5808600" y="3370320"/>
            <a:ext cx="1621080" cy="1260360"/>
            <a:chOff x="5808600" y="3370320"/>
            <a:chExt cx="1621080" cy="1260360"/>
          </a:xfrm>
        </p:grpSpPr>
        <p:sp>
          <p:nvSpPr>
            <p:cNvPr id="1925" name="Arc 8"/>
            <p:cNvSpPr/>
            <p:nvPr/>
          </p:nvSpPr>
          <p:spPr>
            <a:xfrm>
              <a:off x="5808600" y="3370320"/>
              <a:ext cx="1305000" cy="914400"/>
            </a:xfrm>
            <a:custGeom>
              <a:avLst/>
              <a:gdLst/>
              <a:ahLst/>
              <a:rect l="l" t="t" r="r" b="b"/>
              <a:pathLst>
                <a:path fill="none" w="20567" h="21600">
                  <a:moveTo>
                    <a:pt x="-1" y="0"/>
                  </a:moveTo>
                  <a:cubicBezTo>
                    <a:pt x="9387" y="0"/>
                    <a:pt x="17699" y="6062"/>
                    <a:pt x="20567" y="15000"/>
                  </a:cubicBezTo>
                </a:path>
                <a:path stroke="0" w="20567" h="21600">
                  <a:moveTo>
                    <a:pt x="-1" y="0"/>
                  </a:moveTo>
                  <a:cubicBezTo>
                    <a:pt x="9387" y="0"/>
                    <a:pt x="17699" y="6062"/>
                    <a:pt x="20567" y="150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9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Group 10"/>
          <p:cNvGrpSpPr/>
          <p:nvPr/>
        </p:nvGrpSpPr>
        <p:grpSpPr>
          <a:xfrm>
            <a:off x="1560960" y="3370320"/>
            <a:ext cx="1799640" cy="1260360"/>
            <a:chOff x="1560960" y="3370320"/>
            <a:chExt cx="1799640" cy="1260360"/>
          </a:xfrm>
        </p:grpSpPr>
        <p:sp>
          <p:nvSpPr>
            <p:cNvPr id="1928" name="Arc 11"/>
            <p:cNvSpPr/>
            <p:nvPr/>
          </p:nvSpPr>
          <p:spPr>
            <a:xfrm flipH="1">
              <a:off x="1911240" y="3370320"/>
              <a:ext cx="1449000" cy="914400"/>
            </a:xfrm>
            <a:custGeom>
              <a:avLst/>
              <a:gdLst/>
              <a:ahLst/>
              <a:rect l="l" t="t" r="r" b="b"/>
              <a:pathLst>
                <a:path fill="none" w="20567" h="21600">
                  <a:moveTo>
                    <a:pt x="-1" y="0"/>
                  </a:moveTo>
                  <a:cubicBezTo>
                    <a:pt x="9387" y="0"/>
                    <a:pt x="17699" y="6062"/>
                    <a:pt x="20567" y="15000"/>
                  </a:cubicBezTo>
                </a:path>
                <a:path stroke="0" w="20567" h="21600">
                  <a:moveTo>
                    <a:pt x="-1" y="0"/>
                  </a:moveTo>
                  <a:cubicBezTo>
                    <a:pt x="9387" y="0"/>
                    <a:pt x="17699" y="6062"/>
                    <a:pt x="20567" y="150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12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Line 13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Line 14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15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16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Rectangle 17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18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3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Rectangle 4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Rectangle 5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Rectangle 6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8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Line 9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Line 10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Rectangle 11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12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Rectangle 13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Rectangle 14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Line 15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Line 16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Rectangle 17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Line 18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Line 19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Line 20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Line 21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22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23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Oval 24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Line 25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Line 26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1" name="Group 27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962" name="Line 28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29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Line 30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Line 31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Line 32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Line 33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Line 34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35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Line 36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Line 37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Rectangle 38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Rectangle 39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Rectangle 40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43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46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47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Line 48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Line 49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50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51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Line 52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53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54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55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56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57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Group 58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993" name="Rectangle 59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Rectangle 60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Rectangle 61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62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63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64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65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0" name="Group 66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2001" name="Line 67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Line 68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Text Box 69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70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Rectangle 71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Oval 72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Line 73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Text Box 74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Group 75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2010" name="Line 76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77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Line 78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Line 79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Line 80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Rectangle 81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Oval 82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Oval 83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84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Line 85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86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Line 87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88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89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0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91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92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93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Group 94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2029" name="Group 95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2030" name="Line 96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Line 97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Line 98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Oval 99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00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101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102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789200" y="2517840"/>
            <a:ext cx="57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gnał jest to zmiana punktu pracy Q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ówimy o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chwilow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8" name="Group 252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2039" name="Oval 241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13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Oval 14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Line 15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Line 16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17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Line 18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Oval 19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Line 20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Line 21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22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23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24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25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26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27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5" name="Group 229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2056" name="Rectangle 28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Rectangle 29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Oval 30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Line 31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Line 32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Line 33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34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Line 35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36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37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38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Oval 39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Line 40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Line 41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Line 42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43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44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45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Oval 46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47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48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49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50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51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52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1" name="Group 57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2082" name="Line 54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Line 55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Line 56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Rectangle 59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pl-PL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Oval 60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Oval 61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62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63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64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Oval 65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66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67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68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69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70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71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72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73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74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Group 78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2102" name="Line 75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Line 76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Line 77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Rectangle 79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80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81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Line 82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83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84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Line 85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Line 86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Line 87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Line 88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Line 89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90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Oval 91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Oval 92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Text Box 8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Text Box 9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1" name="Text Box 253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Group 184"/>
          <p:cNvGrpSpPr/>
          <p:nvPr/>
        </p:nvGrpSpPr>
        <p:grpSpPr>
          <a:xfrm>
            <a:off x="526320" y="1293840"/>
            <a:ext cx="7706160" cy="3603240"/>
            <a:chOff x="526320" y="1293840"/>
            <a:chExt cx="7706160" cy="3603240"/>
          </a:xfrm>
        </p:grpSpPr>
        <p:sp>
          <p:nvSpPr>
            <p:cNvPr id="2124" name="Oval 79"/>
            <p:cNvSpPr/>
            <p:nvPr/>
          </p:nvSpPr>
          <p:spPr>
            <a:xfrm>
              <a:off x="5435280" y="1909440"/>
              <a:ext cx="2292480" cy="1622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Line 80"/>
            <p:cNvSpPr/>
            <p:nvPr/>
          </p:nvSpPr>
          <p:spPr>
            <a:xfrm flipV="1">
              <a:off x="5209920" y="2233440"/>
              <a:ext cx="1440" cy="101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Oval 81"/>
            <p:cNvSpPr/>
            <p:nvPr/>
          </p:nvSpPr>
          <p:spPr>
            <a:xfrm>
              <a:off x="5071680" y="2785680"/>
              <a:ext cx="274680" cy="274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82"/>
            <p:cNvSpPr/>
            <p:nvPr/>
          </p:nvSpPr>
          <p:spPr>
            <a:xfrm flipV="1">
              <a:off x="2358720" y="2233440"/>
              <a:ext cx="1800" cy="101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83"/>
            <p:cNvSpPr/>
            <p:nvPr/>
          </p:nvSpPr>
          <p:spPr>
            <a:xfrm>
              <a:off x="1163520" y="2968560"/>
              <a:ext cx="1440" cy="275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84"/>
            <p:cNvSpPr/>
            <p:nvPr/>
          </p:nvSpPr>
          <p:spPr>
            <a:xfrm>
              <a:off x="2265120" y="259992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85"/>
            <p:cNvSpPr/>
            <p:nvPr/>
          </p:nvSpPr>
          <p:spPr>
            <a:xfrm>
              <a:off x="1071360" y="322704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Oval 86"/>
            <p:cNvSpPr/>
            <p:nvPr/>
          </p:nvSpPr>
          <p:spPr>
            <a:xfrm>
              <a:off x="1025280" y="2693880"/>
              <a:ext cx="274680" cy="274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87"/>
            <p:cNvSpPr/>
            <p:nvPr/>
          </p:nvSpPr>
          <p:spPr>
            <a:xfrm flipV="1">
              <a:off x="1163520" y="2233440"/>
              <a:ext cx="1440" cy="46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88"/>
            <p:cNvSpPr/>
            <p:nvPr/>
          </p:nvSpPr>
          <p:spPr>
            <a:xfrm>
              <a:off x="1163520" y="2233440"/>
              <a:ext cx="21142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89"/>
            <p:cNvSpPr/>
            <p:nvPr/>
          </p:nvSpPr>
          <p:spPr>
            <a:xfrm>
              <a:off x="1346040" y="2141280"/>
              <a:ext cx="368280" cy="1854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90"/>
            <p:cNvSpPr/>
            <p:nvPr/>
          </p:nvSpPr>
          <p:spPr>
            <a:xfrm>
              <a:off x="1082520" y="267480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91"/>
            <p:cNvSpPr/>
            <p:nvPr/>
          </p:nvSpPr>
          <p:spPr>
            <a:xfrm>
              <a:off x="1530000" y="1912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92"/>
            <p:cNvSpPr/>
            <p:nvPr/>
          </p:nvSpPr>
          <p:spPr>
            <a:xfrm>
              <a:off x="1438200" y="1793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93"/>
            <p:cNvSpPr/>
            <p:nvPr/>
          </p:nvSpPr>
          <p:spPr>
            <a:xfrm>
              <a:off x="2632680" y="2738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94"/>
            <p:cNvSpPr/>
            <p:nvPr/>
          </p:nvSpPr>
          <p:spPr>
            <a:xfrm>
              <a:off x="2543040" y="2619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0" name="Group 95"/>
            <p:cNvGrpSpPr/>
            <p:nvPr/>
          </p:nvGrpSpPr>
          <p:grpSpPr>
            <a:xfrm>
              <a:off x="1345320" y="2619000"/>
              <a:ext cx="264600" cy="371520"/>
              <a:chOff x="1345320" y="2619000"/>
              <a:chExt cx="264600" cy="371520"/>
            </a:xfrm>
          </p:grpSpPr>
          <p:sp>
            <p:nvSpPr>
              <p:cNvPr id="2141" name="Rectangle 96"/>
              <p:cNvSpPr/>
              <p:nvPr/>
            </p:nvSpPr>
            <p:spPr>
              <a:xfrm>
                <a:off x="1490400" y="28076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Rectangle 97"/>
              <p:cNvSpPr/>
              <p:nvPr/>
            </p:nvSpPr>
            <p:spPr>
              <a:xfrm>
                <a:off x="1345320" y="26190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3" name="Oval 98"/>
            <p:cNvSpPr/>
            <p:nvPr/>
          </p:nvSpPr>
          <p:spPr>
            <a:xfrm>
              <a:off x="2334960" y="2211120"/>
              <a:ext cx="52560" cy="5040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99"/>
            <p:cNvSpPr/>
            <p:nvPr/>
          </p:nvSpPr>
          <p:spPr>
            <a:xfrm>
              <a:off x="3277800" y="2233440"/>
              <a:ext cx="1800" cy="101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100"/>
            <p:cNvSpPr/>
            <p:nvPr/>
          </p:nvSpPr>
          <p:spPr>
            <a:xfrm>
              <a:off x="3186000" y="322704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Line 101"/>
            <p:cNvSpPr/>
            <p:nvPr/>
          </p:nvSpPr>
          <p:spPr>
            <a:xfrm>
              <a:off x="2266560" y="322704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102"/>
            <p:cNvSpPr/>
            <p:nvPr/>
          </p:nvSpPr>
          <p:spPr>
            <a:xfrm>
              <a:off x="3184200" y="2599920"/>
              <a:ext cx="1875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Line 103"/>
            <p:cNvSpPr/>
            <p:nvPr/>
          </p:nvSpPr>
          <p:spPr>
            <a:xfrm flipV="1">
              <a:off x="5760720" y="2233440"/>
              <a:ext cx="1800" cy="101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104"/>
            <p:cNvSpPr/>
            <p:nvPr/>
          </p:nvSpPr>
          <p:spPr>
            <a:xfrm>
              <a:off x="5668560" y="259992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105"/>
            <p:cNvSpPr/>
            <p:nvPr/>
          </p:nvSpPr>
          <p:spPr>
            <a:xfrm>
              <a:off x="6681240" y="24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106"/>
            <p:cNvSpPr/>
            <p:nvPr/>
          </p:nvSpPr>
          <p:spPr>
            <a:xfrm>
              <a:off x="6589440" y="23443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Oval 107"/>
            <p:cNvSpPr/>
            <p:nvPr/>
          </p:nvSpPr>
          <p:spPr>
            <a:xfrm>
              <a:off x="5738400" y="2211120"/>
              <a:ext cx="51120" cy="5040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Line 108"/>
            <p:cNvSpPr/>
            <p:nvPr/>
          </p:nvSpPr>
          <p:spPr>
            <a:xfrm>
              <a:off x="6497280" y="2233440"/>
              <a:ext cx="1800" cy="101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Line 109"/>
            <p:cNvSpPr/>
            <p:nvPr/>
          </p:nvSpPr>
          <p:spPr>
            <a:xfrm>
              <a:off x="6405480" y="322704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Line 110"/>
            <p:cNvSpPr/>
            <p:nvPr/>
          </p:nvSpPr>
          <p:spPr>
            <a:xfrm>
              <a:off x="5668560" y="322704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111"/>
            <p:cNvSpPr/>
            <p:nvPr/>
          </p:nvSpPr>
          <p:spPr>
            <a:xfrm>
              <a:off x="6403680" y="259992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112"/>
            <p:cNvSpPr/>
            <p:nvPr/>
          </p:nvSpPr>
          <p:spPr>
            <a:xfrm>
              <a:off x="5944680" y="2619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113"/>
            <p:cNvSpPr/>
            <p:nvPr/>
          </p:nvSpPr>
          <p:spPr>
            <a:xfrm>
              <a:off x="6036120" y="27381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Oval 114"/>
            <p:cNvSpPr/>
            <p:nvPr/>
          </p:nvSpPr>
          <p:spPr>
            <a:xfrm>
              <a:off x="6473520" y="2211120"/>
              <a:ext cx="52560" cy="5040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Line 115"/>
            <p:cNvSpPr/>
            <p:nvPr/>
          </p:nvSpPr>
          <p:spPr>
            <a:xfrm>
              <a:off x="5209920" y="2233440"/>
              <a:ext cx="20224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Line 116"/>
            <p:cNvSpPr/>
            <p:nvPr/>
          </p:nvSpPr>
          <p:spPr>
            <a:xfrm>
              <a:off x="7232400" y="2233440"/>
              <a:ext cx="1440" cy="101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Line 117"/>
            <p:cNvSpPr/>
            <p:nvPr/>
          </p:nvSpPr>
          <p:spPr>
            <a:xfrm>
              <a:off x="7140240" y="322704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Line 118"/>
            <p:cNvSpPr/>
            <p:nvPr/>
          </p:nvSpPr>
          <p:spPr>
            <a:xfrm>
              <a:off x="5117760" y="322704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119"/>
            <p:cNvSpPr/>
            <p:nvPr/>
          </p:nvSpPr>
          <p:spPr>
            <a:xfrm>
              <a:off x="7140240" y="259992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120"/>
            <p:cNvSpPr/>
            <p:nvPr/>
          </p:nvSpPr>
          <p:spPr>
            <a:xfrm>
              <a:off x="7383600" y="26190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6" name="Group 121"/>
            <p:cNvGrpSpPr/>
            <p:nvPr/>
          </p:nvGrpSpPr>
          <p:grpSpPr>
            <a:xfrm>
              <a:off x="7698960" y="2435040"/>
              <a:ext cx="183960" cy="734760"/>
              <a:chOff x="7698960" y="2435040"/>
              <a:chExt cx="183960" cy="734760"/>
            </a:xfrm>
          </p:grpSpPr>
          <p:sp>
            <p:nvSpPr>
              <p:cNvPr id="2167" name="Line 122"/>
              <p:cNvSpPr/>
              <p:nvPr/>
            </p:nvSpPr>
            <p:spPr>
              <a:xfrm>
                <a:off x="7791120" y="2435040"/>
                <a:ext cx="1080" cy="734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Line 123"/>
              <p:cNvSpPr/>
              <p:nvPr/>
            </p:nvSpPr>
            <p:spPr>
              <a:xfrm flipH="1">
                <a:off x="7698960" y="2435040"/>
                <a:ext cx="91800" cy="9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Line 124"/>
              <p:cNvSpPr/>
              <p:nvPr/>
            </p:nvSpPr>
            <p:spPr>
              <a:xfrm>
                <a:off x="7791120" y="2435040"/>
                <a:ext cx="91800" cy="9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Rectangle 125"/>
            <p:cNvSpPr/>
            <p:nvPr/>
          </p:nvSpPr>
          <p:spPr>
            <a:xfrm>
              <a:off x="7731000" y="199836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pl-PL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Oval 126"/>
            <p:cNvSpPr/>
            <p:nvPr/>
          </p:nvSpPr>
          <p:spPr>
            <a:xfrm>
              <a:off x="5186160" y="2211120"/>
              <a:ext cx="52200" cy="5040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Oval 127"/>
            <p:cNvSpPr/>
            <p:nvPr/>
          </p:nvSpPr>
          <p:spPr>
            <a:xfrm>
              <a:off x="5070240" y="2599920"/>
              <a:ext cx="277920" cy="2775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Line 128"/>
            <p:cNvSpPr/>
            <p:nvPr/>
          </p:nvSpPr>
          <p:spPr>
            <a:xfrm>
              <a:off x="5209920" y="2693880"/>
              <a:ext cx="1440" cy="27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Line 129"/>
            <p:cNvSpPr/>
            <p:nvPr/>
          </p:nvSpPr>
          <p:spPr>
            <a:xfrm flipH="1" flipV="1">
              <a:off x="5117760" y="2876040"/>
              <a:ext cx="92160" cy="9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Line 130"/>
            <p:cNvSpPr/>
            <p:nvPr/>
          </p:nvSpPr>
          <p:spPr>
            <a:xfrm flipV="1">
              <a:off x="5209920" y="2876040"/>
              <a:ext cx="92160" cy="9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Oval 131"/>
            <p:cNvSpPr/>
            <p:nvPr/>
          </p:nvSpPr>
          <p:spPr>
            <a:xfrm>
              <a:off x="5070240" y="2784240"/>
              <a:ext cx="277920" cy="2775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Line 132"/>
            <p:cNvSpPr/>
            <p:nvPr/>
          </p:nvSpPr>
          <p:spPr>
            <a:xfrm flipH="1" flipV="1">
              <a:off x="2082600" y="2140920"/>
              <a:ext cx="92160" cy="9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Line 133"/>
            <p:cNvSpPr/>
            <p:nvPr/>
          </p:nvSpPr>
          <p:spPr>
            <a:xfrm flipH="1">
              <a:off x="2082600" y="2233440"/>
              <a:ext cx="92160" cy="9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134"/>
            <p:cNvSpPr/>
            <p:nvPr/>
          </p:nvSpPr>
          <p:spPr>
            <a:xfrm>
              <a:off x="2081880" y="18856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135"/>
            <p:cNvSpPr/>
            <p:nvPr/>
          </p:nvSpPr>
          <p:spPr>
            <a:xfrm>
              <a:off x="2173680" y="200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136"/>
            <p:cNvSpPr/>
            <p:nvPr/>
          </p:nvSpPr>
          <p:spPr>
            <a:xfrm>
              <a:off x="2542320" y="1793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Rectangle 137"/>
            <p:cNvSpPr/>
            <p:nvPr/>
          </p:nvSpPr>
          <p:spPr>
            <a:xfrm>
              <a:off x="2631600" y="191268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Rectangle 138"/>
            <p:cNvSpPr/>
            <p:nvPr/>
          </p:nvSpPr>
          <p:spPr>
            <a:xfrm>
              <a:off x="2541240" y="2141280"/>
              <a:ext cx="368280" cy="1854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Rectangle 139"/>
            <p:cNvSpPr/>
            <p:nvPr/>
          </p:nvSpPr>
          <p:spPr>
            <a:xfrm>
              <a:off x="2817360" y="2619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140"/>
            <p:cNvSpPr/>
            <p:nvPr/>
          </p:nvSpPr>
          <p:spPr>
            <a:xfrm>
              <a:off x="2907720" y="27381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6" name="Group 141"/>
            <p:cNvGrpSpPr/>
            <p:nvPr/>
          </p:nvGrpSpPr>
          <p:grpSpPr>
            <a:xfrm>
              <a:off x="3369960" y="2417400"/>
              <a:ext cx="183960" cy="734760"/>
              <a:chOff x="3369960" y="2417400"/>
              <a:chExt cx="183960" cy="734760"/>
            </a:xfrm>
          </p:grpSpPr>
          <p:sp>
            <p:nvSpPr>
              <p:cNvPr id="2187" name="Line 142"/>
              <p:cNvSpPr/>
              <p:nvPr/>
            </p:nvSpPr>
            <p:spPr>
              <a:xfrm>
                <a:off x="3462120" y="2417400"/>
                <a:ext cx="1440" cy="734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Line 143"/>
              <p:cNvSpPr/>
              <p:nvPr/>
            </p:nvSpPr>
            <p:spPr>
              <a:xfrm flipH="1">
                <a:off x="3369960" y="2417400"/>
                <a:ext cx="92160" cy="9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Line 144"/>
              <p:cNvSpPr/>
              <p:nvPr/>
            </p:nvSpPr>
            <p:spPr>
              <a:xfrm>
                <a:off x="3462120" y="2417400"/>
                <a:ext cx="91800" cy="9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0" name="Rectangle 145"/>
            <p:cNvSpPr/>
            <p:nvPr/>
          </p:nvSpPr>
          <p:spPr>
            <a:xfrm>
              <a:off x="3554280" y="2711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Rectangle 146"/>
            <p:cNvSpPr/>
            <p:nvPr/>
          </p:nvSpPr>
          <p:spPr>
            <a:xfrm>
              <a:off x="4552920" y="250812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147"/>
            <p:cNvSpPr/>
            <p:nvPr/>
          </p:nvSpPr>
          <p:spPr>
            <a:xfrm>
              <a:off x="4646520" y="26269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Line 148"/>
            <p:cNvSpPr/>
            <p:nvPr/>
          </p:nvSpPr>
          <p:spPr>
            <a:xfrm>
              <a:off x="3277800" y="2233440"/>
              <a:ext cx="15638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Line 149"/>
            <p:cNvSpPr/>
            <p:nvPr/>
          </p:nvSpPr>
          <p:spPr>
            <a:xfrm>
              <a:off x="4222440" y="2233440"/>
              <a:ext cx="1800" cy="46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Line 150"/>
            <p:cNvSpPr/>
            <p:nvPr/>
          </p:nvSpPr>
          <p:spPr>
            <a:xfrm>
              <a:off x="4038480" y="2693880"/>
              <a:ext cx="366480" cy="1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Line 151"/>
            <p:cNvSpPr/>
            <p:nvPr/>
          </p:nvSpPr>
          <p:spPr>
            <a:xfrm>
              <a:off x="4038480" y="2784240"/>
              <a:ext cx="366480" cy="1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Line 152"/>
            <p:cNvSpPr/>
            <p:nvPr/>
          </p:nvSpPr>
          <p:spPr>
            <a:xfrm>
              <a:off x="4222440" y="2784240"/>
              <a:ext cx="1800" cy="46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Line 153"/>
            <p:cNvSpPr/>
            <p:nvPr/>
          </p:nvSpPr>
          <p:spPr>
            <a:xfrm>
              <a:off x="4130280" y="3244680"/>
              <a:ext cx="182880" cy="1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Line 154"/>
            <p:cNvSpPr/>
            <p:nvPr/>
          </p:nvSpPr>
          <p:spPr>
            <a:xfrm>
              <a:off x="4841640" y="2050920"/>
              <a:ext cx="1440" cy="366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Line 155"/>
            <p:cNvSpPr/>
            <p:nvPr/>
          </p:nvSpPr>
          <p:spPr>
            <a:xfrm>
              <a:off x="4933800" y="2050920"/>
              <a:ext cx="1440" cy="366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Line 156"/>
            <p:cNvSpPr/>
            <p:nvPr/>
          </p:nvSpPr>
          <p:spPr>
            <a:xfrm>
              <a:off x="4933800" y="2233440"/>
              <a:ext cx="2761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Oval 157"/>
            <p:cNvSpPr/>
            <p:nvPr/>
          </p:nvSpPr>
          <p:spPr>
            <a:xfrm>
              <a:off x="3255840" y="2211120"/>
              <a:ext cx="50760" cy="5040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Oval 158"/>
            <p:cNvSpPr/>
            <p:nvPr/>
          </p:nvSpPr>
          <p:spPr>
            <a:xfrm>
              <a:off x="4198680" y="2211120"/>
              <a:ext cx="50760" cy="5040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Text Box 159"/>
            <p:cNvSpPr/>
            <p:nvPr/>
          </p:nvSpPr>
          <p:spPr>
            <a:xfrm>
              <a:off x="3677760" y="2796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Text Box 160"/>
            <p:cNvSpPr/>
            <p:nvPr/>
          </p:nvSpPr>
          <p:spPr>
            <a:xfrm>
              <a:off x="4532760" y="166032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Freeform 161"/>
            <p:cNvSpPr/>
            <p:nvPr/>
          </p:nvSpPr>
          <p:spPr>
            <a:xfrm>
              <a:off x="3600360" y="1558800"/>
              <a:ext cx="2892240" cy="52668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Text Box 162"/>
            <p:cNvSpPr/>
            <p:nvPr/>
          </p:nvSpPr>
          <p:spPr>
            <a:xfrm>
              <a:off x="5607720" y="129384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8" name="Group 180"/>
            <p:cNvGrpSpPr/>
            <p:nvPr/>
          </p:nvGrpSpPr>
          <p:grpSpPr>
            <a:xfrm>
              <a:off x="526320" y="3687480"/>
              <a:ext cx="1786320" cy="1209600"/>
              <a:chOff x="526320" y="3687480"/>
              <a:chExt cx="1786320" cy="1209600"/>
            </a:xfrm>
          </p:grpSpPr>
          <p:sp>
            <p:nvSpPr>
              <p:cNvPr id="2209" name="AutoShape 168"/>
              <p:cNvSpPr/>
              <p:nvPr/>
            </p:nvSpPr>
            <p:spPr>
              <a:xfrm rot="5368800">
                <a:off x="1426680" y="4118760"/>
                <a:ext cx="55512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Freeform 169"/>
              <p:cNvSpPr/>
              <p:nvPr/>
            </p:nvSpPr>
            <p:spPr>
              <a:xfrm>
                <a:off x="1203120" y="3793680"/>
                <a:ext cx="285840" cy="58068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70"/>
              <p:cNvSpPr/>
              <p:nvPr/>
            </p:nvSpPr>
            <p:spPr>
              <a:xfrm>
                <a:off x="1884240" y="3793680"/>
                <a:ext cx="252360" cy="55368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Line 171"/>
              <p:cNvSpPr/>
              <p:nvPr/>
            </p:nvSpPr>
            <p:spPr>
              <a:xfrm flipH="1">
                <a:off x="969840" y="437472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Text Box 172"/>
              <p:cNvSpPr/>
              <p:nvPr/>
            </p:nvSpPr>
            <p:spPr>
              <a:xfrm>
                <a:off x="526320" y="421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Text Box 173"/>
              <p:cNvSpPr/>
              <p:nvPr/>
            </p:nvSpPr>
            <p:spPr>
              <a:xfrm>
                <a:off x="1149480" y="462996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Line 174"/>
              <p:cNvSpPr/>
              <p:nvPr/>
            </p:nvSpPr>
            <p:spPr>
              <a:xfrm>
                <a:off x="1615680" y="3687480"/>
                <a:ext cx="0" cy="237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Line 175"/>
              <p:cNvSpPr/>
              <p:nvPr/>
            </p:nvSpPr>
            <p:spPr>
              <a:xfrm>
                <a:off x="1650600" y="3687480"/>
                <a:ext cx="0" cy="237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Line 176"/>
              <p:cNvSpPr/>
              <p:nvPr/>
            </p:nvSpPr>
            <p:spPr>
              <a:xfrm>
                <a:off x="1471320" y="37936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Line 177"/>
              <p:cNvSpPr/>
              <p:nvPr/>
            </p:nvSpPr>
            <p:spPr>
              <a:xfrm flipH="1">
                <a:off x="1650600" y="379368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Text Box 178"/>
              <p:cNvSpPr/>
              <p:nvPr/>
            </p:nvSpPr>
            <p:spPr>
              <a:xfrm>
                <a:off x="1716120" y="3872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Line 179"/>
              <p:cNvSpPr/>
              <p:nvPr/>
            </p:nvSpPr>
            <p:spPr>
              <a:xfrm>
                <a:off x="2106360" y="434772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2" name="Group 184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2223" name="Group 3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2224" name="Text Box 4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5" name="Group 5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2226" name="Line 6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Line 7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Rectangle 8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Line 9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Oval 10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Line 11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Line 12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Rectangle 13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Rectangle 14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Rectangle 15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Rectangle 16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Rectangle 17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Rectangle 18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Oval 19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Line 20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Line 21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Line 22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Rectangle 23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Line 24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Line 25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Rectangle 26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Rectangle 27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Rectangle 28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Rectangle 29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Rectangle 30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Rectangle 31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Rectangle 32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3" name="Group 33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2254" name="Line 34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Line 35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Line 36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7" name="Rectangle 37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Line 38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Line 39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Line 40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Line 41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Line 42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Line 43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Oval 44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Oval 45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Line 46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Line 47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Line 48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Line 49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Line 50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Rectangle 51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Line 52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Oval 53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Rectangle 54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pl-PL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Line 55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Line 56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Rectangle 57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Line 58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Oval 59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Line 60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Line 61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Line 62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Oval 63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Rectangle 64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Rectangle 65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Line 66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7" name="Group 67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2288" name="Line 68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Line 69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Line 70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1" name="Line 71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Line 72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3" name="Group 73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2294" name="Rectangle 74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Rectangle 75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6" name="Text Box 76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Rectangle 77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8" name="Oval 79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Line 80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Oval 81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Line 82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Line 83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Rectangle 84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Line 85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Oval 86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Line 87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Line 88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Rectangle 89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Rectangle 90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Rectangle 91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Rectangle 92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Rectangle 93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Rectangle 94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Group 95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2315" name="Rectangle 96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Rectangle 97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Oval 98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Line 99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Line 100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Line 101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Rectangle 102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Line 103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Rectangle 104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Rectangle 105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Rectangle 106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Oval 107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Line 108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Line 109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Line 110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Rectangle 111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Rectangle 112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Rectangle 113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Oval 114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Line 115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Line 116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Line 117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Line 118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Rectangle 119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120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0" name="Group 121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2341" name="Line 122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Line 123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Line 124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4" name="Rectangle 125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pl-PL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Oval 126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Oval 127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Line 128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Line 129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Line 130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Oval 131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Line 132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Line 133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Rectangle 134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135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Rectangle 136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Rectangle 137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Rectangle 138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Rectangle 139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140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0" name="Group 141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2361" name="Line 142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Line 143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Line 144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4" name="Rectangle 145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Rectangle 146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Rectangle 147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Line 148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Line 149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Line 150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Line 151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Line 152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Line 153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Line 154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Line 155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Line 156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Oval 157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Oval 158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Text Box 159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Text Box 160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Freeform 161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AutoShape 163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Text Box 164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Oval 165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4" name="Group 166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2385" name="AutoShape 167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Freeform 168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Freeform 169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Line 170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Text Box 171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Text Box 172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Line 173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Line 174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Line 175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Line 176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Text Box 177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Line 178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Line 182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Text Box 183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9" name="Freeform 185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0" name="Group 2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2401" name="Text Box 3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Text Box 4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Text Box 5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Rectangle 4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Group 51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2406" name="Line 7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Oval 8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Line 10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Line 13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Rectangle 14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Rectangle 15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Rectangle 16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Line 17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Line 18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Rectangle 19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Line 20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21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8" name="Group 22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2419" name="Line 23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Line 24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Line 25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2" name="Oval 26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Line 27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Line 28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Line 29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Oval 30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31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32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Line 33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Line 34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Line 35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Line 36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Line 37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Line 38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39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6" name="Group 40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2437" name="Line 41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Line 42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Line 43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Group 44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2441" name="Rectangle 45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Rectangle 46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3" name="Rectangle 47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48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Line 50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Oval 11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7" name="Oval 52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9" name="Object 6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1" name="Line 7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2" name="Group 25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2453" name="Object 4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55" name="Object 5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56" name="Text Box 21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7" name="Group 27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2458" name="Group 26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2459" name="Line 9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Line 10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Line 11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Line 12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Text Box 13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Text Box 14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Text Box 15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Freeform 17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Text Box 18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Line 19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Text Box 22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70" name="Object 3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71" name="AutoShape 23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Oval 28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Line 4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Line 5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Line 6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Line 7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8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9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10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Freeform 11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12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13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14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15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Freeform 16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Freeform 17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18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19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Line 20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2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37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Rectangle 38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Object 246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6" name="Text Box 251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7" name="Group 258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2498" name="Line 5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Rectangle 10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Line 11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Line 12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Rectangle 14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Rectangle 15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Rectangle 20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Rectangle 21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Oval 22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Rectangle 23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Oval 24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Line 25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Line 26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1" name="Group 27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2512" name="Line 28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Freeform 29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4" name="Line 30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Line 31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Line 32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Line 33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Line 34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Rectangle 39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Line 40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Line 41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Line 42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Line 43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Line 44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Line 45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Line 46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Line 47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Line 48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Line 49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Oval 50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Oval 51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Oval 53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Oval 54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Oval 55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Rectangle 56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Rectangle 57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Rectangle 58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Rectangle 60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Rectangle 62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0" name="Group 63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541" name="Line 64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Line 65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3" name="Line 66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Oval 67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Rectangle 69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Oval 70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Line 71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Text Box 72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Line 74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Line 75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Text Box 76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Line 77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Rectangle 78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Oval 79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Line 80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Text Box 81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Rectangle 82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Line 84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Oval 85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Rectangle 16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Text Box 247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Line 249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Text Box 252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Text Box 253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5" name="Group 255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566" name="Line 256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Line 257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Oval 79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Line 4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Group 5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572" name="Line 6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Line 7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Line 8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Line 9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Line 10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Line 11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8" name="Line 12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Line 14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Line 15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Line 16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Rectangle 17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Rectangle 18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Rectangle 19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Rectangle 20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Oval 21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Line 22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Line 23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Line 24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Rectangle 27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28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Line 29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Oval 30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4" name="Group 31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595" name="Line 32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Line 33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Group 34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598" name="Line 35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Line 36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0" name="Line 37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39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Line 40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41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Line 42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43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Line 44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Line 45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46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47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48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Line 49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50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51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52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53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54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7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Rectangle 58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59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Rectangle 61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63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65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66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67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Oval 69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Line 74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76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77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Oval 78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38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80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4" name="Group 254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635" name="Line 218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Line 126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Line 127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Rectangle 128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Line 129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Oval 130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Line 131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Line 132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Rectangle 133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Rectangle 134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Rectangle 135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Rectangle 136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Rectangle 137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Rectangle 138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Rectangle 139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Rectangle 140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Oval 141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Line 142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Line 143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Line 144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Rectangle 145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Rectangle 184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Rectangle 185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Rectangle 186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Rectangle 187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Line 192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Line 193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Line 194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Line 195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Line 196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Line 197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Oval 201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Rectangle 204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Text Box 219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Line 220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Oval 227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1" name="Object 222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2" name="Object 228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3" name="Object 229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74" name="Line 245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Line 246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Line 17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Oval 18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Line 19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Line 20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Rectangle 21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Line 22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Oval 23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Line 24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Line 25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Rectangle 26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Rectangle 27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Rectangle 28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Rectangle 29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Rectangle 30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Rectangle 31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Rectangle 32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Rectangle 33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Oval 34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Line 35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Line 36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Line 37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Rectangle 38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Line 39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Rectangle 40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Rectangle 41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Rectangle 42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Line 44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Line 45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Rectangle 47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Rectangle 48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Rectangle 49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Oval 50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Line 51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Line 52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Line 53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Line 54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Rectangle 55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Rectangle 56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Line 58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Line 59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Line 60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Rectangle 63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Oval 64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Oval 65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Line 66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1" name="Group 113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722" name="Line 67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Line 68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4" name="Oval 69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Rectangle 74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Rectangle 75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Rectangle 76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Rectangle 77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Rectangle 78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83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Rectangle 84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Line 86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Line 87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Line 88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Line 89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Line 90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Line 91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Line 92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Line 93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Line 94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Oval 95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Oval 96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103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104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Rectangle 105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Line 116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Line 117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Line 118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Rectangle 119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Rectangle 120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Line 121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Text Box 122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Freeform 123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Text Box 10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Text Box 225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Line 237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Rectangle 238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Line 239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Oval 240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Text Box 247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Line 252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Text Box 253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Linearyzacja charakterystyk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elementów nie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65240" y="2306520"/>
            <a:ext cx="8816760" cy="2817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I=F(U) opisującej model elementu przez funkcję liniową 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+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która jest przybliżeniem tej pierwszej w pewnym niewielkim zakresie zmian jej argumentu U (tzn. 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360" y="217080"/>
            <a:ext cx="87775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Linearyzacja - na przykładzie diody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dla 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5"/>
          <p:cNvGrpSpPr/>
          <p:nvPr/>
        </p:nvGrpSpPr>
        <p:grpSpPr>
          <a:xfrm>
            <a:off x="450720" y="1209600"/>
            <a:ext cx="7839360" cy="4758480"/>
            <a:chOff x="450720" y="1209600"/>
            <a:chExt cx="7839360" cy="4758480"/>
          </a:xfrm>
        </p:grpSpPr>
        <p:sp>
          <p:nvSpPr>
            <p:cNvPr id="141" name="Text Box 3"/>
            <p:cNvSpPr/>
            <p:nvPr/>
          </p:nvSpPr>
          <p:spPr>
            <a:xfrm>
              <a:off x="831600" y="120960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ymbol elemen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4"/>
            <p:cNvGrpSpPr/>
            <p:nvPr/>
          </p:nvGrpSpPr>
          <p:grpSpPr>
            <a:xfrm>
              <a:off x="450720" y="2000160"/>
              <a:ext cx="7839360" cy="1074240"/>
              <a:chOff x="450720" y="2000160"/>
              <a:chExt cx="7839360" cy="1074240"/>
            </a:xfrm>
          </p:grpSpPr>
          <p:grpSp>
            <p:nvGrpSpPr>
              <p:cNvPr id="143" name="Group 5"/>
              <p:cNvGrpSpPr/>
              <p:nvPr/>
            </p:nvGrpSpPr>
            <p:grpSpPr>
              <a:xfrm>
                <a:off x="450720" y="2000160"/>
                <a:ext cx="1902960" cy="1074240"/>
                <a:chOff x="450720" y="2000160"/>
                <a:chExt cx="1902960" cy="1074240"/>
              </a:xfrm>
            </p:grpSpPr>
            <p:sp>
              <p:nvSpPr>
                <p:cNvPr id="144" name="Rectangle 6"/>
                <p:cNvSpPr/>
                <p:nvPr/>
              </p:nvSpPr>
              <p:spPr>
                <a:xfrm>
                  <a:off x="1457280" y="2000160"/>
                  <a:ext cx="7272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lang="pl-PL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7"/>
                <p:cNvGrpSpPr/>
                <p:nvPr/>
              </p:nvGrpSpPr>
              <p:grpSpPr>
                <a:xfrm>
                  <a:off x="450720" y="2004840"/>
                  <a:ext cx="1902960" cy="1069560"/>
                  <a:chOff x="450720" y="2004840"/>
                  <a:chExt cx="1902960" cy="1069560"/>
                </a:xfrm>
              </p:grpSpPr>
              <p:sp>
                <p:nvSpPr>
                  <p:cNvPr id="146" name="AutoShape 8"/>
                  <p:cNvSpPr/>
                  <p:nvPr/>
                </p:nvSpPr>
                <p:spPr>
                  <a:xfrm rot="10800000">
                    <a:off x="2120040" y="2426400"/>
                    <a:ext cx="193320" cy="1911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9"/>
                  <p:cNvSpPr/>
                  <p:nvPr/>
                </p:nvSpPr>
                <p:spPr>
                  <a:xfrm flipH="1">
                    <a:off x="2095200" y="2652480"/>
                    <a:ext cx="258480" cy="1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Line 10"/>
                  <p:cNvSpPr/>
                  <p:nvPr/>
                </p:nvSpPr>
                <p:spPr>
                  <a:xfrm>
                    <a:off x="1288800" y="2050200"/>
                    <a:ext cx="9583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11"/>
                  <p:cNvSpPr/>
                  <p:nvPr/>
                </p:nvSpPr>
                <p:spPr>
                  <a:xfrm>
                    <a:off x="1288800" y="3029040"/>
                    <a:ext cx="92484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12"/>
                  <p:cNvSpPr/>
                  <p:nvPr/>
                </p:nvSpPr>
                <p:spPr>
                  <a:xfrm>
                    <a:off x="2219040" y="2652480"/>
                    <a:ext cx="0" cy="37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Oval 13"/>
                  <p:cNvSpPr/>
                  <p:nvPr/>
                </p:nvSpPr>
                <p:spPr>
                  <a:xfrm>
                    <a:off x="1166400" y="2004840"/>
                    <a:ext cx="107640" cy="10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Rectangle 14"/>
                  <p:cNvSpPr/>
                  <p:nvPr/>
                </p:nvSpPr>
                <p:spPr>
                  <a:xfrm>
                    <a:off x="450720" y="2351160"/>
                    <a:ext cx="68544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lang="pl-PL" sz="28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15"/>
                  <p:cNvSpPr/>
                  <p:nvPr/>
                </p:nvSpPr>
                <p:spPr>
                  <a:xfrm>
                    <a:off x="2223720" y="2050200"/>
                    <a:ext cx="0" cy="384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Line 16"/>
                  <p:cNvSpPr/>
                  <p:nvPr/>
                </p:nvSpPr>
                <p:spPr>
                  <a:xfrm>
                    <a:off x="1485360" y="2050200"/>
                    <a:ext cx="380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Oval 17"/>
                  <p:cNvSpPr/>
                  <p:nvPr/>
                </p:nvSpPr>
                <p:spPr>
                  <a:xfrm>
                    <a:off x="1180800" y="2967840"/>
                    <a:ext cx="107640" cy="10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Line 18"/>
                  <p:cNvSpPr/>
                  <p:nvPr/>
                </p:nvSpPr>
                <p:spPr>
                  <a:xfrm flipV="1">
                    <a:off x="1212480" y="2200680"/>
                    <a:ext cx="0" cy="677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157" name="Object 19"/>
                  <p:cNvSpPr txBox="1"/>
                  <p:nvPr/>
                </p:nvSpPr>
                <p:spPr>
                  <a:xfrm>
                    <a:off x="5686560" y="2003040"/>
                    <a:ext cx="2603520" cy="84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8" name="AutoShape 20"/>
              <p:cNvSpPr/>
              <p:nvPr/>
            </p:nvSpPr>
            <p:spPr>
              <a:xfrm>
                <a:off x="2898720" y="2144520"/>
                <a:ext cx="2691000" cy="558360"/>
              </a:xfrm>
              <a:prstGeom prst="rightArrow">
                <a:avLst>
                  <a:gd name="adj1" fmla="val 50000"/>
                  <a:gd name="adj2" fmla="val 120487"/>
                </a:avLst>
              </a:prstGeom>
              <a:solidFill>
                <a:srgbClr val="ffff99"/>
              </a:soli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model matematyczny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Line 23"/>
            <p:cNvSpPr/>
            <p:nvPr/>
          </p:nvSpPr>
          <p:spPr>
            <a:xfrm flipV="1">
              <a:off x="1125360" y="3780000"/>
              <a:ext cx="0" cy="16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>
              <a:off x="1125360" y="5424480"/>
              <a:ext cx="302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1136520" y="3817800"/>
              <a:ext cx="1716120" cy="1624320"/>
            </a:xfrm>
            <a:custGeom>
              <a:avLst/>
              <a:gdLst/>
              <a:ahLst/>
              <a:rect l="l" t="t" r="r" b="b"/>
              <a:pathLst>
                <a:path w="1286" h="1300">
                  <a:moveTo>
                    <a:pt x="0" y="1278"/>
                  </a:moveTo>
                  <a:cubicBezTo>
                    <a:pt x="100" y="1289"/>
                    <a:pt x="200" y="1300"/>
                    <a:pt x="319" y="1278"/>
                  </a:cubicBezTo>
                  <a:cubicBezTo>
                    <a:pt x="438" y="1256"/>
                    <a:pt x="612" y="1204"/>
                    <a:pt x="717" y="1146"/>
                  </a:cubicBezTo>
                  <a:cubicBezTo>
                    <a:pt x="822" y="1088"/>
                    <a:pt x="877" y="1020"/>
                    <a:pt x="951" y="928"/>
                  </a:cubicBezTo>
                  <a:cubicBezTo>
                    <a:pt x="1025" y="836"/>
                    <a:pt x="1113" y="697"/>
                    <a:pt x="1161" y="592"/>
                  </a:cubicBezTo>
                  <a:cubicBezTo>
                    <a:pt x="1209" y="487"/>
                    <a:pt x="1218" y="395"/>
                    <a:pt x="1239" y="296"/>
                  </a:cubicBezTo>
                  <a:cubicBezTo>
                    <a:pt x="1260" y="197"/>
                    <a:pt x="1273" y="98"/>
                    <a:pt x="1286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6"/>
            <p:cNvSpPr/>
            <p:nvPr/>
          </p:nvSpPr>
          <p:spPr>
            <a:xfrm>
              <a:off x="3908520" y="503064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7"/>
            <p:cNvSpPr/>
            <p:nvPr/>
          </p:nvSpPr>
          <p:spPr>
            <a:xfrm>
              <a:off x="1173960" y="37083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8"/>
            <p:cNvSpPr/>
            <p:nvPr/>
          </p:nvSpPr>
          <p:spPr>
            <a:xfrm>
              <a:off x="2484000" y="5457960"/>
              <a:ext cx="73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9"/>
            <p:cNvSpPr/>
            <p:nvPr/>
          </p:nvSpPr>
          <p:spPr>
            <a:xfrm>
              <a:off x="473400" y="4422600"/>
              <a:ext cx="61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0"/>
            <p:cNvSpPr/>
            <p:nvPr/>
          </p:nvSpPr>
          <p:spPr>
            <a:xfrm>
              <a:off x="1125360" y="4616280"/>
              <a:ext cx="1540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1"/>
            <p:cNvSpPr/>
            <p:nvPr/>
          </p:nvSpPr>
          <p:spPr>
            <a:xfrm>
              <a:off x="2676600" y="4616280"/>
              <a:ext cx="0" cy="817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2"/>
            <p:cNvSpPr/>
            <p:nvPr/>
          </p:nvSpPr>
          <p:spPr>
            <a:xfrm>
              <a:off x="2826360" y="4309920"/>
              <a:ext cx="13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(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2635200" y="4578480"/>
              <a:ext cx="637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2886840" y="381780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1104840" y="1224000"/>
                <a:ext cx="723096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Oval 3"/>
          <p:cNvSpPr/>
          <p:nvPr/>
        </p:nvSpPr>
        <p:spPr>
          <a:xfrm>
            <a:off x="5943600" y="2133720"/>
            <a:ext cx="25146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 flipH="1">
            <a:off x="4114440" y="3429000"/>
            <a:ext cx="1870200" cy="96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187880" y="4875120"/>
            <a:ext cx="112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6059520" y="2438280"/>
            <a:ext cx="1789200" cy="1371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4190760" y="3733920"/>
            <a:ext cx="2166840" cy="1164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2362320" y="2209680"/>
            <a:ext cx="3504960" cy="157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V="1">
            <a:off x="2973240" y="38448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2973240" y="58294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683000" y="510228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1577880" y="384192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1518840" y="6200640"/>
            <a:ext cx="24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1719360" y="3841920"/>
            <a:ext cx="81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220480" y="3325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1436760" y="3917520"/>
            <a:ext cx="0" cy="215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392120" y="42721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2654280" y="4854600"/>
            <a:ext cx="641520" cy="974880"/>
            <a:chOff x="2654280" y="4854600"/>
            <a:chExt cx="641520" cy="974880"/>
          </a:xfrm>
        </p:grpSpPr>
        <p:sp>
          <p:nvSpPr>
            <p:cNvPr id="188" name="Oval 19"/>
            <p:cNvSpPr/>
            <p:nvPr/>
          </p:nvSpPr>
          <p:spPr>
            <a:xfrm>
              <a:off x="2654280" y="5222880"/>
              <a:ext cx="636480" cy="60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0"/>
            <p:cNvSpPr/>
            <p:nvPr/>
          </p:nvSpPr>
          <p:spPr>
            <a:xfrm>
              <a:off x="2658960" y="4854600"/>
              <a:ext cx="636840" cy="60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>
              <a:off x="2986200" y="508176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Line 22"/>
          <p:cNvSpPr/>
          <p:nvPr/>
        </p:nvSpPr>
        <p:spPr>
          <a:xfrm>
            <a:off x="3951360" y="3865680"/>
            <a:ext cx="0" cy="23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3852720" y="4670280"/>
            <a:ext cx="195480" cy="6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3949560" y="4118040"/>
            <a:ext cx="0" cy="39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5"/>
          <p:cNvSpPr/>
          <p:nvPr/>
        </p:nvSpPr>
        <p:spPr>
          <a:xfrm>
            <a:off x="2975040" y="4175280"/>
            <a:ext cx="0" cy="398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6"/>
          <p:cNvSpPr/>
          <p:nvPr/>
        </p:nvSpPr>
        <p:spPr>
          <a:xfrm flipH="1">
            <a:off x="3047760" y="3733920"/>
            <a:ext cx="469800" cy="54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Linearyzacja diody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dla 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4130640" y="5343480"/>
            <a:ext cx="4429080" cy="822240"/>
          </a:xfrm>
          <a:prstGeom prst="leftArrow">
            <a:avLst>
              <a:gd name="adj1" fmla="val 50000"/>
              <a:gd name="adj2" fmla="val 13466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 linowy -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1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13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210" name="Line 14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Line 17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0" y="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Linearyzacja di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dla 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9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0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3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5041800" y="1822320"/>
            <a:ext cx="23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=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38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4486680" y="2792520"/>
            <a:ext cx="209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odpowiedź i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2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3"/>
          <p:cNvSpPr/>
          <p:nvPr/>
        </p:nvSpPr>
        <p:spPr>
          <a:xfrm>
            <a:off x="4147200" y="5937120"/>
            <a:ext cx="219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pobudzenie u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4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5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46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47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48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51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2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53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4"/>
          <p:cNvSpPr/>
          <p:nvPr/>
        </p:nvSpPr>
        <p:spPr>
          <a:xfrm>
            <a:off x="731520" y="4646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chwilowy p. pra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wyklad</cp:lastModifiedBy>
  <dcterms:modified xsi:type="dcterms:W3CDTF">2016-04-22T09:16:07Z</dcterms:modified>
  <cp:revision>161</cp:revision>
  <dc:subject/>
  <dc:title>Właściwości częstotliwościowe wzmacniaczy tranzystorowych</dc:title>
</cp:coreProperties>
</file>