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A44-4660-4334-9403-CF0E6931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88D-03A5-49BB-83FF-FA7FFD42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198-85B4-4B04-B19D-79E366E7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561-E994-49F5-A604-A41D50C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EC2-34BE-4D12-BB4A-533752E3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14F-CE2A-44CF-B5C5-F94F7CB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FA0-E4BB-4DB3-96F1-198F3AE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4F3-C825-4CD1-8668-8C3B60D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BD3-FCAD-4516-921F-E0FBA605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5D0-6322-4570-8BAB-CFA77BF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2DF-4B2A-44AA-AF49-1346DFA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C99-9FC0-4734-9924-96D48F9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09C-BD72-4518-9C02-3BBEF1F690A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10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91" name="Rectangle 4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51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0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1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2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93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4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100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9" name="Line 95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96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97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98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99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03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5" name="Line 101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102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106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8" name="Line 104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5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109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11" name="Line 107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08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Line 110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11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12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13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14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15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16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7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20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2" name="Line 118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119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3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5" name="Line 121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122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19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8" name="Rectangle 155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156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157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58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159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160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161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162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163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164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165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166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167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168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69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70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171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72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73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174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75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76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177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178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79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180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181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82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83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184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85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186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87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88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189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90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91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192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193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194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195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196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97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198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199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0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201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202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203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204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05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06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Rectangle 207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08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09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Rectangle 210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11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12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213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214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15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216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217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18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Rectangle 220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221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60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61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264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7" name="Line 262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63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Oval 265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267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268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270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71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73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74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76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77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79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280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407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08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09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24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412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5" name="Rectangle 5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8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9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27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20" name="Freeform 10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5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8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9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22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23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24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25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26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45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8" name="Freeform 28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9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0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1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2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3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4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5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6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7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8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9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0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1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2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3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4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Oval 46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Group 49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7" name="Line 47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8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60" name="Line 281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282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284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Group 287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4" name="Freeform 285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286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Line 288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289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290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91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92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293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294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95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96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97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98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99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300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Group 304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80" name="Line 301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302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303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308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4" name="Line 305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306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307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Line 309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312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9" name="Line 310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311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15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2" name="Line 313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314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Rectangle 317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318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319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321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322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323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325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326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327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328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329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330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31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332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333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334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335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336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37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338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339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40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341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342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343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344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345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346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347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350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4" name="Freeform 348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349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353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7" name="Freeform 351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352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356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30" name="Freeform 354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355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357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360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4" name="Freeform 358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359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361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Group 364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8" name="Freeform 362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363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367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41" name="Freeform 365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366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68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369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370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371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372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373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374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375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76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77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78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79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382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6" name="Line 380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381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Line 406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411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841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61" name="Group 92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2" name="Line 90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91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95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5" name="Line 93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94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96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97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55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70" name="Freeform 230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231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232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233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234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235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236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237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238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239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240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241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242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243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244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245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246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247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248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249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250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51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52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53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254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696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6" name="Line 694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695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699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9" name="Line 697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698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Line 700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733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3" name="Freeform 701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702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703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704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705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706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707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708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709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710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711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712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713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714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715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716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717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718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719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720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721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722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723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724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725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726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727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728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729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730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731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732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759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6" name="Freeform 734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735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736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737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738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739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740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741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742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743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44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745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746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747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748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749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750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751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752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753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754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755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756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757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758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Oval 760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61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62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763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764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765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766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767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768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774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775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776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777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778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779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780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781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782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783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784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785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786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787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788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789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790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791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792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93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794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795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796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797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798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799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800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801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802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Group 816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800" name="Line 803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Rectangle 804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805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806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807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808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809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810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811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812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Rectangle 813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814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15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Line 824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825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826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pl-PL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832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7" name="Line 829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830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831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85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21" name="Rectangle 45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46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47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48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49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50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Group 51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8" name="Line 52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53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Line 54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Line 55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56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57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58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59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60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61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62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63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Oval 64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65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6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67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68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69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70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71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72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3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74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75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76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Line 77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78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79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80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81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Rectangle 82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83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Line 833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834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835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Text Box 836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837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838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839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840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Object 843"/>
              <p:cNvSpPr txBox="1"/>
              <p:nvPr/>
            </p:nvSpPr>
            <p:spPr>
              <a:xfrm>
                <a:off x="5394240" y="478800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844"/>
              <p:cNvSpPr txBox="1"/>
              <p:nvPr/>
            </p:nvSpPr>
            <p:spPr>
              <a:xfrm>
                <a:off x="5275440" y="347652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PRZYROSTOW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A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3"/>
              <p:cNvSpPr txBox="1"/>
              <p:nvPr/>
            </p:nvSpPr>
            <p:spPr>
              <a:xfrm>
                <a:off x="646200" y="1684440"/>
                <a:ext cx="341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46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Text Box 47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48"/>
              <p:cNvSpPr txBox="1"/>
              <p:nvPr/>
            </p:nvSpPr>
            <p:spPr>
              <a:xfrm>
                <a:off x="1438200" y="352116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75" name="Group 53"/>
          <p:cNvGrpSpPr/>
          <p:nvPr/>
        </p:nvGrpSpPr>
        <p:grpSpPr>
          <a:xfrm>
            <a:off x="4648320" y="1362240"/>
            <a:ext cx="2994840" cy="3155760"/>
            <a:chOff x="4648320" y="1362240"/>
            <a:chExt cx="2994840" cy="3155760"/>
          </a:xfrm>
        </p:grpSpPr>
        <p:sp>
          <p:nvSpPr>
            <p:cNvPr id="876" name="Rectangle 7"/>
            <p:cNvSpPr/>
            <p:nvPr/>
          </p:nvSpPr>
          <p:spPr>
            <a:xfrm>
              <a:off x="6071400" y="2080080"/>
              <a:ext cx="435960" cy="333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8"/>
            <p:cNvSpPr/>
            <p:nvPr/>
          </p:nvSpPr>
          <p:spPr>
            <a:xfrm>
              <a:off x="6414840" y="2689200"/>
              <a:ext cx="79056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9"/>
            <p:cNvSpPr/>
            <p:nvPr/>
          </p:nvSpPr>
          <p:spPr>
            <a:xfrm>
              <a:off x="5236560" y="1650600"/>
              <a:ext cx="474480" cy="16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0"/>
            <p:cNvSpPr/>
            <p:nvPr/>
          </p:nvSpPr>
          <p:spPr>
            <a:xfrm flipH="1">
              <a:off x="5694840" y="1733760"/>
              <a:ext cx="20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 flipH="1">
              <a:off x="5005080" y="1733760"/>
              <a:ext cx="236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2"/>
            <p:cNvSpPr/>
            <p:nvPr/>
          </p:nvSpPr>
          <p:spPr>
            <a:xfrm>
              <a:off x="5307840" y="1861200"/>
              <a:ext cx="337680" cy="31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9"/>
            <p:cNvSpPr/>
            <p:nvPr/>
          </p:nvSpPr>
          <p:spPr>
            <a:xfrm>
              <a:off x="4740840" y="1737000"/>
              <a:ext cx="267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0"/>
            <p:cNvSpPr/>
            <p:nvPr/>
          </p:nvSpPr>
          <p:spPr>
            <a:xfrm>
              <a:off x="5928840" y="1737000"/>
              <a:ext cx="0" cy="25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1"/>
            <p:cNvSpPr/>
            <p:nvPr/>
          </p:nvSpPr>
          <p:spPr>
            <a:xfrm>
              <a:off x="5913720" y="1737000"/>
              <a:ext cx="2696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2"/>
            <p:cNvSpPr/>
            <p:nvPr/>
          </p:nvSpPr>
          <p:spPr>
            <a:xfrm flipV="1">
              <a:off x="5928840" y="1984320"/>
              <a:ext cx="3600" cy="18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3"/>
            <p:cNvSpPr/>
            <p:nvPr/>
          </p:nvSpPr>
          <p:spPr>
            <a:xfrm flipV="1">
              <a:off x="5928840" y="2312280"/>
              <a:ext cx="3600" cy="36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4"/>
            <p:cNvSpPr/>
            <p:nvPr/>
          </p:nvSpPr>
          <p:spPr>
            <a:xfrm>
              <a:off x="4705920" y="2689200"/>
              <a:ext cx="16624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25"/>
            <p:cNvSpPr/>
            <p:nvPr/>
          </p:nvSpPr>
          <p:spPr>
            <a:xfrm>
              <a:off x="6359040" y="2657520"/>
              <a:ext cx="67680" cy="57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Oval 26"/>
            <p:cNvSpPr/>
            <p:nvPr/>
          </p:nvSpPr>
          <p:spPr>
            <a:xfrm>
              <a:off x="4648320" y="2657520"/>
              <a:ext cx="67320" cy="57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27"/>
            <p:cNvSpPr/>
            <p:nvPr/>
          </p:nvSpPr>
          <p:spPr>
            <a:xfrm>
              <a:off x="4648320" y="1705320"/>
              <a:ext cx="67320" cy="57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28"/>
            <p:cNvSpPr/>
            <p:nvPr/>
          </p:nvSpPr>
          <p:spPr>
            <a:xfrm flipH="1">
              <a:off x="6183000" y="1733760"/>
              <a:ext cx="200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29"/>
            <p:cNvSpPr/>
            <p:nvPr/>
          </p:nvSpPr>
          <p:spPr>
            <a:xfrm>
              <a:off x="6357240" y="1705320"/>
              <a:ext cx="69480" cy="57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30"/>
            <p:cNvSpPr/>
            <p:nvPr/>
          </p:nvSpPr>
          <p:spPr>
            <a:xfrm flipV="1">
              <a:off x="4690440" y="1829520"/>
              <a:ext cx="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31"/>
            <p:cNvSpPr/>
            <p:nvPr/>
          </p:nvSpPr>
          <p:spPr>
            <a:xfrm flipV="1">
              <a:off x="6397920" y="1829520"/>
              <a:ext cx="324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32"/>
            <p:cNvSpPr/>
            <p:nvPr/>
          </p:nvSpPr>
          <p:spPr>
            <a:xfrm>
              <a:off x="7082280" y="1994040"/>
              <a:ext cx="175320" cy="44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33"/>
            <p:cNvSpPr/>
            <p:nvPr/>
          </p:nvSpPr>
          <p:spPr>
            <a:xfrm flipV="1">
              <a:off x="7169400" y="2423160"/>
              <a:ext cx="1440" cy="268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4"/>
            <p:cNvSpPr/>
            <p:nvPr/>
          </p:nvSpPr>
          <p:spPr>
            <a:xfrm flipV="1">
              <a:off x="7169400" y="1736640"/>
              <a:ext cx="1440" cy="261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35"/>
            <p:cNvSpPr/>
            <p:nvPr/>
          </p:nvSpPr>
          <p:spPr>
            <a:xfrm>
              <a:off x="7308000" y="2060280"/>
              <a:ext cx="335160" cy="313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36"/>
            <p:cNvSpPr/>
            <p:nvPr/>
          </p:nvSpPr>
          <p:spPr>
            <a:xfrm>
              <a:off x="6432480" y="1737000"/>
              <a:ext cx="788760" cy="28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37"/>
            <p:cNvSpPr/>
            <p:nvPr/>
          </p:nvSpPr>
          <p:spPr>
            <a:xfrm>
              <a:off x="6968520" y="2391840"/>
              <a:ext cx="1440" cy="22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38"/>
            <p:cNvSpPr/>
            <p:nvPr/>
          </p:nvSpPr>
          <p:spPr>
            <a:xfrm>
              <a:off x="6968520" y="2596320"/>
              <a:ext cx="236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39"/>
            <p:cNvSpPr/>
            <p:nvPr/>
          </p:nvSpPr>
          <p:spPr>
            <a:xfrm flipV="1">
              <a:off x="6968520" y="1939320"/>
              <a:ext cx="420120" cy="47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40"/>
            <p:cNvSpPr/>
            <p:nvPr/>
          </p:nvSpPr>
          <p:spPr>
            <a:xfrm>
              <a:off x="7146360" y="2564640"/>
              <a:ext cx="67320" cy="57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41"/>
            <p:cNvSpPr/>
            <p:nvPr/>
          </p:nvSpPr>
          <p:spPr>
            <a:xfrm>
              <a:off x="6013800" y="1783440"/>
              <a:ext cx="269640" cy="331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42"/>
            <p:cNvSpPr/>
            <p:nvPr/>
          </p:nvSpPr>
          <p:spPr>
            <a:xfrm>
              <a:off x="4840920" y="1362240"/>
              <a:ext cx="476280" cy="32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43"/>
            <p:cNvSpPr/>
            <p:nvPr/>
          </p:nvSpPr>
          <p:spPr>
            <a:xfrm>
              <a:off x="5996160" y="1362240"/>
              <a:ext cx="439920" cy="32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44"/>
            <p:cNvSpPr/>
            <p:nvPr/>
          </p:nvSpPr>
          <p:spPr>
            <a:xfrm>
              <a:off x="4756320" y="2048760"/>
              <a:ext cx="503280" cy="331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45"/>
            <p:cNvSpPr/>
            <p:nvPr/>
          </p:nvSpPr>
          <p:spPr>
            <a:xfrm>
              <a:off x="6482520" y="2065320"/>
              <a:ext cx="451080" cy="329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49"/>
            <p:cNvSpPr/>
            <p:nvPr/>
          </p:nvSpPr>
          <p:spPr>
            <a:xfrm>
              <a:off x="6143400" y="2495160"/>
              <a:ext cx="686160" cy="1450800"/>
            </a:xfrm>
            <a:custGeom>
              <a:avLst/>
              <a:gdLst/>
              <a:ahLst/>
              <a:rect l="l" t="t" r="r" b="b"/>
              <a:pathLst>
                <a:path w="356" h="875">
                  <a:moveTo>
                    <a:pt x="356" y="875"/>
                  </a:moveTo>
                  <a:lnTo>
                    <a:pt x="35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50"/>
            <p:cNvSpPr/>
            <p:nvPr/>
          </p:nvSpPr>
          <p:spPr>
            <a:xfrm>
              <a:off x="6523200" y="40078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52"/>
            <p:cNvSpPr/>
            <p:nvPr/>
          </p:nvSpPr>
          <p:spPr>
            <a:xfrm rot="5400000">
              <a:off x="5738760" y="2161800"/>
              <a:ext cx="407880" cy="19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214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54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2565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5" name="Rectangle 167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68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69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70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171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2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73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74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77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4" name="Line 175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176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Line 178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79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Group 182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29" name="Line 180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181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183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84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Group 187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4" name="Line 185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186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190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37" name="Line 188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189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197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0" name="Group 195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1" name="Line 191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Line 192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193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Line 194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Line 196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Line 198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201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48" name="Line 199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200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Line 202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Group 205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2" name="Line 203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204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Line 206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207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208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Group 211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58" name="Line 209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210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Group 214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1" name="Line 212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213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Oval 215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216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217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218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Oval 219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Oval 220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Oval 221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222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223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224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225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226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227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228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229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230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231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232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233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234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235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236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37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238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39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40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241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Group 2558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1" name="Rectangle 243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244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Rectangle 245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246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2548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pl-PL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2553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2556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2557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2568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0" name="Group 147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1" name="Rectangle 4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5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6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7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8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Rectangle 9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10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1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12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13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14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Rectangle 15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Rectangle 16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17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Rectangle 18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19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0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Rectangle 21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22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23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24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25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26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27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28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29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Rectangle 30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31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32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Rectangle 33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Rectangle 34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35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Rectangle 36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38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Rectangle 39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Rectangle 40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41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Rectangle 42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Rectangle 43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44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Rectangle 45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Rectangle 46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47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Rectangle 48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Rectangle 49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0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51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Rectangle 52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53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54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55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7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Rectangle 58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59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Rectangle 60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61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62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63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64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65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6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67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68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69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70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71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72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73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74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75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Rectangle 76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7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78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Rectangle 79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80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81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Rectangle 82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83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84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Rectangle 85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86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87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Rectangle 88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89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90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Rectangle 91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92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93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94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95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96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97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98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99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100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101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102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103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104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105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Rectangle 106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107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Rectangle 108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109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10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111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Rectangle 112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Rectangle 113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Rectangle 114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Rectangle 115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Rectangle 116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117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118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119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120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121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Rectangle 122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123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124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125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26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127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Rectangle 128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29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Rectangle 130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Rectangle 131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132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Rectangle 133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134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135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Rectangle 136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Rectangle 137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138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139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Rectangle 140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141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Rectangle 142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Rectangle 143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144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Rectangle 145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Rectangle 146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2549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5" name="Line 148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Rectangle 149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150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Rectangle 151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Rectangle 152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153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Rectangle 154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Rectangle 155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3" name="Rectangle 157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Rectangle 158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Rectangle 159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Rectangle 160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Group 2560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58" name="Rectangle 161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162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Rectangle 163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2561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2" name="Rectangle 164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Rectangle 165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Rectangle 166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l-PL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249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66" name="Line 247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Freeform 248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252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69" name="Line 250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Freeform 251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255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2" name="Line 253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Freeform 254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258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5" name="Line 256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Freeform 257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261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78" name="Line 259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Freeform 260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264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1" name="Line 262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Freeform 263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Line 265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266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1195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1196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197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1198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1199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1200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1201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1202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1203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1204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1205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1206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1207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1208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1209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1210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1" name="Group 2559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2" name="Rectangle 1211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Rectangle 1212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1213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5" name="Rectangle 1215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1216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Rectangle 1217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Rectangle 1218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1219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1220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1221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Rectangle 1222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1223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Rectangle 1224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Rectangle 1225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Group 2551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17" name="Rectangle 1226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Rectangle 1227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1228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Rectangle 1229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1230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1231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Group 2552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4" name="Rectangle 1232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1233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Rectangle 1234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1235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Rectangle 1241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1242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243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244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245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1246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Group 1259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5" name="Freeform 1247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Freeform 1248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Freeform 1249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Freeform 1250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Freeform 1251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Freeform 1252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Freeform 1253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1254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1255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1256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Freeform 1257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Freeform 1258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Rectangle 1260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1261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1262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1263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1264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1265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Group 1327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4" name="Rectangle 1266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Rectangle 1267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Rectangle 1268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1269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Rectangle 1270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Rectangle 1271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1272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Rectangle 1273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Rectangle 1274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1275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Rectangle 1276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Rectangle 1277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1278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Rectangle 1279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Rectangle 1280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Rectangle 1281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Rectangle 1282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Rectangle 1283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1284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Rectangle 1285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1286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1287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Rectangle 1288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1289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1290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Rectangle 1291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1292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293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Rectangle 1294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1295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1296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Rectangle 1297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298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1299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Rectangle 1300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1301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1302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Rectangle 1303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1304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1305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Rectangle 1306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1307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1308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Rectangle 1309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Rectangle 1310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1311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Rectangle 1312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Freeform 1313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1314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Rectangle 1315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Rectangle 1316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1317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Rectangle 1318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Rectangle 1319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1320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Rectangle 1321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Rectangle 1322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Rectangle 1323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Rectangle 1324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Rectangle 1325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1326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Rectangle 1328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Group 1390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17" name="Rectangle 1329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1330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Rectangle 1331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1332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333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1334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1335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336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Rectangle 1337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1338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339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Rectangle 1340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Rectangle 1341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1342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1343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1344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1345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Rectangle 1346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Rectangle 1347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1348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Rectangle 1349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1350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1351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Rectangle 1352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1353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1354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Rectangle 1355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1356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Rectangle 1357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Rectangle 1358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1359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1360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Rectangle 1361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Rectangle 1362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363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Rectangle 1364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Rectangle 1365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1366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Rectangle 1367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Rectangle 1368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Rectangle 1369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Rectangle 1370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1371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372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373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374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Rectangle 1375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Freeform 1376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377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Rectangle 1378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1379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Rectangle 1380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Rectangle 1381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Rectangle 1382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Rectangle 1383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Rectangle 1384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Rectangle 1385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1386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Rectangle 1387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1388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1389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Rectangle 1391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9" name="Group 1453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0" name="Rectangle 1392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Rectangle 1393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Rectangle 1394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Rectangle 1395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Rectangle 1396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1397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1398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Rectangle 1399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1400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1401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Rectangle 1402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1403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Rectangle 1404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Rectangle 1405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Rectangle 1406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Rectangle 1407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Rectangle 1408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Rectangle 1409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Rectangle 1410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Rectangle 1411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1412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Rectangle 1413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Rectangle 1414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Rectangle 1415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Rectangle 1416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Rectangle 1417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Rectangle 1418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1419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Rectangle 1420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Rectangle 1421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Rectangle 1422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Rectangle 1423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1424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Rectangle 1425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Rectangle 1426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1427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Rectangle 1428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Rectangle 1429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Rectangle 1430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Rectangle 1431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Rectangle 1432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Rectangle 1433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Rectangle 1434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Rectangle 1435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Rectangle 1436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Rectangle 1437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Rectangle 1438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Freeform 1439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1440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Rectangle 1441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Rectangle 1442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Rectangle 1443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Rectangle 1444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1445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Rectangle 1446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Rectangle 1447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Rectangle 1448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1449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Rectangle 1450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Rectangle 1451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Rectangle 1452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Rectangle 1454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Group 2550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3" name="Line 1588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Rectangle 1589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Rectangle 1590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Rectangle 1591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Rectangle 1592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Rectangle 1593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1594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Line 2554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Text Box 2555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pl-PL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pl-PL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pl-PL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pl-PL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2562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2563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2566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2567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6" name="Text Box 2569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Freeform 2570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571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572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0" name="Object 3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Object 4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Object 5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Object 6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4" name="Text Box 7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2"/>
          <p:cNvSpPr/>
          <p:nvPr/>
        </p:nvSpPr>
        <p:spPr>
          <a:xfrm>
            <a:off x="0" y="2354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2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3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4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5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6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7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9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10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11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12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4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5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6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7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Line 18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19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Line 21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5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6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7" name="Picture 29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88" name="Text Box 30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31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32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Picture 2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2" name="Text Box 3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Picture 4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4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Picture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3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4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5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6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7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8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2" name="Text Box 9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9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Line 20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Line 21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2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3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4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25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26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27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Group 30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1514" name="Line 28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29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Line 31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32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33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34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35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36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37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38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39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40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41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42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43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44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45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46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47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48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9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50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51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52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53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54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55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56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57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8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9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0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1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2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3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4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5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6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Group 110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1553" name="Freeform 67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68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69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0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1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2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3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74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Freeform 75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Freeform 76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77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Freeform 78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79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80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Freeform 81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Freeform 82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Freeform 83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Freeform 84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Freeform 85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Freeform 86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Freeform 87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Freeform 88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Freeform 89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Freeform 90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91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92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93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94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Freeform 95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96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97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98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99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0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1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2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03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04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05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06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07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08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09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Oval 111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Group 114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1598" name="Line 112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Freeform 113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Group 117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1601" name="Line 115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Freeform 116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Group 120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1604" name="Line 118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119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6" name="Line 121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22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Line 123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124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125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126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127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128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129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130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131"/>
          <p:cNvSpPr/>
          <p:nvPr/>
        </p:nvSpPr>
        <p:spPr>
          <a:xfrm>
            <a:off x="6395400" y="3898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2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Group 168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1619" name="Freeform 133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134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135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136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137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138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39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140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141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142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143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144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45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Freeform 146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147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Freeform 148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Freeform 149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150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151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152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153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154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155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156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157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Freeform 158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Freeform 159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Freeform 160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Freeform 161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62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163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164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165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166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167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Group 171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1655" name="Line 169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170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Group 174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1658" name="Line 172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173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Rectangle 175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176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177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178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179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180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181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182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183"/>
          <p:cNvSpPr/>
          <p:nvPr/>
        </p:nvSpPr>
        <p:spPr>
          <a:xfrm>
            <a:off x="4921200" y="4173480"/>
            <a:ext cx="15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184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185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186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187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188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Rectangle 189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Rectangle 190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Rectangle 191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192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Line 193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Group 196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1680" name="Line 194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Freeform 195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2" name="Object 5"/>
              <p:cNvSpPr txBox="1"/>
              <p:nvPr/>
            </p:nvSpPr>
            <p:spPr>
              <a:xfrm>
                <a:off x="2292480" y="4997520"/>
                <a:ext cx="3457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83" name="Group 8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1684" name="Line 9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Line 10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Line 11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2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13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14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15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6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17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8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rakterystyka przejściow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24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pl-PL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30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5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386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387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388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89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97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98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399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00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03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04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407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420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59" name="Line 409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410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411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412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413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14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415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16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417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418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Line 419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23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71" name="Line 421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22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24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74" name="Line 425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426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27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77" name="Line 428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429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Line 430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31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432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Text Box 5"/>
          <p:cNvSpPr/>
          <p:nvPr/>
        </p:nvSpPr>
        <p:spPr>
          <a:xfrm>
            <a:off x="1113480" y="14493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Object 7"/>
              <p:cNvSpPr txBox="1"/>
              <p:nvPr/>
            </p:nvSpPr>
            <p:spPr>
              <a:xfrm>
                <a:off x="1595520" y="2125800"/>
                <a:ext cx="59007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Object 8"/>
              <p:cNvSpPr txBox="1"/>
              <p:nvPr/>
            </p:nvSpPr>
            <p:spPr>
              <a:xfrm>
                <a:off x="2637000" y="3116160"/>
                <a:ext cx="22428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7" name="Text Box 9"/>
          <p:cNvSpPr/>
          <p:nvPr/>
        </p:nvSpPr>
        <p:spPr>
          <a:xfrm>
            <a:off x="1582560" y="30891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1"/>
          <p:cNvSpPr/>
          <p:nvPr/>
        </p:nvSpPr>
        <p:spPr>
          <a:xfrm>
            <a:off x="1184040" y="38116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9" name="Object 12"/>
              <p:cNvSpPr txBox="1"/>
              <p:nvPr/>
            </p:nvSpPr>
            <p:spPr>
              <a:xfrm>
                <a:off x="2619360" y="4332240"/>
                <a:ext cx="151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0" name="Rectangle 1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p. operacyjnym)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4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Line 5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6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7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8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9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20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21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22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23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24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Rectangle 25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26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27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30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Line 33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4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Line 35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Line 36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37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38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39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Line 40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Line 41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3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4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5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6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7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8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50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51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Group 95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735" name="Freeform 52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Freeform 53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Freeform 54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Freeform 55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Freeform 56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Freeform 57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Freeform 58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Freeform 59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Freeform 60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Freeform 61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Freeform 62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Freeform 63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Freeform 64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Freeform 65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Freeform 66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Freeform 67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Freeform 68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Freeform 69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Freeform 70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Freeform 71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Freeform 72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Freeform 73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Freeform 74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Freeform 75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76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77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Freeform 78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Freeform 79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Freeform 80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Freeform 81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Freeform 82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Freeform 83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Freeform 84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Freeform 85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Freeform 86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Freeform 87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Freeform 88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Freeform 89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Freeform 90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Freeform 91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Freeform 92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Freeform 93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Freeform 94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Oval 96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Group 99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780" name="Line 97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Freeform 98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Group 102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783" name="Line 100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Freeform 101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Group 105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786" name="Line 103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Freeform 104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Line 106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Line 107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Line 108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109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Line 110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111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112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113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114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115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116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17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Group 156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801" name="Line 154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Freeform 155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Group 159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804" name="Line 157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Freeform 158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Rectangle 160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161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162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163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164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165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166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167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169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70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171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172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173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174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178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Group 181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822" name="Line 179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Freeform 180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Freeform 183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Line 184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Line 185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186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Line 187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Line 188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89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90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Line 192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94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195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196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197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198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reeform 6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Line 9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Line 10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Line 11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Line 12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Line 13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Line 14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15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Line 16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Line 17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Line 18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Line 19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Line 20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Line 21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Line 22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23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24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25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26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27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28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2" name="Object 30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Text Box 31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32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34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Group 39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1868" name="Freeform 3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4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5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6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7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Line 8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Line 9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Line 10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Line 11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Oval 12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Line 13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Line 14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15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Line 16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Line 17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Line 18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Line 19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Oval 20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Oval 21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Text Box 22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Text Box 23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Text Box 24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Text Box 25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1" name="Object 26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2" name="Text Box 27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Text Box 28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4" name="Picture 30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5" name="Text Box 31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Text Box 32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33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34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Freeform 35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36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37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2" name="Picture 2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903" name="Text Box 3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3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4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1907" name="Text Box 9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3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Line 4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Line 5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6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7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5" name="Object 8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Object 9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7" name="Line 10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Line 11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12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Freeform 13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Freeform 14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15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16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Line 17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18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19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pl-PL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Freeform 20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Freeform 21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Line 22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Line 23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Line 24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25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26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AutoShape 27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28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29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30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8" name="Object 31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o małym napięciu wyjściowym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0" name="Object 60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1" name="Group 83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1942" name="Line 9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Group 52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944" name="Oval 13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Line 14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6" name="Line 15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8" name="Group 30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949" name="Freeform 4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Text Box 23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Text Box 24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Text Box 25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3" name="Text Box 26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10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Line 19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Line 20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Oval 21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Text Box 28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Text Box 29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0" name="Group 47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961" name="Oval 33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Line 34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Line 35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Line 36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Line 37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Rectangle 41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Rectangle 42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43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9" name="Group 44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970" name="Line 45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Freeform 46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72" name="Line 48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49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50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51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53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54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55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56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57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Rectangle 58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Rectangle 59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61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Text Box 62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Text Box 63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Oval 66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Group 69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988" name="Oval 67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Line 68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Group 70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991" name="Oval 71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Line 72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3" name="Line 73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Oval 74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Line 75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Line 76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Line 77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Line 78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Line 79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Line 80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Text Box 81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Text Box 82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4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Line 5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Line 6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7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8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9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Oval 10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Line 11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Line 12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3" name="Group 15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014" name="Line 13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6" name="Line 16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Line 17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Line 18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Line 19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Line 20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21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Line 22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23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24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25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26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27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28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Line 29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30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31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32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Line 33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34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Line 35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Line 36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Line 37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Line 38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Line 39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Line 40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Line 41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Line 42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45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46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47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48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49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50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51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Group 95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051" name="Freeform 52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Freeform 53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Freeform 54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Freeform 55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Freeform 56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Freeform 57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Freeform 58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Freeform 59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Freeform 60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Freeform 61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Freeform 62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Freeform 63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Freeform 64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Freeform 65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Freeform 66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Freeform 67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Freeform 68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Freeform 69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Freeform 70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Freeform 71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Freeform 72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Freeform 73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Freeform 74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Freeform 75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Freeform 76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Freeform 77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Freeform 78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Freeform 79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Freeform 80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Freeform 81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Freeform 82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Freeform 83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Freeform 84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Freeform 85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Freeform 86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Freeform 87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Freeform 88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Freeform 89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Freeform 90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Freeform 91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Freeform 92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Freeform 93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Freeform 94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Oval 96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Group 102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096" name="Line 100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Freeform 101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8" name="Group 105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099" name="Line 103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Freeform 104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Line 106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Line 107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Line 108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Line 109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Line 110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111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112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113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Rectangle 114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115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1" name="Group 153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112" name="Freeform 118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Freeform 119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Freeform 120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Freeform 121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Freeform 122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Freeform 123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Freeform 124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Freeform 125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Freeform 126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Freeform 127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Freeform 128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Freeform 129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Freeform 130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Freeform 131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Freeform 132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Freeform 133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Freeform 134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Freeform 135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Freeform 136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Freeform 137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Freeform 138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Freeform 139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Freeform 140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Freeform 141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Freeform 142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Freeform 143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Freeform 144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Freeform 145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Freeform 146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Freeform 147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Freeform 148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Freeform 149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Freeform 150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Freeform 151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Freeform 152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7" name="Group 156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148" name="Line 154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Freeform 155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Rectangle 160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Rectangle 161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Rectangle 162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163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164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165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Rectangle 166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Rectangle 167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Rectangle 169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Rectangle 170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Rectangle 171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Rectangle 172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Rectangle 173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Rectangle 174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175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Rectangle 176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Rectangle 177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Line 178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Group 181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169" name="Line 179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180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1" name="Line 182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183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Line 184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Line 185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Line 186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Line 187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188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Oval 189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Text Box 191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Line 192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Line 193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Text Box 194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Object 195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(przed przeciążeni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rakterystyka wyjściow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83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85" name="Rectangle 341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42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43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4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5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46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47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48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49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350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51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54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97" name="Line 352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353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Line 355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358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101" name="Line 356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357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Line 359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360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363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106" name="Line 361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362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Line 364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367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110" name="Line 365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366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Oval 368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369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70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71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72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373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74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75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76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77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78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79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380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381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382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389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93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133" name="Line 384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385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386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387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388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90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pl-PL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91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392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394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br>
              <a:rPr sz="2800"/>
            </a:b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tabilizacja napięcia na rezystorze pomiarowym R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CS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6" name="Object 3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8" name="Object 4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9" name="Text Box 5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Oval 6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7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8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Freeform 9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4" name="Object 3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Line 4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9" name="Group 5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200" name="Oval 6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Line 7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2" name="Line 8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Freeform 11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12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13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14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15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Line 16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Line 17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Line 18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Oval 19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0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21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Group 22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215" name="Oval 23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Line 24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Line 25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26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27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28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29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30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3" name="Group 31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224" name="Line 32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Freeform 33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6" name="Line 34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Line 35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Line 37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Line 39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40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Line 41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Line 42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43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44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Line 45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46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47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48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65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0" name="Group 78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241" name="Oval 67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Line 68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Line 69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Line 70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Line 71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6" name="Group 75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247" name="Line 76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77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9" name="Oval 80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Line 81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Line 82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Line 83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Line 84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Group 85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255" name="Line 86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Freeform 87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Line 89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Line 90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Line 91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Line 92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Line 93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Line 95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Line 96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Rectangle 98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Rectangle 99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Line 100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Line 101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Line 103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Line 104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Line 105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Oval 106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Oval 107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Oval 108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109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Oval 110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Oval 112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Oval 114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Line 115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116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Oval 117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Oval 118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119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Rectangle 120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Group 121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2285" name="Oval 122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Line 123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7" name="Line 124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Line 125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Line 126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127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Line 128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Group 133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2293" name="Text Box 129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Text Box 130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Text Box 132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pl-PL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pl-PL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pl-PL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pl-PL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pl-PL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pl-PL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pl-PL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7" name="Group 97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2298" name="Line 3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9" name="Group 4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2300" name="Oval 5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Line 6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2" name="Line 7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Freeform 8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Text Box 9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Text Box 10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Text Box 11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Text Box 12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Line 13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Line 14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Line 15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Oval 16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Text Box 17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Text Box 18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Group 19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2315" name="Oval 20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Line 21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Line 22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Line 23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Line 24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Rectangle 25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Rectangle 26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Rectangle 27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3" name="Group 28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324" name="Line 29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Freeform 30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6" name="Line 31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Line 32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Line 33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Line 34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Rectangle 35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Line 36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Line 37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Rectangle 38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Rectangle 39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Line 40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Text Box 41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Text Box 42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Oval 43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44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Line 64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Line 65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Line 67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Line 72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Line 74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Oval 77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Line 79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Oval 80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Oval 81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Oval 82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Line 83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Line 84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Oval 85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Text Box 87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88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Group 89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356" name="Oval 90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Line 91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Line 92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Line 93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Line 94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Text Box 95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Text Box 2"/>
          <p:cNvSpPr/>
          <p:nvPr/>
        </p:nvSpPr>
        <p:spPr>
          <a:xfrm>
            <a:off x="1795680" y="2341440"/>
            <a:ext cx="536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TABILIZATORY SCAL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M317 i LM72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3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03480"/>
            <a:ext cx="8896320" cy="499104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3"/>
          <p:cNvSpPr/>
          <p:nvPr/>
        </p:nvSpPr>
        <p:spPr>
          <a:xfrm>
            <a:off x="1435680" y="44784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M317 (wg. NATIONAL SEMICONDUCTO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30360"/>
            <a:ext cx="9144000" cy="55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03360" y="0"/>
            <a:ext cx="5116680" cy="4794120"/>
          </a:xfrm>
          <a:prstGeom prst="rect">
            <a:avLst/>
          </a:prstGeom>
          <a:ln w="0">
            <a:noFill/>
          </a:ln>
        </p:spPr>
      </p:pic>
      <p:pic>
        <p:nvPicPr>
          <p:cNvPr id="2367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976400" y="4791240"/>
            <a:ext cx="489600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8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87240" y="-11160"/>
            <a:ext cx="772956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3800" y="-9360"/>
            <a:ext cx="80661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7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143" name="Line 8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317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19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0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22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23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3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rakterystyka wyjściow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9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0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41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342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43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344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45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48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49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351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76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163" name="Line 353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59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60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61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64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65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366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372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373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Line 374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52480" y="0"/>
            <a:ext cx="8291520" cy="339264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55640" y="3654360"/>
            <a:ext cx="811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90520" y="1235160"/>
            <a:ext cx="66564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3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0440" y="1311120"/>
            <a:ext cx="7943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730080"/>
            <a:ext cx="72662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5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0040" y="971640"/>
            <a:ext cx="7899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6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31880" y="1393920"/>
            <a:ext cx="75373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93880" y="0"/>
            <a:ext cx="6626160" cy="4981680"/>
          </a:xfrm>
          <a:prstGeom prst="rect">
            <a:avLst/>
          </a:prstGeom>
          <a:ln w="0">
            <a:noFill/>
          </a:ln>
        </p:spPr>
      </p:pic>
      <p:pic>
        <p:nvPicPr>
          <p:cNvPr id="2378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963880" y="5016600"/>
            <a:ext cx="3616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41600" y="0"/>
            <a:ext cx="58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817640"/>
            <a:ext cx="86425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89080" y="0"/>
            <a:ext cx="4162320" cy="6858000"/>
          </a:xfrm>
          <a:prstGeom prst="rect">
            <a:avLst/>
          </a:prstGeom>
          <a:ln w="0">
            <a:noFill/>
          </a:ln>
        </p:spPr>
      </p:pic>
      <p:pic>
        <p:nvPicPr>
          <p:cNvPr id="2382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32440" y="2462040"/>
            <a:ext cx="3381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4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59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182" name="Rectangle 13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194" name="Line 25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28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198" name="Line 29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Line 31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33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03" name="Line 34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35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Line 36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37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07" name="Line 38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Oval 40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41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6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49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52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53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54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61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2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63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64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5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6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0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1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2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3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4"/>
          <p:cNvSpPr/>
          <p:nvPr/>
        </p:nvSpPr>
        <p:spPr>
          <a:xfrm>
            <a:off x="5202360" y="28591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ne respo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5"/>
          <p:cNvSpPr/>
          <p:nvPr/>
        </p:nvSpPr>
        <p:spPr>
          <a:xfrm>
            <a:off x="5130720" y="44625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oad respo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3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411200"/>
            <a:ext cx="914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4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2154240"/>
            <a:ext cx="9144000" cy="3247920"/>
          </a:xfrm>
          <a:prstGeom prst="rect">
            <a:avLst/>
          </a:prstGeom>
          <a:ln w="0">
            <a:noFill/>
          </a:ln>
        </p:spPr>
      </p:pic>
      <p:sp>
        <p:nvSpPr>
          <p:cNvPr id="2385" name="Text Box 3"/>
          <p:cNvSpPr/>
          <p:nvPr/>
        </p:nvSpPr>
        <p:spPr>
          <a:xfrm>
            <a:off x="1577160" y="44784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M723 (wg. NATIONAL SEMICONDUCTO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6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07172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7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60400" y="31680"/>
            <a:ext cx="74613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8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12720"/>
            <a:ext cx="9144000" cy="38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pic>
        <p:nvPicPr>
          <p:cNvPr id="2390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94240" y="1303200"/>
            <a:ext cx="46497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1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49480" y="0"/>
            <a:ext cx="684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47560" y="-20520"/>
            <a:ext cx="80424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3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98280"/>
            <a:ext cx="8589960" cy="66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240" name="Line 8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20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2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252" name="Line 21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3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4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5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6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7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8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29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0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1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33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56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265" name="Line 35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8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9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40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41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42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43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44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45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46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7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48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50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51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52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53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54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55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Rectangle 57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70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288" name="Line 59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60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61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62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63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64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65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6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67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68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9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1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71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zere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małe i średnie moce (do n•10W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ównoległ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- większe moce (setki W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e napięciu wyjściowy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1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8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9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0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1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2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3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5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6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9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0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1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3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34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7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8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9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40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2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44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6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8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9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1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2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4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5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6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9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0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20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21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5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2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71" name="Rectangle 27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28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32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33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34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Line 36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40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1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dydaktyka</cp:lastModifiedBy>
  <dcterms:modified xsi:type="dcterms:W3CDTF">2018-03-20T13:45:27Z</dcterms:modified>
  <cp:revision>143</cp:revision>
  <dc:subject/>
  <dc:title>STABILIZATORY NAPIĘĆ</dc:title>
</cp:coreProperties>
</file>